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F97-D785-466B-B9FE-A52DCC7CE6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CF45-EA14-4310-9D40-80C624C902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D25-938B-40AF-A05B-6955DDCC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1BC-8B55-4BA7-A9FB-CE8B1629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745-6ED6-425F-BEB4-54AE280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1EA-6250-4985-B782-13C1335C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2D9-E1FE-4C13-A4FE-90F195EC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0E84-D9A2-431F-9AAD-F3B8A8C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987D-ED7F-460C-ABE5-361F914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25A4-6C07-4202-8848-C443B84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2EF1-4178-45D7-B1B5-D672C9FF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5F56-6608-45D8-B54E-370C2A1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CC35-BA9C-48F9-9B37-16DE4EB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115-CAD5-4087-8D0E-257A3F6F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B50-0D5D-46BE-BDA8-CDBB04A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885D-C87B-493F-B9D2-12C40A68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B954-DAD1-448B-A1B6-815BBB5E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3047-4480-4904-9C2C-722F973D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58B9-2156-4C97-9760-C6F84A66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083E-CCE6-410D-8C5B-E9707774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FA75-6418-4A6B-9DD8-8303206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6081-6ACE-4BE6-BE70-98DFF40A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E0CF-40C9-4B40-9F41-9DD5369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5ACA-795D-45ED-8E75-F98A67F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BC9-A461-44B2-BDB8-7B26DF8A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C3F7-DC2D-428F-98DD-230E2A10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4073-C654-44C4-992F-659C172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46ED-0C92-480A-8654-AFA471F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2769-6222-4F6D-B182-4B3BB81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2311-2857-45BF-8977-300AA76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7A1F-19AE-47FB-A0BA-80C0C61D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19A5-6966-4540-B863-54E9AE11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587D-C2ED-4FBF-9DFD-814A2773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BD9D-6204-4C96-BB12-D279714D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EA21-4C11-4AD1-8D5B-B064980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8EB-CA66-4EA9-B8C4-A9BD56F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4830-5C40-43C9-93B0-C322A23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94CF-FE46-4F0B-893C-F44F1ACF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E620-3614-44D5-87CA-CBBA43EF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9E30-EEF5-4557-A770-FF0CFED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68FE-7020-467B-8EFB-C9C358A6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D00F-1B6F-4ABC-9B25-C33D5EF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5D93-351A-480F-8D87-344D18F6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E85B-3428-4B4E-872B-33B0E360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BB45-7107-46EB-A8A0-B7EC8AC3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05134-6620-4E24-95FA-07FE9604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56E-DC77-4AF4-9C74-ED317529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9191-7704-4A0D-9F24-693548D7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B8AF-0AD6-4DAF-91FF-A1649B7D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C312F-2AB2-4403-A82A-5F8C1C1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0E2E-BAFF-47E3-A67D-905F96FB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E0DA-4856-4BAA-B64F-64AA5E24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B78C-10AF-4836-A73C-380C162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CE88-F937-4ACE-A131-57DA7047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3DAD-852F-4D86-89BF-F6CAFF4E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286A-3567-4CA4-9573-57EBC9EC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AC67-3FC7-4DB6-8B14-84FC36B0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712-B03F-4A0F-AF3D-8F9FCF81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8E49C-803D-4A8D-82BA-A77FF969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E5BC3-F36E-46F7-9206-C75D483D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0DF5-E60B-4719-BB66-668F5C56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14E0-8CBB-4945-A337-E272254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1FBA-9896-49CF-93F0-D3DCB821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3CF1-8640-42C3-A9C1-BFF1B805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2D4D-4E76-481F-B930-B0CA253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5833-E20D-4BBC-8136-F3C0103A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C980-0E2D-4F38-890B-DD03F1C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5F2B-322B-460E-A880-3F2D605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2A5-1738-40D7-BA83-EE71C74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C316-F7CE-4F03-937C-50CF965C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A556-B39A-4F39-83E1-3BA9B284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50ED-1C11-4182-9DE2-E678DA6D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922E-1386-45AE-A427-3D65926D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54F5-D53A-4D53-A8A1-6B9EA06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89941-2184-47D4-9247-154F120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B7E3-5C5C-4E58-A7A0-372366A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EE19-D5EB-41A4-95CF-3ECCDF7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08D9-D448-498F-B384-53F9D55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7D96-1FD6-401C-B166-D1A633A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7DF-D4FF-45E1-A8C0-DB63A59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4CC4-CF11-4BE3-975E-C142FD5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899A-9E86-4D3A-8EB4-B5BA581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84CE-85B3-43BA-9D0E-4DDC55D1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35F4-B329-4386-9649-B93D7A70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3173-1E28-4EB7-82FC-B9276E91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DBD-9355-4C75-AFF6-7C13DDE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3591-B827-46EA-BF4E-8D16C9C7D7D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D1AE-4A38-4F04-9294-B5E123785FB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4BC-D5C1-439D-8FB5-EAA2CD9656C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ADA-155A-49D1-BE89-4477DFA77B4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0825-B7FD-4121-8DCA-71F391E1895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8D89-E1D8-4EFC-B485-F47BBF4E4CB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F5AE-8C82-4F89-921A-F426C3C67B9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46160" y="2255760"/>
            <a:ext cx="8851680" cy="2608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166680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Бахтина Л.Б.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учитель английского язык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АОУ СОШ № 64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1eeff"/>
                </a:solidFill>
                <a:latin typeface="Consolas"/>
              </a:rPr>
              <a:t>Алгоритм самостоятельной работы по теме для индивидуальной (парной) работы:</a:t>
            </a: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07180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читать теоретический материал из учебника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тветить на вопросы по плану – вопроснику, пользуясь текстом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полнить упражнения (устно или письменно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ставить развернутый рассказ по теме, пользуясь планом – вопросником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дать тему товарищу (учителю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Алгоритм передачи тем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285560"/>
            <a:ext cx="77724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А. подготовка темы к передач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сстановить содержание темы по плану – вопроснику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 каждому пункту плана – вопросника подготовить свои примеры, вопросы, задания, обеспечивающие понимани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смотреть упражне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428760"/>
            <a:ext cx="77724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Б.  работа при взаимопередаче тем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ассказать напарнику свою тему поабзацно (по плану – вопроснику), задавая к каждому плану задания и вопросы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роверить выполнение напарником упражнений (устных)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олучить тему от напарника таким же способом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задать друг другу вопросы по своей теме и теме напарника (уточнение друг у друга понимание тем)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ыполнить упражнения письменно. Проверить друг друг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одготовить новую тему по плану – вопроснику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дать тему напарнику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заимооценивани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реимущества КСО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хватываются 3 уровня обучения: репродуктивный, конструктивный, творческий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 учитель даёт, а ученик берёт”, а ученик берёт на себя ответственность за выполнение учебной работы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зволяет уменьшить нагрузку ученика и уменьшение домашнего задания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пособствует индивидуальному развитию школьников (коммуникативные способности во время общения; внимание; ответственность за себя и каждого в группе, абстрактное мышление; речь; усидчивость)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вышает мотивацию учения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зволяет направить максимум усилий школьника в область его учебных возможностей и интересов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642600"/>
            <a:ext cx="86868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rbel"/>
              </a:rPr>
              <a:t>Коллективный способ обучения 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ru-RU" sz="3600" spc="-1" strike="noStrike">
                <a:solidFill>
                  <a:srgbClr val="ffffff"/>
                </a:solidFill>
                <a:latin typeface="Corbel"/>
              </a:rPr>
              <a:t>это такая форма организации учебных занятий, где каждый ученик по очереди работает с каждым, выполняя то роль обучаемого, то обучающего. Каждый участник работает на всех и все работают на каждого. (Дьяченко В.К.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Объективные противоречия ГСО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1071720"/>
            <a:ext cx="86868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конечной целью воспитания и актуальными, сиюминутными, постоянными целями обуче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подавляющим преобладанием созерцательных процессов деятельности учащихся и ничтожно малым проявлением действенно-преобразовательных процессов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огромным различием в способностях учащихся и единым (одинаковым) темпом обуче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индивидуальным характером преподавания и коллективной природой воспита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базовой структурой общения в учебном процессе и основной структурой общения людей в общественно-производственных процессах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одноязыковой основой обучения и многоязыковым характером общественной жизн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Фазы переходного период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1 фаза – использование приемов работы в парах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2 фаза – организация коллективных занятий по отдельным предметам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 фаза – коллективные занятия в класс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4 фаза – создание разновозрастных, разноуровневых учебных групп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5 фаза – организация обучения в школе через разновозрастные учебные групп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Организационные формы учебного процесса</a:t>
            </a:r>
            <a:br>
              <a:rPr sz="3600"/>
            </a:b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(Дьяченко В.К.)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2714760"/>
            <a:ext cx="77724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ндивидуально –обособленная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ндивидуальная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групповая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оллективная(т.е. в парах сменного состава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Схема работы по КСО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1-2 урок – вводная лекция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 урок – отработка материала лекции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4-5 урок – изучение темы по методике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6 урок – практическое занятие по методике КСО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7 урок – тематический учёт знаний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Алгоритм работы в парах сменного состава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читать один вопрос из своей карточки напарнику вслух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зложение своего ответа на данный вопрос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слушать ответ напарника на вопрос его карточки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менить вопрос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Таблица учет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914400" y="1784520"/>
          <a:ext cx="7515360" cy="3644640"/>
        </p:xfrm>
        <a:graphic>
          <a:graphicData uri="http://schemas.openxmlformats.org/drawingml/2006/table">
            <a:tbl>
              <a:tblPr/>
              <a:tblGrid>
                <a:gridCol w="2943360"/>
                <a:gridCol w="1379520"/>
                <a:gridCol w="1814400"/>
                <a:gridCol w="137808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И учащегос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8ac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ло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8ac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d4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 Иванов 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Петров 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512280"/>
            <a:ext cx="780084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Алгоритм методики ВОЗ (взаимообмен заданий</a:t>
            </a: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лучить карточку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ыполнить задание первой части карточки с помощью учителя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учиться объяснять это задание, выучить наизусть правило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ыполнить задание второй части карточки самостоятельно; проверить задание у учителя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йти напарника и объяснить задание первой части карточки, записать решение в его тетрадь. Ответить на вопросы напарника. Задать напарнику контрольные вопросы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ыслушать объяснение напарника первой части его карточки. Проверить, как напарник сделал запись в твою тетрадь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меняться карточками и выполнить второе задание новой карточки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верить вторые задания. Найти и исправить ошибку, если есть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йти нового напарника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6:55:57Z</dcterms:created>
  <dc:creator>XTreme</dc:creator>
  <dc:description/>
  <cp:keywords/>
  <dc:language>en-US</dc:language>
  <cp:lastModifiedBy>XTreme</cp:lastModifiedBy>
  <dcterms:modified xsi:type="dcterms:W3CDTF">2010-04-18T07:21:21Z</dcterms:modified>
  <cp:revision>3</cp:revision>
  <dc:subject/>
  <dc:title>Коллективный способ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