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F20-CCBB-4C0F-81F6-0D657F45B7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F8F-8C07-440B-9C3D-1F48CE749D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FB8-8C9D-49EB-8209-B0C89828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2C7-6CFD-4E0B-AF88-35F81C04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10E-73B2-4DB5-B63B-DA988A53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73B-7BC5-4B76-B088-722129F2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4DA2-C9C1-4C2C-97AC-B8D9E258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5F2-6802-4D77-B22C-3BFCE42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D966-6AB4-4D80-A664-B4E1E88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4B6C-E7D9-4620-9D23-E75A033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6E78-ED94-4D00-BD9D-5C7EA1A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64D-9485-42A5-8283-F1F7E649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16C7-2623-4CA3-A74D-E43C07C1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CCA-0BC9-4B39-A90D-12907D2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A01C-3189-4AE3-AF4D-C6D2527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F2E0-2222-47A8-98E4-C08CA62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D4F9-E2E4-4365-9C66-7DE77EAB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290C-4DC1-415F-BBC6-4048A218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FB22-BBA3-4DFC-A58A-19209AC7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059B-D253-40D4-B573-67B4F298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373A-D161-4885-A855-9BBAE3A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FD3A-6BB8-4137-A169-69AC8ED1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55E4-919F-45AB-B8E7-8A04799D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422BA-F720-440B-905A-9E13D4CD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C9A-470F-4BB4-9C67-2E9BA2D5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042D-B099-4025-AF8E-4D32BC89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BCF2-F647-41E5-AFBE-C1800E4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C21F-002E-475D-9C67-B39233C9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F3B4-BD5C-4960-A922-D3677234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E26D-D278-423D-A612-133C43C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4434-04F2-4E80-A4F8-E402998C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F5D7-CA54-4E41-B20F-18F9DDBB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5C95-361D-4583-87A5-BA6033A3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9756-67E1-4BDA-9077-7E5D799C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FDC7-9D10-4565-BFC7-F0E35C9A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445-6D6B-44E1-99B2-165052B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53DA-70BC-4235-B421-632C4CB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E640-AAEC-431C-8B0A-6F753817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FA65-6572-459A-A74A-B3CC6F52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508C-B153-49E3-8F29-140CED7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F27B-E0A1-4D14-BA7F-A031B700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54ED-BB94-44C1-8935-FCA10CA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868E-1776-49BD-808F-4E6B12A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987BA-B2B4-43DE-ADE3-78654496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B0E7-FC32-4D40-81A6-E97B25CA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1DAA-74FD-42BB-8EA2-9F356A8B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D23-4580-471A-B233-3EDBD6A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C44B-B3B6-43C9-A234-9C3D975C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F44C-CDF3-4303-AA41-ECA03560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96F66-B7ED-414F-B5F5-533966EC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A7A6-FE6B-47C9-BBAE-6FAF3DC7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786A-3B2E-42C3-A6D9-1567472E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3A6E-2F82-4590-9784-9FE4B91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5969-7B87-49D6-B38C-A6DA993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22A69-5DDF-411C-9C39-835A915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A8B2-5436-43D2-BBFC-7483929D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190B-AF89-46D8-936F-36FB80CE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632-47F4-4A2D-91C2-4387A07D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E407-E224-4733-8DEB-4BEB274F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0B8D-4C0F-4D10-AAE7-0742F096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59BC-A25A-4242-A41C-0A77927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6F90-08A8-47FD-89CF-8F4CF435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EDDA-676A-41DB-AB70-4027C82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7F379-8468-406E-A512-7D945A29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7D4E-F56F-4F75-BC89-5730A357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3B61-4F31-4B92-9DC2-91616CA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2FD6-2288-40BA-91E2-98A6B11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B8CCD-4542-4C37-9B6C-72936D6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D9C-665B-4A13-871E-7A0FCB6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9A18-E714-4507-A5D6-1A1A4678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0601-F169-40B9-9687-411BCA7B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D44B7-CBBF-4ED4-BF90-B242EAF3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3558-8B93-4512-8BE1-AEFCD1CB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87BF-E033-40AD-8C9A-87FE4DF4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DF6D-4A10-4980-912C-75DD2FA5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F86E-5437-437D-9886-E4BEEDCC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8E2B-ADAF-4962-A044-FAAD0DD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A414-F8D1-4A62-99F4-0BCE22A8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5882-3776-4093-890B-441E0471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9DB-6354-4541-9745-5074B94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FCA5-3AE3-404E-8FC4-B19580A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3AC3A-37B7-48ED-8C4C-9756201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E83DB-0F97-4EEA-A3DB-81824180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62D5E-A6AB-42BD-B547-B4BEB7E1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65A94-92D4-45FE-AE2B-1AA0F525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188-9D06-4742-9ECE-FA0BB29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70A-8F0E-4ADA-9B16-A54B8FFDE18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1CC5-B3FE-48DE-9E70-663C4E232D8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EF95-428E-48FD-8E65-912AF439EE7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5E7F-F2D2-47C4-9D22-12F50F6FB6A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5266-3B66-443E-9B02-7F7721C6956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4180-577A-4B76-834E-129E5BAA76C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E144-5D44-46C1-8A5F-EA87E69800C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46160" y="2255760"/>
            <a:ext cx="8851680" cy="2608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166680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Бахтина Л.Б.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учитель английского язык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АОУ СОШ № 64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1eeff"/>
                </a:solidFill>
                <a:latin typeface="Consolas"/>
              </a:rPr>
              <a:t>Алгоритм самостоятельной работы по теме для индивидуальной (парной) работы:</a:t>
            </a: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07180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читать теоретический материал из учебника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тветить на вопросы по плану – вопроснику, пользуясь текстом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полнить упражнения (устно или письменно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ставить развернутый рассказ по теме, пользуясь планом – вопросником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дать тему товарищу (учителю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Алгоритм передачи тем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285560"/>
            <a:ext cx="77724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А. подготовка темы к передач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сстановить содержание темы по плану – вопроснику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 каждому пункту плана – вопросника подготовить свои примеры, вопросы, задания, обеспечивающие понимани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смотреть упражне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428760"/>
            <a:ext cx="77724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Б.  работа при взаимопередаче тем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ассказать напарнику свою тему поабзацно (по плану – вопроснику), задавая к каждому плану задания и вопросы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роверить выполнение напарником упражнений (устных)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олучить тему от напарника таким же способом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задать друг другу вопросы по своей теме и теме напарника (уточнение друг у друга понимание тем)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ыполнить упражнения письменно. Проверить друг друг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одготовить новую тему по плану – вопроснику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дать тему напарнику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заимооценивани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реимущества КСО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хватываются 3 уровня обучения: репродуктивный, конструктивный, творческий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 учитель даёт, а ученик берёт”, а ученик берёт на себя ответственность за выполнение учебной работы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зволяет уменьшить нагрузку ученика и уменьшение домашнего задания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пособствует индивидуальному развитию школьников (коммуникативные способности во время общения; внимание; ответственность за себя и каждого в группе, абстрактное мышление; речь; усидчивость)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вышает мотивацию учения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зволяет направить максимум усилий школьника в область его учебных возможностей и интересов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642600"/>
            <a:ext cx="86868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rbel"/>
              </a:rPr>
              <a:t>Коллективный способ обучения 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ru-RU" sz="3600" spc="-1" strike="noStrike">
                <a:solidFill>
                  <a:srgbClr val="ffffff"/>
                </a:solidFill>
                <a:latin typeface="Corbel"/>
              </a:rPr>
              <a:t>это такая форма организации учебных занятий, где каждый ученик по очереди работает с каждым, выполняя то роль обучаемого, то обучающего. Каждый участник работает на всех и все работают на каждого. (Дьяченко В.К.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Объективные противоречия ГСО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" y="1071720"/>
            <a:ext cx="868680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конечной целью воспитания и актуальными, сиюминутными, постоянными целями обуче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подавляющим преобладанием созерцательных процессов деятельности учащихся и ничтожно малым проявлением действенно-преобразовательных процессов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огромным различием в способностях учащихся и единым (одинаковым) темпом обуче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индивидуальным характером преподавания и коллективной природой воспитания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базовой структурой общения в учебном процессе и основной структурой общения людей в общественно-производственных процессах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отиворечие между одноязыковой основой обучения и многоязыковым характером общественной жизн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Фазы переходного период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1 фаза – использование приемов работы в парах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2 фаза – организация коллективных занятий по отдельным предметам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3 фаза – коллективные занятия в класс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4 фаза – создание разновозрастных, разноуровневых учебных групп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5 фаза – организация обучения в школе через разновозрастные учебные групп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Организационные формы учебного процесса</a:t>
            </a:r>
            <a:br>
              <a:rPr sz="3600"/>
            </a:b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(Дьяченко В.К.)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2714760"/>
            <a:ext cx="77724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ндивидуально –обособленная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Индивидуальная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групповая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коллективная(т.е. в парах сменного состава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Схема работы по КСО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1-2 урок – вводная лекция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 урок – отработка материала лекции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4-5 урок – изучение темы по методике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6 урок – практическое занятие по методике КСО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7 урок – тематический учёт знаний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Алгоритм работы в парах сменного состава 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читать один вопрос из своей карточки напарнику вслух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зложение своего ответа на данный вопрос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слушать ответ напарника на вопрос его карточки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менить вопрос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Таблица учет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914400" y="1784520"/>
          <a:ext cx="7515360" cy="3644640"/>
        </p:xfrm>
        <a:graphic>
          <a:graphicData uri="http://schemas.openxmlformats.org/drawingml/2006/table">
            <a:tbl>
              <a:tblPr/>
              <a:tblGrid>
                <a:gridCol w="2943360"/>
                <a:gridCol w="1379520"/>
                <a:gridCol w="1814400"/>
                <a:gridCol w="137808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И учащегос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8ac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ло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8ac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d4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 Иванов И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 Петров И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d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512280"/>
            <a:ext cx="780084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1eeff"/>
                </a:solidFill>
                <a:latin typeface="Consolas"/>
              </a:rPr>
              <a:t>Алгоритм методики ВОЗ (взаимообмен заданий</a:t>
            </a: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лучить карточку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ыполнить задание первой части карточки с помощью учителя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учиться объяснять это задание, выучить наизусть правило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ыполнить задание второй части карточки самостоятельно; проверить задание у учителя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йти напарника и объяснить задание первой части карточки, записать решение в его тетрадь. Ответить на вопросы напарника. Задать напарнику контрольные вопросы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ыслушать объяснение напарника первой части его карточки. Проверить, как напарник сделал запись в твою тетрадь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меняться карточками и выполнить второе задание новой карточки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верить вторые задания. Найти и исправить ошибку, если есть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йти нового напарника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6:55:57Z</dcterms:created>
  <dc:creator>XTreme</dc:creator>
  <dc:description/>
  <cp:keywords/>
  <dc:language>en-US</dc:language>
  <cp:lastModifiedBy>XTreme</cp:lastModifiedBy>
  <dcterms:modified xsi:type="dcterms:W3CDTF">2010-04-18T07:21:21Z</dcterms:modified>
  <cp:revision>3</cp:revision>
  <dc:subject/>
  <dc:title>Коллективный способ обу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