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5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1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199F-9C3D-4B93-99F7-6B30F7535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832E-530D-4BC6-8DBD-D3136BA82A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4B9C-F6DB-408A-ACFC-761E66DCE2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DCA-7736-487A-BA49-6F61F2C276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F23-F653-4E88-8CAC-952EB92D19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E1E-36DB-4557-BFEA-9F291D03E9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7F4-F7D9-4A2C-93EB-CE13042229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EF7-C59E-4019-8911-9660747D02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D10-34C2-48DA-9CB7-0B4EB215AC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B713-F97D-4463-8218-683B042737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6480-9D60-43C3-AA95-19D24AB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090-3F5C-41A6-82CB-5F1767A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807-05AD-4A8C-A314-B0D43C31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6CB-91DB-4446-A0CB-44B9D99C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B2B5-C9E1-4CFC-96EB-8E376194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EF2-7666-40C8-B25D-0A4D773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193-BA30-4346-B54D-8A476B8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5BC5-BDF3-45F7-899F-B007DF4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FFE-C300-453B-9EBB-73906117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B40-E2CD-4FE1-AF6B-DAC6D35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B1F8-8FF5-451F-A35E-1FEF132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C31-3A33-4278-9821-8B0DA3E9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141C-FEA6-4A95-964D-974BC4D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D3E6-A997-457E-AD17-3D6DAD9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30EC-125E-4E4D-B376-1C5670C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A1D1-FDE0-4386-BDEB-9C695D54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DB12-D6A2-454B-A54F-B13CE8C3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D1D-38F9-4738-B40C-F217F38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6ED-A612-4B62-A905-584FD1B5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DC1-9ED8-4B5E-8F84-3DB8071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187-5D1E-4594-8A43-C1E8008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0DF-56D3-4787-89A2-61F3BB9C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465-01C3-41C8-B26B-E7CD12D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64D-D72E-40CD-8CA3-9CE6474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0CBD-47E0-4770-9342-362E8A3473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0B7-C24F-485B-8BA2-D6815F7CFA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1116000" y="249228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натое племя озера Чаны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124000" y="4005360"/>
            <a:ext cx="597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Васильева Алена ученица 5 кл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МБОУ Таганская СОШ им. П.Г. Яц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с Таг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Чановский райо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Новосибир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Руководитель : Матусевич Т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Песня о далекой родине -  песня из фильма 17 мгновений весны (mp3ostrov.com).mp3" descr=""/>
          <p:cNvPicPr/>
          <p:nvPr/>
        </p:nvPicPr>
        <p:blipFill>
          <a:blip r:embed="rId1"/>
          <a:stretch/>
        </p:blipFill>
        <p:spPr>
          <a:xfrm>
            <a:off x="135720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64557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250920" y="1844640"/>
            <a:ext cx="540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ны — озеро уникальное. На его акватории обитает около 300 видов птиц, почти всех, распространенных в озерной лесостепи. Поэтому сохранение их — национальный долг страны. На островах, в прибрежьях озера гнездятся птицы, внесенные в Красную книгу РФ, в Международную Красную книгу. На Чанах расположены колонии 8 видов чайковых птиц, гнездятся и останавливаются во время миграции 25 видов утиных птиц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4581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  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ватория озера и ближайших водоемов на периоды сезонных миграций становятся «транзитным вокзалом» на пути к зимовке водоплавающих почти всех видов. В 70-е годы за сезон здесь бывало до 1,5 млн. водоплавающих птиц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12" descr="0_6b9e_558b4640_L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p102_karta_oz_1"/>
          <p:cNvPicPr/>
          <p:nvPr/>
        </p:nvPicPr>
        <p:blipFill>
          <a:blip r:embed="rId2"/>
          <a:stretch/>
        </p:blipFill>
        <p:spPr>
          <a:xfrm>
            <a:off x="971640" y="11592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Осенние листья.mp3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2"/>
          <p:cNvSpPr txBox="1"/>
          <p:nvPr/>
        </p:nvSpPr>
        <p:spPr>
          <a:xfrm>
            <a:off x="2268360" y="33336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лубок морской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184464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Среднего размера белая чайка. Распространен от северо-восточного побережья Африки до оз. Балхаш и оз. Чаны на восток. Сплошного гнездового ареала морской голубок не образует, нередко гнездовые поселения удалены друг от друга на сотни километров. На гнездовании отмечена трижды. В 1925 г. колония морских голубков была обнаружена на оз. Тармакуль. Однако в последующие годы эта чайка здесь не гнездилась. В 1998 г. колония, насчитывающая 11 гнезд, птенцы в которых уже вылупились, была обнаружена на оз. Чаны на острове Черемуховый (Чановский р-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84360" y="4941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Величина колонии на озере Чаны - 10-11 пар. Гнездятся почти исключительно на остро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5" descr="054-4"/>
          <p:cNvPicPr/>
          <p:nvPr/>
        </p:nvPicPr>
        <p:blipFill>
          <a:blip r:embed="rId1"/>
          <a:stretch/>
        </p:blipFill>
        <p:spPr>
          <a:xfrm>
            <a:off x="324000" y="1989000"/>
            <a:ext cx="4032000" cy="30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1608"/>
          <p:cNvPicPr/>
          <p:nvPr/>
        </p:nvPicPr>
        <p:blipFill>
          <a:blip r:embed="rId1"/>
          <a:stretch/>
        </p:blipFill>
        <p:spPr>
          <a:xfrm>
            <a:off x="250920" y="198900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2"/>
          <p:cNvSpPr txBox="1"/>
          <p:nvPr/>
        </p:nvSpPr>
        <p:spPr>
          <a:xfrm>
            <a:off x="3492360" y="981000"/>
            <a:ext cx="51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чка чайконоса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8000" y="1916280"/>
            <a:ext cx="5327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селяет все континенты. В России вид не образует сплошного ареала, а гнездится по югу отдельными участками и поселениями, удаленными друг от друга на сотни километров. В Новосибирской области</a:t>
            </a:r>
            <a:r>
              <a:rPr b="1" lang="ru-RU" sz="1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гнездование известно только для озера Чаны. Впервые гнездо здесь было обнаружено в 1975 г. После этого отдельные гнезда и колонии чайконосых крачек находили на некоторых островах оз. Чаны в течение шести сезонов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5280" y="4260960"/>
            <a:ext cx="81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 территории области в последние годы встречаемость птиц на гнездовании возросла. Если до 1997 г. на островах оз. Чаны находили только одиночные гнезда, то в 1998 г. здесь гнездилось около 12-15 пар, а в 1999 г. образовалась колония численностью около 55 пар.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 Кладки крачек разоряют чайка-хохотунья, грачи и серые вороны. По-видимому, эти птицы в условиях плохой погоды в 1999 г. на оз. Чаны за З дня полностью уничтожили колонию чайконосой крачки, состоящую из 55 пар. Гибнут кладки и при выпасе скота в местах гнездования. В других регионах отмечены случаи каннибализма - поедание птенцов своего вид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5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2655-cover"/>
          <p:cNvPicPr/>
          <p:nvPr/>
        </p:nvPicPr>
        <p:blipFill>
          <a:blip r:embed="rId1"/>
          <a:stretch/>
        </p:blipFill>
        <p:spPr>
          <a:xfrm>
            <a:off x="179280" y="2637000"/>
            <a:ext cx="3672000" cy="3528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2556000" y="260280"/>
            <a:ext cx="640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Тиркушка степ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995640" y="2060640"/>
            <a:ext cx="5148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Кулик с длинными, узкими крыльями, вильчатым хвостом и короткими клювом и ногами. В полете больше похож на большую ласточку. Гнездится на степных участках от границы с Алтайским краем до оз. Чаны на севере. На восток, вероятно, не проникает далее Краснозерского района. Изолированные колонии часто удалены друг от друга на десятки километ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4067280" y="4294080"/>
            <a:ext cx="453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о результатам наблюдений, на причановском участке Барабы численность заметно снизилась с середины 80-х гг., когда тиркушка перестала встречаться во многих местах, где еще гнездилась в 70-е гг. В настоящее время в области гнездится 50-80 пар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Внесена в Красную книгу РФ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0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3203640" y="981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4159"/>
          <p:cNvPicPr/>
          <p:nvPr/>
        </p:nvPicPr>
        <p:blipFill>
          <a:blip r:embed="rId1"/>
          <a:stretch/>
        </p:blipFill>
        <p:spPr>
          <a:xfrm>
            <a:off x="179280" y="2276640"/>
            <a:ext cx="38181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1692360" y="549360"/>
            <a:ext cx="59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>
                    <a:alpha val="99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одулочн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>
                  <a:alpha val="99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284720" y="2060640"/>
            <a:ext cx="485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Крупный кулик на непропорционально длинных красных ногах. Обитает на всех континентах. В последние годы наблюдается расширение ареала на север. До начала 90-х гг. XX века ходулочник на территории Новосибирской области не гнездился. В настоящее время гнездится в степных и лесостепных районах области, проникая на север до оз. Чаны. Самая северная колония ходулочника обнаружена на о-ве Черемуховый на оз. Чаны, в окрестностях села Таган (Чановский р-н). Значительна гибель гнезд и птенцов при выпасе скота. При этом гнезда как вытаптываются скотом, так и разоряются воронами, грачами и болотными лунями. Внесен в Красную книгу РФ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6" descr="Крупнее"/>
          <p:cNvPicPr/>
          <p:nvPr/>
        </p:nvPicPr>
        <p:blipFill>
          <a:blip r:embed="rId2"/>
          <a:stretch/>
        </p:blipFill>
        <p:spPr>
          <a:xfrm>
            <a:off x="0" y="189000"/>
            <a:ext cx="19051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1204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3"/>
          <p:cNvSpPr txBox="1"/>
          <p:nvPr/>
        </p:nvSpPr>
        <p:spPr>
          <a:xfrm>
            <a:off x="4356000" y="765000"/>
            <a:ext cx="4319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грав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427640" y="1916280"/>
            <a:ext cx="453528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Колонии удалены друг от друга часто на сотни и даже тысячи километров. В области обнаружена только на оз. Чаны, где впервые колония была зарегистрирована в 1977 г. В последующие годы почти ежегодно чегравы гнездились на одном из островов: Редком, Черемуховом или Узкоредком. За последние 20 лет численность гнездящихся на оз. Чаны птиц постепенно возрастала и к 1999 г. достигла 550 п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857160" y="4143240"/>
            <a:ext cx="799308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На оз. Чаны основные причины гибели кладок - вытаптывание скотом, затопление кладок во .время сильных ветров, разорение гнезд чайкой-хохотуньей, серыми воронами и барсуками. Отмечено также поедание птенцов сизой чайкой. Питается чеграва и выкармливает птенцов на оз. Чаны исключительно рыбой, в других местах изредка отмечали питание водными беспозвоночны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ринятые меры охраны. Внесена в Красную книгу РФ. Основные острова, где гнездится чеграва на оз. Чаны, включены в спроектированный Барабинский заповедник.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6" descr="Крупнее"/>
          <p:cNvPicPr/>
          <p:nvPr/>
        </p:nvPicPr>
        <p:blipFill>
          <a:blip r:embed="rId2"/>
          <a:stretch/>
        </p:blipFill>
        <p:spPr>
          <a:xfrm>
            <a:off x="0" y="0"/>
            <a:ext cx="1905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1550"/>
          <p:cNvPicPr/>
          <p:nvPr/>
        </p:nvPicPr>
        <p:blipFill>
          <a:blip r:embed="rId1"/>
          <a:stretch/>
        </p:blipFill>
        <p:spPr>
          <a:xfrm>
            <a:off x="539640" y="321300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5"/>
          <p:cNvSpPr txBox="1"/>
          <p:nvPr/>
        </p:nvSpPr>
        <p:spPr>
          <a:xfrm>
            <a:off x="2268360" y="90792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отун черноголовый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68360" y="1989000"/>
            <a:ext cx="82072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Самая крупная чайка из обитающих на юге Западной Сибири. Распространена от северных районов Крыма до оз. Чаны и оз. Джулукуль на востоке. Сплошного ареала вид не образует и гнездится отдельными поселениями, удаленными друг от друга на сотни километров.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284720" y="2924280"/>
            <a:ext cx="4608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В Новосибирской области гнездится на оз. Чаны, впервые колония, насчитывающая 72 гнезда, была найдена в 1977 г. на острове Узко-Редком (Чановский р-н). В последующие годы колонии отмечали на этом же острове или на соседних - Редком и Кораблике. Основным фактором, определяющим возможность размножения данного вида в Новосибирской области, является гибель гнезд при выпасе скота на островах, где расположены колонии, а также сбор яиц местным населением. В последние годы. большое количество птиц держится в Здвинском заказнике на оз. Малые Чаны. Острова, где гнездятся черноголовые хохотуны на оз. Чаны, включены в спроектированный заповедник "Барабинский".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8" descr="Крупнее"/>
          <p:cNvPicPr/>
          <p:nvPr/>
        </p:nvPicPr>
        <p:blipFill>
          <a:blip r:embed="rId2"/>
          <a:stretch/>
        </p:blipFill>
        <p:spPr>
          <a:xfrm>
            <a:off x="179280" y="189000"/>
            <a:ext cx="19051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5"/>
          <p:cNvSpPr/>
          <p:nvPr/>
        </p:nvSpPr>
        <p:spPr>
          <a:xfrm>
            <a:off x="1116000" y="2205000"/>
            <a:ext cx="7416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       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Сложная экосистема озера Чаны находится во взаимодействии с весьма своеобразной природой Барабы в целом. Благодаря озеру обеспечивается возможность нормального существования различных растительных организмов, беспозвоночных животных, перелетных и оседлых птиц, млекопитающих. Здесь определяется судьба животного мира не только самого озера, но и обширных пространств Западной Сибир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По результатам первого всероссийского учета дичи в 1963 году лесостепь и степь Западной Сибири оказались вторым регионом по плотности заселения водоплавающей птицей и первым по общему объему их добычи — 45% от всех добытых в РСФСР. Не случайно на озере Малые Чаны в 1971 году была основана Чановская опорная экспедиционная база Института систематики и экологии животных для изучения животного мира, и в первую очередь исследования водоплавающих птиц. За годы работы окольцовано около 150 тысяч птиц. Работа ученых показала, что птицы, гнездящиеся здесь и останавливающиеся в период миграции, на зимовках распространены от стран Западной Европы до Корейского полуострова на востоке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WordArt 36"/>
          <p:cNvSpPr txBox="1"/>
          <p:nvPr/>
        </p:nvSpPr>
        <p:spPr>
          <a:xfrm>
            <a:off x="1979640" y="765000"/>
            <a:ext cx="5040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14:48Z</dcterms:created>
  <dc:creator>User6</dc:creator>
  <dc:description/>
  <dc:language>en-US</dc:language>
  <cp:lastModifiedBy>User</cp:lastModifiedBy>
  <dcterms:modified xsi:type="dcterms:W3CDTF">2015-10-29T06:38:39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