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gif" ContentType="image/gif"/>
  <Override PartName="/ppt/media/image15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14.jpeg" ContentType="image/jpeg"/>
  <Override PartName="/ppt/media/image5.gif" ContentType="image/gif"/>
  <Override PartName="/ppt/media/image6.jpeg" ContentType="image/jpeg"/>
  <Override PartName="/ppt/media/image7.gif" ContentType="image/gif"/>
  <Override PartName="/ppt/media/image9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5841-507C-4B9F-BD26-3DA20F8D86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1DC2-8B72-48DB-BC96-185CAE844D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4CBB-6ECC-403A-941A-2D47B35922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555F-9F04-402B-9A17-4398F235D8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85D4-54C8-45DC-A010-A7F3E01B7C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ACCF-E855-40D0-890E-8DAB3D0F01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A581-7987-42BE-80AF-A15E741C06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835B-CCF2-43B7-82EB-906ED1E2B9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9B1B-9AE8-46D1-96B7-B14DB53069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51D4-C469-43AE-9186-799310A9A1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7BE-4423-4B49-8C01-8452FAF9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91B-BD2F-47DE-AA10-0B52C65A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ACA-72BA-4944-8EF3-105BE0CC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43C-BDC8-408D-91A4-65FAC25B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AB87-E386-4E06-95F1-BDCD24D9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B038-89B8-45AE-B3C5-2EEF1C59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2545-F39F-40C1-AE60-38CF8293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6ED7-5123-40E0-A195-CC8C756A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CEA0-8ACC-4937-A4B5-8912A2C2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B788-FF54-4A90-B8D9-35618D21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158E-19C5-43BF-B072-993BF025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DC2-3991-479E-9D11-E436C6B1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6858-529A-443A-B241-23473129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8A0F-F8FE-43BD-A9EB-DE1A454D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FC3E-F3AB-4BA2-BDF8-0B70B184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FD3D-F96B-4B44-AD7B-796EA619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A0FF-C153-4E1C-811B-CCCFE305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877-1290-4386-9E9B-FF9C9EAD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D7A-F56F-47E6-9896-4A15C4E9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402-4698-4F9A-9F9D-A33D7369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6D9-91A2-4533-A2AF-94FC35D1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BE0-76EE-4D05-A736-9A1DD1B4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652-D19F-4477-B983-25F5DC15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24E-A90C-4406-AEFE-C2208084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D704-B7CE-4F49-93F3-FBF5446916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1927-B797-48CE-9400-1CF6020407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6"/>
          <p:cNvSpPr txBox="1"/>
          <p:nvPr/>
        </p:nvSpPr>
        <p:spPr>
          <a:xfrm>
            <a:off x="1116000" y="249228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натое племя озера Чаны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124000" y="4005360"/>
            <a:ext cx="597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Васильева Алена ученица 5 кла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МБОУ Таганская СОШ им. П.Г. Яцен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с Таг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Чановский райо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Новосибирская обл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Руководитель : Матусевич Т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Песня о далекой родине -  песня из фильма 17 мгновений весны (mp3ostrov.com).mp3" descr=""/>
          <p:cNvPicPr/>
          <p:nvPr/>
        </p:nvPicPr>
        <p:blipFill>
          <a:blip r:embed="rId1"/>
          <a:stretch/>
        </p:blipFill>
        <p:spPr>
          <a:xfrm>
            <a:off x="1357200" y="642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64557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0"/>
          <p:cNvSpPr/>
          <p:nvPr/>
        </p:nvSpPr>
        <p:spPr>
          <a:xfrm>
            <a:off x="250920" y="1844640"/>
            <a:ext cx="540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    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аны — озеро уникальное. На его акватории обитает около 300 видов птиц, почти всех, распространенных в озерной лесостепи. Поэтому сохранение их — национальный долг страны. На островах, в прибрежьях озера гнездятся птицы, внесенные в Красную книгу РФ, в Международную Красную книгу. На Чанах расположены колонии 8 видов чайковых птиц, гнездятся и останавливаются во время миграции 25 видов утиных птиц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50920" y="458136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       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ватория озера и ближайших водоемов на периоды сезонных миграций становятся «транзитным вокзалом» на пути к зимовке водоплавающих почти всех видов. В 70-е годы за сезон здесь бывало до 1,5 млн. водоплавающих птиц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12" descr="0_6b9e_558b4640_L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p102_karta_oz_1"/>
          <p:cNvPicPr/>
          <p:nvPr/>
        </p:nvPicPr>
        <p:blipFill>
          <a:blip r:embed="rId2"/>
          <a:stretch/>
        </p:blipFill>
        <p:spPr>
          <a:xfrm>
            <a:off x="971640" y="115920"/>
            <a:ext cx="244800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Осенние листья.mp3" descr=""/>
          <p:cNvPicPr/>
          <p:nvPr/>
        </p:nvPicPr>
        <p:blipFill>
          <a:blip r:embed="rId3"/>
          <a:stretch/>
        </p:blipFill>
        <p:spPr>
          <a:xfrm>
            <a:off x="285840" y="428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2"/>
          <p:cNvSpPr txBox="1"/>
          <p:nvPr/>
        </p:nvSpPr>
        <p:spPr>
          <a:xfrm>
            <a:off x="2268360" y="333360"/>
            <a:ext cx="568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лубок морской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500720" y="1844640"/>
            <a:ext cx="43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Среднего размера белая чайка. Распространен от северо-восточного побережья Африки до оз. Балхаш и оз. Чаны на восток. Сплошного гнездового ареала морской голубок не образует, нередко гнездовые поселения удалены друг от друга на сотни километров. На гнездовании отмечена трижды. В 1925 г. колония морских голубков была обнаружена на оз. Тармакуль. Однако в последующие годы эта чайка здесь не гнездилась. В 1998 г. колония, насчитывающая 11 гнезд, птенцы в которых уже вылупились, была обнаружена на оз. Чаны на острове Черемуховый (Чановский р-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684360" y="494172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Величина колонии на озере Чаны - 10-11 пар. Гнездятся почти исключительно на остро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5" descr="054-4"/>
          <p:cNvPicPr/>
          <p:nvPr/>
        </p:nvPicPr>
        <p:blipFill>
          <a:blip r:embed="rId1"/>
          <a:stretch/>
        </p:blipFill>
        <p:spPr>
          <a:xfrm>
            <a:off x="324000" y="1989000"/>
            <a:ext cx="4032000" cy="30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Крупнее"/>
          <p:cNvPicPr/>
          <p:nvPr/>
        </p:nvPicPr>
        <p:blipFill>
          <a:blip r:embed="rId2"/>
          <a:stretch/>
        </p:blipFill>
        <p:spPr>
          <a:xfrm>
            <a:off x="0" y="0"/>
            <a:ext cx="19051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1608"/>
          <p:cNvPicPr/>
          <p:nvPr/>
        </p:nvPicPr>
        <p:blipFill>
          <a:blip r:embed="rId1"/>
          <a:stretch/>
        </p:blipFill>
        <p:spPr>
          <a:xfrm>
            <a:off x="250920" y="198900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2"/>
          <p:cNvSpPr txBox="1"/>
          <p:nvPr/>
        </p:nvSpPr>
        <p:spPr>
          <a:xfrm>
            <a:off x="3492360" y="981000"/>
            <a:ext cx="518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ачка чайконосая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348000" y="1916280"/>
            <a:ext cx="5327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Населяет все континенты. В России вид не образует сплошного ареала, а гнездится по югу отдельными участками и поселениями, удаленными друг от друга на сотни километров. В Новосибирской области</a:t>
            </a:r>
            <a:r>
              <a:rPr b="1" lang="ru-RU" sz="16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гнездование известно только для озера Чаны. Впервые гнездо здесь было обнаружено в 1975 г. После этого отдельные гнезда и колонии чайконосых крачек находили на некоторых островах оз. Чаны в течение шести сезонов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95280" y="4260960"/>
            <a:ext cx="8137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На территории области в последние годы встречаемость птиц на гнездовании возросла. Если до 1997 г. на островах оз. Чаны находили только одиночные гнезда, то в 1998 г. здесь гнездилось около 12-15 пар, а в 1999 г. образовалась колония численностью около 55 пар..</a:t>
            </a:r>
            <a:br>
              <a:rPr sz="1600"/>
            </a:b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 Кладки крачек разоряют чайка-хохотунья, грачи и серые вороны. По-видимому, эти птицы в условиях плохой погоды в 1999 г. на оз. Чаны за З дня полностью уничтожили колонию чайконосой крачки, состоящую из 55 пар. Гибнут кладки и при выпасе скота в местах гнездования. В других регионах отмечены случаи каннибализма - поедание птенцов своего вид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5" descr="Крупнее"/>
          <p:cNvPicPr/>
          <p:nvPr/>
        </p:nvPicPr>
        <p:blipFill>
          <a:blip r:embed="rId2"/>
          <a:stretch/>
        </p:blipFill>
        <p:spPr>
          <a:xfrm>
            <a:off x="0" y="0"/>
            <a:ext cx="19051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2655-cover"/>
          <p:cNvPicPr/>
          <p:nvPr/>
        </p:nvPicPr>
        <p:blipFill>
          <a:blip r:embed="rId1"/>
          <a:stretch/>
        </p:blipFill>
        <p:spPr>
          <a:xfrm>
            <a:off x="179280" y="2637000"/>
            <a:ext cx="3672000" cy="35287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2556000" y="260280"/>
            <a:ext cx="64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Тиркушка степ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995640" y="2060640"/>
            <a:ext cx="5148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Кулик с длинными, узкими крыльями, вильчатым хвостом и короткими клювом и ногами. В полете больше похож на большую ласточку. Гнездится на степных участках от границы с Алтайским краем до оз. Чаны на севере. На восток, вероятно, не проникает далее Краснозерского района. Изолированные колонии часто удалены друг от друга на десятки километ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4067280" y="4294080"/>
            <a:ext cx="4535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По результатам наблюдений, на причановском участке Барабы численность заметно снизилась с середины 80-х гг., когда тиркушка перестала встречаться во многих местах, где еще гнездилась в 70-е гг. В настоящее время в области гнездится 50-80 пар.</a:t>
            </a:r>
            <a:br>
              <a:rPr sz="1600"/>
            </a:b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Внесена в Красную книгу РФ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0" descr="Крупнее"/>
          <p:cNvPicPr/>
          <p:nvPr/>
        </p:nvPicPr>
        <p:blipFill>
          <a:blip r:embed="rId2"/>
          <a:stretch/>
        </p:blipFill>
        <p:spPr>
          <a:xfrm>
            <a:off x="0" y="0"/>
            <a:ext cx="19051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9"/>
          <p:cNvSpPr/>
          <p:nvPr/>
        </p:nvSpPr>
        <p:spPr>
          <a:xfrm>
            <a:off x="3203640" y="98100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10" descr="4159"/>
          <p:cNvPicPr/>
          <p:nvPr/>
        </p:nvPicPr>
        <p:blipFill>
          <a:blip r:embed="rId1"/>
          <a:stretch/>
        </p:blipFill>
        <p:spPr>
          <a:xfrm>
            <a:off x="179280" y="2276640"/>
            <a:ext cx="3818160" cy="37447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4"/>
          <p:cNvSpPr txBox="1"/>
          <p:nvPr/>
        </p:nvSpPr>
        <p:spPr>
          <a:xfrm>
            <a:off x="1692360" y="549360"/>
            <a:ext cx="590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>
                    <a:alpha val="99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одулочник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>
                  <a:alpha val="99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284720" y="2060640"/>
            <a:ext cx="485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Крупный кулик на непропорционально длинных красных ногах. Обитает на всех континентах. В последние годы наблюдается расширение ареала на север. До начала 90-х гг. XX века ходулочник на территории Новосибирской области не гнездился. В настоящее время гнездится в степных и лесостепных районах области, проникая на север до оз. Чаны. Самая северная колония ходулочника обнаружена на о-ве Черемуховый на оз. Чаны, в окрестностях села Таган (Чановский р-н). Значительна гибель гнезд и птенцов при выпасе скота. При этом гнезда как вытаптываются скотом, так и разоряются воронами, грачами и болотными лунями. Внесен в Красную книгу РФ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16" descr="Крупнее"/>
          <p:cNvPicPr/>
          <p:nvPr/>
        </p:nvPicPr>
        <p:blipFill>
          <a:blip r:embed="rId2"/>
          <a:stretch/>
        </p:blipFill>
        <p:spPr>
          <a:xfrm>
            <a:off x="0" y="189000"/>
            <a:ext cx="19051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1204"/>
          <p:cNvPicPr/>
          <p:nvPr/>
        </p:nvPicPr>
        <p:blipFill>
          <a:blip r:embed="rId1"/>
          <a:stretch/>
        </p:blipFill>
        <p:spPr>
          <a:xfrm>
            <a:off x="395280" y="155736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3"/>
          <p:cNvSpPr txBox="1"/>
          <p:nvPr/>
        </p:nvSpPr>
        <p:spPr>
          <a:xfrm>
            <a:off x="4356000" y="765000"/>
            <a:ext cx="4319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грава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4427640" y="1916280"/>
            <a:ext cx="453528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Колонии удалены друг от друга часто на сотни и даже тысячи километров. В области обнаружена только на оз. Чаны, где впервые колония была зарегистрирована в 1977 г. В последующие годы почти ежегодно чегравы гнездились на одном из островов: Редком, Черемуховом или Узкоредком. За последние 20 лет численность гнездящихся на оз. Чаны птиц постепенно возрастала и к 1999 г. достигла 550 п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857160" y="4143240"/>
            <a:ext cx="799308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На оз. Чаны основные причины гибели кладок - вытаптывание скотом, затопление кладок во .время сильных ветров, разорение гнезд чайкой-хохотуньей, серыми воронами и барсуками. Отмечено также поедание птенцов сизой чайкой. Питается чеграва и выкармливает птенцов на оз. Чаны исключительно рыбой, в других местах изредка отмечали питание водными беспозвоночным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Принятые меры охраны. Внесена в Красную книгу РФ. Основные острова, где гнездится чеграва на оз. Чаны, включены в спроектированный Барабинский заповедник.</a:t>
            </a: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6" descr="Крупнее"/>
          <p:cNvPicPr/>
          <p:nvPr/>
        </p:nvPicPr>
        <p:blipFill>
          <a:blip r:embed="rId2"/>
          <a:stretch/>
        </p:blipFill>
        <p:spPr>
          <a:xfrm>
            <a:off x="0" y="0"/>
            <a:ext cx="19051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1550"/>
          <p:cNvPicPr/>
          <p:nvPr/>
        </p:nvPicPr>
        <p:blipFill>
          <a:blip r:embed="rId1"/>
          <a:stretch/>
        </p:blipFill>
        <p:spPr>
          <a:xfrm>
            <a:off x="539640" y="3213000"/>
            <a:ext cx="3456000" cy="2664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5"/>
          <p:cNvSpPr txBox="1"/>
          <p:nvPr/>
        </p:nvSpPr>
        <p:spPr>
          <a:xfrm>
            <a:off x="2268360" y="907920"/>
            <a:ext cx="45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хотун черноголовый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68360" y="1989000"/>
            <a:ext cx="82072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Самая крупная чайка из обитающих на юге Западной Сибири. Распространена от северных районов Крыма до оз. Чаны и оз. Джулукуль на востоке. Сплошного ареала вид не образует и гнездится отдельными поселениями, удаленными друг от друга на сотни километров.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284720" y="2924280"/>
            <a:ext cx="4608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В Новосибирской области гнездится на оз. Чаны, впервые колония, насчитывающая 72 гнезда, была найдена в 1977 г. на острове Узко-Редком (Чановский р-н). В последующие годы колонии отмечали на этом же острове или на соседних - Редком и Кораблике. Основным фактором, определяющим возможность размножения данного вида в Новосибирской области, является гибель гнезд при выпасе скота на островах, где расположены колонии, а также сбор яиц местным населением. В последние годы. большое количество птиц держится в Здвинском заказнике на оз. Малые Чаны. Острова, где гнездятся черноголовые хохотуны на оз. Чаны, включены в спроектированный заповедник "Барабинский".</a:t>
            </a: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8" descr="Крупнее"/>
          <p:cNvPicPr/>
          <p:nvPr/>
        </p:nvPicPr>
        <p:blipFill>
          <a:blip r:embed="rId2"/>
          <a:stretch/>
        </p:blipFill>
        <p:spPr>
          <a:xfrm>
            <a:off x="179280" y="189000"/>
            <a:ext cx="19051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5"/>
          <p:cNvSpPr/>
          <p:nvPr/>
        </p:nvSpPr>
        <p:spPr>
          <a:xfrm>
            <a:off x="1116000" y="2205000"/>
            <a:ext cx="74167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       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Сложная экосистема озера Чаны находится во взаимодействии с весьма своеобразной природой Барабы в целом. Благодаря озеру обеспечивается возможность нормального существования различных растительных организмов, беспозвоночных животных, перелетных и оседлых птиц, млекопитающих. Здесь определяется судьба животного мира не только самого озера, но и обширных пространств Западной Сибир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По результатам первого всероссийского учета дичи в 1963 году лесостепь и степь Западной Сибири оказались вторым регионом по плотности заселения водоплавающей птицей и первым по общему объему их добычи — 45% от всех добытых в РСФСР. Не случайно на озере Малые Чаны в 1971 году была основана Чановская опорная экспедиционная база Института систематики и экологии животных для изучения животного мира, и в первую очередь исследования водоплавающих птиц. За годы работы окольцовано около 150 тысяч птиц. Работа ученых показала, что птицы, гнездящиеся здесь и останавливающиеся в период миграции, на зимовках распространены от стран Западной Европы до Корейского полуострова на востоке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WordArt 36"/>
          <p:cNvSpPr txBox="1"/>
          <p:nvPr/>
        </p:nvSpPr>
        <p:spPr>
          <a:xfrm>
            <a:off x="1979640" y="765000"/>
            <a:ext cx="50403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2:14:48Z</dcterms:created>
  <dc:creator>User6</dc:creator>
  <dc:description/>
  <dc:language>en-US</dc:language>
  <cp:lastModifiedBy>User</cp:lastModifiedBy>
  <dcterms:modified xsi:type="dcterms:W3CDTF">2015-10-29T06:38:39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