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A9A7-8D55-4ED5-9362-8EC51FF642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7187-A7EF-4A98-A76D-2F4099563A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87DD-B776-4F4C-909F-31D431FA59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28F9-2650-4A4F-B711-119E4096C9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C287-9754-4F38-8F8F-837F30DA9E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0AD3-7F9F-48D1-B607-523A0A3C6B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4EC8-64A4-4871-A7BF-DF4E7A04DC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1650-6A20-47ED-9E55-AEC30C51D8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7062-AB39-4A03-AE59-9A8FB7FD78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7C40-5DE5-4A25-BB83-2D4FFB3F54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3AF3-7AE6-4BBF-B6D7-2B9AD8C775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51FF-D756-48BF-B457-6618454C24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09ED-8F75-4D63-9C35-BFF6F9ED29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57C3-0DFA-43B4-A19D-120E4876E4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DA48-8B23-4544-8398-5C95450047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F471-8E2B-4954-A569-5612FAE2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920A-A03F-4016-A897-6B8E24BC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8DB-AB21-4484-83C7-2113D4E0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00F6-573C-4BF9-A6B6-ABD6B045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9348-CB4D-4E12-8BA1-9AD47547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00A1-88C8-4EBE-9617-A25355D6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F03B-FC9F-4061-9276-FF8621D9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62A5-BF68-423A-8B6E-A6647604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1845-1232-4186-B8CA-436D1673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C6FE-3645-4948-AEC4-639802F3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2D92-BE77-489E-A798-9D7E018D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FE8-30DE-4933-8A85-B3C9A2BA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6B70-53F0-4A03-94DF-93EAC4AB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9410-30AF-4D70-9AAC-B2CEF940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F11B-EA4C-492A-AEBA-505450EF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EEF8-D73D-49E2-951C-13DFFF43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9099-5EB2-421A-BD41-308A121F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0F59E-C9CE-4BBF-8B47-BAEEB090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DBF0B4-A350-4BB6-890D-CDDF338C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0189B4-C258-420F-A21D-E9ABC7D1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F66EE5-259F-4355-BF5B-AF84A6F3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1EAEA-A31C-427C-8C09-FFD1FBD7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1F8B-1875-451E-B14D-2ECB6680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4B3C4-113F-468A-A008-4E0A5E8C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E6976-5D48-4131-8798-D0E86A45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E85E37-76F4-426C-B1AB-4E25C4E4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CD8ED-BE93-471E-BAF2-DD0072B7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AC27A-6DB8-4AA6-A12F-C54FB3B0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217B8-45DA-43A9-865C-B9D80A3B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D439AB-3E24-4BF0-9D69-065C4853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281C1-AD02-4F90-990F-49B87085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603A2-1F68-49DF-85BD-B844D9FF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D565A-6B64-419A-86D0-02CF3E6D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5568-7E64-48CF-BD3B-A1D3A4F0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682D5-11B9-4214-B9C1-A29CD418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6E3DE-DC61-42A9-8570-D5BE67F2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3A576-A033-43AE-BB59-CEC5F7AD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08BF8-D988-4605-9B99-8E54108D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1FFEF-81FB-475C-B792-A1BFEE5C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8FE00-AFCF-4F68-B261-EB845A75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25AAA-768F-4ABE-BD8A-0E8F4DDB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A8681-4463-4100-945C-4D148FEC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1E2A5-3F73-41B4-85E3-85FA3070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80B8BF-9B4B-43E9-B9E8-AC5DA8F6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7D2F-CDC9-491A-B0B5-E386B707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3C72AD-2E6A-4A4F-9DF4-203919A4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734E94-52E3-45E3-B47F-DA88C125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7CFCE8-DB0D-4FD0-AC86-1134B578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6DE669-3C8D-4675-A0EF-5787268E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15DAF-572A-409B-A255-4A112059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205A59-58D2-4B6D-AB88-B270221B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AD13A7-1BE5-45D9-A99F-B42E8B83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DE051B-E73E-48F4-BC72-D97F7416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01FCD8-BAE8-4F09-A294-7166AE22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E0769F-0054-4932-9F84-344135C7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1101-AC7A-4784-8D22-C19F6060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6C82F1-AFB6-4FA5-8B7C-E9D8FF12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196EC0-1A50-4C7F-AFE7-664F5235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EB8588-3398-47B4-BD42-898D4CBD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F9A395-B084-4469-8DBD-CF344D2E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6FEF39-4EC1-41CD-9403-198772F4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8658F4-56F7-4C72-A1AA-4554250F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54370C-D82C-4F3A-9794-1C63185E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F3ADF0-1F0D-45EA-BF66-C47E2012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C0544B-63EA-4820-BDD5-DDEBE658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57FCE0-8B03-49D9-A03F-EFF12DF1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949E-44F5-4796-9EF6-F7E97301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99F25B-DC2E-4DE9-908C-FE83F026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3FAEAC-C410-46A4-8404-4C619DEA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95E6AA-9532-4BF2-AC06-3BD0666A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8B45DF-BB24-4C88-938F-D869D654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6A7216-6552-4B8D-B0A6-B27C5F92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56885A-E34A-4C7C-80EC-A51731F6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BC50BA-5819-4DDA-B09B-D06B1216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1B80B0-577C-4F2A-B8BD-CE27A09D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E6402C-BC55-4465-9082-C7B213BC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8D479F-D634-4B70-9025-0318FD12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7E18-50C7-46EB-8255-B9FE216F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58CAC8-21BF-4643-A83F-51448942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1752EA-4F35-4365-8D48-2036940F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CFE7BD-89EC-4560-BEF3-C4EB68D5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8BE174-77D1-4E19-90EC-C8BBD63D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722C97-958D-4E61-BDB9-2E50AF8D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E807-4615-4332-A2E0-4D1467C3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C03C-D5C6-4E5E-B959-EE42FAE7D6F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B669-C7D2-4153-969F-0D95B886A61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3D68-0BB5-43D5-BDF2-476D1D392622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696B-BF26-42B3-BE63-54EB547B115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F615-7973-44CF-8C0F-3961D411426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293C-B110-4D9E-BAD2-144881ADE29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1AC6-DA68-4BDF-92B1-4B19B2F3F5B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7.png"/><Relationship Id="rId4" Type="http://schemas.openxmlformats.org/officeDocument/2006/relationships/hyperlink" Target="http://ru.wikipedia.org/wiki/&#1060;&#1072;&#1081;&#1083;:Kutuzov_by_Volkov.jpg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5"/>
          <p:cNvSpPr/>
          <p:nvPr/>
        </p:nvSpPr>
        <p:spPr>
          <a:xfrm>
            <a:off x="611280" y="249228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Внешняя политика России во </a:t>
            </a:r>
            <a:r>
              <a:rPr b="1" lang="en-US" sz="5400" spc="-1" strike="noStrike">
                <a:solidFill>
                  <a:srgbClr val="c00000"/>
                </a:solidFill>
                <a:latin typeface="Monotype Corsiva"/>
              </a:rPr>
              <a:t>II </a:t>
            </a: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половине </a:t>
            </a:r>
            <a:r>
              <a:rPr b="1" lang="en-US" sz="5400" spc="-1" strike="noStrike">
                <a:solidFill>
                  <a:srgbClr val="c00000"/>
                </a:solidFill>
                <a:latin typeface="Monotype Corsiva"/>
              </a:rPr>
              <a:t>XVIII </a:t>
            </a: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ве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6" descr="033"/>
          <p:cNvPicPr/>
          <p:nvPr/>
        </p:nvPicPr>
        <p:blipFill>
          <a:blip r:embed="rId1"/>
          <a:stretch/>
        </p:blipFill>
        <p:spPr>
          <a:xfrm>
            <a:off x="6588000" y="4587840"/>
            <a:ext cx="1729080" cy="18939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03"/>
          <p:cNvPicPr/>
          <p:nvPr/>
        </p:nvPicPr>
        <p:blipFill>
          <a:blip r:embed="rId2"/>
          <a:stretch/>
        </p:blipFill>
        <p:spPr>
          <a:xfrm>
            <a:off x="539640" y="404640"/>
            <a:ext cx="2016360" cy="21909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" descr="image001"/>
          <p:cNvPicPr/>
          <p:nvPr/>
        </p:nvPicPr>
        <p:blipFill>
          <a:blip r:embed="rId3"/>
          <a:stretch/>
        </p:blipFill>
        <p:spPr>
          <a:xfrm>
            <a:off x="6227640" y="476280"/>
            <a:ext cx="2219400" cy="1952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9" descr=""/>
          <p:cNvPicPr/>
          <p:nvPr/>
        </p:nvPicPr>
        <p:blipFill>
          <a:blip r:embed="rId4"/>
          <a:stretch/>
        </p:blipFill>
        <p:spPr>
          <a:xfrm>
            <a:off x="539640" y="4714920"/>
            <a:ext cx="2016360" cy="1873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"/>
          <p:cNvPicPr/>
          <p:nvPr/>
        </p:nvPicPr>
        <p:blipFill>
          <a:blip r:embed="rId5"/>
          <a:stretch/>
        </p:blipFill>
        <p:spPr>
          <a:xfrm>
            <a:off x="2843280" y="4653000"/>
            <a:ext cx="1587600" cy="19461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1" descr=""/>
          <p:cNvPicPr/>
          <p:nvPr/>
        </p:nvPicPr>
        <p:blipFill>
          <a:blip r:embed="rId6"/>
          <a:stretch/>
        </p:blipFill>
        <p:spPr>
          <a:xfrm>
            <a:off x="2771640" y="476280"/>
            <a:ext cx="1541520" cy="1944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2" descr=""/>
          <p:cNvPicPr/>
          <p:nvPr/>
        </p:nvPicPr>
        <p:blipFill>
          <a:blip r:embed="rId7"/>
          <a:stretch/>
        </p:blipFill>
        <p:spPr>
          <a:xfrm>
            <a:off x="4716360" y="4653000"/>
            <a:ext cx="1368360" cy="1944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3" descr="ekaterina2roslin"/>
          <p:cNvPicPr/>
          <p:nvPr/>
        </p:nvPicPr>
        <p:blipFill>
          <a:blip r:embed="rId8"/>
          <a:stretch/>
        </p:blipFill>
        <p:spPr>
          <a:xfrm>
            <a:off x="4467240" y="476280"/>
            <a:ext cx="1617480" cy="194472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5"/>
          <p:cNvSpPr/>
          <p:nvPr/>
        </p:nvSpPr>
        <p:spPr>
          <a:xfrm>
            <a:off x="6084720" y="64911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dobe Garamond Pro Bold"/>
              </a:rPr>
              <a:t>Чупров Л.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14"/>
          <p:cNvSpPr/>
          <p:nvPr/>
        </p:nvSpPr>
        <p:spPr>
          <a:xfrm>
            <a:off x="2195640" y="189000"/>
            <a:ext cx="4824360" cy="5760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0000"/>
                </a:solidFill>
                <a:latin typeface="Monotype Corsiva"/>
              </a:rPr>
              <a:t>Русско-турецкая война (1768-1774 г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9"/>
          <p:cNvSpPr/>
          <p:nvPr/>
        </p:nvSpPr>
        <p:spPr>
          <a:xfrm>
            <a:off x="611280" y="981000"/>
            <a:ext cx="237636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Персоналии:</a:t>
            </a:r>
            <a:r>
              <a:rPr b="0" lang="ru-RU" sz="2400" spc="-1" strike="noStrike">
                <a:solidFill>
                  <a:srgbClr val="e20000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dobe Garamond Pro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1"/>
          <p:cNvSpPr/>
          <p:nvPr/>
        </p:nvSpPr>
        <p:spPr>
          <a:xfrm>
            <a:off x="539640" y="2924280"/>
            <a:ext cx="4319640" cy="1557000"/>
          </a:xfrm>
          <a:prstGeom prst="rect">
            <a:avLst/>
          </a:prstGeom>
          <a:solidFill>
            <a:srgbClr val="cc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obe Garamond Pro Bold"/>
              </a:rPr>
              <a:t>Румянцев, Петр Александрович;- генерал-фельдмаршал, военный деяте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2"/>
          <p:cNvSpPr/>
          <p:nvPr/>
        </p:nvSpPr>
        <p:spPr>
          <a:xfrm>
            <a:off x="539640" y="4508640"/>
            <a:ext cx="4464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obe Garamond Pro Bold"/>
              </a:rPr>
              <a:t>Спиридов Григорий Андреевич; военно-морской дея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3"/>
          <p:cNvSpPr/>
          <p:nvPr/>
        </p:nvSpPr>
        <p:spPr>
          <a:xfrm>
            <a:off x="539640" y="1700280"/>
            <a:ext cx="489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obe Garamond Pro Bold"/>
              </a:rPr>
              <a:t>Суворов, Александр Васильевич, генералиссимус, выдающийся полководе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5" descr=""/>
          <p:cNvPicPr/>
          <p:nvPr/>
        </p:nvPicPr>
        <p:blipFill>
          <a:blip r:embed="rId1"/>
          <a:stretch/>
        </p:blipFill>
        <p:spPr>
          <a:xfrm>
            <a:off x="4716360" y="2708280"/>
            <a:ext cx="1882800" cy="23763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7" descr=""/>
          <p:cNvPicPr/>
          <p:nvPr/>
        </p:nvPicPr>
        <p:blipFill>
          <a:blip r:embed="rId2"/>
          <a:stretch/>
        </p:blipFill>
        <p:spPr>
          <a:xfrm rot="21065400">
            <a:off x="6673680" y="3701520"/>
            <a:ext cx="2006640" cy="25927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9" descr=""/>
          <p:cNvPicPr/>
          <p:nvPr/>
        </p:nvPicPr>
        <p:blipFill>
          <a:blip r:embed="rId3"/>
          <a:stretch/>
        </p:blipFill>
        <p:spPr>
          <a:xfrm rot="352200">
            <a:off x="6587640" y="836640"/>
            <a:ext cx="1998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2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8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5"/>
          <p:cNvSpPr/>
          <p:nvPr/>
        </p:nvSpPr>
        <p:spPr>
          <a:xfrm>
            <a:off x="0" y="189000"/>
            <a:ext cx="2916360" cy="503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0000"/>
                </a:solidFill>
                <a:latin typeface="Monotype Corsiva"/>
              </a:rPr>
              <a:t>Персонал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6" descr=""/>
          <p:cNvPicPr/>
          <p:nvPr/>
        </p:nvPicPr>
        <p:blipFill>
          <a:blip r:embed="rId1"/>
          <a:stretch/>
        </p:blipFill>
        <p:spPr>
          <a:xfrm rot="355200">
            <a:off x="6659640" y="333360"/>
            <a:ext cx="2205000" cy="28083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7"/>
          <p:cNvSpPr/>
          <p:nvPr/>
        </p:nvSpPr>
        <p:spPr>
          <a:xfrm>
            <a:off x="0" y="907920"/>
            <a:ext cx="4932360" cy="24480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Потемкин Григорий Александро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русский государственный деятел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граф, светлейший князь (Потёмки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Таврический), генерал-фельдмарш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Фаворит, по некоторым данны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морганатический супруг Екатерины II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9" descr=""/>
          <p:cNvPicPr/>
          <p:nvPr/>
        </p:nvPicPr>
        <p:blipFill>
          <a:blip r:embed="rId2"/>
          <a:stretch/>
        </p:blipFill>
        <p:spPr>
          <a:xfrm rot="484200">
            <a:off x="7020000" y="2923920"/>
            <a:ext cx="1882800" cy="29368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0" descr=""/>
          <p:cNvPicPr/>
          <p:nvPr/>
        </p:nvPicPr>
        <p:blipFill>
          <a:blip r:embed="rId3"/>
          <a:stretch/>
        </p:blipFill>
        <p:spPr>
          <a:xfrm rot="21220800">
            <a:off x="6084720" y="3645000"/>
            <a:ext cx="1689120" cy="2797200"/>
          </a:xfrm>
          <a:prstGeom prst="rect">
            <a:avLst/>
          </a:prstGeom>
          <a:ln w="0">
            <a:noFill/>
          </a:ln>
        </p:spPr>
      </p:pic>
      <p:sp>
        <p:nvSpPr>
          <p:cNvPr id="439" name="AutoShape 11"/>
          <p:cNvSpPr/>
          <p:nvPr/>
        </p:nvSpPr>
        <p:spPr>
          <a:xfrm>
            <a:off x="0" y="3284640"/>
            <a:ext cx="4932360" cy="14382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Ушаков Федор Федорович  россий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флотоводец, адмирал, святой Рус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Православной церкв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2"/>
          <p:cNvSpPr/>
          <p:nvPr/>
        </p:nvSpPr>
        <p:spPr>
          <a:xfrm>
            <a:off x="0" y="4581360"/>
            <a:ext cx="4932360" cy="18450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no Pro Smbd Caption"/>
              </a:rPr>
              <a:t>Кутузов Михаил Илларионо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no Pro Smbd Caption"/>
              </a:rPr>
              <a:t>прославленный русский полководец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no Pro Smbd Caption"/>
              </a:rPr>
              <a:t>генерал-фельдмаршал, светлейший княз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no Pro Smbd Caption"/>
              </a:rPr>
              <a:t>Герой Отечественной войны 1812 год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15" descr="300px-Kutuzov_by_Volkov">
            <a:hlinkClick r:id="rId4"/>
          </p:cNvPr>
          <p:cNvPicPr/>
          <p:nvPr/>
        </p:nvPicPr>
        <p:blipFill>
          <a:blip r:embed="rId5"/>
          <a:stretch/>
        </p:blipFill>
        <p:spPr>
          <a:xfrm rot="21346800">
            <a:off x="5148360" y="1557000"/>
            <a:ext cx="20192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7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5"/>
          <p:cNvSpPr/>
          <p:nvPr/>
        </p:nvSpPr>
        <p:spPr>
          <a:xfrm>
            <a:off x="611280" y="1484280"/>
            <a:ext cx="7488000" cy="5172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dobe Garamond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Русская армия приобрела опыт военных действий против хорошо вооруженных, использующих современную тактику боя европейских арм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dobe Garamond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dobe Garamond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Русская армия обладала современным оружием, мощным флотом, а ее генералитет научился выявлять и использовать лучшие боевые качества русского солдата: патриотизм, отвагу, решительность, выносливость, т.е. овладел "наукой побеждать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dobe Garamond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dobe Garamond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Османская империя утратила свое былое могущество, ее экономические и военные ресурсы оказались слабее, чем у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dobe Garamond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dobe Garamond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Правительство России во главе с Екатериной II смогло обеспечить материальные и политические условия для достижения побе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6"/>
          <p:cNvSpPr/>
          <p:nvPr/>
        </p:nvSpPr>
        <p:spPr>
          <a:xfrm>
            <a:off x="1908000" y="404640"/>
            <a:ext cx="5040360" cy="57636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Причины побед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6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6"/>
          <p:cNvSpPr/>
          <p:nvPr/>
        </p:nvSpPr>
        <p:spPr>
          <a:xfrm>
            <a:off x="1403280" y="189000"/>
            <a:ext cx="6408720" cy="57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20000"/>
                </a:solidFill>
                <a:latin typeface="Monotype Corsiva"/>
              </a:rPr>
              <a:t>Итоги внешней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7"/>
          <p:cNvSpPr/>
          <p:nvPr/>
        </p:nvSpPr>
        <p:spPr>
          <a:xfrm>
            <a:off x="684360" y="1197000"/>
            <a:ext cx="7775280" cy="863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20000"/>
                </a:solidFill>
                <a:latin typeface="Monotype Corsiva"/>
              </a:rPr>
              <a:t>Россия получила выход в Черное море, присоединила Крым, созда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20000"/>
                </a:solidFill>
                <a:latin typeface="Monotype Corsiva"/>
              </a:rPr>
              <a:t>черноморский флот. Благодаря этом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8"/>
          <p:cNvSpPr/>
          <p:nvPr/>
        </p:nvSpPr>
        <p:spPr>
          <a:xfrm>
            <a:off x="684360" y="2205000"/>
            <a:ext cx="7775280" cy="1295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1. Начинается освоение степей Причерноморья, свободных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помещичьего землевладения, что создавало благоприятные усл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для развития этого реги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9"/>
          <p:cNvSpPr/>
          <p:nvPr/>
        </p:nvSpPr>
        <p:spPr>
          <a:xfrm>
            <a:off x="684360" y="3573360"/>
            <a:ext cx="7775280" cy="1295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2. Более интенсивно начинает развиваться черноземный центр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и Украина, получившие возможность реализовывать сво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продукцию через черноморский торговый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0"/>
          <p:cNvSpPr/>
          <p:nvPr/>
        </p:nvSpPr>
        <p:spPr>
          <a:xfrm>
            <a:off x="684360" y="5013360"/>
            <a:ext cx="77752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3. Укрепилось военно-стратегическое положение России на юж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рубежах, расширились сферы ее влия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AutoShape 6"/>
          <p:cNvSpPr/>
          <p:nvPr/>
        </p:nvSpPr>
        <p:spPr>
          <a:xfrm>
            <a:off x="684360" y="907920"/>
            <a:ext cx="7702560" cy="64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4. Началось вхождение Закавказья в Россию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7"/>
          <p:cNvSpPr/>
          <p:nvPr/>
        </p:nvSpPr>
        <p:spPr>
          <a:xfrm>
            <a:off x="684360" y="1773360"/>
            <a:ext cx="7702560" cy="1655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5. К России были присоединены Белоруссия, Ли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Правобережная Украина, часть Прибалтики, что благотво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сказалось как на развитии самой России, так и на полож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украинского и белорусского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8"/>
          <p:cNvSpPr/>
          <p:nvPr/>
        </p:nvSpPr>
        <p:spPr>
          <a:xfrm>
            <a:off x="684360" y="3860640"/>
            <a:ext cx="7775280" cy="64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6. Выросли роль и влияние России в мировой поли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9" descr=""/>
          <p:cNvPicPr/>
          <p:nvPr/>
        </p:nvPicPr>
        <p:blipFill>
          <a:blip r:embed="rId1"/>
          <a:stretch/>
        </p:blipFill>
        <p:spPr>
          <a:xfrm rot="352200">
            <a:off x="5746320" y="42480"/>
            <a:ext cx="2973600" cy="36450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4687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НАУКА ПОБЕЖДА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395280" y="2420640"/>
            <a:ext cx="6400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Быстрота. Глазомер. Натис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уля дура, штык молодец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Тяжело в учении - легко в    походе, легко на учении - тяжело в поход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1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11"/>
          <p:cNvSpPr/>
          <p:nvPr/>
        </p:nvSpPr>
        <p:spPr>
          <a:xfrm>
            <a:off x="395280" y="1268280"/>
            <a:ext cx="8424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«Петр </a:t>
            </a: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 удивил Европу своими победами, Екатерина  приучила ее к нашим победам”.  </a:t>
            </a:r>
            <a:br>
              <a:rPr sz="3600"/>
            </a:b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Н. М Карамз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AutoShape 7"/>
          <p:cNvSpPr/>
          <p:nvPr/>
        </p:nvSpPr>
        <p:spPr>
          <a:xfrm rot="8640000">
            <a:off x="1453320" y="1566720"/>
            <a:ext cx="2933640" cy="635040"/>
          </a:xfrm>
          <a:prstGeom prst="pi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000"/>
                </a:solidFill>
                <a:latin typeface="Monotype Corsiva"/>
              </a:rPr>
              <a:t>Север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0"/>
          <p:cNvSpPr/>
          <p:nvPr/>
        </p:nvSpPr>
        <p:spPr>
          <a:xfrm rot="5400000">
            <a:off x="2448000" y="2310480"/>
            <a:ext cx="3529080" cy="723960"/>
          </a:xfrm>
          <a:prstGeom prst="pi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000"/>
                </a:solidFill>
                <a:latin typeface="Monotype Corsiva"/>
              </a:rPr>
              <a:t>Поль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2"/>
          <p:cNvSpPr/>
          <p:nvPr/>
        </p:nvSpPr>
        <p:spPr>
          <a:xfrm rot="1941600">
            <a:off x="4147920" y="1542960"/>
            <a:ext cx="2808000" cy="574920"/>
          </a:xfrm>
          <a:prstGeom prst="pi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000"/>
                </a:solidFill>
                <a:latin typeface="Monotype Corsiva"/>
              </a:rPr>
              <a:t>Юж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4"/>
          <p:cNvSpPr/>
          <p:nvPr/>
        </p:nvSpPr>
        <p:spPr>
          <a:xfrm>
            <a:off x="468360" y="2852640"/>
            <a:ext cx="2592360" cy="136836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Шведы постоянн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стремились верну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утраченные в петровски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времена зем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5"/>
          <p:cNvSpPr/>
          <p:nvPr/>
        </p:nvSpPr>
        <p:spPr>
          <a:xfrm>
            <a:off x="5292720" y="2637000"/>
            <a:ext cx="3240000" cy="1512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5560">
            <a:solidFill>
              <a:srgbClr val="e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Борьба за выход к берегам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Черного моря, что диктовалось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потребностями экономик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и обороны  страны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6"/>
          <p:cNvSpPr/>
          <p:nvPr/>
        </p:nvSpPr>
        <p:spPr>
          <a:xfrm>
            <a:off x="2411280" y="4437000"/>
            <a:ext cx="3889440" cy="1657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Стремление России 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объединению в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составе России всех земель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населенных близкородственным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русским народ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украинцами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dobe Garamond Pro Bold"/>
              </a:rPr>
              <a:t>белорус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7"/>
          <p:cNvSpPr/>
          <p:nvPr/>
        </p:nvSpPr>
        <p:spPr>
          <a:xfrm>
            <a:off x="1187280" y="0"/>
            <a:ext cx="6624720" cy="981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0000"/>
                </a:solidFill>
                <a:latin typeface="Monotype Corsiva"/>
              </a:rPr>
              <a:t>Во второй половине </a:t>
            </a:r>
            <a:r>
              <a:rPr b="0" lang="en-US" sz="1800" spc="-1" strike="noStrike">
                <a:solidFill>
                  <a:srgbClr val="e20000"/>
                </a:solidFill>
                <a:latin typeface="Monotype Corsiva"/>
              </a:rPr>
              <a:t>XVIII</a:t>
            </a:r>
            <a:r>
              <a:rPr b="0" lang="ru-RU" sz="1800" spc="-1" strike="noStrike">
                <a:solidFill>
                  <a:srgbClr val="e20000"/>
                </a:solidFill>
                <a:latin typeface="Monotype Corsiva"/>
              </a:rPr>
              <a:t> века во внешней политике России выделя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e20000"/>
                </a:solidFill>
                <a:latin typeface="Monotype Corsiva"/>
              </a:rPr>
              <a:t>три направ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5"/>
          <p:cNvSpPr/>
          <p:nvPr/>
        </p:nvSpPr>
        <p:spPr>
          <a:xfrm>
            <a:off x="468360" y="2276640"/>
            <a:ext cx="8136000" cy="85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В</a:t>
            </a:r>
            <a:r>
              <a:rPr b="1" lang="ru-RU" sz="1800" spc="-1" strike="noStrike">
                <a:solidFill>
                  <a:srgbClr val="ffffff"/>
                </a:solidFill>
                <a:latin typeface="Adobe Garamond Pro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состав федеративного государства Речь Посполитая входили Польша, Литва, Украина и Белорусс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468360" y="3141720"/>
            <a:ext cx="8136000" cy="140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П</a:t>
            </a: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оводом для вмешательства в дела Речи Посполитой послужил вопрос о положении диссидентов (то есть некатолического меньшинства — православных и протестантов), чтобы те были уравнены в правах с  катол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1042920" y="549360"/>
            <a:ext cx="7272360" cy="581400"/>
          </a:xfrm>
          <a:prstGeom prst="rect">
            <a:avLst/>
          </a:prstGeom>
          <a:solidFill>
            <a:srgbClr val="cc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Разделы Польш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468360" y="1341360"/>
            <a:ext cx="81360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obe Garamond Pro Bold"/>
              </a:rPr>
              <a:t>Речь Посполит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395280" y="1268280"/>
            <a:ext cx="2016000" cy="1008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obe Garamond Pro Bold"/>
              </a:rPr>
              <a:t>Поль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2411280" y="1268280"/>
            <a:ext cx="1729080" cy="100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obe Garamond Pro Bold"/>
              </a:rPr>
              <a:t>Ли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4140360" y="1268280"/>
            <a:ext cx="2160360" cy="1008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obe Garamond Pro Bold"/>
              </a:rPr>
              <a:t>Укра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6300720" y="1268280"/>
            <a:ext cx="2303640" cy="1008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obe Garamond Pro Bold"/>
              </a:rPr>
              <a:t>Белору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468360" y="5516640"/>
            <a:ext cx="8136000" cy="1130040"/>
          </a:xfrm>
          <a:prstGeom prst="rect">
            <a:avLst/>
          </a:prstGeom>
          <a:solidFill>
            <a:srgbClr val="e9f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катерина оказывала сильное давление на шляхту с целью избрания на польский престол своего ставленника Станислава Августа Понятовского, который и был избран</a:t>
            </a:r>
            <a:r>
              <a:rPr b="1" lang="ru-RU" sz="1800" spc="-1" strike="noStrike">
                <a:solidFill>
                  <a:srgbClr val="ffffff"/>
                </a:solidFill>
                <a:latin typeface="Adobe Garamond Pro Bol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4"/>
          <p:cNvSpPr/>
          <p:nvPr/>
        </p:nvSpPr>
        <p:spPr>
          <a:xfrm>
            <a:off x="468360" y="4437000"/>
            <a:ext cx="8136000" cy="140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Ч</a:t>
            </a: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асть польской шляхты выступила против этих решений и организовала восстание, поднятое в Барской конфедерации. Оно было подавлено русскими войсками в союзе с польским королём</a:t>
            </a:r>
            <a:r>
              <a:rPr b="1" lang="ru-RU" sz="1800" spc="-1" strike="noStrike">
                <a:solidFill>
                  <a:srgbClr val="ffffff"/>
                </a:solidFill>
                <a:latin typeface="Adobe Garamond Pro Bol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684360" y="1052640"/>
          <a:ext cx="7993080" cy="2954160"/>
        </p:xfrm>
        <a:graphic>
          <a:graphicData uri="http://schemas.openxmlformats.org/drawingml/2006/table">
            <a:tbl>
              <a:tblPr/>
              <a:tblGrid>
                <a:gridCol w="2519280"/>
                <a:gridCol w="2809800"/>
                <a:gridCol w="2664000"/>
              </a:tblGrid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2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772 г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793 г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795 г</a:t>
                      </a:r>
                      <a:r>
                        <a:rPr b="1" lang="ru-RU" sz="44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20000"/>
                          </a:solidFill>
                          <a:latin typeface="Adobe Garamond Pro Bold"/>
                        </a:rPr>
                        <a:t>Восточная Белоруссия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dobe Garamond Pro Bold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solidFill>
                      <a:srgbClr val="e9f36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20000"/>
                          </a:solidFill>
                          <a:latin typeface="Adobe Garamond Pro Bold"/>
                        </a:rPr>
                        <a:t>Центральная  Белору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solidFill>
                      <a:srgbClr val="e9f36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20000"/>
                          </a:solidFill>
                          <a:latin typeface="Adobe Garamond Pro Bold"/>
                        </a:rPr>
                        <a:t>Западная Белору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solidFill>
                      <a:srgbClr val="e9f363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dobe Garamond Pro Bold"/>
                        </a:rPr>
                        <a:t>часть Латвии (Ливон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solidFill>
                      <a:srgbClr val="e9f36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dobe Garamond Pro Bold"/>
                        </a:rPr>
                        <a:t>Правобережная Укра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solidFill>
                      <a:srgbClr val="e9f36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dobe Garamond Pro Bold"/>
                        </a:rPr>
                        <a:t>Литва, Курляндия, Волы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solidFill>
                      <a:srgbClr val="e9f363"/>
                    </a:solidFill>
                  </a:tcPr>
                </a:tc>
              </a:tr>
            </a:tbl>
          </a:graphicData>
        </a:graphic>
      </p:graphicFrame>
      <p:sp>
        <p:nvSpPr>
          <p:cNvPr id="387" name="AutoShape 77"/>
          <p:cNvSpPr/>
          <p:nvPr/>
        </p:nvSpPr>
        <p:spPr>
          <a:xfrm>
            <a:off x="1187280" y="189000"/>
            <a:ext cx="7056720" cy="693720"/>
          </a:xfrm>
          <a:prstGeom prst="bevel">
            <a:avLst>
              <a:gd name="adj" fmla="val 12500"/>
            </a:avLst>
          </a:prstGeom>
          <a:solidFill>
            <a:srgbClr val="cc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000"/>
                </a:solidFill>
                <a:latin typeface="Monotype Corsiva"/>
              </a:rPr>
              <a:t>Расширение территории России во время разделов Польши</a:t>
            </a:r>
            <a:r>
              <a:rPr b="1" lang="ru-RU" sz="1800" spc="-1" strike="noStrike">
                <a:solidFill>
                  <a:srgbClr val="e2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78" descr=""/>
          <p:cNvPicPr/>
          <p:nvPr/>
        </p:nvPicPr>
        <p:blipFill>
          <a:blip r:embed="rId1"/>
          <a:stretch/>
        </p:blipFill>
        <p:spPr>
          <a:xfrm>
            <a:off x="684360" y="4149720"/>
            <a:ext cx="3958920" cy="22384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9" descr=""/>
          <p:cNvPicPr/>
          <p:nvPr/>
        </p:nvPicPr>
        <p:blipFill>
          <a:blip r:embed="rId2"/>
          <a:stretch/>
        </p:blipFill>
        <p:spPr>
          <a:xfrm>
            <a:off x="4859280" y="4149720"/>
            <a:ext cx="38163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AutoShape 5"/>
          <p:cNvSpPr/>
          <p:nvPr/>
        </p:nvSpPr>
        <p:spPr>
          <a:xfrm>
            <a:off x="1042920" y="0"/>
            <a:ext cx="3241800" cy="4762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0000"/>
                </a:solidFill>
                <a:latin typeface="Monotype Corsiva"/>
              </a:rPr>
              <a:t>2. Южное направ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6"/>
          <p:cNvSpPr/>
          <p:nvPr/>
        </p:nvSpPr>
        <p:spPr>
          <a:xfrm rot="5400000">
            <a:off x="2448720" y="511920"/>
            <a:ext cx="503280" cy="432000"/>
          </a:xfrm>
          <a:custGeom>
            <a:avLst/>
            <a:gdLst>
              <a:gd name="textAreaLeft" fmla="*/ 78480 w 503280"/>
              <a:gd name="textAreaRight" fmla="*/ 440640 w 5032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7"/>
          <p:cNvSpPr/>
          <p:nvPr/>
        </p:nvSpPr>
        <p:spPr>
          <a:xfrm>
            <a:off x="539640" y="981000"/>
            <a:ext cx="4248360" cy="576360"/>
          </a:xfrm>
          <a:prstGeom prst="roundRect">
            <a:avLst>
              <a:gd name="adj" fmla="val 16667"/>
            </a:avLst>
          </a:prstGeom>
          <a:solidFill>
            <a:srgbClr val="575f6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усско-турецкая война (1768-1774 г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8"/>
          <p:cNvSpPr/>
          <p:nvPr/>
        </p:nvSpPr>
        <p:spPr>
          <a:xfrm rot="5400000">
            <a:off x="2448720" y="1664280"/>
            <a:ext cx="503280" cy="432000"/>
          </a:xfrm>
          <a:custGeom>
            <a:avLst/>
            <a:gdLst>
              <a:gd name="textAreaLeft" fmla="*/ 78480 w 503280"/>
              <a:gd name="textAreaRight" fmla="*/ 440640 w 5032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9"/>
          <p:cNvSpPr/>
          <p:nvPr/>
        </p:nvSpPr>
        <p:spPr>
          <a:xfrm>
            <a:off x="539640" y="3357720"/>
            <a:ext cx="4248360" cy="576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усско-турецкая война (1787-1791 г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2"/>
          <p:cNvSpPr/>
          <p:nvPr/>
        </p:nvSpPr>
        <p:spPr>
          <a:xfrm rot="5400000">
            <a:off x="2591640" y="5120280"/>
            <a:ext cx="503280" cy="432000"/>
          </a:xfrm>
          <a:custGeom>
            <a:avLst/>
            <a:gdLst>
              <a:gd name="textAreaLeft" fmla="*/ 78480 w 503280"/>
              <a:gd name="textAreaRight" fmla="*/ 440640 w 5032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3"/>
          <p:cNvSpPr/>
          <p:nvPr/>
        </p:nvSpPr>
        <p:spPr>
          <a:xfrm rot="5400000">
            <a:off x="2555640" y="4005000"/>
            <a:ext cx="574920" cy="432000"/>
          </a:xfrm>
          <a:custGeom>
            <a:avLst/>
            <a:gdLst>
              <a:gd name="textAreaLeft" fmla="*/ 89640 w 574920"/>
              <a:gd name="textAreaRight" fmla="*/ 503280 w 5749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5"/>
          <p:cNvSpPr/>
          <p:nvPr/>
        </p:nvSpPr>
        <p:spPr>
          <a:xfrm rot="5400000">
            <a:off x="2410920" y="2781360"/>
            <a:ext cx="720720" cy="431640"/>
          </a:xfrm>
          <a:custGeom>
            <a:avLst/>
            <a:gdLst>
              <a:gd name="textAreaLeft" fmla="*/ 112320 w 720720"/>
              <a:gd name="textAreaRight" fmla="*/ 630720 w 7207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7"/>
          <p:cNvSpPr/>
          <p:nvPr/>
        </p:nvSpPr>
        <p:spPr>
          <a:xfrm>
            <a:off x="4643280" y="2276640"/>
            <a:ext cx="792360" cy="287280"/>
          </a:xfrm>
          <a:custGeom>
            <a:avLst/>
            <a:gdLst>
              <a:gd name="textAreaLeft" fmla="*/ 123840 w 792360"/>
              <a:gd name="textAreaRight" fmla="*/ 693360 w 79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9"/>
          <p:cNvSpPr/>
          <p:nvPr/>
        </p:nvSpPr>
        <p:spPr>
          <a:xfrm>
            <a:off x="5508720" y="549360"/>
            <a:ext cx="3095640" cy="2735280"/>
          </a:xfrm>
          <a:prstGeom prst="foldedCorner">
            <a:avLst>
              <a:gd name="adj" fmla="val 12500"/>
            </a:avLst>
          </a:prstGeom>
          <a:solidFill>
            <a:srgbClr val="ccff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Россия получила:</a:t>
            </a:r>
            <a:r>
              <a:rPr b="1" lang="ru-RU" sz="1800" spc="-1" strike="noStrike">
                <a:solidFill>
                  <a:srgbClr val="ff0000"/>
                </a:solidFill>
                <a:latin typeface="Adobe Garamond Pro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dobe Garamond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   </a:t>
            </a: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часть Черномор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побережья между устья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Днепра  и Южного Буг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с крепостью Кинбурн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а также креп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dobe Garamond Pro Bol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   </a:t>
            </a: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Керч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dobe Garamond Pro Bol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   </a:t>
            </a: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Еникале в Крым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dobe Garamond Pro Bol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   </a:t>
            </a: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Куба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dobe Garamond Pro Bol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   </a:t>
            </a: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Кабарду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20"/>
          <p:cNvSpPr/>
          <p:nvPr/>
        </p:nvSpPr>
        <p:spPr>
          <a:xfrm>
            <a:off x="539640" y="2133720"/>
            <a:ext cx="4176720" cy="5760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0000"/>
                </a:solidFill>
                <a:latin typeface="Monotype Corsiva"/>
              </a:rPr>
              <a:t>Кючу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e20000"/>
                </a:solidFill>
                <a:latin typeface="Monotype Corsiva"/>
              </a:rPr>
              <a:t>Кайнарджийский ми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22"/>
          <p:cNvSpPr/>
          <p:nvPr/>
        </p:nvSpPr>
        <p:spPr>
          <a:xfrm>
            <a:off x="4716360" y="4653000"/>
            <a:ext cx="792360" cy="287280"/>
          </a:xfrm>
          <a:custGeom>
            <a:avLst/>
            <a:gdLst>
              <a:gd name="textAreaLeft" fmla="*/ 123840 w 792360"/>
              <a:gd name="textAreaRight" fmla="*/ 693360 w 79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3"/>
          <p:cNvSpPr/>
          <p:nvPr/>
        </p:nvSpPr>
        <p:spPr>
          <a:xfrm>
            <a:off x="539640" y="4508640"/>
            <a:ext cx="4319640" cy="5760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0000"/>
                </a:solidFill>
                <a:latin typeface="Monotype Corsiva"/>
              </a:rPr>
              <a:t>Ясский мирный договор(1768-1774 г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24"/>
          <p:cNvSpPr/>
          <p:nvPr/>
        </p:nvSpPr>
        <p:spPr>
          <a:xfrm>
            <a:off x="5508720" y="3716280"/>
            <a:ext cx="3240000" cy="1873440"/>
          </a:xfrm>
          <a:prstGeom prst="foldedCorner">
            <a:avLst>
              <a:gd name="adj" fmla="val 12500"/>
            </a:avLst>
          </a:prstGeom>
          <a:solidFill>
            <a:srgbClr val="ccff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Россия получ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dobe Garamond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  </a:t>
            </a: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Кры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dobe Garamond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  </a:t>
            </a: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Протекторат над Груз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dobe Garamond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  </a:t>
            </a: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Территорию между  Юж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Бугом и Днестр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примыкающую к Черно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obe Garamond Pro Bold"/>
              </a:rPr>
              <a:t>мор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5"/>
          <p:cNvSpPr/>
          <p:nvPr/>
        </p:nvSpPr>
        <p:spPr>
          <a:xfrm>
            <a:off x="755640" y="5589720"/>
            <a:ext cx="4753080" cy="12682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20000"/>
                </a:solidFill>
                <a:latin typeface="Monotype Corsiva"/>
              </a:rPr>
              <a:t>Выход к Черному мор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7"/>
          <p:cNvSpPr/>
          <p:nvPr/>
        </p:nvSpPr>
        <p:spPr>
          <a:xfrm>
            <a:off x="539640" y="2060640"/>
            <a:ext cx="799308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Русский флот под командованием А. Г. Орлова и адмирала Г.А. Спиридова одержал полную победу над превосходящим его почти вдвое турецким флотом 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e20000"/>
                </a:solidFill>
                <a:latin typeface="Monotype Corsiva"/>
              </a:rPr>
              <a:t>Чесменской бухте</a:t>
            </a:r>
            <a:r>
              <a:rPr b="0" lang="ru-RU" sz="2400" spc="-1" strike="noStrike">
                <a:solidFill>
                  <a:srgbClr val="e20000"/>
                </a:solidFill>
                <a:latin typeface="Monotype Corsiv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Турки потеряли 15 линейных кораблей, 6 фрегатов и до 50 мелких судов - практически весь свой фл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611280" y="4724280"/>
            <a:ext cx="7993080" cy="177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В</a:t>
            </a:r>
            <a:r>
              <a:rPr b="1" lang="ru-RU" sz="1800" spc="-1" strike="noStrike">
                <a:solidFill>
                  <a:srgbClr val="e9f363"/>
                </a:solidFill>
                <a:latin typeface="Adobe Garamond Pro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первых числах июля русская армия под началом П. А. Румянцева разбила соединенные силы турок и крымских татар у впадения реки </a:t>
            </a:r>
            <a:r>
              <a:rPr b="1" lang="ru-RU" sz="2400" spc="-1" strike="noStrike">
                <a:solidFill>
                  <a:srgbClr val="e20000"/>
                </a:solidFill>
                <a:latin typeface="Monotype Corsiva"/>
              </a:rPr>
              <a:t>Ларги</a:t>
            </a:r>
            <a:r>
              <a:rPr b="1" lang="ru-RU" sz="1800" spc="-1" strike="noStrike">
                <a:solidFill>
                  <a:srgbClr val="e20000"/>
                </a:solidFill>
                <a:latin typeface="Adobe Garamond Pro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в Прут. Турки оставили на поле сражения более 1000 чел., русские потеряли убитыми лишь 29 челове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826920" y="1052640"/>
            <a:ext cx="727236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24 - 26 июня 1770 г. Чесменской бух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84360" y="3645000"/>
            <a:ext cx="727236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Сражение на Ларге (1770 г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5"/>
          <p:cNvSpPr/>
          <p:nvPr/>
        </p:nvSpPr>
        <p:spPr>
          <a:xfrm>
            <a:off x="4427640" y="1700280"/>
            <a:ext cx="0" cy="3603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6"/>
          <p:cNvSpPr/>
          <p:nvPr/>
        </p:nvSpPr>
        <p:spPr>
          <a:xfrm>
            <a:off x="4356000" y="4221000"/>
            <a:ext cx="0" cy="505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7"/>
          <p:cNvSpPr/>
          <p:nvPr/>
        </p:nvSpPr>
        <p:spPr>
          <a:xfrm>
            <a:off x="1332000" y="189000"/>
            <a:ext cx="6624720" cy="72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6be24"/>
              </a:gs>
              <a:gs pos="100000">
                <a:srgbClr val="ff6699"/>
              </a:gs>
            </a:gsLst>
            <a:lin ang="5400000"/>
          </a:gra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сновные сражения войны (1768-1774 г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5"/>
          <p:cNvSpPr/>
          <p:nvPr/>
        </p:nvSpPr>
        <p:spPr>
          <a:xfrm>
            <a:off x="468360" y="1773360"/>
            <a:ext cx="7993080" cy="10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000"/>
                </a:solidFill>
                <a:latin typeface="Monotype Corsiva"/>
              </a:rPr>
              <a:t>21 июля</a:t>
            </a:r>
            <a:r>
              <a:rPr b="1" lang="ru-RU" sz="1800" spc="-1" strike="noStrike">
                <a:solidFill>
                  <a:srgbClr val="ffffff"/>
                </a:solidFill>
                <a:latin typeface="Adobe Garamond Pro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началось знаменитое сражение на реке </a:t>
            </a:r>
            <a:r>
              <a:rPr b="1" lang="ru-RU" sz="2400" spc="-1" strike="noStrike">
                <a:solidFill>
                  <a:srgbClr val="e20000"/>
                </a:solidFill>
                <a:latin typeface="Monotype Corsiva"/>
              </a:rPr>
              <a:t>Кагул,</a:t>
            </a: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 где 17-тысячному отряду Румянцева удалось разбить почти 80-тысячные силы против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539640" y="3645000"/>
            <a:ext cx="8064720" cy="1130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июле - октябре 1770 г. русским войскам сдались крепости Измаил, Килия, Аккерман. В сентябре генерал П.И. Панин взял Бендеры.</a:t>
            </a:r>
            <a:r>
              <a:rPr b="1" lang="ru-RU" sz="1800" spc="-1" strike="noStrike">
                <a:solidFill>
                  <a:srgbClr val="ffffff"/>
                </a:solidFill>
                <a:latin typeface="Adobe Garamond Pro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539640" y="5589720"/>
            <a:ext cx="8064720" cy="1130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Adobe Garamond Pro Bold"/>
              </a:rPr>
              <a:t>1771 г. русские войска под командованием князя В. М. Долгорукого вступили в Крым и в течение нескольких месяцев захватили основные его пун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826920" y="836640"/>
            <a:ext cx="727236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Сражение у Кагула (1770г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826920" y="2708280"/>
            <a:ext cx="727236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Битвы Июля-октября  1770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1"/>
          <p:cNvSpPr/>
          <p:nvPr/>
        </p:nvSpPr>
        <p:spPr>
          <a:xfrm>
            <a:off x="971640" y="4724280"/>
            <a:ext cx="727236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0000"/>
                </a:solidFill>
                <a:latin typeface="Monotype Corsiva"/>
              </a:rPr>
              <a:t>Присоединение Кры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4427640" y="1413000"/>
            <a:ext cx="0" cy="3603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4427640" y="3284640"/>
            <a:ext cx="0" cy="3603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4"/>
          <p:cNvSpPr/>
          <p:nvPr/>
        </p:nvSpPr>
        <p:spPr>
          <a:xfrm>
            <a:off x="4356000" y="5300640"/>
            <a:ext cx="0" cy="3603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5"/>
          <p:cNvSpPr/>
          <p:nvPr/>
        </p:nvSpPr>
        <p:spPr>
          <a:xfrm>
            <a:off x="1979640" y="189000"/>
            <a:ext cx="5329080" cy="503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0000"/>
                </a:solidFill>
                <a:latin typeface="Monotype Corsiva"/>
              </a:rPr>
              <a:t>Основные сражения войны (1768-1774 г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AutoShape 6"/>
          <p:cNvSpPr/>
          <p:nvPr/>
        </p:nvSpPr>
        <p:spPr>
          <a:xfrm>
            <a:off x="1979640" y="189000"/>
            <a:ext cx="5329080" cy="503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0000"/>
                </a:solidFill>
                <a:latin typeface="Monotype Corsiva"/>
              </a:rPr>
              <a:t>Русско-турецкая война (1787-1791 г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7"/>
          <p:cNvSpPr/>
          <p:nvPr/>
        </p:nvSpPr>
        <p:spPr>
          <a:xfrm>
            <a:off x="539640" y="836640"/>
            <a:ext cx="7993080" cy="1944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Причин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dobe Garamond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стремление Турции взять реванш (вернуть утерянные пози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(пересмотреть условия договора) – возвращение Крыма, досмотр русс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кораб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dobe Garamond Pro Bol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восстановление власти в Груз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dobe Garamond Pro Bol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желание России утвердиться на Черноморском побережь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>
            <a:off x="1979640" y="2924280"/>
            <a:ext cx="5329080" cy="504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0000"/>
                </a:solidFill>
                <a:latin typeface="Monotype Corsiva"/>
              </a:rPr>
              <a:t>Ход военных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"/>
          <p:cNvSpPr/>
          <p:nvPr/>
        </p:nvSpPr>
        <p:spPr>
          <a:xfrm>
            <a:off x="468360" y="3645000"/>
            <a:ext cx="8064360" cy="252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1787г. – оборона крепости Кинбурн - А.В.Суво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1788г. – взятие крепости Очаков – Г.А.Потемк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1789г. – победа при Рымнике, Фокшанах – А.В.Суво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1790г. – взятие Измаила – А.В.Суворов, М.И.Кутуз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- сражение в Керченском проливе у о. Тендра – Ф.Ф.Уша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obe Garamond Pro Bold"/>
              </a:rPr>
              <a:t>1791г. – сражение у мыса Калиакрия - Ф.Ф.Уша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9:06:45Z</dcterms:created>
  <dc:creator/>
  <dc:description/>
  <dc:language>en-US</dc:language>
  <cp:lastModifiedBy>Home</cp:lastModifiedBy>
  <dcterms:modified xsi:type="dcterms:W3CDTF">2020-08-29T07:16:20Z</dcterms:modified>
  <cp:revision>34</cp:revision>
  <dc:subject/>
  <dc:title/>
</cp:coreProperties>
</file>