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F8F-D282-4CED-B46F-A8FFA73A9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422-7D0C-479E-B3C9-48268FDE5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C948-9E5D-4017-A6B8-0C06C808A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874-5B61-4FC5-84C7-EEB12F32C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8522-72A3-4F75-AE8D-F5946DA55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508-E5EE-4D7A-8144-BA17132C3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32A-F808-4469-B566-09C9F1A40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D7F-7589-4ED2-9FD6-823655510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990E-729A-4E8A-8AD3-CC6838A19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D6B-20FA-4578-9BA3-29F326132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4F5F-0CBE-41F9-B9A3-FC10301A0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2D28-FDBF-4B2B-B824-9C2205C56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E52-6948-4C75-B5E9-EAE4CC844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1AD8-0BA3-45DE-8CFE-4F3E3EAD4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C783-AFE0-419C-93C1-BA9F8EAB8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581-92EC-4B8A-9B82-07E0FF4A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162-54F3-4541-9D95-8B748AF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053-98A1-461A-99E4-232BD82F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BA1-B6E9-4AD5-B123-B1174A1F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D75-8B8C-4CC5-BC62-D6163852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1F2-0E00-4419-A53C-EEA155A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4B15-03D3-449C-B45B-55447ED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46B-9368-432F-97C6-11E61039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8D4E-F624-4AFE-86C1-F5D7E83A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AD11-AEB2-4CFE-91C3-5B8B3B7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443-ED0B-42F4-BD5F-96783A0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99A-C826-47B1-A02D-1490B45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30D5-B442-4FEB-9713-6E161DA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B6B-3766-45C9-BD9A-40D220B1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D24-650F-4BBB-81A5-87BBB5D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E08-6B0D-45AE-99AD-C695D478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80BC-B9B4-40A9-AA77-B78D3A4D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353FE-2185-4251-9801-DE92D57C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34A34-9754-4ABE-865F-660C99F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2029E-210E-41AE-9AA2-0EEA1D17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8E269-9CE1-4110-8B09-FF045B5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CA9B9-BCE0-404B-A074-54927B2A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187-F450-4454-9898-A27A8E2F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DE844-B734-4D71-A2EF-F915214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A8AA0-D010-4BF1-A7C2-8E444C3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2CDF6-FBDF-4A06-ABA1-363832C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7BE10-6BF7-416D-818D-EE2EA1D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A82D9-B4B7-4DBF-9155-A32CDD4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C308D-531C-4C63-A104-76B8BFD2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E1C8D-25AE-4B07-9F8A-1FAA179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487A-B1E9-4BA6-B56B-62E221AA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C1F1-E0CE-402E-A079-14950526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FD66-8710-4B4B-93BE-B0A3EEC8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369-5138-4D96-9EC8-91565EA8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88BB-5A07-4D03-9BF0-70DC0B2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F20B-3C5E-4C87-8FFE-8610C62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FFC9-3C03-426F-A2F8-EBB1648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2B22-8081-4396-82CF-CBBAB650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A099-2CE1-4981-BE0D-FA7EE4B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7016-705B-4782-83A7-E28C2DE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3C06-99D9-4AFD-8310-58CA630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F507-D896-43B8-A23B-3D317D8C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77E7-1101-45F4-87A6-E2BD3F7E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C13D8-8190-4784-9823-ABE989B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E90-5D18-4CBC-8482-3E1FC3D9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C084A-5DDF-417F-810B-BF6D1E5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1474D-5278-48C3-B4B2-B8A8C4C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5A4A2-CA28-47B3-BBA0-4C26E307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CCB04-A723-45B4-A9A2-80E8388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A3A3F-640F-4919-AFC6-B6EF75C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86517-BDF0-44F9-ABF8-A6D5B1B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2893E-7D64-4269-B868-417A4C6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48C1E-4BBB-4D5F-8E91-A73C40E3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7838B-32F8-4DA5-ABFF-C0F8E6C7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F129C-ED93-4839-8896-88C96848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0B7-601C-423B-9473-C0614A59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42E0A-EAC9-4409-8BC3-C3180672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12FCB-5D12-4929-BF93-2065D07C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742D7-B6DA-4B44-A09A-D46F6F4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166AF-453B-460B-90A1-6F502E0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3DE64-D8D1-4241-A97E-3C4E0F5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B8FF3-ED8B-4DAB-A2C2-4CD0B331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FDAC8-0849-4846-A94B-BC1FB81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EC98C-8B46-40C1-888A-9CA2C0B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F55E6-CE96-4CC0-9790-8C383E2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96056-989F-402A-A346-736747F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70D-26ED-461D-B747-DFFAB56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4288E-936A-4E7D-A6C6-25CCA62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07D04-7B08-4AE5-B533-2D5D622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B8C46-B23E-4BFA-86FA-F9450A2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C6AC1-7304-43AD-8F8D-3E36464D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FA89F-A65C-45E0-A73D-A4652B8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3440B-B166-4E38-ABF3-24B5F2F2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3CD04-5A71-40D2-BFAC-315E722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EDE15-8673-40AF-B146-B5B7D2F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81C2C-46B4-42B3-8ED9-0A592DF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FF55E-FDF5-4914-9878-33FF8922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ADA-EE14-468D-876A-EE44127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A5AA5-9CD1-4F76-AC45-BAACC62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F2188-F287-4543-AD12-5512805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40271-679A-4613-BBC2-C91E45A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D119B-58C3-4C63-9E41-6A21BBD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E771B-A706-4A3D-BB81-1EFECAD7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F43-6C35-4B45-B173-B2D670B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99B8-A2E6-4F16-BBD1-8628CD1E416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AF62-57FE-4AA9-993A-654915835FC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7DE-7581-450F-BD49-28879D45D2A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3CCE-98C3-444D-861E-516A18DB085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337-58E2-40BD-87A8-5470E1D85CB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03F-3291-4C3C-B64F-8E2627029A0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F2DA-7C6C-4288-8B67-1C23D3482F6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hyperlink" Target="http://ru.wikipedia.org/wiki/&#1060;&#1072;&#1081;&#1083;:Kutuzov_by_Volkov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611280" y="2492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нешняя политика России во </a:t>
            </a:r>
            <a:r>
              <a:rPr b="1" lang="en-US" sz="5400" spc="-1" strike="noStrike">
                <a:solidFill>
                  <a:srgbClr val="c00000"/>
                </a:solidFill>
                <a:latin typeface="Monotype Corsiva"/>
              </a:rPr>
              <a:t>II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оловине </a:t>
            </a:r>
            <a:r>
              <a:rPr b="1" lang="en-US" sz="5400" spc="-1" strike="noStrike">
                <a:solidFill>
                  <a:srgbClr val="c00000"/>
                </a:solidFill>
                <a:latin typeface="Monotype Corsiva"/>
              </a:rPr>
              <a:t>XVIII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033"/>
          <p:cNvPicPr/>
          <p:nvPr/>
        </p:nvPicPr>
        <p:blipFill>
          <a:blip r:embed="rId1"/>
          <a:stretch/>
        </p:blipFill>
        <p:spPr>
          <a:xfrm>
            <a:off x="6588000" y="4587840"/>
            <a:ext cx="1729080" cy="1893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03"/>
          <p:cNvPicPr/>
          <p:nvPr/>
        </p:nvPicPr>
        <p:blipFill>
          <a:blip r:embed="rId2"/>
          <a:stretch/>
        </p:blipFill>
        <p:spPr>
          <a:xfrm>
            <a:off x="539640" y="404640"/>
            <a:ext cx="2016360" cy="2190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mage001"/>
          <p:cNvPicPr/>
          <p:nvPr/>
        </p:nvPicPr>
        <p:blipFill>
          <a:blip r:embed="rId3"/>
          <a:stretch/>
        </p:blipFill>
        <p:spPr>
          <a:xfrm>
            <a:off x="6227640" y="476280"/>
            <a:ext cx="2219400" cy="1952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"/>
          <p:cNvPicPr/>
          <p:nvPr/>
        </p:nvPicPr>
        <p:blipFill>
          <a:blip r:embed="rId4"/>
          <a:stretch/>
        </p:blipFill>
        <p:spPr>
          <a:xfrm>
            <a:off x="539640" y="471492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2843280" y="4653000"/>
            <a:ext cx="1587600" cy="1946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6"/>
          <a:stretch/>
        </p:blipFill>
        <p:spPr>
          <a:xfrm>
            <a:off x="2771640" y="476280"/>
            <a:ext cx="1541520" cy="1944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7"/>
          <a:stretch/>
        </p:blipFill>
        <p:spPr>
          <a:xfrm>
            <a:off x="4716360" y="465300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katerina2roslin"/>
          <p:cNvPicPr/>
          <p:nvPr/>
        </p:nvPicPr>
        <p:blipFill>
          <a:blip r:embed="rId8"/>
          <a:stretch/>
        </p:blipFill>
        <p:spPr>
          <a:xfrm>
            <a:off x="4467240" y="476280"/>
            <a:ext cx="1617480" cy="19447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5"/>
          <p:cNvSpPr/>
          <p:nvPr/>
        </p:nvSpPr>
        <p:spPr>
          <a:xfrm>
            <a:off x="6084720" y="64911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Чупров Л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14"/>
          <p:cNvSpPr/>
          <p:nvPr/>
        </p:nvSpPr>
        <p:spPr>
          <a:xfrm>
            <a:off x="2195640" y="189000"/>
            <a:ext cx="482436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Русско-турецкая война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11280" y="981000"/>
            <a:ext cx="23763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ерсоналии: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539640" y="2924280"/>
            <a:ext cx="4319640" cy="1557000"/>
          </a:xfrm>
          <a:prstGeom prst="rect">
            <a:avLst/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Румянцев, Петр Александрович;- генерал-фельдмаршал, военный дея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539640" y="4508640"/>
            <a:ext cx="446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Спиридов Григорий Андреевич; военно-морской дея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539640" y="1700280"/>
            <a:ext cx="489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Суворов, Александр Васильевич, генералиссимус, выдающийся полковод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5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1882800" cy="2376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7" descr=""/>
          <p:cNvPicPr/>
          <p:nvPr/>
        </p:nvPicPr>
        <p:blipFill>
          <a:blip r:embed="rId2"/>
          <a:stretch/>
        </p:blipFill>
        <p:spPr>
          <a:xfrm rot="21065400">
            <a:off x="6673680" y="3701520"/>
            <a:ext cx="2006640" cy="259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"/>
          <p:cNvPicPr/>
          <p:nvPr/>
        </p:nvPicPr>
        <p:blipFill>
          <a:blip r:embed="rId3"/>
          <a:stretch/>
        </p:blipFill>
        <p:spPr>
          <a:xfrm rot="352200">
            <a:off x="6587640" y="836640"/>
            <a:ext cx="199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5"/>
          <p:cNvSpPr/>
          <p:nvPr/>
        </p:nvSpPr>
        <p:spPr>
          <a:xfrm>
            <a:off x="0" y="189000"/>
            <a:ext cx="291636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Персонал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 rot="355200">
            <a:off x="6659640" y="333360"/>
            <a:ext cx="2205000" cy="28083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7"/>
          <p:cNvSpPr/>
          <p:nvPr/>
        </p:nvSpPr>
        <p:spPr>
          <a:xfrm>
            <a:off x="0" y="907920"/>
            <a:ext cx="4932360" cy="2448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отемкин Григорий Александр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ий государственный деяте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граф, светлейший князь (Потём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Таврический), генерал-фельдмарш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Фаворит, по некоторым дан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морганатический супруг Екатерины II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2"/>
          <a:stretch/>
        </p:blipFill>
        <p:spPr>
          <a:xfrm rot="484200">
            <a:off x="7020000" y="2923920"/>
            <a:ext cx="1882800" cy="2936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3"/>
          <a:stretch/>
        </p:blipFill>
        <p:spPr>
          <a:xfrm rot="21220800">
            <a:off x="6084720" y="3645000"/>
            <a:ext cx="1689120" cy="279720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1"/>
          <p:cNvSpPr/>
          <p:nvPr/>
        </p:nvSpPr>
        <p:spPr>
          <a:xfrm>
            <a:off x="0" y="3284640"/>
            <a:ext cx="4932360" cy="1438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Ушаков Федор Федорович  росси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флотоводец, адмирал, святой Рус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ославной церкв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0" y="4581360"/>
            <a:ext cx="4932360" cy="1845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Кутузов Михаил Илларио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прославленный русский полковод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генерал-фельдмаршал, светлейший княз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Герой Отечественной войны 1812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5" descr="300px-Kutuzov_by_Volkov">
            <a:hlinkClick r:id="rId4"/>
          </p:cNvPr>
          <p:cNvPicPr/>
          <p:nvPr/>
        </p:nvPicPr>
        <p:blipFill>
          <a:blip r:embed="rId5"/>
          <a:stretch/>
        </p:blipFill>
        <p:spPr>
          <a:xfrm rot="21346800">
            <a:off x="5148360" y="1557000"/>
            <a:ext cx="2019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611280" y="1484280"/>
            <a:ext cx="7488000" cy="517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ая армия приобрела опыт военных действий против хорошо вооруженных, использующих современную тактику боя европейских арм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ая армия обладала современным оружием, мощным флотом, а ее генералитет научился выявлять и использовать лучшие боевые качества русского солдата: патриотизм, отвагу, решительность, выносливость, т.е. овладел "наукой побежда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Османская империя утратила свое былое могущество, ее экономические и военные ресурсы оказались слабее, чем 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ительство России во главе с Екатериной II смогло обеспечить материальные и политические условия для достижения побе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1908000" y="404640"/>
            <a:ext cx="5040360" cy="5763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ричины побе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6"/>
          <p:cNvSpPr/>
          <p:nvPr/>
        </p:nvSpPr>
        <p:spPr>
          <a:xfrm>
            <a:off x="1403280" y="189000"/>
            <a:ext cx="6408720" cy="57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000"/>
                </a:solidFill>
                <a:latin typeface="Monotype Corsiva"/>
              </a:rPr>
              <a:t>Итоги внешне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684360" y="1197000"/>
            <a:ext cx="777528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20000"/>
                </a:solidFill>
                <a:latin typeface="Monotype Corsiva"/>
              </a:rPr>
              <a:t>Россия получила выход в Черное море, присоединила Крым, созд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20000"/>
                </a:solidFill>
                <a:latin typeface="Monotype Corsiva"/>
              </a:rPr>
              <a:t>черноморский флот. Благодаря это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84360" y="2205000"/>
            <a:ext cx="777528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1. Начинается освоение степей Причерноморья, свободных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омещичьего землевладения, что создавало благоприятн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для развития этого рег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684360" y="3573360"/>
            <a:ext cx="7775280" cy="129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2. Более интенсивно начинает развиваться черноземный центр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и Украина, получившие возможность реализовывать св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одукцию через черноморский торгов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684360" y="5013360"/>
            <a:ext cx="77752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3. Укрепилось военно-стратегическое положение России на юж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бежах, расширились сферы ее вли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6"/>
          <p:cNvSpPr/>
          <p:nvPr/>
        </p:nvSpPr>
        <p:spPr>
          <a:xfrm>
            <a:off x="684360" y="907920"/>
            <a:ext cx="770256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4. Началось вхождение Закавказья в Росси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684360" y="1773360"/>
            <a:ext cx="770256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5. К России были присоединены Белоруссия, Ли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обережная Украина, часть Прибалтики, что благотв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сказалось как на развитии самой России, так и на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украинского и белорусского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684360" y="3860640"/>
            <a:ext cx="777528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6. Выросли роль и влияние России в мировой поли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9" descr=""/>
          <p:cNvPicPr/>
          <p:nvPr/>
        </p:nvPicPr>
        <p:blipFill>
          <a:blip r:embed="rId1"/>
          <a:stretch/>
        </p:blipFill>
        <p:spPr>
          <a:xfrm rot="352200">
            <a:off x="5746320" y="42480"/>
            <a:ext cx="2973600" cy="3645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4687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УКА ПОБЕЖДА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Быстрота. Глазомер. Нати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уля дура, штык молодец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яжело в учении - легко в    походе, легко на учении - тяжело в поход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1"/>
          <p:cNvSpPr/>
          <p:nvPr/>
        </p:nvSpPr>
        <p:spPr>
          <a:xfrm>
            <a:off x="395280" y="1268280"/>
            <a:ext cx="842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Петр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удивил Европу своими победами, Екатерина  приучила ее к нашим победам”.  </a:t>
            </a:r>
            <a:br>
              <a:rPr sz="36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. М Карамз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7"/>
          <p:cNvSpPr/>
          <p:nvPr/>
        </p:nvSpPr>
        <p:spPr>
          <a:xfrm rot="8640000">
            <a:off x="1453320" y="1566720"/>
            <a:ext cx="2933640" cy="63504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Сев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 rot="5400000">
            <a:off x="2448000" y="2310480"/>
            <a:ext cx="3529080" cy="72396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Поль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/>
          <p:cNvSpPr/>
          <p:nvPr/>
        </p:nvSpPr>
        <p:spPr>
          <a:xfrm rot="1941600">
            <a:off x="4147920" y="1542960"/>
            <a:ext cx="2808000" cy="574920"/>
          </a:xfrm>
          <a:prstGeom prst="pi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Ю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468360" y="2852640"/>
            <a:ext cx="2592360" cy="13683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Шведы постоянн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тремились верну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утраченные в петровск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времена зем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5"/>
          <p:cNvSpPr/>
          <p:nvPr/>
        </p:nvSpPr>
        <p:spPr>
          <a:xfrm>
            <a:off x="5292720" y="2637000"/>
            <a:ext cx="3240000" cy="1512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e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Борьба за выход к берега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Черного моря, что диктовалос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потребностями экономик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и обороны  стран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6"/>
          <p:cNvSpPr/>
          <p:nvPr/>
        </p:nvSpPr>
        <p:spPr>
          <a:xfrm>
            <a:off x="2411280" y="4437000"/>
            <a:ext cx="3889440" cy="1657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тремление России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объединению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оставе России всех земел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населенных близкородственным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русским нар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украинца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белору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7"/>
          <p:cNvSpPr/>
          <p:nvPr/>
        </p:nvSpPr>
        <p:spPr>
          <a:xfrm>
            <a:off x="1187280" y="0"/>
            <a:ext cx="6624720" cy="981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Во второй половине </a:t>
            </a:r>
            <a:r>
              <a:rPr b="0" lang="en-US" sz="1800" spc="-1" strike="noStrike">
                <a:solidFill>
                  <a:srgbClr val="e20000"/>
                </a:solidFill>
                <a:latin typeface="Monotype Corsiva"/>
              </a:rPr>
              <a:t>XVIII</a:t>
            </a: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 века во внешней политике России выдел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три на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468360" y="2276640"/>
            <a:ext cx="813600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состав федеративного государства Речь Посполитая входили Польша, Литва, Украина и Белору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68360" y="3141720"/>
            <a:ext cx="8136000" cy="140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оводом для вмешательства в дела Речи Посполитой послужил вопрос о положении диссидентов (то есть некатолического меньшинства — православных и протестантов), чтобы те были уравнены в правах с  катол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042920" y="549360"/>
            <a:ext cx="7272360" cy="581400"/>
          </a:xfrm>
          <a:prstGeom prst="rect">
            <a:avLst/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Разделы Поль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68360" y="1341360"/>
            <a:ext cx="813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Речь Поспол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5280" y="1268280"/>
            <a:ext cx="201600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Поль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1280" y="1268280"/>
            <a:ext cx="172908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Л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4140360" y="1268280"/>
            <a:ext cx="2160360" cy="10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300720" y="1268280"/>
            <a:ext cx="2303640" cy="100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Белор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468360" y="5516640"/>
            <a:ext cx="8136000" cy="1130040"/>
          </a:xfrm>
          <a:prstGeom prst="rect">
            <a:avLst/>
          </a:prstGeom>
          <a:solidFill>
            <a:srgbClr val="e9f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катерина оказывала сильное давление на шляхту с целью избрания на польский престол своего ставленника Станислава Августа Понятовского, который и был избран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468360" y="4437000"/>
            <a:ext cx="8136000" cy="140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Ч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асть польской шляхты выступила против этих решений и организовала восстание, поднятое в Барской конфедерации. Оно было подавлено русскими войсками в союзе с польским королём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84360" y="1052640"/>
          <a:ext cx="7993080" cy="2954160"/>
        </p:xfrm>
        <a:graphic>
          <a:graphicData uri="http://schemas.openxmlformats.org/drawingml/2006/table">
            <a:tbl>
              <a:tblPr/>
              <a:tblGrid>
                <a:gridCol w="2519280"/>
                <a:gridCol w="2809800"/>
                <a:gridCol w="266400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2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72 г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93 г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95 г</a:t>
                      </a:r>
                      <a:r>
                        <a:rPr b="1" lang="ru-RU" sz="44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Восточная Белорусси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dobe Garamond Pro Bold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Центральная  Белор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Западная Белор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часть Латвии (Ливон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Правобережная Укра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Литва, Курляндия, Волы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</a:tr>
            </a:tbl>
          </a:graphicData>
        </a:graphic>
      </p:graphicFrame>
      <p:sp>
        <p:nvSpPr>
          <p:cNvPr id="387" name="AutoShape 77"/>
          <p:cNvSpPr/>
          <p:nvPr/>
        </p:nvSpPr>
        <p:spPr>
          <a:xfrm>
            <a:off x="1187280" y="189000"/>
            <a:ext cx="7056720" cy="693720"/>
          </a:xfrm>
          <a:prstGeom prst="bevel">
            <a:avLst>
              <a:gd name="adj" fmla="val 12500"/>
            </a:avLst>
          </a:prstGeom>
          <a:solidFill>
            <a:srgbClr val="cc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Расширение территории России во время разделов Польши</a:t>
            </a:r>
            <a:r>
              <a:rPr b="1" lang="ru-RU" sz="1800" spc="-1" strike="noStrike">
                <a:solidFill>
                  <a:srgbClr val="e2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8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958920" cy="2238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9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163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5"/>
          <p:cNvSpPr/>
          <p:nvPr/>
        </p:nvSpPr>
        <p:spPr>
          <a:xfrm>
            <a:off x="1042920" y="0"/>
            <a:ext cx="3241800" cy="4762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2. Южное на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 rot="5400000">
            <a:off x="2448720" y="51192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539640" y="981000"/>
            <a:ext cx="4248360" cy="576360"/>
          </a:xfrm>
          <a:prstGeom prst="roundRect">
            <a:avLst>
              <a:gd name="adj" fmla="val 16667"/>
            </a:avLst>
          </a:prstGeom>
          <a:solidFill>
            <a:srgbClr val="575f6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усско-турецкая война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 rot="5400000">
            <a:off x="2448720" y="166428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39640" y="3357720"/>
            <a:ext cx="424836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усско-турецкая война (1787-1791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2"/>
          <p:cNvSpPr/>
          <p:nvPr/>
        </p:nvSpPr>
        <p:spPr>
          <a:xfrm rot="5400000">
            <a:off x="2591640" y="512028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3"/>
          <p:cNvSpPr/>
          <p:nvPr/>
        </p:nvSpPr>
        <p:spPr>
          <a:xfrm rot="5400000">
            <a:off x="2555640" y="4005000"/>
            <a:ext cx="574920" cy="432000"/>
          </a:xfrm>
          <a:custGeom>
            <a:avLst/>
            <a:gdLst>
              <a:gd name="textAreaLeft" fmla="*/ 89640 w 574920"/>
              <a:gd name="textAreaRight" fmla="*/ 503280 w 57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 rot="5400000">
            <a:off x="2410920" y="278136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7"/>
          <p:cNvSpPr/>
          <p:nvPr/>
        </p:nvSpPr>
        <p:spPr>
          <a:xfrm>
            <a:off x="4643280" y="227664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5508720" y="549360"/>
            <a:ext cx="3095640" cy="273528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Россия получила:</a:t>
            </a:r>
            <a:r>
              <a:rPr b="1" lang="ru-RU" sz="1800" spc="-1" strike="noStrike">
                <a:solidFill>
                  <a:srgbClr val="ff0000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часть Черномо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обережья между усть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Днепра  и Южного Бу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с крепостью Кинбур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а также креп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ерч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Еникале в Кры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уба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абарду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539640" y="2133720"/>
            <a:ext cx="417672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Кючу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Кайнарджийский м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2"/>
          <p:cNvSpPr/>
          <p:nvPr/>
        </p:nvSpPr>
        <p:spPr>
          <a:xfrm>
            <a:off x="4716360" y="465300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3"/>
          <p:cNvSpPr/>
          <p:nvPr/>
        </p:nvSpPr>
        <p:spPr>
          <a:xfrm>
            <a:off x="539640" y="4508640"/>
            <a:ext cx="431964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Ясский мирный договор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4"/>
          <p:cNvSpPr/>
          <p:nvPr/>
        </p:nvSpPr>
        <p:spPr>
          <a:xfrm>
            <a:off x="5508720" y="3716280"/>
            <a:ext cx="3240000" cy="187344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Россия получ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р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ротекторат над Груз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Территорию между  Юж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Бугом и Днест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римыкающую к Чер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мор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5"/>
          <p:cNvSpPr/>
          <p:nvPr/>
        </p:nvSpPr>
        <p:spPr>
          <a:xfrm>
            <a:off x="755640" y="5589720"/>
            <a:ext cx="4753080" cy="1268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20000"/>
                </a:solidFill>
                <a:latin typeface="Monotype Corsiva"/>
              </a:rPr>
              <a:t>Выход к Черному мо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539640" y="2060640"/>
            <a:ext cx="799308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ий флот под командованием А. Г. Орлова и адмирала Г.А. Спиридова одержал полную победу над превосходящим его почти вдвое турецким флотом 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Чесменской бухте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Турки потеряли 15 линейных кораблей, 6 фрегатов и до 50 мелких судов - практически весь свой фл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11280" y="4724280"/>
            <a:ext cx="7993080" cy="177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</a:t>
            </a:r>
            <a:r>
              <a:rPr b="1" lang="ru-RU" sz="1800" spc="-1" strike="noStrike">
                <a:solidFill>
                  <a:srgbClr val="e9f363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ервых числах июля русская армия под началом П. А. Румянцева разбила соединенные силы турок и крымских татар у впадения реки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Ларги</a:t>
            </a:r>
            <a:r>
              <a:rPr b="1" lang="ru-RU" sz="1800" spc="-1" strike="noStrike">
                <a:solidFill>
                  <a:srgbClr val="e2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в Прут. Турки оставили на поле сражения более 1000 чел., русские потеряли убитыми лишь 29 чело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826920" y="1052640"/>
            <a:ext cx="72723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24 - 26 июня 1770 г. Чесменской бух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84360" y="364500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Сражение на Ларге (1770 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4427640" y="170028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4356000" y="4221000"/>
            <a:ext cx="0" cy="50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7"/>
          <p:cNvSpPr/>
          <p:nvPr/>
        </p:nvSpPr>
        <p:spPr>
          <a:xfrm>
            <a:off x="1332000" y="189000"/>
            <a:ext cx="6624720" cy="72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be24"/>
              </a:gs>
              <a:gs pos="100000">
                <a:srgbClr val="ff6699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ые сражения войны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468360" y="1773360"/>
            <a:ext cx="799308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21 июля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началось знаменитое сражение на реке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Кагул,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где 17-тысячному отряду Румянцева удалось разбить почти 80-тысячные силы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39640" y="3645000"/>
            <a:ext cx="8064720" cy="113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июле - октябре 1770 г. русским войскам сдались крепости Измаил, Килия, Аккерман. В сентябре генерал П.И. Панин взял Бендеры.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39640" y="5589720"/>
            <a:ext cx="8064720" cy="113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1771 г. русские войска под командованием князя В. М. Долгорукого вступили в Крым и в течение нескольких месяцев захватили основные его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826920" y="83664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Сражение у Кагула (1770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826920" y="270828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Битвы Июля-октября  1770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971640" y="472428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рисоединение Кры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4427640" y="141300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4427640" y="3284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4356000" y="5300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5"/>
          <p:cNvSpPr/>
          <p:nvPr/>
        </p:nvSpPr>
        <p:spPr>
          <a:xfrm>
            <a:off x="1979640" y="189000"/>
            <a:ext cx="532908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Основные сражения войны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6"/>
          <p:cNvSpPr/>
          <p:nvPr/>
        </p:nvSpPr>
        <p:spPr>
          <a:xfrm>
            <a:off x="1979640" y="189000"/>
            <a:ext cx="532908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Русско-турецкая война (1787-1791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539640" y="836640"/>
            <a:ext cx="7993080" cy="1944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Причи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стремление Турции взять реванш (вернуть утерянные пози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(пересмотреть условия договора) – возвращение Крыма, досмотр рус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кораб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восстановление власти в Груз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желание России утвердиться на Черноморском побереж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1979640" y="2924280"/>
            <a:ext cx="5329080" cy="504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Ход воен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>
            <a:off x="468360" y="3645000"/>
            <a:ext cx="8064360" cy="252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7г. – оборона крепости Кинбурн - А.В.Сув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8г. – взятие крепости Очаков – Г.А.Потем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9г. – победа при Рымнике, Фокшанах – А.В.Сув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90г. – взятие Измаила – А.В.Суворов, М.И.Кутуз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- сражение в Керченском проливе у о. Тендра – Ф.Ф.Уш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91г. – сражение у мыса Калиакрия - Ф.Ф.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9:06:45Z</dcterms:created>
  <dc:creator/>
  <dc:description/>
  <dc:language>en-US</dc:language>
  <cp:lastModifiedBy>Home</cp:lastModifiedBy>
  <dcterms:modified xsi:type="dcterms:W3CDTF">2020-08-29T07:16:20Z</dcterms:modified>
  <cp:revision>34</cp:revision>
  <dc:subject/>
  <dc:title/>
</cp:coreProperties>
</file>