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937-57E3-4E14-A70C-DCC67DA4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BBD-5C42-405A-B4D9-A49CD187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2A2-7F8B-4396-ACFB-67D9D3FA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9E7-ED8A-4F54-84CC-CCFBCF98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009F-76AB-45D3-B919-E1FC164C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B055-31D6-4FB7-A9D8-398EB95C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E3A-2DE7-4558-9C66-FD3F3720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C6F6-EBB7-494D-B896-DC9CAE1C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EEF6-3E15-4381-AA73-887186C5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6D83-6766-48DA-B355-C61BE5AD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E7B7-A344-4FE6-BC38-488B187C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2CD-C479-4DEE-A5B1-57E2DF96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06E0-4229-497F-BE87-E8A6735A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A17A-D07F-48D7-BB1B-81BC461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150E-11D2-406C-AB8A-05E7A5F0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F461-9E52-4CCB-ADE2-33F20AB9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4E6F-C580-40FE-A8D6-F7A7B17E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E5D-DD1E-451B-B5B1-BCC89B40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0E9-7CA9-4033-A752-E9CBD83A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64C-6F0E-4338-89C9-32294C0F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187-733E-42EF-9778-C7F567B1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B2E-F6B5-4343-9D6B-608ABB8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81D-BB07-4B76-8AB9-1AAF140E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D71-DF40-4404-B5B4-EEABE5C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69D3-D5E0-4D62-B83D-80650A12D4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5904-E71A-4DB7-BAA3-24FFF576D74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7162920" y="50292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3200400" y="144792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5257800" y="2286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828800" y="29718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6705720" y="22096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4648320" y="228600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152280" y="44956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2743200" y="51814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5181480" y="419112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1143000" y="838080"/>
            <a:ext cx="1414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Состав     числ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848720" cy="4503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003640" y="2205000"/>
          <a:ext cx="3097440" cy="3745080"/>
        </p:xfrm>
        <a:graphic>
          <a:graphicData uri="http://schemas.openxmlformats.org/drawingml/2006/table">
            <a:tbl>
              <a:tblPr/>
              <a:tblGrid>
                <a:gridCol w="1513080"/>
                <a:gridCol w="1584360"/>
              </a:tblGrid>
              <a:tr h="7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971640" y="2133720"/>
          <a:ext cx="3313080" cy="3816360"/>
        </p:xfrm>
        <a:graphic>
          <a:graphicData uri="http://schemas.openxmlformats.org/drawingml/2006/table">
            <a:tbl>
              <a:tblPr/>
              <a:tblGrid>
                <a:gridCol w="1657440"/>
                <a:gridCol w="1655640"/>
              </a:tblGrid>
              <a:tr h="79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шите приме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772400" cy="4032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7 + 2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5 + 7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3 – 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6 + 8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4 – 5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9 – 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9 – 7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1 – 3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6 + 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Задача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з пластилина Саша сделал 5 разных поделок, а Дима на  2 поделки меньше. Сколько поделок сделал Ди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4" descr="BD05092_"/>
          <p:cNvPicPr/>
          <p:nvPr/>
        </p:nvPicPr>
        <p:blipFill>
          <a:blip r:embed="rId1"/>
          <a:stretch/>
        </p:blipFill>
        <p:spPr>
          <a:xfrm>
            <a:off x="5796000" y="189000"/>
            <a:ext cx="3170160" cy="1584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i"/>
          <p:cNvPicPr/>
          <p:nvPr/>
        </p:nvPicPr>
        <p:blipFill>
          <a:blip r:embed="rId2"/>
          <a:stretch/>
        </p:blipFill>
        <p:spPr>
          <a:xfrm>
            <a:off x="826920" y="4599000"/>
            <a:ext cx="1764000" cy="2017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знайка"/>
          <p:cNvPicPr/>
          <p:nvPr/>
        </p:nvPicPr>
        <p:blipFill>
          <a:blip r:embed="rId3"/>
          <a:stretch/>
        </p:blipFill>
        <p:spPr>
          <a:xfrm>
            <a:off x="6948360" y="4826160"/>
            <a:ext cx="15670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раткая запис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С. – 5 п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Д. - ? на 2 п.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) 5 – 2 = 3 (п.) – Ди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вет: 8 подел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37280" cy="792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одолжи предложе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5972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*Мне на уроке понравилось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*Мне показалось трудным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авным своим результатом считаю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*На уроке работал(а)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СПАСИБО ЗА УРОК !!!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ahoma"/>
              </a:rPr>
              <a:t>М О Л О Д Ц Ы !!!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42960" y="214200"/>
            <a:ext cx="56005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ahoma"/>
              </a:rPr>
              <a:t>Устный счёт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9396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4 дм 3 см=....см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57 см= … дм …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Назовите соседей числа: 15, 18, 1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4a"/>
          <p:cNvPicPr/>
          <p:nvPr/>
        </p:nvPicPr>
        <p:blipFill>
          <a:blip r:embed="rId1"/>
          <a:stretch/>
        </p:blipFill>
        <p:spPr>
          <a:xfrm>
            <a:off x="0" y="0"/>
            <a:ext cx="3348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акие фигуры нарисованы?             Каких больше и на сколько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58920" y="2565360"/>
          <a:ext cx="1368360" cy="1224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30"/>
          <p:cNvSpPr/>
          <p:nvPr/>
        </p:nvSpPr>
        <p:spPr>
          <a:xfrm>
            <a:off x="2124000" y="3141720"/>
            <a:ext cx="136836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43"/>
          <p:cNvSpPr/>
          <p:nvPr/>
        </p:nvSpPr>
        <p:spPr>
          <a:xfrm rot="3588000">
            <a:off x="2878560" y="2626560"/>
            <a:ext cx="1255680" cy="1295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5"/>
          <p:cNvSpPr/>
          <p:nvPr/>
        </p:nvSpPr>
        <p:spPr>
          <a:xfrm>
            <a:off x="4716360" y="2565360"/>
            <a:ext cx="136836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46"/>
          <p:cNvSpPr/>
          <p:nvPr/>
        </p:nvSpPr>
        <p:spPr>
          <a:xfrm rot="18696600">
            <a:off x="3982320" y="2892600"/>
            <a:ext cx="1282680" cy="1243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232133"/>
          <p:cNvPicPr/>
          <p:nvPr/>
        </p:nvPicPr>
        <p:blipFill>
          <a:blip r:embed="rId1"/>
          <a:stretch/>
        </p:blipFill>
        <p:spPr>
          <a:xfrm>
            <a:off x="6156360" y="4005360"/>
            <a:ext cx="27162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i="1" lang="ru-RU" sz="6600" spc="-1" strike="noStrike">
                <a:solidFill>
                  <a:srgbClr val="333399"/>
                </a:solidFill>
                <a:latin typeface="Tahoma"/>
              </a:rPr>
              <a:t>Проблема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13 – 4 = </a:t>
            </a: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?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14 – 5 = </a:t>
            </a: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11 – 3 = </a:t>
            </a: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179280" y="5445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179280" y="429264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3"/>
          <a:stretch/>
        </p:blipFill>
        <p:spPr>
          <a:xfrm>
            <a:off x="179280" y="285264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4"/>
          <a:stretch/>
        </p:blipFill>
        <p:spPr>
          <a:xfrm>
            <a:off x="8286840" y="573876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21922-9d7105dcc43bff11"/>
          <p:cNvPicPr/>
          <p:nvPr/>
        </p:nvPicPr>
        <p:blipFill>
          <a:blip r:embed="rId5"/>
          <a:stretch/>
        </p:blipFill>
        <p:spPr>
          <a:xfrm>
            <a:off x="2916360" y="5084640"/>
            <a:ext cx="1714320" cy="1581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121922-9d7105dcc43bff11"/>
          <p:cNvPicPr/>
          <p:nvPr/>
        </p:nvPicPr>
        <p:blipFill>
          <a:blip r:embed="rId6"/>
          <a:stretch/>
        </p:blipFill>
        <p:spPr>
          <a:xfrm>
            <a:off x="7164360" y="3789360"/>
            <a:ext cx="1714680" cy="158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рассуждали при вычитан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0908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Tahoma"/>
              </a:rPr>
              <a:t>Разные способы вычитания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14 – 5 =9        14 – 5 =9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4     1        5     9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4"/>
          <p:cNvSpPr/>
          <p:nvPr/>
        </p:nvSpPr>
        <p:spPr>
          <a:xfrm flipH="1">
            <a:off x="1618920" y="371628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2556000" y="3716280"/>
            <a:ext cx="43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5219280" y="3645000"/>
            <a:ext cx="576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5940360" y="3716280"/>
            <a:ext cx="649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рассуждали при вычитан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0908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13 – 4 =9        11 – 3 =8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3     1        3     8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1618920" y="371628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2556000" y="3716280"/>
            <a:ext cx="43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6"/>
          <p:cNvSpPr/>
          <p:nvPr/>
        </p:nvSpPr>
        <p:spPr>
          <a:xfrm flipH="1">
            <a:off x="5219280" y="3645000"/>
            <a:ext cx="57636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5940360" y="3716280"/>
            <a:ext cx="649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1"/>
          <a:stretch/>
        </p:blipFill>
        <p:spPr>
          <a:xfrm>
            <a:off x="5364000" y="4221000"/>
            <a:ext cx="857520" cy="1119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Незнайка4"/>
          <p:cNvPicPr/>
          <p:nvPr/>
        </p:nvPicPr>
        <p:blipFill>
          <a:blip r:embed="rId6"/>
          <a:stretch/>
        </p:blipFill>
        <p:spPr>
          <a:xfrm>
            <a:off x="0" y="1628640"/>
            <a:ext cx="3681360" cy="5229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5640" y="2060280"/>
            <a:ext cx="456264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омоги Незнайке!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11- 7=          12- 4=                15- 6=          13- 8=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7"/>
          <a:stretch/>
        </p:blipFill>
        <p:spPr>
          <a:xfrm>
            <a:off x="6516720" y="443700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8"/>
          <a:stretch/>
        </p:blipFill>
        <p:spPr>
          <a:xfrm>
            <a:off x="6443640" y="551664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авильный от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343720" cy="3927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1- 7 =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2 - 4 =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5 - 6 =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3 - 8 =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1"/>
          <a:stretch/>
        </p:blipFill>
        <p:spPr>
          <a:xfrm>
            <a:off x="3995640" y="58341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179280" y="53737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956720" y="494172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596360" y="260280"/>
            <a:ext cx="1023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Состав числа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риан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риан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1187280" y="3213000"/>
            <a:ext cx="2089440" cy="194328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5867280" y="3213000"/>
            <a:ext cx="2017800" cy="19447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9" descr="nuNMyNa0yU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4:27:02Z</dcterms:created>
  <dc:creator>1</dc:creator>
  <dc:description/>
  <dc:language>en-US</dc:language>
  <cp:lastModifiedBy>777</cp:lastModifiedBy>
  <dcterms:modified xsi:type="dcterms:W3CDTF">2017-04-19T14:22:40Z</dcterms:modified>
  <cp:revision>29</cp:revision>
  <dc:subject/>
  <dc:title>Урок математики  в 1 классе</dc:title>
</cp:coreProperties>
</file>