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7.png" ContentType="image/png"/>
  <Override PartName="/ppt/media/image4.gif" ContentType="image/gif"/>
  <Override PartName="/ppt/media/image6.jpeg" ContentType="image/jpeg"/>
  <Override PartName="/ppt/media/image5.gif" ContentType="image/gif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7CD-2617-43F3-9A7B-2EF3A064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BA1-AA92-4F7D-A32B-CBBAB56E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C6A-6DD2-4598-B6AF-AEECC379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AE2-1393-464A-B975-F568B54C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F6EF-B7CD-4D2C-9E2D-71975F35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EE7A-EDA9-4E50-B330-583CB83E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A9A3-69A1-44CF-A4FF-4374E71D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A4A9-87CF-4283-82FB-C1229E96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ADF9-9811-46C2-A549-8700FA14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3494-AF04-4C7F-B135-6CB5D9F3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C67A-16FD-464D-BFD4-F3A8B32E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431-3B9C-4332-93FE-AD77443F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18BD-D0BD-478A-86BA-A7068D0E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D01F-D2AA-4FF4-9B32-EDA0A701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832C-8F00-4E98-8593-D555BA03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33E6-327B-4BB6-A137-28E647D8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9861-3CAD-4516-8B27-65319874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89A-1A78-4B1A-B775-E7919090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130-5026-4C0C-80B6-A66E76B8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74B-0D3B-4B48-8526-87009EA7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199-5DD8-4BA4-A92F-424E3CBE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62C-C32F-4D21-8BDF-82E0E0D0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B79-4970-4B8B-8DEB-A152ECD5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CD2-E071-4EA6-8548-EE03CBE0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ECE0-3F27-48FD-94FB-ED87C54206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E726-789C-4B19-8DC3-9C8733BBAB3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7162920" y="502920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3200400" y="144792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5257800" y="22860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1828800" y="297180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6705720" y="220968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4648320" y="228600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5" name="WordArt 8"/>
          <p:cNvSpPr txBox="1"/>
          <p:nvPr/>
        </p:nvSpPr>
        <p:spPr>
          <a:xfrm>
            <a:off x="152280" y="449568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6" name="WordArt 9"/>
          <p:cNvSpPr txBox="1"/>
          <p:nvPr/>
        </p:nvSpPr>
        <p:spPr>
          <a:xfrm>
            <a:off x="2743200" y="518148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7" name="WordArt 10"/>
          <p:cNvSpPr txBox="1"/>
          <p:nvPr/>
        </p:nvSpPr>
        <p:spPr>
          <a:xfrm>
            <a:off x="5181480" y="419112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8" name="WordArt 11"/>
          <p:cNvSpPr txBox="1"/>
          <p:nvPr/>
        </p:nvSpPr>
        <p:spPr>
          <a:xfrm>
            <a:off x="1143000" y="83808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ahoma"/>
              </a:rPr>
              <a:t>Состав     числа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848720" cy="45036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003640" y="2205000"/>
          <a:ext cx="3097440" cy="3745080"/>
        </p:xfrm>
        <a:graphic>
          <a:graphicData uri="http://schemas.openxmlformats.org/drawingml/2006/table">
            <a:tbl>
              <a:tblPr/>
              <a:tblGrid>
                <a:gridCol w="1513080"/>
                <a:gridCol w="1584360"/>
              </a:tblGrid>
              <a:tr h="7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971640" y="2133720"/>
          <a:ext cx="3313080" cy="3816360"/>
        </p:xfrm>
        <a:graphic>
          <a:graphicData uri="http://schemas.openxmlformats.org/drawingml/2006/table">
            <a:tbl>
              <a:tblPr/>
              <a:tblGrid>
                <a:gridCol w="1657440"/>
                <a:gridCol w="1655640"/>
              </a:tblGrid>
              <a:tr h="79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4619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шите пример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772400" cy="4032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7 + 2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5 + 7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3 – 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6 + 8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4 – 5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9 – 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9 – 7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1 – 3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6 + 8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Задача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з пластилина Саша сделал 5 разных поделок, а Дима на  2 поделки меньше. Сколько поделок сделал Ди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4" descr="BD05092_"/>
          <p:cNvPicPr/>
          <p:nvPr/>
        </p:nvPicPr>
        <p:blipFill>
          <a:blip r:embed="rId1"/>
          <a:stretch/>
        </p:blipFill>
        <p:spPr>
          <a:xfrm>
            <a:off x="5796000" y="189000"/>
            <a:ext cx="3170160" cy="1584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i"/>
          <p:cNvPicPr/>
          <p:nvPr/>
        </p:nvPicPr>
        <p:blipFill>
          <a:blip r:embed="rId2"/>
          <a:stretch/>
        </p:blipFill>
        <p:spPr>
          <a:xfrm>
            <a:off x="826920" y="4599000"/>
            <a:ext cx="1764000" cy="2017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знайка"/>
          <p:cNvPicPr/>
          <p:nvPr/>
        </p:nvPicPr>
        <p:blipFill>
          <a:blip r:embed="rId3"/>
          <a:stretch/>
        </p:blipFill>
        <p:spPr>
          <a:xfrm>
            <a:off x="6948360" y="4826160"/>
            <a:ext cx="15670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раткая запис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С. – 5 п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Д. - ? на 2 п.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) 5 – 2 = 3 (п.) – Ди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Ответ: 8 поделок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937280" cy="7920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одолжи предложе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5972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*Мне на уроке понравилось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*Мне показалось трудным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авным своим результатом считаю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*На уроке работал(а)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СПАСИБО ЗА УРОК !!!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ahoma"/>
              </a:rPr>
              <a:t>М О Л О Д Ц Ы !!!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42960" y="214200"/>
            <a:ext cx="56005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ahoma"/>
              </a:rPr>
              <a:t>Устный счёт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997360"/>
            <a:ext cx="9396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4 дм 3 см=....см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57 см= … дм …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Назовите соседей числа: 15, 18, 1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4a"/>
          <p:cNvPicPr/>
          <p:nvPr/>
        </p:nvPicPr>
        <p:blipFill>
          <a:blip r:embed="rId1"/>
          <a:stretch/>
        </p:blipFill>
        <p:spPr>
          <a:xfrm>
            <a:off x="0" y="0"/>
            <a:ext cx="3348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Какие фигуры нарисованы?             Каких больше и на сколько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58920" y="2565360"/>
          <a:ext cx="1368360" cy="12240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  <p:sp>
        <p:nvSpPr>
          <p:cNvPr id="114" name="Rectangle 30"/>
          <p:cNvSpPr/>
          <p:nvPr/>
        </p:nvSpPr>
        <p:spPr>
          <a:xfrm>
            <a:off x="2124000" y="3141720"/>
            <a:ext cx="136836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43"/>
          <p:cNvSpPr/>
          <p:nvPr/>
        </p:nvSpPr>
        <p:spPr>
          <a:xfrm rot="3588000">
            <a:off x="2878560" y="2626560"/>
            <a:ext cx="1255680" cy="1295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45"/>
          <p:cNvSpPr/>
          <p:nvPr/>
        </p:nvSpPr>
        <p:spPr>
          <a:xfrm>
            <a:off x="4716360" y="2565360"/>
            <a:ext cx="136836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46"/>
          <p:cNvSpPr/>
          <p:nvPr/>
        </p:nvSpPr>
        <p:spPr>
          <a:xfrm rot="18696600">
            <a:off x="3982320" y="2892600"/>
            <a:ext cx="1282680" cy="12430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j0232133"/>
          <p:cNvPicPr/>
          <p:nvPr/>
        </p:nvPicPr>
        <p:blipFill>
          <a:blip r:embed="rId1"/>
          <a:stretch/>
        </p:blipFill>
        <p:spPr>
          <a:xfrm>
            <a:off x="6156360" y="4005360"/>
            <a:ext cx="27162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i="1" lang="ru-RU" sz="6600" spc="-1" strike="noStrike">
                <a:solidFill>
                  <a:srgbClr val="333399"/>
                </a:solidFill>
                <a:latin typeface="Tahoma"/>
              </a:rPr>
              <a:t>Проблема</a:t>
            </a: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13 – 4 = </a:t>
            </a: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?</a:t>
            </a: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14 – 5 = </a:t>
            </a: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11 – 3 = </a:t>
            </a: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1"/>
          <a:stretch/>
        </p:blipFill>
        <p:spPr>
          <a:xfrm>
            <a:off x="179280" y="544500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179280" y="429264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3"/>
          <a:stretch/>
        </p:blipFill>
        <p:spPr>
          <a:xfrm>
            <a:off x="179280" y="285264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4"/>
          <a:stretch/>
        </p:blipFill>
        <p:spPr>
          <a:xfrm>
            <a:off x="8286840" y="573876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21922-9d7105dcc43bff11"/>
          <p:cNvPicPr/>
          <p:nvPr/>
        </p:nvPicPr>
        <p:blipFill>
          <a:blip r:embed="rId5"/>
          <a:stretch/>
        </p:blipFill>
        <p:spPr>
          <a:xfrm>
            <a:off x="2916360" y="5084640"/>
            <a:ext cx="1714320" cy="1581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121922-9d7105dcc43bff11"/>
          <p:cNvPicPr/>
          <p:nvPr/>
        </p:nvPicPr>
        <p:blipFill>
          <a:blip r:embed="rId6"/>
          <a:stretch/>
        </p:blipFill>
        <p:spPr>
          <a:xfrm>
            <a:off x="7164360" y="3789360"/>
            <a:ext cx="1714680" cy="158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рассуждали при вычитани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20908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4400" spc="-1" strike="noStrike" u="sng">
                <a:solidFill>
                  <a:srgbClr val="c00000"/>
                </a:solidFill>
                <a:uFillTx/>
                <a:latin typeface="Tahoma"/>
              </a:rPr>
              <a:t>Разные способы вычитания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14 – 5 =9        14 – 5 =9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4     1        5     9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4"/>
          <p:cNvSpPr/>
          <p:nvPr/>
        </p:nvSpPr>
        <p:spPr>
          <a:xfrm flipH="1">
            <a:off x="1618920" y="371628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2556000" y="3716280"/>
            <a:ext cx="43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6"/>
          <p:cNvSpPr/>
          <p:nvPr/>
        </p:nvSpPr>
        <p:spPr>
          <a:xfrm flipH="1">
            <a:off x="5219280" y="3645000"/>
            <a:ext cx="57636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5940360" y="3716280"/>
            <a:ext cx="649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рассуждали при вычитани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20908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13 – 4 =9        11 – 3 =8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3     1        3     8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4"/>
          <p:cNvSpPr/>
          <p:nvPr/>
        </p:nvSpPr>
        <p:spPr>
          <a:xfrm flipH="1">
            <a:off x="1618920" y="371628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2556000" y="3716280"/>
            <a:ext cx="43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6"/>
          <p:cNvSpPr/>
          <p:nvPr/>
        </p:nvSpPr>
        <p:spPr>
          <a:xfrm flipH="1">
            <a:off x="5219280" y="3645000"/>
            <a:ext cx="57636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5940360" y="3716280"/>
            <a:ext cx="649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1"/>
          <a:stretch/>
        </p:blipFill>
        <p:spPr>
          <a:xfrm>
            <a:off x="5364000" y="422100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2"/>
          <a:stretch/>
        </p:blipFill>
        <p:spPr>
          <a:xfrm>
            <a:off x="392904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786800" y="54291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4357800" y="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Незнайка4"/>
          <p:cNvPicPr/>
          <p:nvPr/>
        </p:nvPicPr>
        <p:blipFill>
          <a:blip r:embed="rId6"/>
          <a:stretch/>
        </p:blipFill>
        <p:spPr>
          <a:xfrm>
            <a:off x="0" y="1628640"/>
            <a:ext cx="3681360" cy="5229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95640" y="2060280"/>
            <a:ext cx="456264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омоги Незнайке!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11- 7=          12- 4=                15- 6=          13- 8=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7"/>
          <a:stretch/>
        </p:blipFill>
        <p:spPr>
          <a:xfrm>
            <a:off x="6516720" y="443700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8"/>
          <a:stretch/>
        </p:blipFill>
        <p:spPr>
          <a:xfrm>
            <a:off x="6443640" y="5516640"/>
            <a:ext cx="857160" cy="1119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1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авильный отв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343720" cy="39272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1- 7 =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2 - 4 =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5 - 6 =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3 - 8 =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1"/>
          <a:stretch/>
        </p:blipFill>
        <p:spPr>
          <a:xfrm>
            <a:off x="3995640" y="583416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2"/>
          <a:stretch/>
        </p:blipFill>
        <p:spPr>
          <a:xfrm>
            <a:off x="179280" y="537372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7956720" y="494172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596360" y="260280"/>
            <a:ext cx="1023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Состав числа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риан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риан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1187280" y="3213000"/>
            <a:ext cx="2089440" cy="19432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5867280" y="3213000"/>
            <a:ext cx="2017800" cy="19447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9" descr="nuNMyNa0yU"/>
          <p:cNvPicPr/>
          <p:nvPr/>
        </p:nvPicPr>
        <p:blipFill>
          <a:blip r:embed="rId1"/>
          <a:stretch/>
        </p:blipFill>
        <p:spPr>
          <a:xfrm>
            <a:off x="3203640" y="4437000"/>
            <a:ext cx="2448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4:27:02Z</dcterms:created>
  <dc:creator>1</dc:creator>
  <dc:description/>
  <dc:language>en-US</dc:language>
  <cp:lastModifiedBy>777</cp:lastModifiedBy>
  <dcterms:modified xsi:type="dcterms:W3CDTF">2017-04-19T14:22:40Z</dcterms:modified>
  <cp:revision>29</cp:revision>
  <dc:subject/>
  <dc:title>Урок математики  в 1 классе</dc:title>
</cp:coreProperties>
</file>