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CEE-1F6B-4F21-A843-9D653B11E9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CEF-0A05-49F4-B94B-0FE4E51D3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B1F7-A46B-45FA-A745-D344EC9A1F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E96-F6AC-48DE-8C32-76ECBA09E1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051-7ABE-43DE-889C-0F90E94B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23E-1241-465F-AE27-938721FC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86C-49AB-48F1-A61C-235EF39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9D3-71F2-4C55-BBA4-389F1EC9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460-825D-47B4-9987-8D393F40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E50-5FCB-4B8D-B36F-29B4474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BEA-0964-4295-8ADD-E5B48F1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FAA-089A-4BC9-BD92-65BA33B6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C00-2C30-42FD-98B3-ADD17950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AC9-6B7B-4F9A-BB9E-C624AC6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912-BF3C-47F6-B5F7-B0308D4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C48-2717-47F8-8BC6-A00D151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0EBF-6797-440D-852D-E400392CB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лагол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описание безударных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чных окончаний глаго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 Определяем часть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   Определяем ударное или безударное окончание  у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 Ставим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 Определяем сп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ТЬ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.    -   все остальные  относятся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ряжению,    кроме                    глаголов - ис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     Пишу  личные  окончания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умение безошибочно писать безударные окончания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844640"/>
            <a:ext cx="80755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ые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ить глагол  в неопределенн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ять спря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ильно писать личные окончания глаг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Учиться по личному окончанию,  определять  грамма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очк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71400"/>
            <a:ext cx="3757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тупа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а…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е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т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б…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…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ноуровневые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500040"/>
            <a:ext cx="8400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Все мы (испытывать) испытыва…м чувство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адости при наступлении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Снег (сбегать) сбега…т с п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Солнце (светить) свет… яр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прямыми лучами солнца  та…т  сн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…т  теплый  ветер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товское равноденствие  буд…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5840" y="571680"/>
          <a:ext cx="8072280" cy="178560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17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5840" y="2428920"/>
          <a:ext cx="8072280" cy="17571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5840" y="4286160"/>
          <a:ext cx="8072280" cy="23367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23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добрать по смыслу глаголы, определить спряж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че    …………………………         солнц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……………………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й ветер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а       …………………………….....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ет…т,  растоп…т,  верт…т, прилет…т, та…т, найд…т, терп…т, мо…т, вар…т, чист…т, ид…т, прилет…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жению относятся следующие глаг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ить (кроме брить и стелить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ать ( гнать, дышать, держать, слыш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 – еть( смотреть, терпеть, верт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еть, видеть, ненавиде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деть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яжению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6:01:14Z</dcterms:created>
  <dc:creator>Ермаковы</dc:creator>
  <dc:description/>
  <dc:language>en-US</dc:language>
  <cp:lastModifiedBy>777</cp:lastModifiedBy>
  <dcterms:modified xsi:type="dcterms:W3CDTF">2014-11-26T15:09:54Z</dcterms:modified>
  <cp:revision>32</cp:revision>
  <dc:subject/>
  <dc:title>Спряжение глаголов</dc:title>
</cp:coreProperties>
</file>