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F83E-DBA0-4947-8392-F3365152B2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1847-B56A-4932-85C0-7820D0626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5BC-04E5-4DF1-9912-3D9CA29B3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32EF-E393-4A06-9014-0EB85B0C2B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4D1-28D1-4EBA-BA88-838F8614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F80-24EB-4E5F-BA22-53ED637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370-69A5-47E4-9958-C88467A1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C49-DFC2-4307-BBF4-C220410E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C07-47E5-4E84-90F9-938121A3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6A7-BA74-4352-98E0-BB6BE1CC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A93-4F74-40AA-A297-1F71F3C3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A8F-427E-48A0-9C3C-1487762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363-35B5-40C2-9E68-98A20E1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E8B-6E15-462D-9428-01532B8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ED4-4ABE-4ABD-B061-79F2E03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33B-F3CC-4301-A7D8-98CD3B4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546-48D7-49B1-9465-381B67490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лагол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описание безударных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чных окончаний глаго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 Определяем часть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   Определяем ударное или безударное окончание  у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 Ставим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 Определяем сп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ТЬ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.    -   все остальные  относятся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ряжению,    кроме                    глаголов - ис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     Пишу  личные  окончания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умение безошибочно писать безударные окончания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844640"/>
            <a:ext cx="8075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ить глагол 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ять сп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ильно писать личные окончания глаг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Учиться по личному окончанию,  определять  грамма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чк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71400"/>
            <a:ext cx="3757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тупа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а…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е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т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б…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ноуровневые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500040"/>
            <a:ext cx="8400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Все мы (испытывать) испытыва…м чувство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адости при наступлении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Снег (сбегать) сбега…т с п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Солнце (светить) свет… яр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прямыми лучами солнца  та…т  сн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…т  теплый  ветер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товское равноденствие  буд…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571680"/>
          <a:ext cx="8072280" cy="178560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17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5840" y="2428920"/>
          <a:ext cx="8072280" cy="17571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5840" y="4286160"/>
          <a:ext cx="8072280" cy="23367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23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добрать по смыслу глаголы, определить спряж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че    …………………………         солнц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……………………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й ветер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а       …………………………….....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ет…т,  растоп…т,  верт…т, прилет…т, та…т, найд…т, терп…т, мо…т, вар…т, чист…т, ид…т, прилет…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жению относятся следующие глаг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ить (кроме брить и стелить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ать ( гнать, дышать, держать, слыш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 еть( смотреть, терпеть, верт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еть, видеть, ненавиде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деть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яжению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6:01:14Z</dcterms:created>
  <dc:creator>Ермаковы</dc:creator>
  <dc:description/>
  <dc:language>en-US</dc:language>
  <cp:lastModifiedBy>777</cp:lastModifiedBy>
  <dcterms:modified xsi:type="dcterms:W3CDTF">2014-11-26T15:09:54Z</dcterms:modified>
  <cp:revision>32</cp:revision>
  <dc:subject/>
  <dc:title>Спряжение глаголов</dc:title>
</cp:coreProperties>
</file>