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AD4-8C80-4970-B5AE-0F09120C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1E3-1B70-4032-B510-8D71411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26A-CF3A-4713-BE70-06914620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9E0-0B74-4BA4-8327-B8CA93FE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374-6C13-4A60-B481-C219C1CD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883-0624-4FE5-B4E8-A9CE413A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7485-F54F-4633-8FD4-15FFFC9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49FB-7C05-4AC4-9CC2-4423943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DEC0-242E-473B-B671-04B6B3ED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957E-0CED-4390-A9A5-CBFE060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221-DE47-4360-A26B-04E4790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7C1-FC0C-4DD7-86E2-28503733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0D4-A6F0-40A7-82A0-613CC0E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DBBC-1320-445A-AF00-41DF856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EB6-8067-4CE3-9B2C-27594885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269-18C4-4FBC-A327-90D1CA35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662-B5A6-4B6D-8F42-866B612C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7F14-168B-4A2A-85BF-BAB1A31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B3FB-FB50-4EBA-B758-EF1F54D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03DF-7552-48E0-B576-D02C10C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58A4-FC01-4B09-93F3-AD6852C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798D-4629-4632-9349-5767769F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0A-8D56-46DE-B9B2-8CD06AB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844B-53A1-49E6-8539-1471FE4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019F-B4D7-4B28-A074-BA1CE90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FE78-9C0F-4287-8AED-D3CA811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AA99-0506-4740-B05E-B64B0C7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09E4-9F87-4CB1-B068-7893A800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272A-2F94-436F-B45C-7587DEBC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2D72-44BA-41CC-A860-93713C94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1D56-C8BA-447B-BEB2-781AE3C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8491-3C52-4972-AF37-5063F30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021B-CBAF-49E4-84EE-6C97D2A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AE9-D893-41F3-B737-9CD647D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C0B6-3D2F-4DB1-AEA2-75DCB47D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D1B7-1167-4935-839A-583D5F6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1714-50E3-4FED-A3A5-77BEC41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A169-B747-47DF-88C7-8002F6A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4B9A-E37D-472F-9A47-05F4A2A7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B94A-382F-407F-AFF3-60B70A6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0EFC-1D42-438A-95F5-BA93C14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049D-2B2F-4672-A489-3BA9D849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586C-0C48-408C-8D43-7C2E04CB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A67-5FDD-4EE4-957F-969D9D1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D3D-0D02-4F05-B665-83C344F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409-B5C8-4F25-A125-19657D5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7DF-CD13-4210-BA8A-FB566A9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FE9-0EA4-41D6-9ED7-64B5821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428B3D-29F9-4716-BD26-042D76F2E64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4D0D9A-81BF-4653-87D4-7E376BE0EE0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5EAC6C-ADAE-4931-B384-7F745AFC317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10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BBDF8F-B2C9-404B-918D-56EA46E196F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9640" y="620640"/>
            <a:ext cx="74062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ru-RU" sz="3200" spc="-1" strike="noStrike">
                <a:solidFill>
                  <a:schemeClr val="accent1"/>
                </a:solidFill>
                <a:latin typeface="Gill Sans MT"/>
              </a:rPr>
              <a:t>Тема урока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Gill Sans MT"/>
              </a:rPr>
              <a:t>«Цветок ,его значение и строение .                         Соцветия» 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75640" y="4509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4000"/>
          </a:bodyPr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1"/>
                </a:solidFill>
                <a:latin typeface="Gill Sans MT"/>
              </a:rPr>
              <a:t>Выполнила: учитель биологи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5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1"/>
                </a:solidFill>
                <a:latin typeface="Gill Sans MT"/>
              </a:rPr>
              <a:t>Громова  Тамара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шш"/>
          <p:cNvPicPr/>
          <p:nvPr/>
        </p:nvPicPr>
        <p:blipFill>
          <a:blip r:embed="rId1"/>
          <a:stretch/>
        </p:blipFill>
        <p:spPr>
          <a:xfrm>
            <a:off x="2988000" y="2421000"/>
            <a:ext cx="4032000" cy="266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7030a0"/>
                </a:solidFill>
                <a:latin typeface="Gill Sans MT"/>
              </a:rPr>
              <a:t>Видоизмененный побег </a:t>
            </a:r>
            <a:r>
              <a:rPr b="0" lang="ru-RU" sz="3200" spc="-1" strike="noStrike">
                <a:solidFill>
                  <a:srgbClr val="7030a0"/>
                </a:solidFill>
                <a:latin typeface="Gill Sans MT"/>
              </a:rPr>
              <a:t>, </a:t>
            </a:r>
            <a:r>
              <a:rPr b="1" lang="ru-RU" sz="3200" spc="-1" strike="noStrike">
                <a:solidFill>
                  <a:srgbClr val="7030a0"/>
                </a:solidFill>
                <a:latin typeface="Gill Sans MT"/>
              </a:rPr>
              <a:t>видоизмененный побег, служащий для семенного размножения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Gill Sans MT"/>
              </a:rPr>
              <a:t>Цветок-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0" y="765000"/>
            <a:ext cx="4571640" cy="57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ff0000"/>
                </a:solidFill>
                <a:latin typeface="Gill Sans MT"/>
              </a:rPr>
              <a:t>Строение цветка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. Цветонож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. Цветолож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. Чашечка из чашелисти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. Венчик из лепест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. Пес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. Тычин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+4. Двойной околоцветн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лавные части цветка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ff"/>
                </a:solidFill>
                <a:latin typeface="Gill Sans MT"/>
              </a:rPr>
              <a:t>Андроцей</a:t>
            </a:r>
            <a:r>
              <a:rPr b="0" lang="ru-RU" sz="2800" spc="-1" strike="noStrike">
                <a:solidFill>
                  <a:srgbClr val="ffff66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– совокупность тычино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ff"/>
                </a:solidFill>
                <a:latin typeface="Gill Sans MT"/>
              </a:rPr>
              <a:t>Гинец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– совокупность пестиков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251640" y="1052640"/>
          <a:ext cx="4437720" cy="49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1052640"/>
                    <a:ext cx="4437720" cy="49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5"/>
          <p:cNvSpPr/>
          <p:nvPr/>
        </p:nvSpPr>
        <p:spPr>
          <a:xfrm>
            <a:off x="304920" y="79200"/>
            <a:ext cx="8534160" cy="685440"/>
          </a:xfrm>
          <a:prstGeom prst="rect">
            <a:avLst/>
          </a:prstGeom>
          <a:noFill/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Морфология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492000" cy="39096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43" name="Object 16"/>
          <p:cNvGraphicFramePr/>
          <p:nvPr/>
        </p:nvGraphicFramePr>
        <p:xfrm>
          <a:off x="4724280" y="838080"/>
          <a:ext cx="3809520" cy="34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838080"/>
                    <a:ext cx="3809520" cy="34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18"/>
          <p:cNvSpPr/>
          <p:nvPr/>
        </p:nvSpPr>
        <p:spPr>
          <a:xfrm>
            <a:off x="457200" y="4653000"/>
            <a:ext cx="3504960" cy="213732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Цветок с двойным околоцветником, характерен для двудоль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500720" y="4509000"/>
            <a:ext cx="4103280" cy="228204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веток с простым околоцветником, характерен для однодольных растен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04920" y="79200"/>
            <a:ext cx="8534160" cy="685440"/>
          </a:xfrm>
          <a:prstGeom prst="rect">
            <a:avLst/>
          </a:prstGeom>
          <a:noFill/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Морфология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1767240" y="4267080"/>
            <a:ext cx="1851120" cy="42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3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320" cy="1080"/>
          </a:xfrm>
          <a:prstGeom prst="rect">
            <a:avLst/>
          </a:prstGeom>
          <a:ln w="9525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6150240" y="4210200"/>
            <a:ext cx="1578600" cy="42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2320" cy="108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600" cy="2685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833400" y="1366920"/>
            <a:ext cx="3639600" cy="323964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1767240" y="4267080"/>
            <a:ext cx="1851120" cy="426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3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320" cy="1080"/>
          </a:xfrm>
          <a:prstGeom prst="rect">
            <a:avLst/>
          </a:prstGeom>
          <a:ln w="9525">
            <a:noFill/>
          </a:ln>
        </p:spPr>
      </p:pic>
      <p:sp>
        <p:nvSpPr>
          <p:cNvPr id="265" name="Rectangle 12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5100480" y="1366920"/>
            <a:ext cx="3639600" cy="3244320"/>
          </a:xfrm>
          <a:prstGeom prst="rect">
            <a:avLst/>
          </a:prstGeom>
          <a:noFill/>
          <a:ln w="52388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150240" y="4210200"/>
            <a:ext cx="1578600" cy="42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2320" cy="1080"/>
          </a:xfrm>
          <a:prstGeom prst="rect">
            <a:avLst/>
          </a:prstGeom>
          <a:ln w="9525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038480" y="4952880"/>
            <a:ext cx="510516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5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600" cy="2685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6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5181480" y="1447920"/>
            <a:ext cx="312372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360" cy="2410920"/>
          </a:xfrm>
          <a:prstGeom prst="rect">
            <a:avLst/>
          </a:prstGeom>
          <a:ln w="9525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295280" y="144792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371600" y="1447920"/>
            <a:ext cx="304776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11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120" cy="2398320"/>
          </a:xfrm>
          <a:prstGeom prst="rect">
            <a:avLst/>
          </a:prstGeom>
          <a:ln w="9525">
            <a:noFill/>
          </a:ln>
        </p:spPr>
      </p:pic>
      <p:sp>
        <p:nvSpPr>
          <p:cNvPr id="281" name="Text Box 13"/>
          <p:cNvSpPr/>
          <p:nvPr/>
        </p:nvSpPr>
        <p:spPr>
          <a:xfrm>
            <a:off x="2287080" y="3886200"/>
            <a:ext cx="10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6172200" y="3809880"/>
            <a:ext cx="1191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7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219320" y="228600"/>
            <a:ext cx="79243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5181480" y="1447920"/>
            <a:ext cx="312372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8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360" cy="2410920"/>
          </a:xfrm>
          <a:prstGeom prst="rect">
            <a:avLst/>
          </a:prstGeom>
          <a:ln w="9525">
            <a:noFill/>
          </a:ln>
        </p:spPr>
      </p:pic>
      <p:sp>
        <p:nvSpPr>
          <p:cNvPr id="288" name="Rectangle 9"/>
          <p:cNvSpPr/>
          <p:nvPr/>
        </p:nvSpPr>
        <p:spPr>
          <a:xfrm>
            <a:off x="1295280" y="144792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371600" y="1447920"/>
            <a:ext cx="3047760" cy="28191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11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120" cy="2398320"/>
          </a:xfrm>
          <a:prstGeom prst="rect">
            <a:avLst/>
          </a:prstGeom>
          <a:ln w="9525">
            <a:noFill/>
          </a:ln>
        </p:spPr>
      </p:pic>
      <p:sp>
        <p:nvSpPr>
          <p:cNvPr id="291" name="Text Box 13"/>
          <p:cNvSpPr/>
          <p:nvPr/>
        </p:nvSpPr>
        <p:spPr>
          <a:xfrm>
            <a:off x="2287080" y="3886200"/>
            <a:ext cx="10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172200" y="3809880"/>
            <a:ext cx="1191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38480" y="4952880"/>
            <a:ext cx="51051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7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080" cy="2346120"/>
          </a:xfrm>
          <a:prstGeom prst="rect">
            <a:avLst/>
          </a:prstGeom>
          <a:ln w="9525">
            <a:noFill/>
          </a:ln>
        </p:spPr>
      </p:pic>
      <p:sp>
        <p:nvSpPr>
          <p:cNvPr id="299" name="Rectangle 14"/>
          <p:cNvSpPr/>
          <p:nvPr/>
        </p:nvSpPr>
        <p:spPr>
          <a:xfrm>
            <a:off x="2615400" y="3914640"/>
            <a:ext cx="4294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5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240" cy="1080"/>
          </a:xfrm>
          <a:prstGeom prst="rect">
            <a:avLst/>
          </a:prstGeom>
          <a:ln w="9525">
            <a:noFill/>
          </a:ln>
        </p:spPr>
      </p:pic>
      <p:sp>
        <p:nvSpPr>
          <p:cNvPr id="301" name="Text Box 7"/>
          <p:cNvSpPr/>
          <p:nvPr/>
        </p:nvSpPr>
        <p:spPr>
          <a:xfrm>
            <a:off x="685800" y="228600"/>
            <a:ext cx="84578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 (стр.4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6314760" y="3981600"/>
            <a:ext cx="71136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0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3920" cy="108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23" descr=""/>
          <p:cNvPicPr/>
          <p:nvPr/>
        </p:nvPicPr>
        <p:blipFill>
          <a:blip r:embed="rId4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239840" y="1467000"/>
            <a:ext cx="3136680" cy="279540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Picture 13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080" cy="2346120"/>
          </a:xfrm>
          <a:prstGeom prst="rect">
            <a:avLst/>
          </a:prstGeom>
          <a:ln w="9525">
            <a:noFill/>
          </a:ln>
        </p:spPr>
      </p:pic>
      <p:sp>
        <p:nvSpPr>
          <p:cNvPr id="311" name="Rectangle 14"/>
          <p:cNvSpPr/>
          <p:nvPr/>
        </p:nvSpPr>
        <p:spPr>
          <a:xfrm>
            <a:off x="2615400" y="3914640"/>
            <a:ext cx="4294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240" cy="1080"/>
          </a:xfrm>
          <a:prstGeom prst="rect">
            <a:avLst/>
          </a:prstGeom>
          <a:ln w="9525">
            <a:noFill/>
          </a:ln>
        </p:spPr>
      </p:pic>
      <p:sp>
        <p:nvSpPr>
          <p:cNvPr id="313" name="Text Box 7"/>
          <p:cNvSpPr/>
          <p:nvPr/>
        </p:nvSpPr>
        <p:spPr>
          <a:xfrm>
            <a:off x="685800" y="228600"/>
            <a:ext cx="84578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5202360" y="1468440"/>
            <a:ext cx="3149280" cy="2804760"/>
          </a:xfrm>
          <a:prstGeom prst="rect">
            <a:avLst/>
          </a:prstGeom>
          <a:noFill/>
          <a:ln w="4445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314760" y="3981600"/>
            <a:ext cx="71136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3920" cy="1080"/>
          </a:xfrm>
          <a:prstGeom prst="rect">
            <a:avLst/>
          </a:prstGeom>
          <a:ln w="9525">
            <a:noFill/>
          </a:ln>
        </p:spPr>
      </p:pic>
      <p:sp>
        <p:nvSpPr>
          <p:cNvPr id="318" name="Text Box 9"/>
          <p:cNvSpPr/>
          <p:nvPr/>
        </p:nvSpPr>
        <p:spPr>
          <a:xfrm>
            <a:off x="685800" y="4952880"/>
            <a:ext cx="336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809880" y="4876920"/>
            <a:ext cx="533376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3" descr=""/>
          <p:cNvPicPr/>
          <p:nvPr/>
        </p:nvPicPr>
        <p:blipFill>
          <a:blip r:embed="rId4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4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2372040" y="609480"/>
            <a:ext cx="46692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918360" y="17431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936000" y="238608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963000" y="31003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918360" y="384192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963000" y="4556160"/>
            <a:ext cx="2768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1712160" y="1772640"/>
            <a:ext cx="69566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1782000" y="3038400"/>
            <a:ext cx="688212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1792800" y="3770280"/>
            <a:ext cx="682416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1836360" y="4573440"/>
            <a:ext cx="581508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1782720" y="2413080"/>
            <a:ext cx="511704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8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2640" cy="1080"/>
          </a:xfrm>
          <a:prstGeom prst="rect">
            <a:avLst/>
          </a:prstGeom>
          <a:ln w="9525">
            <a:noFill/>
          </a:ln>
        </p:spPr>
      </p:pic>
      <p:pic>
        <p:nvPicPr>
          <p:cNvPr id="334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Цель урока 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-246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оздать условия для учащихся по восприятию, осмыслению, первичному закреплению материала о цветке, соцветии . Совершенствовать умения работать с   текстом учебника, натуральными объектами, дидактическим материалом, делать выводы; формировать научное мировоззрение на основе знаний связи строения и выполняемой функ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c00000"/>
                </a:solidFill>
                <a:latin typeface="Gill Sans MT"/>
              </a:rPr>
              <a:t>                  </a:t>
            </a:r>
            <a:r>
              <a:rPr b="0" lang="ru-RU" sz="4300" spc="-1" strike="noStrike">
                <a:solidFill>
                  <a:srgbClr val="c00000"/>
                </a:solidFill>
                <a:latin typeface="Gill Sans MT"/>
              </a:rPr>
              <a:t>Сказка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 теперь давайте разберемся, что же в этой сказке за намек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Что за царство-государство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Кто его жители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Кто гости заморские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Чем привлекали к себе насекомых крупные цветки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400" indent="-268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А каким образом мелкие цветки сумели привлечь к себе насекомых?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chemeClr val="accent4"/>
                </a:solidFill>
                <a:latin typeface="Gill Sans MT"/>
              </a:rPr>
              <a:t>Работа с учебником (стр.45)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Соцветия 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В чём биологическое значение соцветий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1087920" y="0"/>
            <a:ext cx="284040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932640" y="-9360"/>
            <a:ext cx="48420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469040" y="119160"/>
            <a:ext cx="42026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193760" y="650880"/>
            <a:ext cx="807372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1118160" y="1130400"/>
            <a:ext cx="52178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1175400" y="2895480"/>
            <a:ext cx="696888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125000" y="3530520"/>
            <a:ext cx="2912040" cy="65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960840" y="4179960"/>
            <a:ext cx="343764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кие   цвет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1158480" y="4660920"/>
            <a:ext cx="641880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970560" y="5140440"/>
            <a:ext cx="54370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тными,  дают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1021680" y="5619600"/>
            <a:ext cx="35686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ыльцы и луч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1189800" y="6099120"/>
            <a:ext cx="7516080" cy="487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9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280" cy="1755360"/>
          </a:xfrm>
          <a:prstGeom prst="rect">
            <a:avLst/>
          </a:prstGeom>
          <a:ln w="9525">
            <a:noFill/>
          </a:ln>
        </p:spPr>
      </p:pic>
      <p:pic>
        <p:nvPicPr>
          <p:cNvPr id="352" name="Picture 20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360" cy="1080"/>
          </a:xfrm>
          <a:prstGeom prst="rect">
            <a:avLst/>
          </a:prstGeom>
          <a:ln w="9525">
            <a:noFill/>
          </a:ln>
        </p:spPr>
      </p:pic>
      <p:pic>
        <p:nvPicPr>
          <p:cNvPr id="353" name="Picture 21" descr=""/>
          <p:cNvPicPr/>
          <p:nvPr/>
        </p:nvPicPr>
        <p:blipFill>
          <a:blip r:embed="rId3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ff0000"/>
                </a:solidFill>
                <a:latin typeface="Gill Sans MT"/>
              </a:rPr>
              <a:t>Соцветия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Простые: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ист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он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очаток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оловка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олос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орзи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щиток      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Сложные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авиток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ая кисть (метёлка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ый зонти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ложный колос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Стрелка вниз 4"/>
          <p:cNvSpPr/>
          <p:nvPr/>
        </p:nvSpPr>
        <p:spPr>
          <a:xfrm rot="3763800">
            <a:off x="2570400" y="664920"/>
            <a:ext cx="359640" cy="12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58" name="Стрелка вниз 5"/>
          <p:cNvSpPr/>
          <p:nvPr/>
        </p:nvSpPr>
        <p:spPr>
          <a:xfrm rot="18023400">
            <a:off x="6090840" y="761760"/>
            <a:ext cx="359640" cy="12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Лабораторная работа. 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Строение цветка (стр.    )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: практическое знакомство учащихся со строением цветка; укрепление знаний о строении и функциях цветка .Определение соцветий на гербарном материал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914400" y="1239840"/>
            <a:ext cx="7953120" cy="29880"/>
          </a:xfrm>
          <a:prstGeom prst="rect">
            <a:avLst/>
          </a:pr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7496280" y="1515960"/>
            <a:ext cx="1142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11040" y="1776240"/>
            <a:ext cx="1045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449360" y="1546200"/>
            <a:ext cx="11426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1455480" y="1806480"/>
            <a:ext cx="1054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5180400" y="1508040"/>
            <a:ext cx="149760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5418360" y="1768320"/>
            <a:ext cx="97344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5375160" y="2028960"/>
            <a:ext cx="104652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3426840" y="1546200"/>
            <a:ext cx="76752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3254040" y="1806480"/>
            <a:ext cx="1054080" cy="27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1729440" y="372960"/>
            <a:ext cx="6667200" cy="44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4378680" y="803160"/>
            <a:ext cx="1262880" cy="44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000" cy="1080"/>
          </a:xfrm>
          <a:prstGeom prst="rect">
            <a:avLst/>
          </a:prstGeom>
          <a:ln w="9525">
            <a:noFill/>
          </a:ln>
        </p:spPr>
      </p:pic>
      <p:sp>
        <p:nvSpPr>
          <p:cNvPr id="374" name="Line 21"/>
          <p:cNvSpPr/>
          <p:nvPr/>
        </p:nvSpPr>
        <p:spPr>
          <a:xfrm>
            <a:off x="914400" y="2590560"/>
            <a:ext cx="80010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743200" y="1218960"/>
            <a:ext cx="360" cy="5410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4724280" y="1143000"/>
            <a:ext cx="360" cy="54100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7086600" y="1218960"/>
            <a:ext cx="360" cy="5410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539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-324720" y="397440"/>
            <a:ext cx="9468360" cy="527076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Меры по охране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законов об охране растительного   ми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исчезающих видов   растений и занесение их в Красную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Создание охраняемых территорий (заповедников, заказников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Создание центров разведения исчезающих растений.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457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5.Соблюдение правил поведения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1619640" y="1052640"/>
            <a:ext cx="727236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Значение ц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1.Зеленые растения создают органические вещества из неорганичес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2.Цветок –видоизмененный побег , служащий для семенн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3.Лекарственн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4.Эсте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5. Корм живо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6. Растительный покров оказывает большое влияние на формирование климат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7.Почвообразовательные процессы и  повышение плодородия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1187640" y="764640"/>
            <a:ext cx="6840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3"/>
                </a:solidFill>
                <a:latin typeface="Gill Sans MT"/>
              </a:rPr>
              <a:t>Творческая работа</a:t>
            </a:r>
            <a:r>
              <a:rPr b="0" lang="ru-RU" sz="3600" spc="-1" strike="noStrike">
                <a:solidFill>
                  <a:schemeClr val="accent3"/>
                </a:solidFill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Gill Sans MT"/>
              </a:rPr>
              <a:t>Нарисовать цветок и на этом рисунке сочинить стихотворение, лозунг или призыв по охране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41400" y="-3926880"/>
            <a:ext cx="7812720" cy="83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accent3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accent3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lang="ru-RU" sz="2800" spc="-1" strike="noStrike">
                <a:solidFill>
                  <a:schemeClr val="accent3"/>
                </a:solidFill>
                <a:latin typeface="Arial"/>
                <a:ea typeface="Times New Roman"/>
              </a:rPr>
              <a:t>Итог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ята! Мы возвращаемся из путе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мы сегодня на уроке узн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гли   мы  цель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мотрите в свои маршрутные ли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те свою работу на уроке.(самооце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- А теперь я оценю вашу рабо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Задачи 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Образовательные: 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учить учащихся выделять основные части цветка: чашелистики, лепестки, тычинки, пестик; Понимать функции соцвет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2.Развивающие: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 развивать умения анализировать, разделять объект на части, делать выводы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3.Воспитательные: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 Формировать у учащихся любовь к природе, учить заботиться о ней, понимать ее красоту и ценность для человек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1654920" y="-3104640"/>
            <a:ext cx="5833440" cy="666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стр.44-4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ть сообщение о раст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chemeClr val="accent3"/>
                </a:solidFill>
                <a:latin typeface="Arial"/>
                <a:ea typeface="Times New Roman"/>
              </a:rPr>
              <a:t>Красной книги Алтайского  кр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                  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ефлексия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Group 2"/>
          <p:cNvGrpSpPr/>
          <p:nvPr/>
        </p:nvGrpSpPr>
        <p:grpSpPr>
          <a:xfrm>
            <a:off x="900000" y="1484640"/>
            <a:ext cx="2447280" cy="2381400"/>
            <a:chOff x="900000" y="1484640"/>
            <a:chExt cx="2447280" cy="2381400"/>
          </a:xfrm>
        </p:grpSpPr>
        <p:sp>
          <p:nvSpPr>
            <p:cNvPr id="387" name="Oval 3"/>
            <p:cNvSpPr/>
            <p:nvPr/>
          </p:nvSpPr>
          <p:spPr>
            <a:xfrm>
              <a:off x="900000" y="1484640"/>
              <a:ext cx="2447280" cy="2304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8" name="Oval 4"/>
            <p:cNvSpPr/>
            <p:nvPr/>
          </p:nvSpPr>
          <p:spPr>
            <a:xfrm>
              <a:off x="1456560" y="2205000"/>
              <a:ext cx="22212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Oval 5"/>
            <p:cNvSpPr/>
            <p:nvPr/>
          </p:nvSpPr>
          <p:spPr>
            <a:xfrm>
              <a:off x="2568960" y="2205000"/>
              <a:ext cx="22212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0" name="Arc 6"/>
            <p:cNvSpPr/>
            <p:nvPr/>
          </p:nvSpPr>
          <p:spPr>
            <a:xfrm rot="7972200">
              <a:off x="1672200" y="2532960"/>
              <a:ext cx="959760" cy="1167840"/>
            </a:xfrm>
            <a:custGeom>
              <a:avLst/>
              <a:gdLst>
                <a:gd name="textAreaLeft" fmla="*/ 0 w 959760"/>
                <a:gd name="textAreaRight" fmla="*/ 960120 w 95976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1" name="Arc 7"/>
            <p:cNvSpPr/>
            <p:nvPr/>
          </p:nvSpPr>
          <p:spPr>
            <a:xfrm rot="18453000">
              <a:off x="2634480" y="2052000"/>
              <a:ext cx="166680" cy="2811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2" name="Arc 8"/>
            <p:cNvSpPr/>
            <p:nvPr/>
          </p:nvSpPr>
          <p:spPr>
            <a:xfrm flipH="1" rot="3147000">
              <a:off x="1435680" y="2041560"/>
              <a:ext cx="143640" cy="32616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3" name="AutoShape 9"/>
            <p:cNvSpPr/>
            <p:nvPr/>
          </p:nvSpPr>
          <p:spPr>
            <a:xfrm>
              <a:off x="2012760" y="2349000"/>
              <a:ext cx="33336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394" name="Group 10"/>
          <p:cNvGrpSpPr/>
          <p:nvPr/>
        </p:nvGrpSpPr>
        <p:grpSpPr>
          <a:xfrm>
            <a:off x="3636000" y="1484640"/>
            <a:ext cx="2231280" cy="2304360"/>
            <a:chOff x="3636000" y="1484640"/>
            <a:chExt cx="2231280" cy="2304360"/>
          </a:xfrm>
        </p:grpSpPr>
        <p:sp>
          <p:nvSpPr>
            <p:cNvPr id="395" name="Oval 11"/>
            <p:cNvSpPr/>
            <p:nvPr/>
          </p:nvSpPr>
          <p:spPr>
            <a:xfrm>
              <a:off x="3636000" y="1484640"/>
              <a:ext cx="2231280" cy="2304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6" name="Oval 12"/>
            <p:cNvSpPr/>
            <p:nvPr/>
          </p:nvSpPr>
          <p:spPr>
            <a:xfrm>
              <a:off x="4143240" y="2205000"/>
              <a:ext cx="20268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7" name="Oval 13"/>
            <p:cNvSpPr/>
            <p:nvPr/>
          </p:nvSpPr>
          <p:spPr>
            <a:xfrm>
              <a:off x="5157360" y="2205000"/>
              <a:ext cx="20268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8" name="AutoShape 14"/>
            <p:cNvSpPr/>
            <p:nvPr/>
          </p:nvSpPr>
          <p:spPr>
            <a:xfrm>
              <a:off x="4650480" y="2349000"/>
              <a:ext cx="30384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>
              <a:off x="4244400" y="3357000"/>
              <a:ext cx="10144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0" name="Line 16"/>
            <p:cNvSpPr/>
            <p:nvPr/>
          </p:nvSpPr>
          <p:spPr>
            <a:xfrm>
              <a:off x="4092120" y="2144880"/>
              <a:ext cx="3045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5131800" y="2132640"/>
              <a:ext cx="3045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02" name="Group 18"/>
          <p:cNvGrpSpPr/>
          <p:nvPr/>
        </p:nvGrpSpPr>
        <p:grpSpPr>
          <a:xfrm>
            <a:off x="6660360" y="1484640"/>
            <a:ext cx="2160000" cy="2596680"/>
            <a:chOff x="6660360" y="1484640"/>
            <a:chExt cx="2160000" cy="2596680"/>
          </a:xfrm>
        </p:grpSpPr>
        <p:sp>
          <p:nvSpPr>
            <p:cNvPr id="403" name="Oval 19"/>
            <p:cNvSpPr/>
            <p:nvPr/>
          </p:nvSpPr>
          <p:spPr>
            <a:xfrm>
              <a:off x="6660360" y="1484640"/>
              <a:ext cx="2160000" cy="233928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7151040" y="2215800"/>
              <a:ext cx="19620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5" name="Oval 21"/>
            <p:cNvSpPr/>
            <p:nvPr/>
          </p:nvSpPr>
          <p:spPr>
            <a:xfrm>
              <a:off x="8133120" y="2215800"/>
              <a:ext cx="19620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6" name="Arc 22"/>
            <p:cNvSpPr/>
            <p:nvPr/>
          </p:nvSpPr>
          <p:spPr>
            <a:xfrm flipV="1" rot="13627800">
              <a:off x="7277760" y="2858040"/>
              <a:ext cx="974520" cy="103068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-360 h 1030680"/>
                <a:gd name="textAreaBottom" fmla="*/ 1030680 h 10306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7" name="Arc 23"/>
            <p:cNvSpPr/>
            <p:nvPr/>
          </p:nvSpPr>
          <p:spPr>
            <a:xfrm rot="18453000">
              <a:off x="8190720" y="2061000"/>
              <a:ext cx="146880" cy="2854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8" name="Arc 24"/>
            <p:cNvSpPr/>
            <p:nvPr/>
          </p:nvSpPr>
          <p:spPr>
            <a:xfrm flipH="1" rot="3147000">
              <a:off x="7123680" y="2072160"/>
              <a:ext cx="145800" cy="287640"/>
            </a:xfrm>
            <a:custGeom>
              <a:avLst/>
              <a:gdLst>
                <a:gd name="textAreaLeft" fmla="*/ -360 w 145800"/>
                <a:gd name="textAreaRight" fmla="*/ 145800 w 14580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09" name="AutoShape 25"/>
            <p:cNvSpPr/>
            <p:nvPr/>
          </p:nvSpPr>
          <p:spPr>
            <a:xfrm>
              <a:off x="7642080" y="2362320"/>
              <a:ext cx="294120" cy="584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10" name="Text Box 26"/>
          <p:cNvSpPr/>
          <p:nvPr/>
        </p:nvSpPr>
        <p:spPr>
          <a:xfrm>
            <a:off x="539640" y="4005360"/>
            <a:ext cx="2518920" cy="1223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всё по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довольн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7"/>
          <p:cNvSpPr/>
          <p:nvPr/>
        </p:nvSpPr>
        <p:spPr>
          <a:xfrm>
            <a:off x="3492360" y="4149720"/>
            <a:ext cx="2374560" cy="1726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я у меня получалось не всё, но я довольна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6227640" y="4076640"/>
            <a:ext cx="2520720" cy="15123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е грустно,  у меня не всё получалось, я допустила много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2"/>
                </a:solidFill>
                <a:latin typeface="Gill Sans MT"/>
              </a:rPr>
              <a:t>Спасибо за урок!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AutoShape 2"/>
          <p:cNvSpPr/>
          <p:nvPr/>
        </p:nvSpPr>
        <p:spPr>
          <a:xfrm>
            <a:off x="1819440" y="1847880"/>
            <a:ext cx="5256000" cy="48747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905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3132000" y="2997360"/>
            <a:ext cx="2673000" cy="252684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635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619640" y="1052640"/>
            <a:ext cx="7272360" cy="68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Gill Sans MT"/>
              </a:rPr>
              <a:t>Значение цв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1.Зеленые растения создают органические вещества из неорганичес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2.Цветок –видоизмененный побег , служащий для семенн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3.Лекарственн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4.Эсте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5. Корм живо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6. Растительный покров оказывает большое влияние на формирование климат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7.Почвообразовательные процессы и  повышение плодородия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59640" y="1412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Маршрутный лист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475640" y="1340640"/>
            <a:ext cx="2304000" cy="2482200"/>
            <a:chOff x="1475640" y="1340640"/>
            <a:chExt cx="2304000" cy="2482200"/>
          </a:xfrm>
        </p:grpSpPr>
        <p:sp>
          <p:nvSpPr>
            <p:cNvPr id="200" name="Oval 3"/>
            <p:cNvSpPr/>
            <p:nvPr/>
          </p:nvSpPr>
          <p:spPr>
            <a:xfrm>
              <a:off x="1475640" y="1340640"/>
              <a:ext cx="2304000" cy="244836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1999440" y="2106000"/>
              <a:ext cx="209160" cy="152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2" name="Oval 5"/>
            <p:cNvSpPr/>
            <p:nvPr/>
          </p:nvSpPr>
          <p:spPr>
            <a:xfrm>
              <a:off x="3046680" y="2106000"/>
              <a:ext cx="209160" cy="152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3" name="Arc 6"/>
            <p:cNvSpPr/>
            <p:nvPr/>
          </p:nvSpPr>
          <p:spPr>
            <a:xfrm rot="7972200">
              <a:off x="2144160" y="2525400"/>
              <a:ext cx="1019880" cy="1099440"/>
            </a:xfrm>
            <a:custGeom>
              <a:avLst/>
              <a:gdLst>
                <a:gd name="textAreaLeft" fmla="*/ 0 w 1019880"/>
                <a:gd name="textAreaRight" fmla="*/ 1020240 w 101988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4" name="Arc 7"/>
            <p:cNvSpPr/>
            <p:nvPr/>
          </p:nvSpPr>
          <p:spPr>
            <a:xfrm rot="18453000">
              <a:off x="3108600" y="1943640"/>
              <a:ext cx="156600" cy="2988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5" name="Arc 8"/>
            <p:cNvSpPr/>
            <p:nvPr/>
          </p:nvSpPr>
          <p:spPr>
            <a:xfrm flipH="1" rot="3147000">
              <a:off x="1971360" y="1952280"/>
              <a:ext cx="152640" cy="306720"/>
            </a:xfrm>
            <a:custGeom>
              <a:avLst/>
              <a:gdLst>
                <a:gd name="textAreaLeft" fmla="*/ 360 w 152640"/>
                <a:gd name="textAreaRight" fmla="*/ 153360 w 1526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2522880" y="2259000"/>
              <a:ext cx="313920" cy="611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4284000" y="1412640"/>
            <a:ext cx="2088000" cy="2304000"/>
            <a:chOff x="4284000" y="1412640"/>
            <a:chExt cx="2088000" cy="2304000"/>
          </a:xfrm>
        </p:grpSpPr>
        <p:sp>
          <p:nvSpPr>
            <p:cNvPr id="208" name="Oval 11"/>
            <p:cNvSpPr/>
            <p:nvPr/>
          </p:nvSpPr>
          <p:spPr>
            <a:xfrm>
              <a:off x="4284000" y="1412640"/>
              <a:ext cx="2088000" cy="23040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4758480" y="2133000"/>
              <a:ext cx="18936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0" name="Oval 13"/>
            <p:cNvSpPr/>
            <p:nvPr/>
          </p:nvSpPr>
          <p:spPr>
            <a:xfrm>
              <a:off x="5707800" y="2133000"/>
              <a:ext cx="189360" cy="143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>
              <a:off x="5233320" y="2277000"/>
              <a:ext cx="284400" cy="57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4853160" y="3284640"/>
              <a:ext cx="949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4710960" y="2072520"/>
              <a:ext cx="2847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5683680" y="2060640"/>
              <a:ext cx="2847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6804360" y="1412640"/>
            <a:ext cx="2016000" cy="2573640"/>
            <a:chOff x="6804360" y="1412640"/>
            <a:chExt cx="2016000" cy="2573640"/>
          </a:xfrm>
        </p:grpSpPr>
        <p:sp>
          <p:nvSpPr>
            <p:cNvPr id="216" name="Oval 19"/>
            <p:cNvSpPr/>
            <p:nvPr/>
          </p:nvSpPr>
          <p:spPr>
            <a:xfrm>
              <a:off x="6804360" y="1412640"/>
              <a:ext cx="2016000" cy="233964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7262640" y="2144160"/>
              <a:ext cx="18288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8178840" y="2144160"/>
              <a:ext cx="182880" cy="145800"/>
            </a:xfrm>
            <a:prstGeom prst="ellipse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9" name="Arc 22"/>
            <p:cNvSpPr/>
            <p:nvPr/>
          </p:nvSpPr>
          <p:spPr>
            <a:xfrm flipV="1" rot="13627800">
              <a:off x="7347960" y="2820960"/>
              <a:ext cx="974520" cy="96192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360 h 961920"/>
                <a:gd name="textAreaBottom" fmla="*/ 962640 h 96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0" name="Arc 23"/>
            <p:cNvSpPr/>
            <p:nvPr/>
          </p:nvSpPr>
          <p:spPr>
            <a:xfrm rot="18453000">
              <a:off x="8232840" y="1989000"/>
              <a:ext cx="137160" cy="2854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1" name="Arc 24"/>
            <p:cNvSpPr/>
            <p:nvPr/>
          </p:nvSpPr>
          <p:spPr>
            <a:xfrm flipH="1" rot="3147000">
              <a:off x="7232040" y="2009520"/>
              <a:ext cx="145800" cy="268560"/>
            </a:xfrm>
            <a:custGeom>
              <a:avLst/>
              <a:gdLst>
                <a:gd name="textAreaLeft" fmla="*/ -360 w 145800"/>
                <a:gd name="textAreaRight" fmla="*/ 145800 w 1458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2" name="AutoShape 25"/>
            <p:cNvSpPr/>
            <p:nvPr/>
          </p:nvSpPr>
          <p:spPr>
            <a:xfrm>
              <a:off x="7720560" y="2290320"/>
              <a:ext cx="274680" cy="584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3" name="Text Box 26"/>
          <p:cNvSpPr/>
          <p:nvPr/>
        </p:nvSpPr>
        <p:spPr>
          <a:xfrm>
            <a:off x="1259640" y="4005360"/>
            <a:ext cx="2160000" cy="1223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6732360" y="4076640"/>
            <a:ext cx="2016000" cy="15123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47948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462560" y="91440"/>
            <a:ext cx="21888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923200" y="1440"/>
            <a:ext cx="26377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Биологический диктант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Побегом называют стебель с расположенными на нём …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На верхушке побега обычно имеется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Почки бывают вегетативными и 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то такое почка 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Внешнее строение листа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 Внутреннее строение листа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ие листья называют простыми ? пример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Какие листья называют сложными ? пример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Динамическая сигнальна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система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33" name="Содержимое 4"/>
          <p:cNvGraphicFramePr/>
          <p:nvPr/>
        </p:nvGraphicFramePr>
        <p:xfrm>
          <a:off x="1434960" y="1447920"/>
          <a:ext cx="7499160" cy="478908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  <a:gridCol w="1499760"/>
              </a:tblGrid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accent3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accent4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5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2520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9360">
                      <a:solidFill>
                        <a:srgbClr val="c32d2e"/>
                      </a:solidFill>
                    </a:lnL>
                    <a:lnR w="9360">
                      <a:solidFill>
                        <a:srgbClr val="c32d2e"/>
                      </a:solidFill>
                    </a:lnR>
                    <a:lnT w="9360">
                      <a:solidFill>
                        <a:srgbClr val="c32d2e"/>
                      </a:solidFill>
                    </a:lnT>
                    <a:lnB w="9360">
                      <a:solidFill>
                        <a:srgbClr val="c32d2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абота с учебником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45920" y="1484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зовите части цветка, покажите на муляж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ая часть цветка окрашена в разные цвета?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Какие части цветка главные?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Что образуется в утолщенной части тычинок?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-Что образуется из нижней части пестика?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88</TotalTime>
  <Application>LibreOffice/7.4.7.2$Linux_X86_64 LibreOffice_project/40$Build-2</Application>
  <AppVersion>15.0000</AppVersion>
  <Words>77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0:52:07Z</dcterms:created>
  <dc:creator>1</dc:creator>
  <dc:description/>
  <dc:language>en-US</dc:language>
  <cp:lastModifiedBy>Windows User</cp:lastModifiedBy>
  <dcterms:modified xsi:type="dcterms:W3CDTF">2020-08-28T11:27:11Z</dcterms:modified>
  <cp:revision>199</cp:revision>
  <dc:subject/>
  <dc:title>Тема урока: «Цветок. типы соцветий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524510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PresentationFormat">
    <vt:lpwstr>Экран (4:3)</vt:lpwstr>
  </property>
  <property fmtid="{D5CDD505-2E9C-101B-9397-08002B2CF9AE}" pid="6" name="Slides">
    <vt:r8>32</vt:r8>
  </property>
</Properties>
</file>