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3429-519E-4760-B5AA-84EC02AC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1304-CE84-4F61-903B-96462A92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DB09-8EC1-466E-BE05-A74C64AD6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EA3C-2FCB-4D56-AEAB-251C650AB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A42A-D9CE-4FCC-A7F4-562E87341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7696F-D348-446C-999B-3D44A304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5FCD-CE06-4D7C-B39A-32F9476E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FF01-9B55-4559-81FE-CF9A23F5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96E9-5806-4122-8108-813123D3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1C6A-4005-4227-95E5-A04718B3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6EB7-DD9D-470D-86DE-81073C2B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0EC0-ED0F-4EED-B9A5-18F532C3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8222-DA25-4B75-98E3-6F5CEBE3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0252-4DA5-4576-86F3-544B7761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03DD-C408-4CD9-A7FE-379AD54C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72C8-05A7-405F-BB3B-86F365BEA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7100-ECA4-4F36-8361-20FF723FF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A022-905C-4C23-8D62-9DCE9211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3937-3B7E-436E-8D95-8DAFDD3A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F0B2-5B93-4D68-9C6F-7602CE9A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AC53-436D-437D-BAA5-71BDC4F7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2956-84E1-4636-8BC6-DD4FFAFB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2F7A-CED8-4A56-9096-321C0C75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667A-ADD4-4DAE-BEAB-1D7C8BDE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52AA-86F6-4CE3-876F-ACC8A3C874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F7B1-D29E-4FA5-A55A-1A5596C1F1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slide" Target="slide28.xml"/><Relationship Id="rId6" Type="http://schemas.openxmlformats.org/officeDocument/2006/relationships/slide" Target="slide29.xml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0000" y="105228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Проблемное обучение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492360" y="3716280"/>
            <a:ext cx="1917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Типы проблемной</a:t>
            </a:r>
            <a:br>
              <a:rPr sz="4400"/>
            </a:b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 ситуац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64800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1. « Затруднение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2. « Удивление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651640" y="2997360"/>
            <a:ext cx="287964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71276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Пробле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Проблема должна быть посильной, т. 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не слишком трудной для решения (иначе она не вызовет интереса и учащиеся попытаются обойти её) и не слишком лёгкой (лёгкие проблемы быстро решаются и недостаточно активизируют мыслительную деятельность учащихся или вовсе не воспринимаются как проблемы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Пути решения проблем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Побуждающий диало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Подводящий диало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Побуждающий диалог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ahoma"/>
              </a:rPr>
              <a:t>Побуждающий диалог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 – это бульдозер. Он подталкивает ребенка к прыжку через пропасть к неизвестному. Это рискованно, в полете легко сбиться с курса и попасть не туд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Признаки побуждающего диалог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догадк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скачок к неизвестному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переживание учеником риск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неожиданные ответ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диалог может быть прекращён с появлением нужной мысли учени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Подводящий диалог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ahoma"/>
              </a:rPr>
              <a:t>Подводящий диалог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 – это локомотив, который от станции к станции, медленно, но верно везет своих пассажиров к пункту назнач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Признаки подводящего диалог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жёсткий пошаговый ход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переживание учеником открытия в итоговой стади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отсутствие неожиданных ответов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идёт до конц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6000" y="214200"/>
            <a:ext cx="80280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Алгоритм подготовки уро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1. Тема урока, новое знание (и его тип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2. Постановка проблем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3. Поиск реш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4. Продуктивные задания на воспроизведение знани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Продуктивные зад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ahoma"/>
              </a:rPr>
              <a:t>1 тип.</a:t>
            </a: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  На формулирование (темы,                                              вопросов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ahoma"/>
              </a:rPr>
              <a:t>2 тип</a:t>
            </a: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. На составление опорного       сигнала (схемы, таблицы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ahoma"/>
              </a:rPr>
              <a:t>3 тип</a:t>
            </a: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. На выражение нового знания в художественной форме (метафоры, загадки, стихотворения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Художественная фор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7640" y="2017800"/>
            <a:ext cx="88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Запомните эти простые явления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Из твердого в жидкое 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это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плавление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Обратный процесс, обратите внимание, -        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отвердевание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А как по-другому? (Уже не сенсация!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- Процесс называется –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кристаллизация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3454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Проблемное обуч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Организация учебных занятий, которая предполагает создание под руководством учителя проблемных ситуаций и активную самостоятельную деятельность учащихся по их разрешению, в результате чего  происходит творческое овладение знаниями, навыками, умениями и развитие мыслительных способност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Методы П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монологическ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рассуждающ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диалогическ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4" action="ppaction://hlinksldjump"/>
              </a:rPr>
              <a:t>эвристическ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5" action="ppaction://hlinksldjump"/>
              </a:rPr>
              <a:t>исследовательск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6" action="ppaction://hlinksldjump"/>
              </a:rPr>
              <a:t>программированн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Технология ПО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Обеспечивает высокое качество усвоения зна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Развивает интеллек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Способствует развитию творческих способност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Воспитывает активную лич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Является здоровьесберегающей технологией (снижает риск стресса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“</a:t>
            </a: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Подводные камни</a:t>
            </a: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Эту технологию можно использовать только в сильных классах, с высокой культурой общ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Можно «уйти в сторону», увлекаясь творческой деятельностью и упуская сущность изучаемых явле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4360" y="1699920"/>
            <a:ext cx="7416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ahoma"/>
              </a:rPr>
              <a:t>« Не пытайтесь объяснить ребёнку то, до чего он может додуматься сам. Дайте возможность каждому ребёнку сделать своё маленькое открытие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ahoma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ahoma"/>
              </a:rPr>
              <a:t>                           </a:t>
            </a:r>
            <a:r>
              <a:rPr b="1" i="1" lang="en-US" sz="3200" spc="-1" strike="noStrike">
                <a:solidFill>
                  <a:srgbClr val="0000ff"/>
                </a:solidFill>
                <a:latin typeface="Tahoma"/>
              </a:rPr>
              <a:t>Э.И. Александро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110360" y="404640"/>
            <a:ext cx="16653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Монологический мето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8920" y="2017800"/>
            <a:ext cx="877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Учитель сам объясняет сущность новых понятий, фактов; даёт учащимся готовые выводы науки, но делается это в условиях проблемной ситуа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>
            <a:hlinkClick r:id="" action="ppaction://hlinkshowjump?jump=previousslide"/>
          </p:cNvPr>
          <p:cNvSpPr/>
          <p:nvPr/>
        </p:nvSpPr>
        <p:spPr>
          <a:xfrm>
            <a:off x="8101080" y="602136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10800"/>
                </a:moveTo>
                <a:lnTo>
                  <a:pt x="18994" y="3794"/>
                </a:lnTo>
                <a:lnTo>
                  <a:pt x="18994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Рассуждающий мето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2017440"/>
            <a:ext cx="89647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ahoma"/>
              </a:rPr>
              <a:t>Первый вариант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– создав проблемную ситуацию, учитель анализирует фактический материал, делает выводы и обобщ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ahoma"/>
              </a:rPr>
              <a:t>Второй вариант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– излагая тему, учитель идёт путём поиска и открытия учёного, т. е.   создаёт искусственную логику научного поиска путём построения суждений и умозаключений на основе логики познавательного процесс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>
            <a:hlinkClick r:id="" action="ppaction://hlinkshowjump?jump=previousslide"/>
          </p:cNvPr>
          <p:cNvSpPr/>
          <p:nvPr/>
        </p:nvSpPr>
        <p:spPr>
          <a:xfrm>
            <a:off x="810108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10800"/>
                </a:moveTo>
                <a:lnTo>
                  <a:pt x="20902" y="3794"/>
                </a:lnTo>
                <a:lnTo>
                  <a:pt x="20902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Диалогический мето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2017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Представляет диалог учителя с коллективом учащихс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Учитель, в созданной им проблемной ситуации, сам ставит проблему и решает её, но с помощью учащихся. Учащиеся участвуют в постановке проблемы, выдвижении предположений и доказательстве гипотез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>
            <a:hlinkClick r:id="" action="ppaction://hlinkshowjump?jump=previousslide"/>
          </p:cNvPr>
          <p:cNvSpPr/>
          <p:nvPr/>
        </p:nvSpPr>
        <p:spPr>
          <a:xfrm>
            <a:off x="7885080" y="6021360"/>
            <a:ext cx="790560" cy="647640"/>
          </a:xfrm>
          <a:custGeom>
            <a:avLst/>
            <a:gdLst>
              <a:gd name="textAreaLeft" fmla="*/ 41760 w 790560"/>
              <a:gd name="textAreaRight" fmla="*/ 748800 w 790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364" h="21600">
                <a:moveTo>
                  <a:pt x="0" y="0"/>
                </a:moveTo>
                <a:lnTo>
                  <a:pt x="26364" y="0"/>
                </a:lnTo>
                <a:lnTo>
                  <a:pt x="26364" y="21600"/>
                </a:lnTo>
                <a:lnTo>
                  <a:pt x="0" y="21600"/>
                </a:lnTo>
                <a:close/>
              </a:path>
              <a:path fill="lightenLess" w="26364" h="21600">
                <a:moveTo>
                  <a:pt x="0" y="0"/>
                </a:moveTo>
                <a:lnTo>
                  <a:pt x="26364" y="0"/>
                </a:lnTo>
                <a:lnTo>
                  <a:pt x="24964" y="1400"/>
                </a:lnTo>
                <a:lnTo>
                  <a:pt x="1400" y="1400"/>
                </a:lnTo>
                <a:close/>
              </a:path>
              <a:path fill="darken" w="26364" h="21600">
                <a:moveTo>
                  <a:pt x="26364" y="0"/>
                </a:moveTo>
                <a:lnTo>
                  <a:pt x="26364" y="21600"/>
                </a:lnTo>
                <a:lnTo>
                  <a:pt x="24964" y="20200"/>
                </a:lnTo>
                <a:lnTo>
                  <a:pt x="24964" y="1400"/>
                </a:lnTo>
                <a:close/>
              </a:path>
              <a:path fill="darkenLess" w="26364" h="21600">
                <a:moveTo>
                  <a:pt x="26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64" y="20200"/>
                </a:lnTo>
                <a:close/>
              </a:path>
              <a:path fill="lighten" w="26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64" h="21600">
                <a:moveTo>
                  <a:pt x="6176" y="10800"/>
                </a:moveTo>
                <a:lnTo>
                  <a:pt x="20188" y="3794"/>
                </a:lnTo>
                <a:lnTo>
                  <a:pt x="20188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Эвристический мето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76597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открытие нового закона или правила совершается не учителем при участии учащихся, а самими учащимися под руководством и с помощью учител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7667640" y="587700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10800"/>
                </a:moveTo>
                <a:lnTo>
                  <a:pt x="20212" y="3794"/>
                </a:lnTo>
                <a:lnTo>
                  <a:pt x="20212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9930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Исследовательский мето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2017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Организуется учителем путём постановки перед учащимися теоретических и практических исследовательских заданий, имеющих высокий уровень проблемности. Ученик совершает логические операции самостоятельно, раскрывая сущность нового понятия и нового способа действ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7956720" y="6093000"/>
            <a:ext cx="718920" cy="50472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760" h="21600">
                <a:moveTo>
                  <a:pt x="0" y="0"/>
                </a:moveTo>
                <a:lnTo>
                  <a:pt x="30760" y="0"/>
                </a:lnTo>
                <a:lnTo>
                  <a:pt x="30760" y="21600"/>
                </a:lnTo>
                <a:lnTo>
                  <a:pt x="0" y="21600"/>
                </a:lnTo>
                <a:close/>
              </a:path>
              <a:path fill="lightenLess" w="30760" h="21600">
                <a:moveTo>
                  <a:pt x="0" y="0"/>
                </a:moveTo>
                <a:lnTo>
                  <a:pt x="30760" y="0"/>
                </a:lnTo>
                <a:lnTo>
                  <a:pt x="29360" y="1400"/>
                </a:lnTo>
                <a:lnTo>
                  <a:pt x="1400" y="1400"/>
                </a:lnTo>
                <a:close/>
              </a:path>
              <a:path fill="darken" w="30760" h="21600">
                <a:moveTo>
                  <a:pt x="30760" y="0"/>
                </a:moveTo>
                <a:lnTo>
                  <a:pt x="30760" y="21600"/>
                </a:lnTo>
                <a:lnTo>
                  <a:pt x="29360" y="20200"/>
                </a:lnTo>
                <a:lnTo>
                  <a:pt x="29360" y="1400"/>
                </a:lnTo>
                <a:close/>
              </a:path>
              <a:path fill="darkenLess" w="30760" h="21600">
                <a:moveTo>
                  <a:pt x="30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60" y="20200"/>
                </a:lnTo>
                <a:close/>
              </a:path>
              <a:path fill="lighten" w="30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60" h="21600">
                <a:moveTo>
                  <a:pt x="8374" y="10800"/>
                </a:moveTo>
                <a:lnTo>
                  <a:pt x="22387" y="3794"/>
                </a:lnTo>
                <a:lnTo>
                  <a:pt x="22387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1280" y="214200"/>
            <a:ext cx="81723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Программированный мето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8920" y="2017800"/>
            <a:ext cx="877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Учащиеся с помощью подготовленных дидактических средств приобретают новые знания и новые действ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>
            <a:hlinkClick r:id="" action="ppaction://hlinkshowjump?jump=previousslide"/>
          </p:cNvPr>
          <p:cNvSpPr/>
          <p:nvPr/>
        </p:nvSpPr>
        <p:spPr>
          <a:xfrm>
            <a:off x="7885080" y="6021360"/>
            <a:ext cx="790560" cy="576360"/>
          </a:xfrm>
          <a:custGeom>
            <a:avLst/>
            <a:gdLst>
              <a:gd name="textAreaLeft" fmla="*/ 37080 w 790560"/>
              <a:gd name="textAreaRight" fmla="*/ 753480 w 7905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22" h="21600">
                <a:moveTo>
                  <a:pt x="0" y="0"/>
                </a:moveTo>
                <a:lnTo>
                  <a:pt x="29622" y="0"/>
                </a:lnTo>
                <a:lnTo>
                  <a:pt x="29622" y="21600"/>
                </a:lnTo>
                <a:lnTo>
                  <a:pt x="0" y="21600"/>
                </a:lnTo>
                <a:close/>
              </a:path>
              <a:path fill="lightenLess" w="29622" h="21600">
                <a:moveTo>
                  <a:pt x="0" y="0"/>
                </a:moveTo>
                <a:lnTo>
                  <a:pt x="29622" y="0"/>
                </a:lnTo>
                <a:lnTo>
                  <a:pt x="28222" y="1400"/>
                </a:lnTo>
                <a:lnTo>
                  <a:pt x="1400" y="1400"/>
                </a:lnTo>
                <a:close/>
              </a:path>
              <a:path fill="darken" w="29622" h="21600">
                <a:moveTo>
                  <a:pt x="29622" y="0"/>
                </a:moveTo>
                <a:lnTo>
                  <a:pt x="29622" y="21600"/>
                </a:lnTo>
                <a:lnTo>
                  <a:pt x="28222" y="20200"/>
                </a:lnTo>
                <a:lnTo>
                  <a:pt x="28222" y="1400"/>
                </a:lnTo>
                <a:close/>
              </a:path>
              <a:path fill="darkenLess" w="29622" h="21600">
                <a:moveTo>
                  <a:pt x="29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22" y="20200"/>
                </a:lnTo>
                <a:close/>
              </a:path>
              <a:path fill="lighten" w="29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22" h="21600">
                <a:moveTo>
                  <a:pt x="7805" y="10800"/>
                </a:moveTo>
                <a:lnTo>
                  <a:pt x="21818" y="3794"/>
                </a:lnTo>
                <a:lnTo>
                  <a:pt x="21818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Цель П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Приобретение знаний, умений и навык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Формирование познавательной самостоятельности учащихс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Развитие творческих способност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Девиз П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23640" y="1915920"/>
            <a:ext cx="6759720" cy="36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«открывать знания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вместе с детьми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216036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Структура проблемного уро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I.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Организационный момен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1. Включение детей в деятельнос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2. Выделение содержательной обла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II.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Актуализация знан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1. Воспроизведение  понятий, необходимых и достаточных для «открытия» нового зн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2. Фиксирование затруднения в деятельности по известной  норм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Структура проблемного уро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60" y="2017440"/>
            <a:ext cx="8955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III.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Постановка учебной пробл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1. Определение затруднения и его мест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2. Определение необходимости нового зн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IV.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«Открытие» учащимися нового зн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1. Выдвижение гипотез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2. Проверка гипотез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V.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Первичное закрепл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VI.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Структура проблемного уро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920" y="2017440"/>
            <a:ext cx="87757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VII.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 Повтор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1. Включение нового материала в систему знан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2. Решение задач на повторение и закрепление ранее изученного материа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VIII.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Итог уро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1. Рефлексия деятельности на урок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2. Самооценка учащимися собственной деятельно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Постановка учебной проблем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2017800"/>
            <a:ext cx="877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(формулирование вопроса дл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исследования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Путь к учебной проблеме лежит в создании </a:t>
            </a: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проблемной ситуации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7929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В основе проблемных заданий  содержатся</a:t>
            </a: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противоречи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991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между необходимостью и невозможностью выполнить требование учител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между двумя положениям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между ошибочным представлением учащихся и научным факт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14:23:53Z</dcterms:created>
  <dc:creator>USER</dc:creator>
  <dc:description/>
  <dc:language>en-US</dc:language>
  <cp:lastModifiedBy>SamLab.ws</cp:lastModifiedBy>
  <dcterms:modified xsi:type="dcterms:W3CDTF">2010-04-18T14:59:59Z</dcterms:modified>
  <cp:revision>8</cp:revision>
  <dc:subject/>
  <dc:title>Слайд 1</dc:title>
</cp:coreProperties>
</file>