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922-F6BB-4AC5-AA1C-4A2BF04C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976-6237-4BB1-A0F6-2903F33A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728-A68F-471C-A6FB-163BD733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7DD-7A08-427D-9EF2-5CA58823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592E-C2B2-4CDB-A1AC-D4B222FB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2BBA-122E-4711-95C0-C103FC14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FE5F-92B2-4696-A187-9B1E15D4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6550-EDEA-42E1-8AC9-0F3745A3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A59A-1C5D-449A-BF7E-4AEBBC93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4D68-B351-49AF-8BB5-D49A6C68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7433-2555-4210-9F5E-28EB7F42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F53-5D35-4356-BBF5-126D0DCC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00F7-2463-417B-9073-BC1731DB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A290-A8AA-4297-863D-1916354A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AF34-4A7E-4940-9280-3195D179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A760-2F64-4AD4-B595-6B5D2235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CA28-6927-42D7-9AF8-256E0642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0C2-4E7C-40FA-A293-8E38206F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2DC-4912-480F-85EC-E45D410B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70A-9C87-4B83-AAF0-FE060F14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D00-64C7-4782-AF8C-58F4E4F0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EAC-0C26-48D1-A8EB-EB07C394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66A-42E6-4679-8A30-77315D6F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24D-849E-41F4-85D6-B1F048AC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ADE0-5D3F-4FF8-9B5F-7DD9D39956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3FF8-3630-4FC8-9C87-76B43C4B03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Проблемное обучение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1917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Типы проблемной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ситу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6480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1. « Затруднение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2. « Удивление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51640" y="2997360"/>
            <a:ext cx="287964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1276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обл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роблема должна быть посильной, т. 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не слишком трудной для решения (иначе она не вызовет интереса и учащиеся попытаются обойти её) и не слишком лёгкой (лёгкие проблемы быстро решаются и недостаточно активизируют мыслительную деятельность учащихся или вовсе не воспринимаются как проблем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ути решения пробле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обуждающий диа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одводящий диа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обуждающий диало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ahoma"/>
              </a:rPr>
              <a:t>Побуждающий диалог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– это бульдозер. Он подталкивает ребенка к прыжку через пропасть к неизвестному. Это рискованно, в полете легко сбиться с курса и попасть не ту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изнаки побуждающего диало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догад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скачок к неизвестном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ереживание учеником рис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неожиданные отве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диалог может быть прекращён с появлением нужной мысли уче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одводящий диало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ahoma"/>
              </a:rPr>
              <a:t>Подводящий диалог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– это локомотив, который от станции к станции, медленно, но верно везет своих пассажиров к пункту назнач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изнаки подводящего диало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жёсткий пошаговый хо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ереживание учеником открытия в итоговой стад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тсутствие неожиданных ответ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идёт до кон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8028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Алгоритм подготовк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1. Тема урока, новое знание (и его тип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2. Постановка пробле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3. Поиск реш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Продуктивные задания на воспроизведение зна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одуктивные зад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ahoma"/>
              </a:rPr>
              <a:t>1 тип.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 На формулирование (темы,                                              вопросов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ahoma"/>
              </a:rPr>
              <a:t>2 тип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. На составление опорного       сигнала (схемы, таблицы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ahoma"/>
              </a:rPr>
              <a:t>3 тип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. На выражение нового знания в художественной форме (метафоры, загадки, стихотворения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Художественная фор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640" y="2017800"/>
            <a:ext cx="88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Запомните эти простые явлен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Из твердого в жидкое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это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плавление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Обратный процесс, обратите внимание, -      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твердевание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А как по-другому? (Уже не сенсация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- Процесс называется –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кристаллизация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3454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облемное обу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рганизация учебных занятий, которая предполагает создание под руководством учителя проблемных ситуаций и активную самостоятельную деятельность учащихся по их разрешению, в результате чего  происходит творческое овладение знаниями, навыками, умениями и развитие мыслительных спосо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Методы П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монологиче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рассуждающ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диалогиче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эвристиче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исследователь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программирован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Технология П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Обеспечивает высокое качество усвоения зна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азвивает интеллек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Способствует развитию творческих способнос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Воспитывает активную лич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Является здоровьесберегающей технологией (снижает риск стресс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Подводные камни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Эту технологию можно использовать только в сильных классах, с высокой культурой об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Можно «уйти в сторону», увлекаясь творческой деятельностью и упуская сущность изучаемых яв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« Не пытайтесь объяснить ребёнку то, до чего он может додуматься сам. Дайте возможность каждому ребёнку сделать своё маленькое открыти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               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Э.И. Александр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110360" y="404640"/>
            <a:ext cx="1665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Монологическ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Учитель сам объясняет сущность новых понятий, фактов; даёт учащимся готовые выводы науки, но делается это в условиях проблемной ситу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810108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Рассуждающ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ahoma"/>
              </a:rPr>
              <a:t>Первый вариант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– создав проблемную ситуацию, учитель анализирует фактический материал, делает выводы и обобщ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ahoma"/>
              </a:rPr>
              <a:t>Второй вариант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– излагая тему, учитель идёт путём поиска и открытия учёного, т. е.   создаёт искусственную логику научного поиска путём построения суждений и умозаключений на основе логики познавательного процесс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8101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Диалогическ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Представляет диалог учителя с коллективом учащих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Учитель, в созданной им проблемной ситуации, сам ставит проблему и решает её, но с помощью учащихся. Учащиеся участвуют в постановке проблемы, выдвижении предположений и доказательстве гипотез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885080" y="6021360"/>
            <a:ext cx="790560" cy="64764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364" h="21600">
                <a:moveTo>
                  <a:pt x="0" y="0"/>
                </a:moveTo>
                <a:lnTo>
                  <a:pt x="26364" y="0"/>
                </a:lnTo>
                <a:lnTo>
                  <a:pt x="26364" y="21600"/>
                </a:lnTo>
                <a:lnTo>
                  <a:pt x="0" y="21600"/>
                </a:lnTo>
                <a:close/>
              </a:path>
              <a:path fill="lightenLess" w="26364" h="21600">
                <a:moveTo>
                  <a:pt x="0" y="0"/>
                </a:moveTo>
                <a:lnTo>
                  <a:pt x="26364" y="0"/>
                </a:lnTo>
                <a:lnTo>
                  <a:pt x="24964" y="1400"/>
                </a:lnTo>
                <a:lnTo>
                  <a:pt x="1400" y="1400"/>
                </a:lnTo>
                <a:close/>
              </a:path>
              <a:path fill="darken" w="26364" h="21600">
                <a:moveTo>
                  <a:pt x="26364" y="0"/>
                </a:moveTo>
                <a:lnTo>
                  <a:pt x="26364" y="21600"/>
                </a:lnTo>
                <a:lnTo>
                  <a:pt x="24964" y="20200"/>
                </a:lnTo>
                <a:lnTo>
                  <a:pt x="24964" y="1400"/>
                </a:lnTo>
                <a:close/>
              </a:path>
              <a:path fill="darkenLess" w="26364" h="21600">
                <a:moveTo>
                  <a:pt x="2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4" y="20200"/>
                </a:lnTo>
                <a:close/>
              </a:path>
              <a:path fill="lighten" w="2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4" h="21600">
                <a:moveTo>
                  <a:pt x="6176" y="10800"/>
                </a:moveTo>
                <a:lnTo>
                  <a:pt x="20188" y="3794"/>
                </a:lnTo>
                <a:lnTo>
                  <a:pt x="2018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Эвристическ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659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ткрытие нового закона или правила совершается не учителем при участии учащихся, а самими учащимися под руководством и с помощью уч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7667640" y="5877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993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Исследовательск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Организуется учителем путём постановки перед учащимися теоретических и практических исследовательских заданий, имеющих высокий уровень проблемности. Ученик совершает логические операции самостоятельно, раскрывая сущность нового понятия и нового способа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956720" y="6093000"/>
            <a:ext cx="718920" cy="50472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60" h="21600">
                <a:moveTo>
                  <a:pt x="0" y="0"/>
                </a:moveTo>
                <a:lnTo>
                  <a:pt x="30760" y="0"/>
                </a:lnTo>
                <a:lnTo>
                  <a:pt x="30760" y="21600"/>
                </a:lnTo>
                <a:lnTo>
                  <a:pt x="0" y="21600"/>
                </a:lnTo>
                <a:close/>
              </a:path>
              <a:path fill="lightenLess" w="30760" h="21600">
                <a:moveTo>
                  <a:pt x="0" y="0"/>
                </a:moveTo>
                <a:lnTo>
                  <a:pt x="30760" y="0"/>
                </a:lnTo>
                <a:lnTo>
                  <a:pt x="29360" y="1400"/>
                </a:lnTo>
                <a:lnTo>
                  <a:pt x="1400" y="1400"/>
                </a:lnTo>
                <a:close/>
              </a:path>
              <a:path fill="darken" w="30760" h="21600">
                <a:moveTo>
                  <a:pt x="30760" y="0"/>
                </a:moveTo>
                <a:lnTo>
                  <a:pt x="30760" y="21600"/>
                </a:lnTo>
                <a:lnTo>
                  <a:pt x="29360" y="20200"/>
                </a:lnTo>
                <a:lnTo>
                  <a:pt x="29360" y="1400"/>
                </a:lnTo>
                <a:close/>
              </a:path>
              <a:path fill="darkenLess" w="30760" h="21600">
                <a:moveTo>
                  <a:pt x="30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60" y="20200"/>
                </a:lnTo>
                <a:close/>
              </a:path>
              <a:path fill="lighten" w="30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60" h="21600">
                <a:moveTo>
                  <a:pt x="8374" y="10800"/>
                </a:moveTo>
                <a:lnTo>
                  <a:pt x="22387" y="3794"/>
                </a:lnTo>
                <a:lnTo>
                  <a:pt x="22387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81723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ограммированны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Учащиеся с помощью подготовленных дидактических средств приобретают новые знания и новые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7885080" y="6021360"/>
            <a:ext cx="790560" cy="576360"/>
          </a:xfrm>
          <a:custGeom>
            <a:avLst/>
            <a:gdLst>
              <a:gd name="textAreaLeft" fmla="*/ 37080 w 790560"/>
              <a:gd name="textAreaRight" fmla="*/ 753480 w 7905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22" h="21600">
                <a:moveTo>
                  <a:pt x="0" y="0"/>
                </a:moveTo>
                <a:lnTo>
                  <a:pt x="29622" y="0"/>
                </a:lnTo>
                <a:lnTo>
                  <a:pt x="29622" y="21600"/>
                </a:lnTo>
                <a:lnTo>
                  <a:pt x="0" y="21600"/>
                </a:lnTo>
                <a:close/>
              </a:path>
              <a:path fill="lightenLess" w="29622" h="21600">
                <a:moveTo>
                  <a:pt x="0" y="0"/>
                </a:moveTo>
                <a:lnTo>
                  <a:pt x="29622" y="0"/>
                </a:lnTo>
                <a:lnTo>
                  <a:pt x="28222" y="1400"/>
                </a:lnTo>
                <a:lnTo>
                  <a:pt x="1400" y="1400"/>
                </a:lnTo>
                <a:close/>
              </a:path>
              <a:path fill="darken" w="29622" h="21600">
                <a:moveTo>
                  <a:pt x="29622" y="0"/>
                </a:moveTo>
                <a:lnTo>
                  <a:pt x="29622" y="21600"/>
                </a:lnTo>
                <a:lnTo>
                  <a:pt x="28222" y="20200"/>
                </a:lnTo>
                <a:lnTo>
                  <a:pt x="28222" y="1400"/>
                </a:lnTo>
                <a:close/>
              </a:path>
              <a:path fill="darkenLess" w="29622" h="21600">
                <a:moveTo>
                  <a:pt x="29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22" y="20200"/>
                </a:lnTo>
                <a:close/>
              </a:path>
              <a:path fill="lighten" w="29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22" h="21600">
                <a:moveTo>
                  <a:pt x="7805" y="10800"/>
                </a:moveTo>
                <a:lnTo>
                  <a:pt x="21818" y="3794"/>
                </a:lnTo>
                <a:lnTo>
                  <a:pt x="2181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Цель П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риобретение знаний, умений и навык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Формирование познавательной самостоятельности уча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Развитие творческих способнос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Девиз П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23640" y="1915920"/>
            <a:ext cx="675972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«открывать знания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вместе с детьм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21603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Структура проблемного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I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рганизационный момен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1. Включение детей в деятель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2. Выделение содержательной обла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I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Актуализация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1. Воспроизведение  понятий, необходимых и достаточных для «открытия» нового зн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2. Фиксирование затруднения в деятельности по известной  нор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Структура проблемного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II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Постановка учебной пробл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1. Определение затруднения и его мест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2. Определение необходимости нового зн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V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«Открытие» учащимися нового зн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1. Выдвижение гипоте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2. Проверка гипоте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Первичное закрепл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I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Структура проблемного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II.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Повтор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1. Включение нового материала в систему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2. Решение задач на повторение и закрепление ранее изученного матери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III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Итог уро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1. Рефлексия деятельности на уро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2. Самооценка учащимися собственной де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остановка учебной пробле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(формулирование вопроса д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исследовани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уть к учебной проблеме лежит в создании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проблемной ситуаци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929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В основе проблемных заданий  содержатся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отивореч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991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между необходимостью и невозможностью выполнить требование учител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между двумя положения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между ошибочным представлением учащихся и научным факт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4:23:53Z</dcterms:created>
  <dc:creator>USER</dc:creator>
  <dc:description/>
  <dc:language>en-US</dc:language>
  <cp:lastModifiedBy>SamLab.ws</cp:lastModifiedBy>
  <dcterms:modified xsi:type="dcterms:W3CDTF">2010-04-18T14:59:59Z</dcterms:modified>
  <cp:revision>8</cp:revision>
  <dc:subject/>
  <dc:title>Слайд 1</dc:title>
</cp:coreProperties>
</file>