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091A-A1D1-4FC4-BCC6-F78CE547F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E192-05F9-4038-9BC2-F59CB5FCB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060A-A82E-4920-B28D-6947D4963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0B55-5799-4463-AC71-AB163E7A7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D9AA1-3594-4D0A-A873-7AA8EB9E6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8CF83-1E62-41FA-8606-639F0249D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C1B98-E0AF-42DD-A279-BEAB17524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F6638-476E-41AF-B0DC-5190A0878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C56AA-04BB-4648-A6CC-0F8F98D3F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80C24-38C2-4BEC-B6D2-EA62F0424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C0CE2-9DE2-450F-8D8B-BAC210DF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2198-00A8-4617-B334-0E2ED6373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CAB41-429C-4895-B9A0-218B53B8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ACB05-EAAA-4490-B61F-D81AFD71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19CBD-9F4B-4B16-B33D-3271356FF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78712-BC1F-4771-A276-2C1855524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F38F5-F124-4ECE-8AAB-4EE154C61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09E41B-D9D7-4CE9-B6CB-EAF5D04BE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AEEA4F-A42D-4DA3-9DF9-5D5587513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846A4B-6E0C-4D12-B238-987215039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B9ECB9-E0C9-4F3D-81C5-F971DDE60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A3018A-29C4-47B3-AAAF-41C5B6C54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1F28-EC87-4406-B6EC-2AD162D37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09BA1D-6674-4AB4-AE23-D4ACA1CC1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D8BF76-32C9-4178-98AA-0D8F1907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000604-D026-4376-B1CD-829E7CE3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50F926-52FC-48C6-8228-8EB774AA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10B3FB-52B1-478D-859C-1A3EE221B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3B99D2-FEC4-494B-970F-E8632DDD6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3DCA1B-9AF2-4AC4-BE91-D82AD8D80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2EF69-022B-4882-96DA-9C76FA975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5B77D-CB65-44CA-B5DA-EB13E8E7E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9DB9D-44BB-4B2C-AD85-386AF0057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F23F-E858-4920-BF6E-CB3804A25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B0C21-163B-45B5-BF99-BECB4CCD1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61F85-E0B2-480F-9095-A53A1106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70B64-24AA-4B5A-8FF3-9996A0129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00C24-D3DC-4DB4-BD7D-ECF87151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FFC0D-5CB7-42CB-84FA-571A5EAC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FF859-CEF3-45BD-8950-6E9F3CA7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C81DE-154D-40BF-9423-24A1B73B4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0DBA5-3EEA-45F1-B545-5F181A989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2D02D-CD40-4683-B31F-51DE45574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A7E1F0-CD8F-4618-A727-F4A0D19B4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BD30-830B-40F7-975E-08AEC6283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C54239-26A9-4BD5-9A94-89B8350A1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6AF0FC-F28F-4AC8-9EE3-A1400195F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E394CF-F397-47AC-A19D-710840AC1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6F1949-F16C-4540-8A51-A3AEF57CF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639A51-4AB4-4A86-87BB-E4F88A61E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A0C1A3-612E-43DF-8F95-D42189CB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866A40-CA5B-4913-B719-06B599B5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E6F44A-A135-4B4D-827E-920DC7CE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E58948-02CA-4F55-999A-8DB7872F0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85E3BE-992F-4CF6-A9F1-A50E5F10B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20EA-C2C3-4DA0-959D-7F2DC901D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4FCC3A-C815-4998-AC36-D64D6C34E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3E6E56-2228-4BCA-AA17-3CA9926E0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6C4F31-B8AA-40F3-AFF2-8A77B7127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98C05E-4B21-4813-8520-EBFA6D709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2FF32F-2F21-4EE9-85AC-B26929276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5BE03C-CAB6-46B7-98E7-86B5CF5AC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1AB11A-7979-4ED2-9D97-C474C8F51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3D3A77-BA27-46B7-9442-69EDA0E2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98F932-8FC0-4D5E-85AA-1B2B4DF2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AA1071-5579-4F30-BBD4-F1AF66DA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89B4-60A3-451E-B4D9-E70FF473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486BEF-F1E3-4F8F-BBFD-DC06EE420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2E5585-010A-4D6D-935A-9FE1637A6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0D7F5B-155E-47AB-BFF9-ED370695E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16B858-29CC-42BB-8C6F-475BDD7D5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20C136-B647-4952-A789-FFEBA05CE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3047D4-CD19-4C8C-AAE8-E4480A45C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F3788F-2054-4D02-B978-7146F7B0D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D9E210-FB80-4447-B76C-4D3482B13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B298F9-314D-46DF-BAD3-9B153C64A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402759-CEA6-49FB-9E6F-83AB2B03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5BB9-B46A-4A90-97D2-CF76CDC4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7BCC48-6614-40FE-8554-9E6AD704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DF7FE5-1E67-4D23-A673-45191C9E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12637B-4884-4E9D-A48F-77F0A1B54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AEC564-FF95-42F5-A4D4-433505402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BD0B84-1212-467F-9F7C-8F4DFFB2D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C365-BEB2-4C80-84FB-F64297CD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08B36-C3EB-4512-BD0C-ECBC5D9D73F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4FBD8-5C8C-4E1F-BE8C-6B8844D85C9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09484-2376-4556-9864-FB55688CCDC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B8419-0EA3-46CC-BCC5-00F6A06CD63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B10DA-D408-46FA-BC49-919A5A43B3D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7D126-49A4-404D-A68C-1CA9408A215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98A39-252A-4B83-82FF-828E6E37707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ПРОБЛЕМЫ ДИСТАНЦИОННО</a:t>
            </a:r>
            <a:r>
              <a:rPr b="1" lang="en-US" sz="3000" spc="-1" strike="noStrike">
                <a:solidFill>
                  <a:srgbClr val="575f6d"/>
                </a:solidFill>
                <a:latin typeface="Arial"/>
              </a:rPr>
              <a:t>ГО</a:t>
            </a: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 ОБУЧЕ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АВТОРЫ, РАБОТАЮЩИЕ НАД ПРОБЛЕМОЙ ДИСТАНЦИОННОГО ОБУЧЕ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Е.С. Полат, М.В. Моисеева, А.Е.  Петров «Педагогические технологии дистанционного обучения»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В.И. Овсянников « Дистанционное образование. Теоретические проблемы и противоречия»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С.А. Шенников «Открытое дистанционное образование»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И. М. Ибрагимов «Информационные технологии средства дистанционного обучения»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Г.А. Краснова, М.И. Беляев, А.В. Соловьев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« Технология создания электронных обучающих средств»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ОТЛИЧИЕ ДИСТАНЦИОННОГО ОБУЧЕНИЯ ОТ ЗАОЧНОЙ (КОРРЕСПОНДЕНТСКОЙ) ФОРМЫ ОБУЧЕНИЯ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В дистанционной форме практикуются совместные виды деятельности учащихся в малых группах сотрудничеств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Практикуются систематические обсуждения всей группой рассматриваемых проблем, возникающих затруднений, просто интересных предложений в интерактивном режиме в форуме, чате, видеоконференци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Используются  методы совместной исследовательской творческой работ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Формы и виды контроля разнообразне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СИСТЕМА ОБУЧЕ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8" name="Содержимое 3" descr=""/>
          <p:cNvPicPr/>
          <p:nvPr/>
        </p:nvPicPr>
        <p:blipFill>
          <a:blip r:embed="rId1"/>
          <a:stretch/>
        </p:blipFill>
        <p:spPr>
          <a:xfrm>
            <a:off x="450720" y="1584360"/>
            <a:ext cx="748044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ОПРЕДЕЛЕНИЕ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истанционная форма обучения- специфичный процесс, который строится , как и любой другой, в соответствии с логикой познавательной деятельности, но реализуется средствами интернет -технологий, видео конференций, интерактивного телевидения, другими интерактивными средствам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КОНЦЕПЦИИ УЧЕБНОГО ПРОЦЕСС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2" name="Содержимое 3" descr=""/>
          <p:cNvPicPr/>
          <p:nvPr/>
        </p:nvPicPr>
        <p:blipFill>
          <a:blip r:embed="rId1"/>
          <a:stretch/>
        </p:blipFill>
        <p:spPr>
          <a:xfrm>
            <a:off x="438120" y="993600"/>
            <a:ext cx="75056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МОДЕЛИ ДИСТАНЦИОННОГО ОБУЧЕ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нтеграция очных и дистанционных форм обуче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етевое обучени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одель интеграции интернет и кейс- технологи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чебный процесс на основе видеосвязи: компьютерных видеоконференций, интерактивного телевиде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ОСНОВНЫЕ ПРИНЦИП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6" name="Содержимое 3" descr=""/>
          <p:cNvPicPr/>
          <p:nvPr/>
        </p:nvPicPr>
        <p:blipFill>
          <a:blip r:embed="rId1"/>
          <a:stretch/>
        </p:blipFill>
        <p:spPr>
          <a:xfrm>
            <a:off x="438120" y="1596960"/>
            <a:ext cx="754236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АДРЕСА САЙТОВ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d2611c"/>
                </a:solidFill>
                <a:uFillTx/>
                <a:latin typeface="Century Schoolbook"/>
              </a:rPr>
              <a:t>www.profile.edu.ru</a:t>
            </a:r>
            <a:r>
              <a:rPr b="0" lang="ru-RU" sz="1900" spc="-1" strike="noStrike" u="sng">
                <a:solidFill>
                  <a:srgbClr val="d2611c"/>
                </a:solidFill>
                <a:uFillTx/>
                <a:latin typeface="Century Schoolbook"/>
              </a:rPr>
              <a:t>-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d2611c"/>
                </a:solidFill>
                <a:uFillTx/>
                <a:latin typeface="Century Schoolbook"/>
              </a:rPr>
              <a:t>материалы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 по профильному обучению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d2611c"/>
                </a:solidFill>
                <a:uFillTx/>
                <a:latin typeface="Century Schoolbook"/>
              </a:rPr>
              <a:t>www.edu.ru</a:t>
            </a:r>
            <a:r>
              <a:rPr b="0" lang="ru-RU" sz="1900" spc="-1" strike="noStrike" u="sng">
                <a:solidFill>
                  <a:srgbClr val="d2611c"/>
                </a:solidFill>
                <a:uFillTx/>
                <a:latin typeface="Century Schoolbook"/>
              </a:rPr>
              <a:t>- федеральный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 портал Российского образования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d2611c"/>
                </a:solidFill>
                <a:uFillTx/>
                <a:latin typeface="Century Schoolbook"/>
              </a:rPr>
              <a:t>www.en.edu.ru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-  портал «Естественно -научное образование»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www.openet.edu.ru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 –портал открытого дистанционного образования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www.ege.edu.ru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-  портал информационной поддержки ЕГЭ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www.valeo.edu.ru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- специализированный портал «Здоровье и образование»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www.vidod.edu.ru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 – федеральный портал по дополнительному образованию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www.informika.ru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 – НИИ информационных  технологий и коммуникаций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www.fio.ru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 – портал Федерации «Интернет- образование»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23:00:06Z</dcterms:created>
  <dc:creator>user</dc:creator>
  <dc:description/>
  <dc:language>en-US</dc:language>
  <cp:lastModifiedBy>SamLab.ws</cp:lastModifiedBy>
  <dcterms:modified xsi:type="dcterms:W3CDTF">2010-02-25T08:44:32Z</dcterms:modified>
  <cp:revision>4</cp:revision>
  <dc:subject/>
  <dc:title>Проблемы дистанционное обучения</dc:title>
</cp:coreProperties>
</file>