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CE0-CD44-4DA4-BE2A-9353DFDB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79C-55AC-4A05-A5F2-9B07CA88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705-AE8F-4579-AA0D-209C9AB3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C00-5062-4451-86A6-0EC3887F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2718-0772-4A71-A4E2-78189265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949E-02DF-4834-8E31-3FCBAE78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EB1E-8F6C-41B9-9878-45D1C935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7E79-0427-4373-A592-6286DD81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CB63-AB00-42FE-95A6-C2D8FA82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CBE8-FEA6-4C32-AA92-0F5E0ED8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F4F8-A064-43E8-AB0E-69F4DD7D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7B2-E6F6-4DAC-89DE-72725EC5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98B9-AF2D-4212-80A7-F793CF3C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8B84-3CE5-468F-8DF8-C68B4739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EEC1-1B15-4C5B-A450-3FF0A560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E1C7-EE7E-43E2-A790-1CA79770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6EE8-85A5-4306-8801-D4680FCF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827CA-B528-419D-9EF0-16C90580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D9FDF-3798-41C6-ADCB-85635A0C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97CB7-E85D-4DE3-A5F8-AC59D990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ECEC4-8293-4C6F-BD41-F76A5204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567AB-9E93-4320-A5BC-13C9957E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EAE-933B-42CD-BB75-4520B909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403F5-AF39-43C0-B9C2-70384770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D3474-0D92-4B45-B54D-A3A312D6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005CB-A4BA-471E-83E7-9A7E668F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9FB22-5B1B-4C10-8C4F-1BA86ED1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CD5EA-E96F-4F4A-9290-2F8E6816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861E9-C3DC-4CFD-870F-C25BD282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25F0E-8114-4315-81A2-77736D7D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57EB-80FB-4186-9C04-A7955BAC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FB8E8-F30E-4DB9-B45C-E7187AF5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AC7FE-4AFF-4CCB-AC61-AF916979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E37-9385-4A8C-84BD-5BDDF64A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F4271-22CF-4E1D-A6F2-B632F959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6975D-CAEF-45FB-B115-AC6903D4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D6BCA-5B3D-4848-B612-1FBFB24A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34E4E-E3B1-4525-BC0B-EB545D27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DD77F-37B3-4124-87DC-9787AAA5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1E76C-B4CB-4306-9CC7-4C4963CA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097A3-861A-400F-A019-CE3F3EF3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7D467-660B-4F06-A858-AA746F43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61844-3B28-40FA-A119-A736A64F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BE4E2-1385-4E99-8B52-02BF3D1B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DD2-03C6-4440-8235-5D84081E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54783-0100-4E8A-91BE-314E18FF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E7757-233A-43F4-962E-C2B35429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92511-3C7F-4BCA-8E06-315E8513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50ED4-26EF-4C8E-8DB0-5AC5E17E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53DF8-958B-41B5-943E-AF28F726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8E08A-4BDC-465C-A4A6-E2B709B9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D06A5-CB7E-44CD-A494-A0F17A20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DA031-5E92-40C1-8C69-73D31C93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7DA6D-4CBD-4C6F-8AD7-B77848AF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08EEA-C5DC-4C85-A339-A5F17710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AC4-044C-4F3D-9C6C-668B2D77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139E4-4B98-440C-A0A2-7358D69A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61CA0-2C07-41D7-9ABE-BBA1871B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3F616E-A95A-46C5-9197-96189299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B9E57-BC1D-4554-8C4D-A1C90387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7EA65-B4E0-4955-8FC6-C0AE68EE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71B21-7E72-4A3A-90AA-D38A7F5B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23DA8-AE92-440C-B621-8B4A7716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137A9-C5F5-4E73-9447-72673BE7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F0F491-AC23-4F14-BDB4-0A03062E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AF5F7-DD94-4100-B8B9-CED46F03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505-BDD6-457F-99CE-65BB0BA2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96CBD-1C85-479E-8E2B-DAAE360E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CA692-BEC3-41E3-86DD-3BF6AC43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DEC2E-67DF-443F-9B55-27C9EC9A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3CFC59-F15C-4EAB-8089-95AA61E7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660D5-F333-469E-9F95-698EE13E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62831-73F5-4C95-B471-5B0CDA09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52EA0-2DA6-4059-81E6-CFCA90AD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F2776-0858-40CE-ACB8-CECFDCE9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35F9C7-936D-49E1-821C-C75D7D36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5A3DC-CBD2-4449-A616-517F6888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463-33F8-4F7A-A03F-954216EA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2BDF7-5E73-4974-A562-505173C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A1734-7712-46D8-9E8A-CF5B367A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3530E0-940E-4934-B560-CD2CAD51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09EAB9-E04B-4331-AA4E-FD44C3D2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FE3A9-1B02-4339-BDD3-FF4AB3B6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1D3-4C52-4146-9926-5E7A176A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2A23-809E-4B58-94E7-0B980D8F5B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2EC0-02A5-4E83-BDE2-6D52A97632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7C68-47B9-4E31-8DEC-0103BF1364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65DF-C3F8-4F26-AD66-1B0D15ABE8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6B12-2B4D-4403-937B-AB34E47332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E8C6-FB63-4090-909F-D165105AFD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0BFF-A12E-49F7-A080-BD69B63990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ПРОБЛЕМЫ ДИСТАНЦИОННО</a:t>
            </a:r>
            <a:r>
              <a:rPr b="1" lang="en-US" sz="3000" spc="-1" strike="noStrike">
                <a:solidFill>
                  <a:srgbClr val="575f6d"/>
                </a:solidFill>
                <a:latin typeface="Arial"/>
              </a:rPr>
              <a:t>ГО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ОБУЧ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АВТОРЫ, РАБОТАЮЩИЕ НАД ПРОБЛЕМОЙ ДИСТАНЦИОННОГО ОБУЧ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Е.С. Полат, М.В. Моисеева, А.Е.  Петров «Педагогические технологии дистанционного обучения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.И. Овсянников « Дистанционное образование. Теоретические проблемы и противоречия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.А. Шенников «Открытое дистанционное образование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. М. Ибрагимов «Информационные технологии средства дистанционного обучения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Г.А. Краснова, М.И. Беляев, А.В. Соловьев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« Технология создания электронных обучающих средств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ОТЛИЧИЕ ДИСТАНЦИОННОГО ОБУЧЕНИЯ ОТ ЗАОЧНОЙ (КОРРЕСПОНДЕНТСКОЙ) ФОРМЫ ОБУЧЕ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 дистанционной форме практикуются совместные виды деятельности учащихся в малых группах сотрудниче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актикуются систематические обсуждения всей группой рассматриваемых проблем, возникающих затруднений, просто интересных предложений в интерактивном режиме в форуме, чате, видеоконферен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спользуются  методы совместной исследовательской творческой раб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ы и виды контроля разнообразне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СИСТЕМА ОБУЧ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74804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ОПРЕДЕЛ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станционная форма обучения- специфичный процесс, который строится , как и любой другой, в соответствии с логикой познавательной деятельности, но реализуется средствами интернет -технологий, видео конференций, интерактивного телевидения, другими интерактивными средств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КОНЦЕПЦИИ УЧЕБНОГО ПРОЦЕСС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Содержимое 3" descr=""/>
          <p:cNvPicPr/>
          <p:nvPr/>
        </p:nvPicPr>
        <p:blipFill>
          <a:blip r:embed="rId1"/>
          <a:stretch/>
        </p:blipFill>
        <p:spPr>
          <a:xfrm>
            <a:off x="438120" y="993600"/>
            <a:ext cx="7505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МОДЕЛИ ДИСТАНЦИОННОГО ОБУЧ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теграция очных и дистанционных форм обуч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тевое обуч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ель интеграции интернет и кейс- технолог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оцесс на основе видеосвязи: компьютерных видеоконференций, интерактивного телевид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ОСНОВНЫЕ ПРИНЦИП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75423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АДРЕСА САЙТ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d2611c"/>
                </a:solidFill>
                <a:uFillTx/>
                <a:latin typeface="Century Schoolbook"/>
              </a:rPr>
              <a:t>www.profile.edu.ru</a:t>
            </a:r>
            <a:r>
              <a:rPr b="0" lang="ru-RU" sz="1900" spc="-1" strike="noStrike" u="sng">
                <a:solidFill>
                  <a:srgbClr val="d2611c"/>
                </a:solidFill>
                <a:uFillTx/>
                <a:latin typeface="Century Schoolbook"/>
              </a:rPr>
              <a:t>-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d2611c"/>
                </a:solidFill>
                <a:uFillTx/>
                <a:latin typeface="Century Schoolbook"/>
              </a:rPr>
              <a:t>материалы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по профильному обучению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d2611c"/>
                </a:solidFill>
                <a:uFillTx/>
                <a:latin typeface="Century Schoolbook"/>
              </a:rPr>
              <a:t>www.edu.ru</a:t>
            </a:r>
            <a:r>
              <a:rPr b="0" lang="ru-RU" sz="1900" spc="-1" strike="noStrike" u="sng">
                <a:solidFill>
                  <a:srgbClr val="d2611c"/>
                </a:solidFill>
                <a:uFillTx/>
                <a:latin typeface="Century Schoolbook"/>
              </a:rPr>
              <a:t>- федеральный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портал Российского образовани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d2611c"/>
                </a:solidFill>
                <a:uFillTx/>
                <a:latin typeface="Century Schoolbook"/>
              </a:rPr>
              <a:t>www.en.edu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 портал «Естественно -научное образовани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www.openet.edu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–портал открытого дистанционного образовани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www.ege.edu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 портал информационной поддержки ЕГЭ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www.valeo.edu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специализированный портал «Здоровье и образовани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www.vidod.edu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– федеральный портал по дополнительному образованию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www.informika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– НИИ информационных  технологий и коммуникаций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www.fio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– портал Федерации «Интернет- образовани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3:00:06Z</dcterms:created>
  <dc:creator>user</dc:creator>
  <dc:description/>
  <dc:language>en-US</dc:language>
  <cp:lastModifiedBy>SamLab.ws</cp:lastModifiedBy>
  <dcterms:modified xsi:type="dcterms:W3CDTF">2010-02-25T08:44:32Z</dcterms:modified>
  <cp:revision>4</cp:revision>
  <dc:subject/>
  <dc:title>Проблемы дистанционное обучения</dc:title>
</cp:coreProperties>
</file>