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4D6-1C83-4874-8782-291F8113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156-0018-4B91-8A0C-0D8F490B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D37-D978-4D31-84E6-3560989C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028-973B-4097-9B69-54EDF8E0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6A3-AE72-45CC-BA75-32565D7E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AC5-9466-4AB4-8B74-B3C1604B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439-DA00-42B4-A174-FD041D5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A69-EA64-46F3-81AC-BD128A45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572-3E23-42D9-94F0-22E6273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BCD-F908-45C9-B4F3-8ED5399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C86-985D-4E13-B7BE-81477C9C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195-6FA4-49A0-A9B3-36305F34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2B0C-6712-4761-BA96-2BDF3AEC8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865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азноуровнева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техн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1720" y="2428920"/>
            <a:ext cx="76435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азвивающему обществу нужны современное образование, нравственные, предприимчивые люди, которые могут самостоятельно принимать решение выбора, способны к сотрудничеству, отличаются мобильностью, динамизмом, конструктивностью, готовы к межкультурному взаимодействию, обладающие чувством ответственности за судьбы страны, за ее социально-экономическое процветание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Аристотел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уровневая технология-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ая технология организации учебного процесса, в рамках которого предполагается разный уровень усвоения учебного материала , т.е. глубина и сложность одного и того же учебного материала различна в группах уровня А,Б, С, что дает возможность каждому ученику овладевать учебным материалом по отдельным предметам школьной программы на разном уровне (А,Б,С ),но не ниже базового, взависимости от способностей  и индивидуальных особенностей личности каждого учащегося; это технология , при которой за критерий оценки деятельности ученика принимаются его усилия по овладению этим материалом, творческому его применени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ы же, предписанные стандартами образования, остаются едины для всех уровней об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хема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63136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1" descr=""/>
          <p:cNvPicPr/>
          <p:nvPr/>
        </p:nvPicPr>
        <p:blipFill>
          <a:blip r:embed="rId1"/>
          <a:stretch/>
        </p:blipFill>
        <p:spPr>
          <a:xfrm>
            <a:off x="201600" y="208080"/>
            <a:ext cx="88390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хема 2" descr=""/>
          <p:cNvPicPr/>
          <p:nvPr/>
        </p:nvPicPr>
        <p:blipFill>
          <a:blip r:embed="rId1"/>
          <a:stretch/>
        </p:blipFill>
        <p:spPr>
          <a:xfrm>
            <a:off x="-115920" y="-6480"/>
            <a:ext cx="9217080" cy="113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10" descr=""/>
          <p:cNvPicPr/>
          <p:nvPr/>
        </p:nvPicPr>
        <p:blipFill>
          <a:blip r:embed="rId1"/>
          <a:stretch/>
        </p:blipFill>
        <p:spPr>
          <a:xfrm>
            <a:off x="341280" y="-12600"/>
            <a:ext cx="853452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5:19:09Z</dcterms:created>
  <dc:creator>BLACKEDITION</dc:creator>
  <dc:description/>
  <dc:language>en-US</dc:language>
  <cp:lastModifiedBy>BLACKEDITION</cp:lastModifiedBy>
  <dcterms:modified xsi:type="dcterms:W3CDTF">2007-01-13T18:30:14Z</dcterms:modified>
  <cp:revision>18</cp:revision>
  <dc:subject/>
  <dc:title>Разноуровневая технология</dc:title>
</cp:coreProperties>
</file>