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5E6-4E12-4A60-86B0-1CA05E17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4953-4D0B-4D8B-8C91-E2186B9D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263-3760-418A-B15A-6BE2612F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0F9-5B8C-4711-B111-0ADC41B7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815-CACE-4BC6-998F-CC5D0E85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E52-EBAC-4118-8A69-3DB0C9E0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0DB-FE21-436D-89BC-7E7D4808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585-8A04-4E64-8C61-87C458B6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8E2-4628-4564-9DCA-C6712377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B30-F683-4259-8F95-B1F5D349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4F0-C0D3-4E5F-96F3-A5C4ED4C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FDB-055B-4121-A7E1-D439143A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C8CE-45A8-4B42-B1C9-9601B4A313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788652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азноуровнева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техн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71720" y="2428920"/>
            <a:ext cx="76435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Развивающему обществу нужны современное образование, нравственные, предприимчивые люди, которые могут самостоятельно принимать решение выбора, способны к сотрудничеству, отличаются мобильностью, динамизмом, конструктивностью, готовы к межкультурному взаимодействию, обладающие чувством ответственности за судьбы страны, за ее социально-экономическое процветание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Аристотел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ноуровневая технология-э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ческая технология организации учебного процесса, в рамках которого предполагается разный уровень усвоения учебного материала , т.е. глубина и сложность одного и того же учебного материала различна в группах уровня А,Б, С, что дает возможность каждому ученику овладевать учебным материалом по отдельным предметам школьной программы на разном уровне (А,Б,С ),но не ниже базового, взависимости от способностей  и индивидуальных особенностей личности каждого учащегося; это технология , при которой за критерий оценки деятельности ученика принимаются его усилия по овладению этим материалом, творческому его применению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ы же, предписанные стандартами образования, остаются едины для всех уровней обуч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хема 2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631360" cy="60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хема 1" descr=""/>
          <p:cNvPicPr/>
          <p:nvPr/>
        </p:nvPicPr>
        <p:blipFill>
          <a:blip r:embed="rId1"/>
          <a:stretch/>
        </p:blipFill>
        <p:spPr>
          <a:xfrm>
            <a:off x="201600" y="208080"/>
            <a:ext cx="883908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хема 2" descr=""/>
          <p:cNvPicPr/>
          <p:nvPr/>
        </p:nvPicPr>
        <p:blipFill>
          <a:blip r:embed="rId1"/>
          <a:stretch/>
        </p:blipFill>
        <p:spPr>
          <a:xfrm>
            <a:off x="-115920" y="-6480"/>
            <a:ext cx="9217080" cy="113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хема 10" descr=""/>
          <p:cNvPicPr/>
          <p:nvPr/>
        </p:nvPicPr>
        <p:blipFill>
          <a:blip r:embed="rId1"/>
          <a:stretch/>
        </p:blipFill>
        <p:spPr>
          <a:xfrm>
            <a:off x="341280" y="-12600"/>
            <a:ext cx="853452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3T15:19:09Z</dcterms:created>
  <dc:creator>BLACKEDITION</dc:creator>
  <dc:description/>
  <dc:language>en-US</dc:language>
  <cp:lastModifiedBy>BLACKEDITION</cp:lastModifiedBy>
  <dcterms:modified xsi:type="dcterms:W3CDTF">2007-01-13T18:30:14Z</dcterms:modified>
  <cp:revision>18</cp:revision>
  <dc:subject/>
  <dc:title>Разноуровневая технология</dc:title>
</cp:coreProperties>
</file>