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38E-2CED-4754-B8B5-8DE62FC2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392-A8CE-414B-832F-C2718F6C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6C7-AF7D-4E36-9430-EC73E7C8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74E-7FD3-4CE8-9965-3ECFF141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C5F-94F7-4E32-A3D5-73E11A06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D99-7336-4CB2-8B04-C63F9697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787-5FA4-4E4A-A663-A731D1A9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45C-7543-42A2-B92B-2DC6CB46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55F-7E41-4E4C-8983-C97826A4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3B7-DDC5-401D-BC0D-08AFEAC8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102-0920-447A-A6A3-2124D6BB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689-5136-4860-863C-2AFDBC1B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E812-1FF9-462B-B4F3-A562DD53A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6948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Разноуровнев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solidFill>
            <a:srgbClr val="f7ada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        </a:t>
            </a:r>
            <a:r>
              <a:rPr b="1" i="1" lang="en-US" sz="2800" spc="-1" strike="noStrike">
                <a:solidFill>
                  <a:srgbClr val="000000"/>
                </a:solidFill>
                <a:latin typeface="comic"/>
              </a:rPr>
              <a:t>ТЕХНОЛОГИЧЕСКО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        </a:t>
            </a:r>
            <a:r>
              <a:rPr b="1" i="1" lang="en-US" sz="2800" spc="-1" strike="noStrike">
                <a:solidFill>
                  <a:srgbClr val="000000"/>
                </a:solidFill>
                <a:latin typeface="comic"/>
              </a:rPr>
              <a:t>ГУМАНИТАРНО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       </a:t>
            </a:r>
            <a:r>
              <a:rPr b="1" i="1" lang="en-US" sz="2800" spc="-1" strike="noStrike">
                <a:solidFill>
                  <a:srgbClr val="000000"/>
                </a:solidFill>
                <a:latin typeface="comic"/>
              </a:rPr>
              <a:t>ЕСТЕСТВЕННО-НАУЧ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98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998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498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998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498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35280" y="475920"/>
            <a:ext cx="50515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9baf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Forte"/>
              </a:rPr>
              <a:t>РАЗРАБОТКА ЧЁТКИХ ТРЕБОВАНИЙ ПО КАЖДОМУ ПРЕДМЕТУ, ИСХОДЯ ИЗ ЦЕЛЕЙ ОБУЧЕНИЯ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Forte"/>
              </a:rPr>
              <a:t>РАЗРАБОТКА КРИТЕРИЕВ УЧАЩИХСЯ ПО СООТВЕТСТВУЮЩЕМУ УРОВ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24360" y="76464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БОЛЬШОЕ КОЛИЧЕСТВО ПОДГОТ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ПОИСК  НОВЫХ ПЕДАГОГИЧЕСКИ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ОТРАБОТКА ФОРМ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СОТРУДНИЧЕСТВО С КОЛЛЕГАМИ ПО ГРУП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ИЗМЕНЕНИЕ ПСИХОЛОГИЧЕСКОЙ АТМОСФЕРЫ В КЛАССЕ НА БОЛЕЕ ДОБРОЖЕЛАТЕЛЬНУЮ И ДРУЖЕСТВЕ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9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5666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КЕТИРОВАНИЕ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КЕТИРОВАНИЕ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УСПЕВАЕМОСТИ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ХОДНОЕ ТЕС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50"/>
                            </p:stCondLst>
                            <p:childTnLst>
                              <p:par>
                                <p:cTn id="1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700"/>
                            </p:stCondLst>
                            <p:childTnLst>
                              <p:par>
                                <p:cTn id="1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60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Forte"/>
              </a:rPr>
              <a:t>АНКЕТА ДЛ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ОТНОШЕНИЕ К ПРЕДМ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КНИГИ ПО ПРЕДМЕТУ В Д. БИБЛИОТ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КТО ПОМОГАЕТ ГОТОВИТЬ Д.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ВРЕМЯ НА ПОДГОТОВКУ К УРО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КАК ТЕБЕ ДАЁТСЯ ЭТОТ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(ЛЕГКО, ТРУДНО, МНОГО ЗАУЧИВАТЬ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КАКИЕ ЗАДАНИЯ БОЛЬШЕ НРАВ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(ЗАДАЧИ, ПРИМЕРЫ, УПРАЖНЕНИЯ, СОЧИНЕНИЯ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МЕЧТАЕШЬ СВЯЗАТЬ ЖИЗНЬ С * ПРЕДМЕТО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5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Forte"/>
              </a:rPr>
              <a:t>АНКЕТА ДЛЯ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Forte"/>
              </a:rPr>
              <a:t>ОТНОШЕНИЕ К РАЗНОУРОВНЕВЫМ ГРУПП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Fort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Forte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Forte"/>
              </a:rPr>
              <a:t>В КАКОЙ ГРУППЕ ВЫ БЫ ХОТЕЛИ, ЧТОБЫ ОБУЧАЛСЯ ВАШ РЕБ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Fort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Forte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Forte"/>
              </a:rPr>
              <a:t>ТРУДНО, ЛЕГКО, КОМФОРТНО… ВАШЕМУ РЕБЁН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rt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500"/>
                            </p:stCondLst>
                            <p:childTnLst>
                              <p:par>
                                <p:cTn id="2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            И          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341360"/>
            <a:ext cx="3384720" cy="1562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СОСТАВ ГР. ОДНОРОД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УЧЕНИКИ ОД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ЗНАНИЙ И ОБУЧ-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1700280"/>
            <a:ext cx="532908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САМ УЧЕНИК СТАВИТ ОПРЕДЕЛЁН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ЦЕЛЬ И ПРИОБРЕТАЕТ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ОБЬЕКТИВНОЙ САМО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1080" y="5300640"/>
            <a:ext cx="863640" cy="266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117080" y="5445000"/>
            <a:ext cx="14436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260000" y="5300640"/>
            <a:ext cx="264960" cy="122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56720" y="5300640"/>
            <a:ext cx="9144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76000" y="5445000"/>
            <a:ext cx="69840" cy="122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117080" y="5300640"/>
            <a:ext cx="266760" cy="338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756720" y="5516640"/>
            <a:ext cx="71928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oadway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10476000" y="5299920"/>
            <a:ext cx="698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3284640"/>
            <a:ext cx="4176720" cy="2017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УЧАЩИЕСЯ СЛАБОЙ И СРЕД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ГРУППЫ НЕ ИСПЫТЫВАЮ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ТРУД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716280"/>
            <a:ext cx="424800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СИЛЬНЫЕ УЧАЩИЕСЯ МОГ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РЕАЛИЗОВАТЬ СЕБ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ПОЛНОЙ М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loud"/>
          <p:cNvSpPr/>
          <p:nvPr/>
        </p:nvSpPr>
        <p:spPr>
          <a:xfrm>
            <a:off x="3419640" y="5589720"/>
            <a:ext cx="2311200" cy="973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oadway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7:42:24Z</dcterms:created>
  <dc:creator>FuckYouBill</dc:creator>
  <dc:description/>
  <dc:language>en-US</dc:language>
  <cp:lastModifiedBy>FuckYouBill</cp:lastModifiedBy>
  <dcterms:modified xsi:type="dcterms:W3CDTF">2010-04-17T09:33:01Z</dcterms:modified>
  <cp:revision>2</cp:revision>
  <dc:subject/>
  <dc:title>Разноуровневое обучение</dc:title>
</cp:coreProperties>
</file>