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38B8-ECD4-469F-9EA5-73FFE8B65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CF45-87D1-4871-81DC-89A5103B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1D43-EDDC-4745-B057-67D02022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FBB5-018C-447E-9AFA-2C8B6114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3F0F-1B8F-4CE1-88B5-1635C9AD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EC7C-06DC-4B13-8FA2-3B3C29A9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7FD0-A8C0-4564-87C0-C9E1366B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9136-FE7C-466B-8E17-697B9205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7E4B-43EB-450F-88B4-F8362393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DECC-0622-4B19-A77D-1D97E692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92E4-516F-4407-A66F-897973D2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D235-A328-4239-B0AC-958836F6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290E-5025-4155-BC01-7EF81AFDE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6948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Разноуровневое обу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solidFill>
            <a:srgbClr val="f7ada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        </a:t>
            </a:r>
            <a:r>
              <a:rPr b="1" i="1" lang="en-US" sz="2800" spc="-1" strike="noStrike">
                <a:solidFill>
                  <a:srgbClr val="000000"/>
                </a:solidFill>
                <a:latin typeface="comic"/>
              </a:rPr>
              <a:t>ТЕХНОЛОГИЧЕСКОЕ 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        </a:t>
            </a:r>
            <a:r>
              <a:rPr b="1" i="1" lang="en-US" sz="2800" spc="-1" strike="noStrike">
                <a:solidFill>
                  <a:srgbClr val="000000"/>
                </a:solidFill>
                <a:latin typeface="comic"/>
              </a:rPr>
              <a:t>ГУМАНИТАРНОЕ 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       </a:t>
            </a:r>
            <a:r>
              <a:rPr b="1" i="1" lang="en-US" sz="2800" spc="-1" strike="noStrike">
                <a:solidFill>
                  <a:srgbClr val="000000"/>
                </a:solidFill>
                <a:latin typeface="comic"/>
              </a:rPr>
              <a:t>ЕСТЕСТВЕННО-НАУЧ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98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998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498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998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498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35280" y="475920"/>
            <a:ext cx="50515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9baf5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Forte"/>
              </a:rPr>
              <a:t>РАЗРАБОТКА ЧЁТКИХ ТРЕБОВАНИЙ ПО КАЖДОМУ ПРЕДМЕТУ, ИСХОДЯ ИЗ ЦЕЛЕЙ ОБУЧЕНИЯ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Forte"/>
              </a:rPr>
              <a:t>РАЗРАБОТКА КРИТЕРИЕВ УЧАЩИХСЯ ПО СООТВЕТСТВУЮЩЕМУ УРОВН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24360" y="76464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БОЛЬШОЕ КОЛИЧЕСТВО ПОДГОТО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ahoma"/>
              </a:rPr>
              <a:t>    </a:t>
            </a: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ПОИСК  НОВЫХ ПЕДАГОГИЧЕСКИ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ahoma"/>
              </a:rPr>
              <a:t>    </a:t>
            </a: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ОТРАБОТКА ФОРМ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ahoma"/>
              </a:rPr>
              <a:t>   </a:t>
            </a: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СОТРУДНИЧЕСТВО С КОЛЛЕГАМИ ПО ГРУПП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ahoma"/>
              </a:rPr>
              <a:t>   </a:t>
            </a: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ИЗМЕНЕНИЕ ПСИХОЛОГИЧЕСКОЙ АТМОСФЕРЫ В КЛАССЕ НА БОЛЕЕ ДОБРОЖЕЛАТЕЛЬНУЮ И ДРУЖЕСТВЕН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59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742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5666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КЕТИРОВАНИЕ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КЕТИРОВАНИЕ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АЛИЗ УСПЕВАЕМОСТИ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СХОДНОЕ ТЕС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50"/>
                            </p:stCondLst>
                            <p:childTnLst>
                              <p:par>
                                <p:cTn id="1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700"/>
                            </p:stCondLst>
                            <p:childTnLst>
                              <p:par>
                                <p:cTn id="1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600"/>
                            </p:stCondLst>
                            <p:childTnLst>
                              <p:par>
                                <p:cTn id="1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Forte"/>
              </a:rPr>
              <a:t>АНКЕТА ДЛЯ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ОТНОШЕНИЕ К ПРЕДМЕ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КНИГИ ПО ПРЕДМЕТУ В Д. БИБЛИОТЕ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КТО ПОМОГАЕТ ГОТОВИТЬ Д.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ВРЕМЯ НА ПОДГОТОВКУ К УРО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КАК ТЕБЕ ДАЁТСЯ ЭТОТ ПРЕД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(ЛЕГКО, ТРУДНО, МНОГО ЗАУЧИВАТЬ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КАКИЕ ЗАДАНИЯ БОЛЬШЕ НРАВЯ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(ЗАДАЧИ, ПРИМЕРЫ, УПРАЖНЕНИЯ, СОЧИНЕНИЯ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МЕЧТАЕШЬ СВЯЗАТЬ ЖИЗНЬ С * ПРЕДМЕТО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5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500"/>
                            </p:stCondLst>
                            <p:childTnLst>
                              <p:par>
                                <p:cTn id="1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Forte"/>
              </a:rPr>
              <a:t>АНКЕТА ДЛЯ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Forte"/>
              </a:rPr>
              <a:t>ОТНОШЕНИЕ К РАЗНОУРОВНЕВЫМ ГРУПП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Fort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Forte"/>
              </a:rPr>
              <a:t>  </a:t>
            </a:r>
            <a:r>
              <a:rPr b="1" lang="en-US" sz="2800" spc="-1" strike="noStrike">
                <a:solidFill>
                  <a:srgbClr val="800000"/>
                </a:solidFill>
                <a:latin typeface="Forte"/>
              </a:rPr>
              <a:t>В КАКОЙ ГРУППЕ ВЫ БЫ ХОТЕЛИ, ЧТОБЫ ОБУЧАЛСЯ ВАШ РЕБЁ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Fort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Forte"/>
              </a:rPr>
              <a:t>  </a:t>
            </a:r>
            <a:r>
              <a:rPr b="1" lang="en-US" sz="2800" spc="-1" strike="noStrike">
                <a:solidFill>
                  <a:srgbClr val="800000"/>
                </a:solidFill>
                <a:latin typeface="Forte"/>
              </a:rPr>
              <a:t>ТРУДНО, ЛЕГКО, КОМФОРТНО… ВАШЕМУ РЕБЁН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rt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500"/>
                            </p:stCondLst>
                            <p:childTnLst>
                              <p:par>
                                <p:cTn id="2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            И          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1341360"/>
            <a:ext cx="3384720" cy="1562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СОСТАВ ГР. ОДНОРОД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УЧЕНИКИ ОДНО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ЗНАНИЙ И ОБУЧ-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4000" y="1700280"/>
            <a:ext cx="5329080" cy="172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САМ УЧЕНИК СТАВИТ ОПРЕДЕЛЁН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ЦЕЛЬ И ПРИОБРЕТАЕТ ОП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ОБЬЕКТИВНОЙ САМООЦ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1080" y="5300640"/>
            <a:ext cx="863640" cy="266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117080" y="5445000"/>
            <a:ext cx="14436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260000" y="5300640"/>
            <a:ext cx="264960" cy="122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756720" y="5300640"/>
            <a:ext cx="9144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76000" y="5445000"/>
            <a:ext cx="69840" cy="122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117080" y="5300640"/>
            <a:ext cx="266760" cy="338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756720" y="5516640"/>
            <a:ext cx="71928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roadway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10476000" y="5299920"/>
            <a:ext cx="6984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3284640"/>
            <a:ext cx="4176720" cy="2017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УЧАЩИЕСЯ СЛАБОЙ И СРЕД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ГРУППЫ НЕ ИСПЫТЫВАЮ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ТРУД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716280"/>
            <a:ext cx="424800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СИЛЬНЫЕ УЧАЩИЕСЯ МОГ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РЕАЛИЗОВАТЬ СЕБЯ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ПОЛНОЙ М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loud"/>
          <p:cNvSpPr/>
          <p:nvPr/>
        </p:nvSpPr>
        <p:spPr>
          <a:xfrm>
            <a:off x="3419640" y="5589720"/>
            <a:ext cx="2311200" cy="973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roadway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7:42:24Z</dcterms:created>
  <dc:creator>FuckYouBill</dc:creator>
  <dc:description/>
  <dc:language>en-US</dc:language>
  <cp:lastModifiedBy>FuckYouBill</cp:lastModifiedBy>
  <dcterms:modified xsi:type="dcterms:W3CDTF">2010-04-17T09:33:01Z</dcterms:modified>
  <cp:revision>2</cp:revision>
  <dc:subject/>
  <dc:title>Разноуровневое обучение</dc:title>
</cp:coreProperties>
</file>