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81-D1BC-487C-8B0E-205F38FF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E4C-3832-49EA-B149-1B63091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E0B-5935-47F7-96EA-9433C43F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535-06EF-432C-AE94-B09EA9BE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53A-8DF9-4F5D-9CF4-A32DECA7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733-4F29-4796-9750-C797BE7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7220-903F-4674-BEA6-F93CF7E3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3F7-3623-417D-A7A6-D9E2B59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6E1B-982E-424E-AA60-89638DB0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FEA-922E-4DAF-8647-F1E6BF45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E29-E556-4E39-B27A-02D8D12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6C4-7997-449A-BEC0-9CF3DC7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2E5B-F770-4108-9FE3-F607CB7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3CC-8BDE-4C29-AEF3-82ABD52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0470-61D3-4813-977E-501F674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79B-93AB-4520-B00D-B1A9D7A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89F-E3D5-4C97-AD44-C3B5289F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CE6-2E21-4298-8740-5340B461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448-3508-40D9-8257-63142D2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B7-B994-4FF0-BDF1-E32A7521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255-1D2B-4C9D-B2EC-50D5314B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381-36AC-4B99-A3B7-9C77C79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9F1-4543-439D-A921-5D47672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B80-70A7-4E72-9AEE-26CF118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30C8-60F9-4E97-AAA4-A3AE270680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CF13-48F5-4BE2-BCCD-412C01364A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.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Хэшээлэй темэ: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З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гэй падеж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кст со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о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.п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залгалтатай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э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е ологты, залгалтыень заагты, асуудал табиг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гэн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ые 3 б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 болгожо хубаагт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м, хониндо, санын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дэ, шубуудай, саг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э, модоной, гэртэ, эдеэгэй, таряан, хилээмэндэ, хоол, ху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й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Жабар 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бгэнэй телеграмма</a:t>
            </a:r>
            <a:br>
              <a:rPr sz="4000"/>
            </a:b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(б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 б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оороо х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элнэ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энэ жэл.. би танда айлшалжа ерэхэб. Гулабхаа.. амтатай шэхэр , борбилоо.. таряа, турлааг.. ном бэлэг асархаб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II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. Хэшээлэй т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эсхэ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Д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н гаргалг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Гэрэй даабари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З.п. залгалтануудые ба асуудалнуудые сээжэлдэхэ,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арточкануудаар 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элхэ (разноуровневые задания))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Сэгнэлт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орилгонууд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ктическа: З.п. залгалтануудтай, асуудалнуудтай танилсуул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галгын: З.п. залгалтануудые з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 бэшэжэ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га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гын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доо шубуудые гамнаха,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хэ ажал ябуул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жоолгын: аман ба бэшэмэл хэлэлгэ, анхарал , ухаан бодол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жоохэ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онетическэ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орилг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Verdana"/>
              </a:rPr>
              <a:t>Таабар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алда шатадагг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анда шэнгэдэгг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Аман хэлэлгэ х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жоолгэ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оо газаа ямар саг бэ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азаа х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тэн г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а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ан ороно г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эрэй даабари шалгал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эртээ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шубууд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ухай таабаринуудые олоод, дэбтэртээ бэшээд ерэхэ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. З.п. залгалтануудай таблиц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484280"/>
          <a:ext cx="8280360" cy="470844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сууд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ялган ба хашалганай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ээ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гал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э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эндэ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ундэ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аана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ялгануу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ифтонгнуу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да. –до. –дэ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та. –то. –тэ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эн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тэ з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 залгалтануудые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абигты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гаа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убуу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убуу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э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х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Шубуудай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элжоо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о жэл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йтэ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 болобо. Шубуудта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дэ саг ерэбэ. Олон шубууд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йтэндэ хоол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ы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лобо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 модоор гэр хэжэ, х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д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гэбэ.Тэдэ хат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 хилээмээр ба таряагаар шубуудые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 нэ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Текст дээрэ х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дэлмэ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ун тухай энэ текст соо хэлэгдэнэб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ундэ шубуудта хоол дутабаб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 хайшан гэжэ шубуудта т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ааб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Юугээр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ээб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анар юугээр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дэгбта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мар шубууд газаатнай ниидэжэ ерэдэг бэ? Нэрлэгты. Хоорэжэ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эг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0:22:38Z</dcterms:created>
  <dc:creator>SamLab.ws</dc:creator>
  <dc:description/>
  <dc:language>en-US</dc:language>
  <cp:lastModifiedBy>SamLab.ws</cp:lastModifiedBy>
  <dcterms:modified xsi:type="dcterms:W3CDTF">2010-06-10T11:51:09Z</dcterms:modified>
  <cp:revision>46</cp:revision>
  <dc:subject/>
  <dc:title>ЗYгэй падеж</dc:title>
</cp:coreProperties>
</file>