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2259-8427-4590-97A5-2AE9C7003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4D74-0050-4800-B843-B24E8703A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8F77-6B72-49DE-96CD-8941401EA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E55C-BC58-4870-BEFC-ABDDC6FA0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AA820-C7ED-4174-B0B5-E4859A307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598C7-EF26-48D9-8A4B-37CD75EF7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9581B-5EFB-48A6-8AF1-CE898833B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E2539-72B1-4DF8-91CD-D7B889B9A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30515-ACAA-40F9-B4D6-C5A6CFBEE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55C80-CB69-4369-8004-5165D6A85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73F97-5D55-4367-A31A-843A1E436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1948-2720-44C1-94B6-1A097BB68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8B990-1CA2-469C-9997-21D3A649A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C6ABE-1DA6-4C28-9854-FE454150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FAABD-10A6-4917-90DD-174889B5B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D4D66-159C-453A-AE2D-C1FF41F77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DAF7B-30F4-4F71-8762-A849B8AF4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FA73-4B8E-4E6D-AB63-BD10CA312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385A-A80B-4695-987A-26B6999B6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787F-57B1-4997-B068-D63D13B06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4482-1309-41F9-9EEE-97517FF77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D60C-89C7-4FC0-BC4C-E5095511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9B80-F575-46F1-8F43-5892155B6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0FBF-C42F-4C30-909B-915FF07F5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F762F-7EB3-4A51-A840-3D1DF8AC52C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AA43E-D012-4CA6-9DE4-68CCD3DFEFB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br>
              <a:rPr sz="8000"/>
            </a:br>
            <a:br>
              <a:rPr sz="8000"/>
            </a:br>
            <a:r>
              <a:rPr b="0" lang="en-US" sz="8000" spc="-1" strike="noStrike">
                <a:solidFill>
                  <a:srgbClr val="ffff99"/>
                </a:solidFill>
                <a:latin typeface="Arial"/>
              </a:rPr>
              <a:t>I</a:t>
            </a:r>
            <a:r>
              <a:rPr b="0" lang="ru-RU" sz="8000" spc="-1" strike="noStrike">
                <a:solidFill>
                  <a:srgbClr val="ffff99"/>
                </a:solidFill>
                <a:latin typeface="Arial"/>
              </a:rPr>
              <a:t>.</a:t>
            </a:r>
            <a:br>
              <a:rPr sz="8000"/>
            </a:br>
            <a:br>
              <a:rPr sz="8000"/>
            </a:br>
            <a:br>
              <a:rPr sz="8000"/>
            </a:br>
            <a:br>
              <a:rPr sz="8000"/>
            </a:br>
            <a:br>
              <a:rPr sz="8000"/>
            </a:br>
            <a:br>
              <a:rPr sz="8000"/>
            </a:br>
            <a:br>
              <a:rPr sz="8000"/>
            </a:br>
            <a:br>
              <a:rPr sz="8000"/>
            </a:br>
            <a:br>
              <a:rPr sz="8000"/>
            </a:br>
            <a:r>
              <a:rPr b="0" lang="ru-RU" sz="8000" spc="-1" strike="noStrike">
                <a:solidFill>
                  <a:srgbClr val="ffff99"/>
                </a:solidFill>
                <a:latin typeface="Arial"/>
              </a:rPr>
              <a:t>Хэшээлэй темэ:</a:t>
            </a:r>
            <a:br>
              <a:rPr sz="8000"/>
            </a:br>
            <a:br>
              <a:rPr sz="8000"/>
            </a:br>
            <a:br>
              <a:rPr sz="8000"/>
            </a:br>
            <a:br>
              <a:rPr sz="8000"/>
            </a:br>
            <a:br>
              <a:rPr sz="8000"/>
            </a:br>
            <a:br>
              <a:rPr sz="8000"/>
            </a:br>
            <a:r>
              <a:rPr b="0" lang="ru-RU" sz="8000" spc="-1" strike="noStrike">
                <a:solidFill>
                  <a:srgbClr val="ffff99"/>
                </a:solidFill>
                <a:latin typeface="Arial"/>
              </a:rPr>
              <a:t>З</a:t>
            </a:r>
            <a:r>
              <a:rPr b="0" lang="en-US" sz="5400" spc="-1" strike="noStrike">
                <a:solidFill>
                  <a:srgbClr val="ffff99"/>
                </a:solidFill>
                <a:latin typeface="Arial"/>
              </a:rPr>
              <a:t>Y</a:t>
            </a:r>
            <a:r>
              <a:rPr b="0" lang="ru-RU" sz="8000" spc="-1" strike="noStrike">
                <a:solidFill>
                  <a:srgbClr val="ffff99"/>
                </a:solidFill>
                <a:latin typeface="Arial"/>
              </a:rPr>
              <a:t>гэй падеж</a:t>
            </a:r>
            <a:endParaRPr b="0" lang="en-US" sz="8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кст соо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о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з.п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залгалтатай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эн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YY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ые ологты, залгалтыень заагты, асуудал табигт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Y</a:t>
            </a:r>
            <a:r>
              <a:rPr b="1" lang="ru-RU" sz="4000" spc="-1" strike="noStrike">
                <a:solidFill>
                  <a:srgbClr val="ffff99"/>
                </a:solidFill>
                <a:latin typeface="Arial"/>
              </a:rPr>
              <a:t>гэн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YY</a:t>
            </a:r>
            <a:r>
              <a:rPr b="1" lang="ru-RU" sz="4000" spc="-1" strike="noStrike">
                <a:solidFill>
                  <a:srgbClr val="ffff99"/>
                </a:solidFill>
                <a:latin typeface="Arial"/>
              </a:rPr>
              <a:t>дые 3 б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Y</a:t>
            </a:r>
            <a:r>
              <a:rPr b="1" lang="ru-RU" sz="4000" spc="-1" strike="noStrike">
                <a:solidFill>
                  <a:srgbClr val="ffff99"/>
                </a:solidFill>
                <a:latin typeface="Arial"/>
              </a:rPr>
              <a:t>лэг болгожо хубаагты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м, хониндо, санын,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элдэ, шубуудай, саг,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хиб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YY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э, модоной, гэртэ, эдеэгэй, таряан, хилээмэндэ, хоол, ху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ай.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99"/>
                </a:solidFill>
                <a:latin typeface="Arial"/>
              </a:rPr>
              <a:t>Жабар </a:t>
            </a:r>
            <a:r>
              <a:rPr b="1" lang="ru-RU" sz="3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Y</a:t>
            </a:r>
            <a:r>
              <a:rPr b="1" lang="ru-RU" sz="4000" spc="-1" strike="noStrike">
                <a:solidFill>
                  <a:srgbClr val="ffff99"/>
                </a:solidFill>
                <a:latin typeface="Arial"/>
              </a:rPr>
              <a:t>бгэнэй телеграмма</a:t>
            </a:r>
            <a:br>
              <a:rPr sz="4000"/>
            </a:br>
            <a:r>
              <a:rPr b="1" lang="ru-RU" sz="4000" spc="-1" strike="noStrike">
                <a:solidFill>
                  <a:srgbClr val="ffff99"/>
                </a:solidFill>
                <a:latin typeface="Arial"/>
              </a:rPr>
              <a:t>(б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Y</a:t>
            </a:r>
            <a:r>
              <a:rPr b="1" lang="ru-RU" sz="4000" spc="-1" strike="noStrike">
                <a:solidFill>
                  <a:srgbClr val="ffff99"/>
                </a:solidFill>
                <a:latin typeface="Arial"/>
              </a:rPr>
              <a:t>лэг б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Y</a:t>
            </a:r>
            <a:r>
              <a:rPr b="1" lang="ru-RU" sz="4000" spc="-1" strike="noStrike">
                <a:solidFill>
                  <a:srgbClr val="ffff99"/>
                </a:solidFill>
                <a:latin typeface="Arial"/>
              </a:rPr>
              <a:t>лэгоороо х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Y</a:t>
            </a:r>
            <a:r>
              <a:rPr b="1" lang="ru-RU" sz="4000" spc="-1" strike="noStrike">
                <a:solidFill>
                  <a:srgbClr val="ffff99"/>
                </a:solidFill>
                <a:latin typeface="Arial"/>
              </a:rPr>
              <a:t>дэлнэ)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Шэнэ жэл.. би танда айлшалжа ерэхэб. Гулабхаа.. амтатай шэхэр , борбилоо.. таряа, турлааг.. ном бэлэг асархаб.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III</a:t>
            </a:r>
            <a:r>
              <a:rPr b="1" lang="ru-RU" sz="4400" spc="-1" strike="noStrike">
                <a:solidFill>
                  <a:srgbClr val="ffff99"/>
                </a:solidFill>
                <a:latin typeface="Arial"/>
              </a:rPr>
              <a:t>. Хэшээлэй т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Y</a:t>
            </a:r>
            <a:r>
              <a:rPr b="1" lang="ru-RU" sz="4400" spc="-1" strike="noStrike">
                <a:solidFill>
                  <a:srgbClr val="ffff99"/>
                </a:solidFill>
                <a:latin typeface="Arial"/>
              </a:rPr>
              <a:t>гэсхэл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ffff"/>
                </a:solidFill>
                <a:latin typeface="Verdana"/>
              </a:rPr>
              <a:t>Д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i="1" lang="ru-RU" sz="4800" spc="-1" strike="noStrike">
                <a:solidFill>
                  <a:srgbClr val="ffffff"/>
                </a:solidFill>
                <a:latin typeface="Verdana"/>
              </a:rPr>
              <a:t>н гаргалга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ffff"/>
                </a:solidFill>
                <a:latin typeface="Verdana"/>
              </a:rPr>
              <a:t>Гэрэй даабари</a:t>
            </a: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(З.п. залгалтануудые ба асуудалнуудые сээжэлдэхэ,</a:t>
            </a: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карточкануудаар х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дэлхэ (разноуровневые задания))</a:t>
            </a: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ffff"/>
                </a:solidFill>
                <a:latin typeface="Verdana"/>
              </a:rPr>
              <a:t>Сэгнэлтэ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Arial"/>
              </a:rPr>
              <a:t>Зорилгонууд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актическа: З.п. залгалтануудтай, асуудалнуудтай танилсуулх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ргалгын: З.п. залгалтануудые з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 бэшэжэ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ргах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YY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YY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гын: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элдоо шубуудые гамнаха, эдеэл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YY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хэ ажал ябуулх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жоолгын: аман ба бэшэмэл хэлэлгэ, анхарал , ухаан бодол х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жоохэ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Arial"/>
              </a:rPr>
              <a:t>Фонетическэ </a:t>
            </a: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h</a:t>
            </a:r>
            <a:r>
              <a:rPr b="1" lang="ru-RU" sz="4400" spc="-1" strike="noStrike">
                <a:solidFill>
                  <a:srgbClr val="ffff99"/>
                </a:solidFill>
                <a:latin typeface="Arial"/>
              </a:rPr>
              <a:t>орилго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              </a:t>
            </a:r>
            <a:r>
              <a:rPr b="0" i="1" lang="ru-RU" sz="4400" spc="-1" strike="noStrike">
                <a:solidFill>
                  <a:srgbClr val="ffffff"/>
                </a:solidFill>
                <a:latin typeface="Verdana"/>
              </a:rPr>
              <a:t>Таабари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Галда шатадагг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й,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У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h</a:t>
            </a: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анда шэнгэдэгг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й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Arial"/>
              </a:rPr>
              <a:t>Аман хэлэлгэ х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Y</a:t>
            </a:r>
            <a:r>
              <a:rPr b="1" lang="ru-RU" sz="4400" spc="-1" strike="noStrike">
                <a:solidFill>
                  <a:srgbClr val="ffff99"/>
                </a:solidFill>
                <a:latin typeface="Arial"/>
              </a:rPr>
              <a:t>гжоолгэ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М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ноо газаа ямар саг бэ?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Газаа х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йтэн г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Са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h</a:t>
            </a: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ан ороно г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Arial"/>
              </a:rPr>
              <a:t>Гэрэй даабари шалгалт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Гэртээ 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шубууд</a:t>
            </a: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 тухай таабаринуудые олоод, дэбтэртээ бэшээд ерэхэ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II</a:t>
            </a:r>
            <a:r>
              <a:rPr b="1" lang="ru-RU" sz="4000" spc="-1" strike="noStrike">
                <a:solidFill>
                  <a:srgbClr val="ffff99"/>
                </a:solidFill>
                <a:latin typeface="Arial"/>
              </a:rPr>
              <a:t>. З.п. залгалтануудай таблица</a:t>
            </a: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68360" y="1484280"/>
          <a:ext cx="8280360" cy="4708440"/>
        </p:xfrm>
        <a:graphic>
          <a:graphicData uri="http://schemas.openxmlformats.org/drawingml/2006/table">
            <a:tbl>
              <a:tblPr/>
              <a:tblGrid>
                <a:gridCol w="2070000"/>
                <a:gridCol w="2070000"/>
                <a:gridCol w="2070360"/>
                <a:gridCol w="2070000"/>
              </a:tblGrid>
              <a:tr h="230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паде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асууда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Аялган ба хашалганай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YY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лээ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залгалт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з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Y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гэ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паде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Хэндэ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Юундэ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Хаана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Аялгануу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Дифтонгнуу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да. –до. –дэ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та. –то. –тэ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Y</a:t>
            </a: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гэн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YY</a:t>
            </a: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дтэ з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Y</a:t>
            </a: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б залгалтануудые</a:t>
            </a:r>
            <a:br>
              <a:rPr sz="4000"/>
            </a:b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табигты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агаар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шубуу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шубууд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ар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эр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уг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охо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4976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-до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-т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-то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-д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-т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-д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Шубуудай 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Y</a:t>
            </a: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бэлжоон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о жэл х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йтэн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эл болобо. Шубуудта х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дэ саг ерэбэ. Олон шубууд х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йтэндэ хоол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ы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олобо.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хиб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YY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 модоор гэр хэжэ, ху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анда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лгэбэ.Тэдэ хата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ан хилээмээр ба таряагаар шубуудые эдеэл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YY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л нэ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Arial"/>
              </a:rPr>
              <a:t>Текст дээрэ х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Y</a:t>
            </a:r>
            <a:r>
              <a:rPr b="1" lang="ru-RU" sz="4400" spc="-1" strike="noStrike">
                <a:solidFill>
                  <a:srgbClr val="ffff99"/>
                </a:solidFill>
                <a:latin typeface="Arial"/>
              </a:rPr>
              <a:t>дэлмэри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Юун тухай энэ текст соо хэлэгдэнэб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Юундэ шубуудта хоол дутабаб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хиб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YY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 хайшан гэжэ шубуудта ту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алааб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Юугээр эдеэл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YY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лээб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аанар юугээр эдеэл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YY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лдэгбта?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мар шубууд газаатнай ниидэжэ ерэдэг бэ? Нэрлэгты. Хоорэжэ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эгты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0T10:22:38Z</dcterms:created>
  <dc:creator>SamLab.ws</dc:creator>
  <dc:description/>
  <dc:language>en-US</dc:language>
  <cp:lastModifiedBy>SamLab.ws</cp:lastModifiedBy>
  <dcterms:modified xsi:type="dcterms:W3CDTF">2010-06-10T11:51:09Z</dcterms:modified>
  <cp:revision>46</cp:revision>
  <dc:subject/>
  <dc:title>ЗYгэй падеж</dc:title>
</cp:coreProperties>
</file>