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C28-6117-4829-8099-04EAE4A4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E47-4E6C-4DAD-B881-A908C950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3DE-4312-4930-8371-5F5F59D3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C14-8619-49BD-83DB-4E179535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7C5-1658-4C84-8071-34486CC5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A4D-F1A7-4CBA-9996-79420761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FF4-7294-40AE-A39D-BB1222F9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9E1-5590-4ADA-A813-75BEDECB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704-8B73-4C4A-AA8C-18879598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E7D-7313-4887-8E79-FAA0A4CC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BA4-E970-46AD-929A-E23ADD44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C11-29EA-4043-A810-A4BFFE2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F138-5E53-4E1B-BA2D-F4B480699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ощенная схема гидроли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             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22860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971800" y="2209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ощенная схема гидроли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2096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200040" y="22096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                  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13372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00040" y="220968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505320"/>
            <a:ext cx="8991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Na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= 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H + Na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440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работу на урок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8389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7696080" cy="4648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28800" y="4800600"/>
            <a:ext cx="161604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152280" y="5784840"/>
            <a:ext cx="1962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Гидроли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химический процесс разложения веществ в результате взаимодействия с во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Гидролиз солей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ова Виктория Игор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химии МБОУ СОШ №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в растворе соли фенолфталеин окрасился в малиновый цв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ую окраску приобретет индикатор метиловый оранжевый, если его добавить к раствора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) сульфата алюмини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) нитрата кали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) карбоната натр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0"/>
          <a:ext cx="9144000" cy="7105680"/>
        </p:xfrm>
        <a:graphic>
          <a:graphicData uri="http://schemas.openxmlformats.org/drawingml/2006/table">
            <a:tbl>
              <a:tblPr/>
              <a:tblGrid>
                <a:gridCol w="2133720"/>
                <a:gridCol w="1066680"/>
                <a:gridCol w="1447920"/>
                <a:gridCol w="990360"/>
                <a:gridCol w="1219320"/>
                <a:gridCol w="990720"/>
                <a:gridCol w="1295280"/>
              </a:tblGrid>
              <a:tr h="96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ru-RU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ru-RU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индикатор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образованные сильным основанием и слабой кислотой, дают ………… среду. Протекает процесс ……..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образованные слабым основанием и сильной кислотой, дают ………. среду. Протекает процесс ………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образованные сильным основанием и сильной кислотой, дают ………. среду. Процесс гидролиза ………………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9T08:22:30Z</dcterms:created>
  <dc:creator>Vika</dc:creator>
  <dc:description/>
  <dc:language>en-US</dc:language>
  <cp:lastModifiedBy>Vika</cp:lastModifiedBy>
  <dcterms:modified xsi:type="dcterms:W3CDTF">2019-10-17T18:24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