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B9B6-082D-44A3-BED1-E1131C092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EA9D-7254-4BBA-A763-874028D2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320D-97A8-4EEC-972D-998E92632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CA86-6A0C-4EE3-8F8C-5E3F29CBC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E05C-98BE-40A9-8FF9-068F5637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E74F-C105-48CF-8E7E-10A999C7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AF83-4A7F-41F9-99D3-DE7C42DA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234D-B8F6-4AE4-B9E1-CABFEF01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1839-F30C-47B4-BE38-5FD7894C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9B6F-453D-4C42-A626-85838091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ED2A-0265-4DE9-BC3D-7DDD0494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D6FE-D61C-4045-86FA-86E6FDB3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D49B-6E77-4549-A72B-B50AE8AE6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ощенная схема гидролиз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OH             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228600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971800" y="2209680"/>
            <a:ext cx="8380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ощенная схема гидролиз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H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24280" y="220968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200040" y="2209680"/>
            <a:ext cx="11430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H                   H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952880" y="2133720"/>
            <a:ext cx="12193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200040" y="2209680"/>
            <a:ext cx="10666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505320"/>
            <a:ext cx="89917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ONa +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 = C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OH + Na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34408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асибо за работу на урок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68389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+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47920" y="152280"/>
            <a:ext cx="7696080" cy="4648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828800" y="4800600"/>
            <a:ext cx="1616040" cy="1581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-152280" y="5784840"/>
            <a:ext cx="196200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Гидроли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химический процесс разложения веществ в результате взаимодействия с вод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7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Гидролиз солей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банова Виктория Игорев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химии МБОУ СОШ №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чему в растворе соли фенолфталеин окрасился в малиновый цве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ние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ую окраску приобретет индикатор метиловый оранжевый, если его добавить к растворам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) сульфата алюминия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) нитрата калия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) карбоната натр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0" y="0"/>
          <a:ext cx="9144000" cy="7105680"/>
        </p:xfrm>
        <a:graphic>
          <a:graphicData uri="http://schemas.openxmlformats.org/drawingml/2006/table">
            <a:tbl>
              <a:tblPr/>
              <a:tblGrid>
                <a:gridCol w="2133720"/>
                <a:gridCol w="1066680"/>
                <a:gridCol w="1447920"/>
                <a:gridCol w="990360"/>
                <a:gridCol w="1219320"/>
                <a:gridCol w="990720"/>
                <a:gridCol w="1295280"/>
              </a:tblGrid>
              <a:tr h="96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r>
                        <a:rPr b="0" lang="ru-RU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ru-RU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ru-RU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 индикаторной бума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8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 сре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ор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ор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ор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в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и, образованные сильным основанием и слабой кислотой, дают ………… среду. Протекает процесс ……..…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и, образованные слабым основанием и сильной кислотой, дают ………. среду. Протекает процесс …………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и, образованные сильным основанием и сильной кислотой, дают ………. среду. Процесс гидролиза ……………….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9T08:22:30Z</dcterms:created>
  <dc:creator>Vika</dc:creator>
  <dc:description/>
  <dc:language>en-US</dc:language>
  <cp:lastModifiedBy>Vika</cp:lastModifiedBy>
  <dcterms:modified xsi:type="dcterms:W3CDTF">2019-10-17T18:24:3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