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B593-19C8-4EAC-963D-D47CD7B1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E246-BAD8-4C32-8A60-4FA3704A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1F786D-7F3E-48ED-9EA9-1C39C0F3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B555A1-2925-4EF4-96C7-817171F1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1B8466-1B8A-4F51-B466-EAFF79BE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C33654-3DD3-4A8B-8639-2D1AEEB2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2AA460-5197-49F2-9A73-18780DCD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109E76-B0B6-480B-83F8-82AFF0BB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C9B0FE-8318-476F-AB55-A868DFFC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07C1DC-484C-4F18-8551-EEF8E467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347C7D-096A-4EDC-B55A-35B0E1D2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01F10-2928-4E98-A58A-286DD4BF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543B-6CFC-4BF7-9E90-7F5E469C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45BFB-347D-451C-A249-8D9B1571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30665-1061-456F-B03D-BF71D623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B8855-BBC9-468D-874F-DBB6DF9A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729E9-722F-4FAD-99CD-1E993B0F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E58A1-F57A-4D9A-95D7-A5F9EBBB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8D01E-2A80-4DE3-913B-4BE936E3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7118B-364B-4E4B-A916-D68B0D4C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10436-D98E-437E-B427-3055B6D4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96537-8017-4FCD-87A4-E18B883B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99745-EA24-471B-BA4B-9E936A4F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41ED-4FE1-4CC9-B0B1-2AFF7496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EE2DC-0586-4749-B362-B284D401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318D1E-9619-4EBB-810A-3BD02475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13D6C1-239F-4D79-A1E4-8BDBF44E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EE3360-F98B-47A9-A7A5-2B9D6255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C25015-F4DD-4AB3-A598-84433804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304516-BD25-4A67-9FA0-6EFBD5AA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226BE2-945D-4C3A-BDA0-755B3FD0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FE2909-09AB-48EB-B6E4-14A6BD1E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B54F6F-DDDA-4D1C-9E9C-93A64C2A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374999-30F1-4279-9307-B74E7D29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5895-97CE-400B-AC1F-FA4242AF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5D1BDF-9CD9-41AC-B6D1-A89CFEE3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4CCCA8-1C5F-4FCB-8B2C-30E691EB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AE5DA7-E618-4AEB-A04D-D74EE3B9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EA59-CE85-4C4B-8D98-EE5CCADB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C015-69FD-47A1-A54C-169A98AC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2B18-8D6F-40CA-9AD3-121B423B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F828-6659-4D64-A9D8-92AFF858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DB94-2978-48DB-B33E-42A71334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42AA-1673-4551-A0D3-6D6BAFCD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5389-FCDA-4219-B46C-76FBD065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0654-7D15-450F-B4CB-81AFD90A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ECB4-BA4A-4CD5-B05B-58A25C5D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3EFE-0C6A-4574-970B-610D8975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7BD4-7C1D-41A5-8996-1348399C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F88D-7E74-4508-A035-A828041E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C1215-AF05-4D35-A06D-8F9F5B89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B50D8-262F-4A5B-B717-5965DA94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9BA87-6A66-45A5-8EDE-4D579F74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DAB1D-0025-4BAE-92FB-0B622701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07A20-4AAE-44A2-9297-D0B9FC24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3DCB-076F-4024-A6ED-2A4AA7CD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7DF96-F141-4345-8716-848B334F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16217-7486-4654-A966-1A199A1B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58B1B-FF2A-4E4B-B3E5-503332B1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62005-34EC-469C-AC9B-D04BD67A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25554-25E6-47DD-9D6A-EE58CC2E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081A8-2A5A-4498-834F-275FD481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946CD-3039-4291-AE49-B4627144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D6696-BD30-450D-80B4-10CA3C71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25D7F-45C2-447A-870F-31401EF4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CBCC7-9511-414A-9707-5264DBF9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1D8-BFDD-4C48-9633-077C99F1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515BE-FFA6-4E9A-8D80-5A3EA677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4C8C0-53C4-42D9-8D45-99350003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EEB5C-3E3F-455C-9A8A-E5C81060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E035E-1BD3-422A-8EFC-4A375FFD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6E9AD-3EAB-4E07-B9CA-3085D547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08EF2-14B3-44C4-B242-1F53A91C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6736F-A20B-4639-A676-AE67EF91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38D5D-EC5F-4E5C-B5DE-758F6A69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4C666-44BE-4B0B-92BD-1E960174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58F89-E616-45B0-9077-883D76B6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9AE6-15EA-4F8F-880D-DC85D145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1186B-4C09-4C35-B4D3-BB6D4BCF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74DDB-CF5C-4B78-A273-7CC68FD8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9B190-ADC9-47A4-8880-8B716060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F477D-263B-43FE-BFAF-8DBA208A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ED1AD-D95B-4DE7-B45B-63478EAB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E4B91-73CE-451D-9689-8C3C70ED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07716-2073-42A4-919E-08B281F3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75ABB-C3D9-4B05-87F6-94DFB298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BD164-DA0D-437A-AD95-7721BFC5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7875E-AB0A-4EBD-8AE2-44EE0DB7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5E48-1859-4A80-AE79-B6FF3D81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AB7F1-7E74-4DFF-955C-9D0FE45A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3E797-6C41-4624-9E52-1C2D1398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9977B-C258-49B2-A688-942BAB20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0B56C-4AE0-47DE-862F-CDED59B4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1D806-F11B-458D-89A0-CFEC18A9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4E496-8EC3-492A-8808-7F944C7E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31410-10AE-4741-92CF-F200D9E5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36142-C781-43E1-9CED-99D02839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406A5-7DF2-473E-BD65-FEFBCAF5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E0463-BE4A-4040-BEC9-F600F9A0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537E-66F8-4D50-9436-D934E2E4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64668-3062-4A13-985D-5FEA0ECB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F37F5-824A-4070-9505-ED66EB307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D53B4-8175-49FD-AD83-C3858A50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5F890-04A4-471A-A646-646EDB4C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21D9D-6565-4714-BB67-702645F5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24833-B72F-4B54-97DD-B79BBCDE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C6506-F722-4625-8CC1-18214A7E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B8527-0AA4-4AD8-AA43-42FD3D85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F2420-B097-4FEA-A67F-80AE52E9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B50C5-9496-4332-BAF2-03A4578A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AACF-C10D-4D27-941F-B1719C5C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CBD2F-51EE-4784-BE6C-D2B85C50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D3376-51BC-40C6-9F32-A141D727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107D9-07B1-4C98-BFFA-0CF0426B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373AE-1918-4F7E-9FBB-DC92B434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8F734-55CA-402C-BF3C-62A046DF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3FDCED-EE5B-4186-AFB0-A5336BD2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3E7E59-3CEB-4790-92AA-48C6AD26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75EA4D-A2F3-4A89-9267-C5FA9422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F446D8-4F08-4F9E-9138-5E45DF14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4DB0CD-D6B0-4D17-BC67-7237CBED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3ACB-5D27-4DAA-9F17-F047FCE2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206E6F-EAD5-40EC-8D5F-4ACDE235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69BAF3-8ADD-4179-B7B5-5566E00C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1D1C85-24E9-4C95-A1D4-41FFF50C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0CBEE0-DF10-42ED-95F7-681FE20D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DEF0B3-B6B2-49E0-AE4E-F595312E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7248ED-4BD4-42BF-966A-B2172E18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DFF6AE-E6D9-4580-80FE-BE3DEB51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83F8D6-6413-485C-AD9E-B58C5AE8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9642BE-90F7-4C34-A098-6E5E21B2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CB6A29-E9D9-42A0-AA5F-0C430822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C9A6-9791-4EE9-AC14-BD71EF13E6B7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0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513C-4748-4E36-AD54-20A4108CE666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0540-CC02-409B-8602-B68A99F918BF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C390-99FD-4EF1-A63C-BEFCFDD06C25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ftr" idx="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dt" idx="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80BE-DA18-43A0-93A8-612E888AB1F7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b13f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417C-C491-42D6-89F1-D0025FF2E88F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b13f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441B-B20E-4F55-8C42-AD20A896CF47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A8E9-C0C6-4337-A3C3-233AC5EBB3D3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78DE-A350-4FE6-85CF-ABBF92AA5E8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sldNum" idx="22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635B-03B9-4E8E-BFF5-A83D3539361C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dt" idx="2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ftr" idx="24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5C57-40FB-463B-89F5-33220353EA45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dt" idx="26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Arial"/>
              </a:rPr>
              <a:t>ПРАВИЛА ПРОТИВОПОЖАРНОЙ БЕЗОПАСНОСТИ</a:t>
            </a:r>
            <a:endParaRPr b="0" lang="en-US" sz="5400" spc="-1" strike="noStrike">
              <a:solidFill>
                <a:srgbClr val="c35e2e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9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7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310360" cy="468000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510192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8"/>
          <p:cNvSpPr/>
          <p:nvPr/>
        </p:nvSpPr>
        <p:spPr>
          <a:xfrm>
            <a:off x="1165320" y="5000760"/>
            <a:ext cx="303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Для забавы и игры</a:t>
            </a:r>
            <a:br>
              <a:rPr sz="1800"/>
            </a:b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Спичек в руки не бери!</a:t>
            </a:r>
            <a:br>
              <a:rPr sz="1800"/>
            </a:b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Не шути дружок с  огнём,</a:t>
            </a:r>
            <a:br>
              <a:rPr sz="1800"/>
            </a:b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Чтобы не жалеть потом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4857840" y="507204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Сам костёр не разжигай</a:t>
            </a:r>
            <a:br>
              <a:rPr sz="1800"/>
            </a:b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И другим не позволяй!</a:t>
            </a:r>
            <a:br>
              <a:rPr sz="1800"/>
            </a:b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Даже крошка- огонёк</a:t>
            </a:r>
            <a:br>
              <a:rPr sz="1800"/>
            </a:b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От пожара недалёк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Сема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80" fill="hold"/>
                                        <p:tgtEl>
                                          <p:spTgt spid="5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7" descr=""/>
          <p:cNvPicPr/>
          <p:nvPr/>
        </p:nvPicPr>
        <p:blipFill>
          <a:blip r:embed="rId1"/>
          <a:stretch/>
        </p:blipFill>
        <p:spPr>
          <a:xfrm>
            <a:off x="2000160" y="500040"/>
            <a:ext cx="5038920" cy="450684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510192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2714760" y="5183280"/>
            <a:ext cx="3816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Если ты включил утю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Убегать не надо вдр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Закрывая в доме двер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Всё ли выключил, прове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Даша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650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7" descr=""/>
          <p:cNvPicPr/>
          <p:nvPr/>
        </p:nvPicPr>
        <p:blipFill>
          <a:blip r:embed="rId1"/>
          <a:stretch/>
        </p:blipFill>
        <p:spPr>
          <a:xfrm>
            <a:off x="1857240" y="357120"/>
            <a:ext cx="5038920" cy="451800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5101920" y="2781000"/>
            <a:ext cx="404172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2268360" y="5084640"/>
            <a:ext cx="4248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Чтобы пальчик или гвозд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Вдруг в розетку не соват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Электричество опас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Это каждый должен зн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Лиза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510" fill="hold"/>
                                        <p:tgtEl>
                                          <p:spTgt spid="5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7" descr=""/>
          <p:cNvPicPr/>
          <p:nvPr/>
        </p:nvPicPr>
        <p:blipFill>
          <a:blip r:embed="rId1"/>
          <a:stretch/>
        </p:blipFill>
        <p:spPr>
          <a:xfrm>
            <a:off x="1928880" y="500040"/>
            <a:ext cx="5038560" cy="437184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510192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1547640" y="5157720"/>
            <a:ext cx="5329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Не играй с электроплитко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Спрыгнет с плитки пламя прытко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Уголёк из печки «скок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И поджёг полович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Ваня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8141" fill="hold"/>
                                        <p:tgtEl>
                                          <p:spTgt spid="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7" descr=""/>
          <p:cNvPicPr/>
          <p:nvPr/>
        </p:nvPicPr>
        <p:blipFill>
          <a:blip r:embed="rId1"/>
          <a:stretch/>
        </p:blipFill>
        <p:spPr>
          <a:xfrm>
            <a:off x="1714680" y="285840"/>
            <a:ext cx="5038560" cy="458604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5101920" y="162864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826920" y="5084640"/>
            <a:ext cx="3816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Украшать свечами ёл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Строго запрещ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Потому что от све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Ёлка загорает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5003640" y="5084640"/>
            <a:ext cx="3889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А поэтому- не см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Зажигать на ней свеч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Можешь запросто, заме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Вместе с ёлкою сгор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руслан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9910" fill="hold"/>
                                        <p:tgtEl>
                                          <p:spTgt spid="5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7" descr=""/>
          <p:cNvPicPr/>
          <p:nvPr/>
        </p:nvPicPr>
        <p:blipFill>
          <a:blip r:embed="rId1"/>
          <a:stretch/>
        </p:blipFill>
        <p:spPr>
          <a:xfrm>
            <a:off x="1857240" y="285840"/>
            <a:ext cx="5443560" cy="486396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4464000" y="1557360"/>
            <a:ext cx="46800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Text Box 8"/>
          <p:cNvSpPr/>
          <p:nvPr/>
        </p:nvSpPr>
        <p:spPr>
          <a:xfrm>
            <a:off x="141120" y="5214960"/>
            <a:ext cx="478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Будет включённым прибор оставаться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Очень опасно к нему прикасать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Или получишь тока уд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9"/>
          <p:cNvSpPr/>
          <p:nvPr/>
        </p:nvSpPr>
        <p:spPr>
          <a:xfrm>
            <a:off x="4716360" y="5157720"/>
            <a:ext cx="2560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4859280" y="5214960"/>
            <a:ext cx="428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Или от искры начнётся пож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Так что времени зря не теря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И из розетки прибор выключ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Алена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8970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7" descr=""/>
          <p:cNvPicPr/>
          <p:nvPr/>
        </p:nvPicPr>
        <p:blipFill>
          <a:blip r:embed="rId1"/>
          <a:stretch/>
        </p:blipFill>
        <p:spPr>
          <a:xfrm>
            <a:off x="1714680" y="214200"/>
            <a:ext cx="5751360" cy="504036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1785600" y="4381560"/>
            <a:ext cx="5256360" cy="20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4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46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460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a2e4e"/>
                </a:solidFill>
                <a:latin typeface="Arial Black"/>
              </a:rPr>
              <a:t>Быть нельзя огня вблизи,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460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a2e4e"/>
                </a:solidFill>
                <a:latin typeface="Arial Black"/>
              </a:rPr>
              <a:t>Там, где краски, газ, бензин;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460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a2e4e"/>
                </a:solidFill>
                <a:latin typeface="Arial Black"/>
              </a:rPr>
              <a:t>Ведь о них нам не напрасно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460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a2e4e"/>
                </a:solidFill>
                <a:latin typeface="Arial Black"/>
              </a:rPr>
              <a:t>Говорят «Огнеопасно!»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87" name="Аня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6350" fill="hold"/>
                                        <p:tgtEl>
                                          <p:spTgt spid="5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7" descr=""/>
          <p:cNvPicPr/>
          <p:nvPr/>
        </p:nvPicPr>
        <p:blipFill>
          <a:blip r:embed="rId1"/>
          <a:stretch/>
        </p:blipFill>
        <p:spPr>
          <a:xfrm>
            <a:off x="1857240" y="285840"/>
            <a:ext cx="5453280" cy="47196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510192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Text Box 8"/>
          <p:cNvSpPr/>
          <p:nvPr/>
        </p:nvSpPr>
        <p:spPr>
          <a:xfrm>
            <a:off x="1857240" y="5157720"/>
            <a:ext cx="54007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Все дети должны обязательно зн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Электроприборы нельзя выклю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Тогда, когда руки мокры от 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Такая халатность- шаг до бед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Лиза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340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5:25:56Z</dcterms:created>
  <dc:creator>Nix</dc:creator>
  <dc:description/>
  <dc:language>en-US</dc:language>
  <cp:lastModifiedBy>User</cp:lastModifiedBy>
  <dcterms:modified xsi:type="dcterms:W3CDTF">2020-08-30T05:29:10Z</dcterms:modified>
  <cp:revision>22</cp:revision>
  <dc:subject/>
  <dc:title>Правила пожарной безопасности</dc:title>
</cp:coreProperties>
</file>