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EF4-41EC-48E7-B401-0399A528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289-6237-4CE6-BD8F-A6CE5F6D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CE23B-AE36-47B4-86A8-EBA91A27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0028E-8841-4BCC-BDA6-AD47D799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D347B-3B27-44F0-BCA1-E6FB27F8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AD5E7-27D2-4C06-87EF-541883EE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88788-79A7-4D0D-927E-711C4BCB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CEDAE-F75E-478F-BCDE-447C1C84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A60B2-5116-45C9-8585-3FF11923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A7F5A-D9BF-4365-8115-E61D406C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F35AC-5FA8-452A-84F4-8ADA53AE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3DC55-F896-422D-BCCD-18CB6255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3FD-2E39-42A4-A816-345C5EC4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F0E4F-075B-4CFF-895C-AC6E1693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EE5C9-D29C-46C5-BF85-B1F6C72F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8D960-3773-4B9C-A5DE-B004C280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0F0AB-65BC-47A2-AA95-90F3889B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1564E-6F42-4341-B08F-0075E467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AD575-B4A9-442F-9B59-4C30B0BE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62EA9-EB5B-4AD0-9716-90F21331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3C02E-0FF2-4B13-AD1B-012C9B66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5B588-7668-41E7-BD5E-26561837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62B37-9A10-4E12-8239-F6C8C5AC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084-CD94-4B21-AC93-309602A0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8806C-2B93-4BFA-B100-7800F1F2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26363A-0ECC-4E0C-A836-A77E434C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EB8F2C-D294-4976-AD3C-594E6947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E1F8EC-879E-47D6-8346-63BA1BFA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523D6A-56C3-4496-BF71-4CCECD17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478DB0-341E-4264-BD46-3D3D41D8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36C811-E450-4FC0-A320-2504B58D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D2FB6E-9006-45AE-A078-BB68FB37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DB262B-4B37-4571-AB3A-9817B12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6F8FEF-57FC-4E9D-A1C0-1E706E55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B999-BAE5-45C3-BE46-19D639A2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D38193-7BF6-43AC-B3AA-59D82169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F9B581-2635-4ACF-819B-07E6715B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1138B4-5165-41DD-8F21-49F725D2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A9ED-119D-4AB3-A312-66DF2CB1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4FE0-9746-449C-983D-63C7FBBE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1DCF-94CA-4F6C-AC7A-1325472F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3CC5-32FF-430D-99B8-172703F1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B2A8-BE78-404A-BE5B-E38D889F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F1EE-3B0F-4D39-BDCE-0599C541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F26-A067-4042-8516-6FD2FD71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C419-1C39-445F-BA30-1149993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BF3D-EC58-4985-B100-8F5DC6B0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625E-1821-4B91-ABD8-2F5BF041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5E46-B75A-4276-9610-79A9BB62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4F80-4D06-4A6C-A485-F489B530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54C2-36DF-4A85-922C-385586AC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5420B-ACD4-4DF5-BCA2-4490A15E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F3570-6E19-4762-9A30-4AF6ECFE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BDC8-59F8-4947-A071-599A1870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D1462-7648-4087-ABB7-1F3DB687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FD2-3E75-4E79-9EC2-249896DB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27024-1942-4A93-AD5A-4E4E5917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4018-AB1D-4502-B055-92C3F782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FFBC-D3DC-439A-BC7E-91AA1406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79B1-9267-4D14-95EF-47D851AA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09FB-4593-465C-8647-081D878D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76F8-D7AD-4A4D-9569-D1A07F9F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B102F-E231-498C-AB7B-91E86A2E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DD47-3A54-4B7F-9215-78AC5EBF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0C550-A133-42E9-A97F-B7FD2582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1EE79-A8FA-42F4-AAC2-13D3C19E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E19-D525-4294-B2C7-952CBBE2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1A349-C16F-4099-8AD4-CAC0C92C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AA065-CDFC-4E7B-972B-CB4C4DC8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092C8-8B7F-4F8B-9058-B361AF01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0B515-6D64-4E7E-A6B7-71955DC6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7CCDE-2B09-445C-83FD-6595C5C5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64A02-E06D-440A-9E9B-5F623F69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5C4A9-4E97-492C-B607-53421C94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6D9B4-8D7D-40F1-81F6-8FFD9A2D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F9ED2-79B2-4D80-8FF0-0EDBAA45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D4FF9-78A8-4955-B832-2AE9C7D6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AC4-1CB2-4F1F-9646-4CEB3FFE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CECA6-1B46-48DD-977D-A2FDA951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A3E49-66A3-4DC3-B27C-4E607AA1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DF1F2-608F-46EC-AD49-21C09265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16863-97BF-48F8-BCC1-0C469D1E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DCA7F-2D90-46AB-8180-E712D44B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ACB69-404E-448F-970D-29C40F84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D9292-38AD-4441-8BE0-67271A64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470D0-6D56-4B82-9152-6589B6DE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7017F-709B-408E-A1EC-F38C5883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62202-BA26-4FBC-B7CD-2E6FC4F0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696-4761-4119-8EC2-F56E2238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D14BE-51CB-47F1-9CEA-B482B87C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76345-472C-440C-9A79-050696F2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95F84-6C03-4611-9E32-1DD784AD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FBE12-1011-4042-B08C-57CE4D2C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325BB-D870-48FA-95F6-6DC29A0F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C4F56-EEC7-4A2B-9922-457F33B1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BF8CD-6004-4B6C-9A0B-745C1571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A95A1-3EEB-497A-B279-ABCC9E57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F837D-6579-40C5-8377-290FAD34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287D7-85E3-457B-BF87-E3502801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478-4500-484A-A518-CC64752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3923A-9ABB-4CDB-8EA6-5A6AF947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4EBB2-AD1A-4A34-84CA-F6D0E71C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6B665-657C-4487-AFA8-04E3337D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B1F7C-0A4B-4A7B-89C7-48497502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051DF-7023-4383-8DFF-FD607469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39088-11D0-464F-BBDA-95555BF7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B1FDF-54D5-4BF5-99F0-5BC656E6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7A24E-3D47-4D7C-BB0F-9FCFAE9E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0B516-D955-46B1-8DDB-CA2D0A19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32648-DD34-4356-95F0-C6CEA48F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5EB-D56F-4B4C-93E6-AA91DD6D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2790A-7CAE-4DF9-8177-D6143B44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CBEF2-FE12-4B89-AC98-0B2A2D99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EEDA5-7AC8-43B0-A083-486692B3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4BBF1-FA37-4EB1-8C58-4946759A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3BBBE-5D38-4C88-9284-A7266784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50D737-93A3-4C5C-A619-41D71AB8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EBB5D6-C78B-4C76-8265-73C92A2C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E08BC1-C584-4451-BA09-42F93AD2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B902B1-5EE1-4252-957B-F354C49E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39E1C1-7C37-41B5-86AA-1589B29E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1BE-0A31-451A-B3AF-5029019F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66F11F-129D-461C-9B01-0834F323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B7BDC4-A8CE-466C-8B77-292F2819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A87B54-60A3-4BD2-88C0-ED6D5A62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80EF4B-BF22-4654-8012-E06844BA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05B778-6B42-4C46-B7FE-129CB76C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0D8C5D-245B-4CB8-B9B2-E94DE86E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704367-0AA5-46EC-8170-A5DB52EC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62BE8-27E0-4E1F-91DC-652CB428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ACED2-CBC6-44B2-875E-A95E5EC7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7B126-64D3-46A2-B546-60D5E0BD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A7CA-7E23-426B-8F48-6AE88FF000AF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FEFC-C595-446E-9A9D-4B1203F8EFC3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4979-2CB1-465D-A249-8FECBA57FF4F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CCF2-77EA-4EAA-A932-B19A9F38002C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dt" idx="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D9B8-C9D2-4696-A4DC-B10A8BA7C0BB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7463-95A9-417E-BE7A-7723A57C5787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B156-48E9-4BDD-849A-FAA1780E74AB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3A55-D7FE-4F2F-A336-C1EF18FD999D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E3BC-E865-4E66-B70C-617DB62B18B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22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3F03-2CB6-446E-874D-F99185DC96C5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ftr" idx="24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707E-F9C3-4F9E-9CEE-77D7C89C21D7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dt" idx="26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ПРАВИЛА ПРОТИВОПОЖАРНОЙ БЕЗОПАСНОСТИ</a:t>
            </a:r>
            <a:endParaRPr b="0" lang="en-US" sz="5400" spc="-1" strike="noStrike">
              <a:solidFill>
                <a:srgbClr val="c35e2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7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310360" cy="46800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1165320" y="5000760"/>
            <a:ext cx="303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Для забавы и игры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пичек в руки не бери!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Не шути дружок с  огнём,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Чтобы не жалеть потом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4857840" y="507204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ам костёр не разжигай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 другим не позволяй!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Даже крошка- огонёк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От пожара недалёк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Сема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0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7" descr=""/>
          <p:cNvPicPr/>
          <p:nvPr/>
        </p:nvPicPr>
        <p:blipFill>
          <a:blip r:embed="rId1"/>
          <a:stretch/>
        </p:blipFill>
        <p:spPr>
          <a:xfrm>
            <a:off x="2000160" y="500040"/>
            <a:ext cx="5038920" cy="450684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2714760" y="5183280"/>
            <a:ext cx="381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Если ты включил утю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Убегать не надо в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Закрывая в доме двер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сё ли выключил, пров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Даша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650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7" descr=""/>
          <p:cNvPicPr/>
          <p:nvPr/>
        </p:nvPicPr>
        <p:blipFill>
          <a:blip r:embed="rId1"/>
          <a:stretch/>
        </p:blipFill>
        <p:spPr>
          <a:xfrm>
            <a:off x="1857240" y="357120"/>
            <a:ext cx="5038920" cy="451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101920" y="2781000"/>
            <a:ext cx="40417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2268360" y="5084640"/>
            <a:ext cx="424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Чтобы пальчик или гвоз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друг в розетку не сова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Электричество опас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Это каждый должен зн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Лиза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10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038560" cy="437184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1547640" y="5157720"/>
            <a:ext cx="5329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Не играй с электроплитк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прыгнет с плитки пламя прытк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Уголёк из печки «скок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 поджёг полович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Ваня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14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7" descr=""/>
          <p:cNvPicPr/>
          <p:nvPr/>
        </p:nvPicPr>
        <p:blipFill>
          <a:blip r:embed="rId1"/>
          <a:stretch/>
        </p:blipFill>
        <p:spPr>
          <a:xfrm>
            <a:off x="1714680" y="285840"/>
            <a:ext cx="5038560" cy="45860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5101920" y="162864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826920" y="5084640"/>
            <a:ext cx="381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Украшать свечами ё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трого запрещ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Потому что от све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Ёлка загора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5003640" y="508464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А поэтому- не с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Зажигать на ней свеч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Можешь запросто, заме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месте с ёлкою сгор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руслан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910" fill="hold"/>
                                        <p:tgtEl>
                                          <p:spTgt spid="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7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443560" cy="486396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464000" y="1557360"/>
            <a:ext cx="46800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141120" y="5214960"/>
            <a:ext cx="478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Будет включённым прибор оставатьс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Очень опасно к нему прикасать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ли получишь тока уд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4716360" y="5157720"/>
            <a:ext cx="256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4859280" y="5214960"/>
            <a:ext cx="428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ли от искры начнётся пож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Так что времени зря не теря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 из розетки прибор выключ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Алена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970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7" descr=""/>
          <p:cNvPicPr/>
          <p:nvPr/>
        </p:nvPicPr>
        <p:blipFill>
          <a:blip r:embed="rId1"/>
          <a:stretch/>
        </p:blipFill>
        <p:spPr>
          <a:xfrm>
            <a:off x="1714680" y="214200"/>
            <a:ext cx="5751360" cy="504036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1785600" y="4381560"/>
            <a:ext cx="5256360" cy="20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Быть нельзя огня вблизи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Там, где краски, газ, бензин;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Ведь о них нам не напрасно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Говорят «Огнеопасно!»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7" name="Аня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350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7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453280" cy="47196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1857240" y="5157720"/>
            <a:ext cx="5400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се дети должны обязательно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Электроприборы нельзя выклю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Тогда, когда руки мокры от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Такая халатность- шаг до бе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Лиза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40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5:25:56Z</dcterms:created>
  <dc:creator>Nix</dc:creator>
  <dc:description/>
  <dc:language>en-US</dc:language>
  <cp:lastModifiedBy>User</cp:lastModifiedBy>
  <dcterms:modified xsi:type="dcterms:W3CDTF">2020-08-30T05:29:10Z</dcterms:modified>
  <cp:revision>22</cp:revision>
  <dc:subject/>
  <dc:title>Правила пожарной безопасности</dc:title>
</cp:coreProperties>
</file>