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5.png" ContentType="image/png"/>
  <Override PartName="/ppt/media/image12.jpeg" ContentType="image/jpeg"/>
  <Override PartName="/ppt/media/image9.jpeg" ContentType="image/jpeg"/>
  <Override PartName="/ppt/media/image11.jpeg" ContentType="image/jpeg"/>
  <Override PartName="/ppt/media/image7.wmf" ContentType="image/x-wmf"/>
  <Override PartName="/ppt/media/image20.jpeg" ContentType="image/jpeg"/>
  <Override PartName="/ppt/media/image6.jpeg" ContentType="image/jpeg"/>
  <Override PartName="/ppt/media/image4.jpeg" ContentType="image/jpeg"/>
  <Override PartName="/ppt/media/image25.jpeg" ContentType="image/jpeg"/>
  <Override PartName="/ppt/media/image23.png" ContentType="image/png"/>
  <Override PartName="/ppt/media/image22.png" ContentType="image/png"/>
  <Override PartName="/ppt/media/image19.jpeg" ContentType="image/jpeg"/>
  <Override PartName="/ppt/media/image21.png" ContentType="image/png"/>
  <Override PartName="/ppt/media/image18.png" ContentType="image/png"/>
  <Override PartName="/ppt/media/image16.jpeg" ContentType="image/jpeg"/>
  <Override PartName="/ppt/media/image24.jpeg" ContentType="image/jpeg"/>
  <Override PartName="/ppt/media/image15.png" ContentType="image/pn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3D3B8-1ABD-4139-89C6-40457A3DC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0AD14-109B-4F77-93A4-F0151FD36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D16D6-4794-42EF-ACD5-B15DF0FB9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35E62-4C1C-4723-8D5C-CCD5E3081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D7183-CB8A-4AFE-BA02-3A066699A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C8304-7D8D-497C-A9C0-1C8355EBB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58683-A7C7-49CE-852A-FE24B8635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64D3D-DC15-49D2-BD7E-9282BB983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5D96C-F357-4CB8-8602-1D3372B90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E8704-6444-451B-8874-70756C057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23AC7-8194-4654-9062-234CF50F4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97BF5-90BE-4D00-A206-8C41F00F7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B0575-0EC8-4537-982D-426392891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5A2DF-C733-4701-A430-AF91103B6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0BEE4-EF2B-47A1-A939-0E08C9246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26B33-7F44-4AAC-8935-FF564F235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3DCC50-FB4C-47D2-B071-14C094DAC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356D11-A03E-4A71-9E4C-2068964F9E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A90285-7718-47FA-8AE1-7BEDFEE69E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B43CFB-4FFE-4D37-BA51-6C829F06A4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6B7633-A000-4356-AA39-07CE185C58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0B1AAE-D266-4C99-80EB-A56BFA2A4E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E0BB0-F46F-47EC-81A7-AC604C248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7DC1D9-CAF5-4E9B-A258-0ECC4A3C50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F982C5-F663-4B69-B516-BF7876DAB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4E3923-C98C-415B-ADED-24B6A545B0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684D9D-2FFE-4B7D-BEDB-9BD383470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24F8FA-2206-4E27-9C23-54BF357267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1FFF54-209E-4ED0-99F0-EBC7300335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E2AE80-4E04-4201-99EA-DE22FB049E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942A8A-6088-4D5E-B0AA-09C5807166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D2F211-A008-4DAB-A2AF-0F1CFE7AAA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27534F-8289-4A59-8CB8-5A897074D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A7359-2087-4D5F-A209-DD6E2C61B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790343-E956-4BB6-896F-552E3B9A8B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1B51B8-5820-487B-B1FE-0F96D3EFCB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151031-5339-4BA4-84CD-0B39051919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B034E9-4F1D-4F3A-8220-150493EB3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1139C6-29FA-4759-8908-92361C640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C8357-C46C-4B66-A25A-A46BB8AF24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566932-B9F9-48D8-B013-FDF4B14B2A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119F42-F7A4-4430-AF0C-B3B781F8A0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4D7D3B-3C50-4BE8-8809-52D9FD06AE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CAB7FD-7D0E-45FF-B11C-1B72BB04E8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6B1F3-6AC3-49F9-A8BC-F187FFA74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56DA53-1830-46F7-AC4D-567D3130F2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55C0BF-3829-4A98-9D54-DB48CC5812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32E32C-5F6F-4F78-B4A9-2AD0F49803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A743C3-97E4-4A70-936E-F99914D12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6B54BB-2FCC-4F36-8672-293340C69E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D883DC-6A51-40F7-B1F1-8E00BCB09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D552D4-192B-423D-8681-D9CBB1CDD8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B01D85-8947-41EA-AD8F-CFEF608FD7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FC9530-C90A-4936-8AD5-65D7A4B65E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71C8B7-3542-4AB8-96CD-D9F4A4D1DE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4C303-B3CA-4A3D-9180-45EF775E4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6C42CC-4864-4182-AE89-037BCE46C1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B64E6C-77C2-4B75-8A4A-595A8146BA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7DA641-8BE7-4755-B7BB-B5E7CEC6D5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A10512-58FD-4C56-A3A8-7EC46CDAC0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83596F-A85D-4162-82EC-A12A99E17A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6DFB7C-02C4-44AD-90B9-B8AABB4B45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917FD2-034A-4043-A721-A698D8A06D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7EFB6E-2769-4987-B9E3-045563EA2C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EA2E77-EE64-4022-98DD-26CAFA3C11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47CCE9-3B8B-47F3-8362-D75583B0C2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CFC6B-E16D-4E92-88E6-5C8625D7A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735030-CB0B-41D4-AD13-926DF6DE2C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9EB130-AFB8-4642-A062-EBB3CE6E7B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66EB0D-0362-4189-A5AE-EE937E2BC9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D1676C-217D-49FA-BB85-C743C69A9F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DD4C67-64FE-4330-9A28-C71D687F6D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5"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4CE48E-3F3A-440A-A535-C9208B0C0B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7C24DD-D078-4139-B0F2-84670A974D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16AD96-C03E-4002-9900-30B11F44F6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0641D9-C9BC-47DB-8337-A762FA6B27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01C43-C870-4B08-AE1B-3D530E916F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560A9-580C-4751-9246-C5D9802E8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8"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D55DF6-8B40-48E1-ACA5-EB2A1E3F4A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2"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5CE8C1-37A8-43C5-B92E-AE876C1436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4"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5"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AF6672-9778-442C-BDE2-B1BC584230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0"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7BD000-A150-477E-A0D8-3ABFB267D3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2"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3"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4"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5"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6"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7"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D8D8DF-9AAB-4E08-B9E3-F194C2C5D1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AE203-B578-43AD-BD16-F5D69E815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6520" y="0"/>
            <a:ext cx="987480" cy="6858000"/>
            <a:chOff x="8156520" y="0"/>
            <a:chExt cx="987480" cy="6858000"/>
          </a:xfrm>
        </p:grpSpPr>
        <p:pic>
          <p:nvPicPr>
            <p:cNvPr id="1" name="Прямоугольник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ED17-D9E8-44E4-A2DA-407B15C0D94E}"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70120" y="0"/>
            <a:ext cx="6473880" cy="6858000"/>
            <a:chOff x="2670120" y="0"/>
            <a:chExt cx="6473880" cy="6858000"/>
          </a:xfrm>
        </p:grpSpPr>
        <p:pic>
          <p:nvPicPr>
            <p:cNvPr id="45" name="Прямоугольник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1DAC-D9CD-4CB8-B987-99D073447F05}"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6520" y="0"/>
            <a:ext cx="987480" cy="6858000"/>
            <a:chOff x="8156520" y="0"/>
            <a:chExt cx="987480" cy="6858000"/>
          </a:xfrm>
        </p:grpSpPr>
        <p:pic>
          <p:nvPicPr>
            <p:cNvPr id="90" name="Прямоугольник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7DBE-2FC5-4E28-AD25-88A40BF771B7}"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83A1-9AE5-43F1-B599-DD81B0779E26}" type="slidenum">
              <a:rPr b="0" lang="ru-RU"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6520" y="0"/>
            <a:ext cx="987480" cy="6858000"/>
            <a:chOff x="8156520" y="0"/>
            <a:chExt cx="987480" cy="6858000"/>
          </a:xfrm>
        </p:grpSpPr>
        <p:pic>
          <p:nvPicPr>
            <p:cNvPr id="177" name="Прямоугольник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E5E7-E7AA-43E1-B1CE-012E833DE79D}"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Прямоугольник 8"/>
          <p:cNvGrpSpPr/>
          <p:nvPr/>
        </p:nvGrpSpPr>
        <p:grpSpPr>
          <a:xfrm>
            <a:off x="8156520" y="0"/>
            <a:ext cx="987480" cy="6858000"/>
            <a:chOff x="8156520" y="0"/>
            <a:chExt cx="987480" cy="6858000"/>
          </a:xfrm>
        </p:grpSpPr>
        <p:pic>
          <p:nvPicPr>
            <p:cNvPr id="221" name="Прямоугольник 8" descr=""/>
            <p:cNvPicPr/>
            <p:nvPr/>
          </p:nvPicPr>
          <p:blipFill>
            <a:blip r:embed="rId2"/>
            <a:stretch/>
          </p:blipFill>
          <p:spPr>
            <a:xfrm>
              <a:off x="8159400" y="0"/>
              <a:ext cx="984240" cy="6858000"/>
            </a:xfrm>
            <a:prstGeom prst="rect">
              <a:avLst/>
            </a:prstGeom>
            <a:ln w="0">
              <a:noFill/>
            </a:ln>
          </p:spPr>
        </p:pic>
        <p:sp>
          <p:nvSpPr>
            <p:cNvPr id="22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C891-0927-4DC0-9EBD-2EC134E539AB}"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Прямоугольник 8"/>
          <p:cNvGrpSpPr/>
          <p:nvPr/>
        </p:nvGrpSpPr>
        <p:grpSpPr>
          <a:xfrm>
            <a:off x="8156520" y="0"/>
            <a:ext cx="987480" cy="6858000"/>
            <a:chOff x="8156520" y="0"/>
            <a:chExt cx="987480" cy="6858000"/>
          </a:xfrm>
        </p:grpSpPr>
        <p:pic>
          <p:nvPicPr>
            <p:cNvPr id="265" name="Прямоугольник 8" descr=""/>
            <p:cNvPicPr/>
            <p:nvPr/>
          </p:nvPicPr>
          <p:blipFill>
            <a:blip r:embed="rId2"/>
            <a:stretch/>
          </p:blipFill>
          <p:spPr>
            <a:xfrm>
              <a:off x="8159400" y="0"/>
              <a:ext cx="984240" cy="6858000"/>
            </a:xfrm>
            <a:prstGeom prst="rect">
              <a:avLst/>
            </a:prstGeom>
            <a:ln w="0">
              <a:noFill/>
            </a:ln>
          </p:spPr>
        </p:pic>
        <p:sp>
          <p:nvSpPr>
            <p:cNvPr id="266"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68"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1ED8-A140-4AA3-83FA-6349005E2831}"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2" descr=""/>
          <p:cNvPicPr/>
          <p:nvPr/>
        </p:nvPicPr>
        <p:blipFill>
          <a:blip r:embed="rId1"/>
          <a:stretch/>
        </p:blipFill>
        <p:spPr>
          <a:xfrm>
            <a:off x="762120" y="512640"/>
            <a:ext cx="7583400" cy="2571840"/>
          </a:xfrm>
          <a:prstGeom prst="rect">
            <a:avLst/>
          </a:prstGeom>
          <a:ln w="0">
            <a:noFill/>
          </a:ln>
        </p:spPr>
      </p:pic>
      <p:pic>
        <p:nvPicPr>
          <p:cNvPr id="309" name="Picture 6" descr="9bfbfa7c87edd202b4d5ad47845f7812"/>
          <p:cNvPicPr/>
          <p:nvPr/>
        </p:nvPicPr>
        <p:blipFill>
          <a:blip r:embed="rId2"/>
          <a:stretch/>
        </p:blipFill>
        <p:spPr>
          <a:xfrm rot="459000">
            <a:off x="5659200" y="3551400"/>
            <a:ext cx="2006640" cy="2724120"/>
          </a:xfrm>
          <a:prstGeom prst="rect">
            <a:avLst/>
          </a:prstGeom>
          <a:ln w="0">
            <a:noFill/>
          </a:ln>
        </p:spPr>
      </p:pic>
      <p:sp>
        <p:nvSpPr>
          <p:cNvPr id="310" name="Прямоугольник 3"/>
          <p:cNvSpPr/>
          <p:nvPr/>
        </p:nvSpPr>
        <p:spPr>
          <a:xfrm>
            <a:off x="714240" y="4286160"/>
            <a:ext cx="4143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imes New Roman"/>
                <a:ea typeface="Times New Roman"/>
              </a:rPr>
              <a:t>Автор проекта: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imes New Roman"/>
                <a:ea typeface="Times New Roman"/>
              </a:rPr>
              <a:t>Шалагин Сергей Николаеви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imes New Roman"/>
                <a:ea typeface="Times New Roman"/>
              </a:rPr>
              <a:t>учитель физической культуры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Прямоугольник 1"/>
          <p:cNvSpPr/>
          <p:nvPr/>
        </p:nvSpPr>
        <p:spPr>
          <a:xfrm>
            <a:off x="762120" y="304920"/>
            <a:ext cx="6781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 </a:t>
            </a:r>
            <a:r>
              <a:rPr b="1" lang="ru-RU" sz="1800" spc="-1" strike="noStrike" u="sng">
                <a:solidFill>
                  <a:srgbClr val="000000"/>
                </a:solidFill>
                <a:uFillTx/>
                <a:latin typeface="Arial"/>
              </a:rPr>
              <a:t>Основная причина травм, полученных в школах</a:t>
            </a:r>
            <a:endParaRPr b="0" lang="en-US" sz="1800" spc="-1" strike="noStrike">
              <a:solidFill>
                <a:srgbClr val="000000"/>
              </a:solidFill>
              <a:latin typeface="Arial"/>
            </a:endParaRPr>
          </a:p>
        </p:txBody>
      </p:sp>
      <p:sp>
        <p:nvSpPr>
          <p:cNvPr id="337" name="Rectangle 1"/>
          <p:cNvSpPr/>
          <p:nvPr/>
        </p:nvSpPr>
        <p:spPr>
          <a:xfrm>
            <a:off x="0" y="825840"/>
            <a:ext cx="8153280" cy="630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сновная причина школьных травм – падение со скользких лестниц и спортивных сооружен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зультаты анализа случаев детского травматизма, проведённого специалистами Роспотребнадзора, свидетельствуют о том, что каждая третья травма получена детьми младшего школьного возраста. Почти 50% всех зарегистрированных травм приходится на детей в возрасте от 11 до 14 л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Школьные травмы включают несчастные случаи  у учащихся дневных общеобразовательных школ всех типов, возникшие в период нахождения в школе (на уроке, включая урок физкультуры, на перемене, в учебных мастерских, на пришкольном участке). Из – за  большой скученности, ежечасного перемещения из класса в класс, коротких перемен, когда детская энергия, накопленная за урок, выплёскивается в течение нескольких минут, травмы неизбежны. Каждая пятая травма со школьниками происходит в самой школе, причём 4/5 из них – на перемене.  Профилактикой детского травматизма сегодня озабочен весь ми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ff0000"/>
                </a:solidFill>
                <a:latin typeface="Times New Roman"/>
                <a:ea typeface="Times New Roman"/>
              </a:rPr>
              <a:t>Дети 11-14 лет составляют группу риска по всем видам травматизм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 всех возрастных группах уровень травматизма среди мальчиков выше по сравнению с девочкам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Травмы верхних конечностей заняли первое место в структуре локализации травм. Второе – травмы головы.  На третьем месте – травмы ног. По тяжести травм более половины всех травм составили перелом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Факторами риска</a:t>
            </a:r>
            <a:r>
              <a:rPr b="0" lang="ru-RU" sz="1400" spc="-1" strike="noStrike">
                <a:solidFill>
                  <a:srgbClr val="000000"/>
                </a:solidFill>
                <a:latin typeface="Times New Roman"/>
                <a:ea typeface="Times New Roman"/>
              </a:rPr>
              <a:t> возникновения травматизма у детей являются: недисциплинированность, неумение распознавать травмоопасную ситуацию, отсутствие необходимых навыков, недооценка степени опасности внезапно возникшей ситуации, физическая слабость, определенные особенности развити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более подвержены травматизму учащиеся с повышенной эмоциональностью и недостаточно развитой способностью к самоконтрол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
          <p:cNvSpPr/>
          <p:nvPr/>
        </p:nvSpPr>
        <p:spPr>
          <a:xfrm>
            <a:off x="0" y="256680"/>
            <a:ext cx="8153280" cy="5421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ледует отметить, что чаще всего травмируются гиперактивные дети и дети, воспитывающиеся в условиях гипер- или гипоопеки. Кроме того, частые травмы получают дети с нарушением функции программирования и контроля собственного поведения, а также со сниженным интеллектом. Более развитые в умственном отношении дети лучше осознают опасность и избегают ее. В структуре интеллекта наиболее важной представляется такая особенность мышления, как способность к анализу, синтезу, обобщению, что связано с умением прогнозировать последствия поступков. Более половины детей, часто получающих травмы, винят в этом либо других людей, либо обстоятельства. Как правило, такие дети несамокритичны и склонны переоценивать свои способности и возможнос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15% случаев основной предпосылкой получения травм детьми являются их индивидуально-психологические особенности: усталость, нервозность, преобладание возбуждения над торможением, импульсивность, с одной стороны, и, наоборот, преобладание торможения над возбуждением, инертность нервных процессов, с друго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счастным случаям больше всего подвержены дети с низкими показателями внимания (концентрация, распределение, переключение), недостаточной сенсомоторной координацией, а также неосмотрительные дети, те, кто обладает низкой выносливостью, боязливые или, наоборот, слишком склонные к риск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60% школьников характерна слабость нервных процессов, что отражается на общей работоспособности и связано с эмоциональной не устойчивость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Эмоционально неустойчивые, импульсивные дети более подвержены травмам, нежели спокойные и уравновешенные. Большинство таких детей по физкультуре имели оценку "тр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
          <p:cNvSpPr/>
          <p:nvPr/>
        </p:nvSpPr>
        <p:spPr>
          <a:xfrm>
            <a:off x="0" y="793440"/>
            <a:ext cx="8077320" cy="606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 любых видах детского травматизма и при планировании профилактических мероприятий необходимо руководствоваться следующими принципам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ёткое построение трудового процесса.</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рамотно организованная воспитательная работа.</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Юридическая грамотность педагогов и администраци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ти должны твёрдо осознавать, что во время уроков труда, физкультуры, химии, физики необходимо быть очень внимательными, собранными, тщательно следовать объяснениям учителя, строго придерживаться техники безопаснос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лассным руководителям необходимо познакомить учащихся с правилами поведения на переменах, в столовой, во время игры на спортивной площадк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ведение учащихся на переменах:</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 время перемен запрещается бегать по коридорам, толкать других учащихся, бросать друг в друга различные предметы и применять физическую сил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Этот запрет связан с заботой о здоровье каждого ученика. Обучающийся должен помнить, что большинство школьных травм случается во время перемен. </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прещается кричать, очень громко разговаривать, шуметь . Ученик обязан понимать, что за короткое время перемены он должен успеть отдохнуть, чтобы нормально работать на следующем уроке.</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прещается во время открывать окна и сидеть на подоконниках, находиться в классе, если нет учителя.</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ветственными за поддержание порядка в коридоре являются ученики и учитель дежурного класса.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 остальные обучающие должны беспрекословно выполнять их требования и распоряже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прещаетс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Прямоугольник 2"/>
          <p:cNvSpPr/>
          <p:nvPr/>
        </p:nvSpPr>
        <p:spPr>
          <a:xfrm>
            <a:off x="1219320" y="2286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ea typeface="Times New Roman"/>
              </a:rPr>
              <a:t>Профилактика школьного травматизм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Прямоугольник 1"/>
          <p:cNvSpPr/>
          <p:nvPr/>
        </p:nvSpPr>
        <p:spPr>
          <a:xfrm>
            <a:off x="0" y="457200"/>
            <a:ext cx="815328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ведение учащихся в столовой:</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чащиеся каждого класса пользуются услугами столовой в соответствии с графиком посещения столовой классами, утверждённым директором школы.  Такой порядок установлен для того, чтобы каждый ученик имел возможность пользоваться столовой в максимально комфортных условиях.</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журные классов приходят в столовую раньше, накрывают с толы и получают блюда для своего класса в порядке очеред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 время приёма пищи можно негромко разговаривать, но следует соблюдать  хорошие манеры, не мешать соседям по столу.</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чащийся имеет право принести в столовую завтрак, принесённый из дома, купить в буфете то, что ему нравится.</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сле приёма пищи учащиеся приводят в порядок стол, за которым ели. Грязную посуду уносят в мойку.</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чащиеся бережно относятся к имуществу  столовой, уважительно относятся к работникам столовой.</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прещается появление в столовой людей в верхней одежд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ведение учителя при обнаружении случаев школьного травматизма:</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читель обязан соблюдать нормы, правила и инструкции по охране труда, пожарной безопасности и правила внутреннего трудового распорядка, график дежурства на переменах.</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медленно сообщить своему непосредственному руководителю о любом несчастном случае, происшедшем в школе, о признаках профессионального заболевания, а также о ситуации, которая создаёт угрозу жизни и здоровью людей.</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 несчастном случае следует оказать помощь пострадавшему в соответствии с  инструкцией по оказанию доврачебной помощи, вызвать работника медицинской службы, родителей учащегося, поставить в известность администратора.</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хранить до расследования обстановку на рабочем месте такой, какой она была в момент происшествия, если это не угрожает жизни и здоровью окружающих и не приведёт к авари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 обнаружении неисправности оборудования, приспособлений сообщить об этом руководителю. Пользоваться и применять  в работе неисправное оборудование и приспособления запрещаетс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Rectangle 2" descr=""/>
          <p:cNvPicPr/>
          <p:nvPr/>
        </p:nvPicPr>
        <p:blipFill>
          <a:blip r:embed="rId1"/>
          <a:stretch/>
        </p:blipFill>
        <p:spPr>
          <a:xfrm>
            <a:off x="609480" y="304920"/>
            <a:ext cx="7242120" cy="1152360"/>
          </a:xfrm>
          <a:prstGeom prst="rect">
            <a:avLst/>
          </a:prstGeom>
          <a:ln w="0">
            <a:noFill/>
          </a:ln>
        </p:spPr>
      </p:pic>
      <p:sp>
        <p:nvSpPr>
          <p:cNvPr id="343" name="Rectangle 3"/>
          <p:cNvSpPr/>
          <p:nvPr/>
        </p:nvSpPr>
        <p:spPr>
          <a:xfrm>
            <a:off x="228600" y="1981080"/>
            <a:ext cx="5119560" cy="1727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0000"/>
                </a:solidFill>
                <a:latin typeface="Trebuchet MS"/>
              </a:rPr>
              <a:t>Организация перемен</a:t>
            </a:r>
            <a:endParaRPr b="0" lang="en-US" sz="2600" spc="-1" strike="noStrike">
              <a:solidFill>
                <a:srgbClr val="000000"/>
              </a:solidFill>
              <a:latin typeface="Arial"/>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0000"/>
                </a:solidFill>
                <a:latin typeface="Trebuchet MS"/>
              </a:rPr>
              <a:t>Дежурство</a:t>
            </a:r>
            <a:endParaRPr b="0" lang="en-US" sz="2600" spc="-1" strike="noStrike">
              <a:solidFill>
                <a:srgbClr val="000000"/>
              </a:solidFill>
              <a:latin typeface="Arial"/>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0000"/>
                </a:solidFill>
                <a:latin typeface="Trebuchet MS"/>
              </a:rPr>
              <a:t>Инструктажи</a:t>
            </a:r>
            <a:endParaRPr b="0" lang="en-US" sz="2600" spc="-1" strike="noStrike">
              <a:solidFill>
                <a:srgbClr val="000000"/>
              </a:solidFill>
              <a:latin typeface="Arial"/>
            </a:endParaRPr>
          </a:p>
        </p:txBody>
      </p:sp>
      <p:pic>
        <p:nvPicPr>
          <p:cNvPr id="344" name="Picture 4" descr="для презентации чтение 011"/>
          <p:cNvPicPr/>
          <p:nvPr/>
        </p:nvPicPr>
        <p:blipFill>
          <a:blip r:embed="rId2"/>
          <a:stretch/>
        </p:blipFill>
        <p:spPr>
          <a:xfrm>
            <a:off x="1219320" y="4191120"/>
            <a:ext cx="2539800" cy="1904760"/>
          </a:xfrm>
          <a:prstGeom prst="rect">
            <a:avLst/>
          </a:prstGeom>
          <a:ln w="0">
            <a:noFill/>
          </a:ln>
        </p:spPr>
      </p:pic>
      <p:pic>
        <p:nvPicPr>
          <p:cNvPr id="345" name="Picture 5" descr="для презентации чтение 005"/>
          <p:cNvPicPr/>
          <p:nvPr/>
        </p:nvPicPr>
        <p:blipFill>
          <a:blip r:embed="rId3"/>
          <a:stretch/>
        </p:blipFill>
        <p:spPr>
          <a:xfrm>
            <a:off x="4495680" y="1981080"/>
            <a:ext cx="2843280" cy="213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Rectangle 2" descr=""/>
          <p:cNvPicPr/>
          <p:nvPr/>
        </p:nvPicPr>
        <p:blipFill>
          <a:blip r:embed="rId1"/>
          <a:stretch/>
        </p:blipFill>
        <p:spPr>
          <a:xfrm>
            <a:off x="536400" y="231840"/>
            <a:ext cx="7236000" cy="1139760"/>
          </a:xfrm>
          <a:prstGeom prst="rect">
            <a:avLst/>
          </a:prstGeom>
          <a:ln w="0">
            <a:noFill/>
          </a:ln>
        </p:spPr>
      </p:pic>
      <p:pic>
        <p:nvPicPr>
          <p:cNvPr id="347" name="Заголовок 1" descr=""/>
          <p:cNvPicPr/>
          <p:nvPr/>
        </p:nvPicPr>
        <p:blipFill>
          <a:blip r:embed="rId2"/>
          <a:stretch/>
        </p:blipFill>
        <p:spPr>
          <a:xfrm>
            <a:off x="2057400" y="1295280"/>
            <a:ext cx="4356000" cy="935280"/>
          </a:xfrm>
          <a:prstGeom prst="rect">
            <a:avLst/>
          </a:prstGeom>
          <a:ln w="0">
            <a:noFill/>
          </a:ln>
        </p:spPr>
      </p:pic>
      <p:sp>
        <p:nvSpPr>
          <p:cNvPr id="348" name="Rectangle 6"/>
          <p:cNvSpPr/>
          <p:nvPr/>
        </p:nvSpPr>
        <p:spPr>
          <a:xfrm>
            <a:off x="0" y="2286000"/>
            <a:ext cx="7162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недисциплинированностью;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неумением распознавать травмоопасную ситуацию;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необученностью необходимым навыкам повед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недооценкой степени опасности внезапно возникшей ситуаци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физической слабостью;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определенными особенностями развития.</a:t>
            </a:r>
            <a:endParaRPr b="0" lang="en-US" sz="1800" spc="-1" strike="noStrike">
              <a:solidFill>
                <a:srgbClr val="000000"/>
              </a:solidFill>
              <a:latin typeface="Arial"/>
            </a:endParaRPr>
          </a:p>
        </p:txBody>
      </p:sp>
      <p:sp>
        <p:nvSpPr>
          <p:cNvPr id="349" name="Rectangle 4"/>
          <p:cNvSpPr/>
          <p:nvPr/>
        </p:nvSpPr>
        <p:spPr>
          <a:xfrm>
            <a:off x="0" y="4648320"/>
            <a:ext cx="8153280" cy="2827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rebuchet MS"/>
              </a:rPr>
              <a:t>Систематически на первых уроках физкультуры в каждой четверти проводится инструктаж учащихся по правилам поведения и по охране труда и здоровья при занятиях физическими упражнениями.</a:t>
            </a:r>
            <a:endParaRPr b="0" lang="en-US" sz="1800" spc="-1" strike="noStrike">
              <a:solidFill>
                <a:srgbClr val="000000"/>
              </a:solidFill>
              <a:latin typeface="Arial"/>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rebuchet MS"/>
              </a:rPr>
              <a:t>В журнале инструктажа фиксируются дата проведения и росписи учителя и учащихся.</a:t>
            </a:r>
            <a:endParaRPr b="0" lang="en-US" sz="1800" spc="-1" strike="noStrike">
              <a:solidFill>
                <a:srgbClr val="000000"/>
              </a:solidFill>
              <a:latin typeface="Arial"/>
            </a:endParaRPr>
          </a:p>
        </p:txBody>
      </p:sp>
      <p:pic>
        <p:nvPicPr>
          <p:cNvPr id="350" name="Rectangle 2" descr=""/>
          <p:cNvPicPr/>
          <p:nvPr/>
        </p:nvPicPr>
        <p:blipFill>
          <a:blip r:embed="rId3"/>
          <a:stretch/>
        </p:blipFill>
        <p:spPr>
          <a:xfrm>
            <a:off x="841320" y="4346640"/>
            <a:ext cx="7236000" cy="113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1" name=""/>
          <p:cNvGraphicFramePr/>
          <p:nvPr/>
        </p:nvGraphicFramePr>
        <p:xfrm>
          <a:off x="0" y="0"/>
          <a:ext cx="8153280" cy="6858000"/>
        </p:xfrm>
        <a:graphic>
          <a:graphicData uri="http://schemas.openxmlformats.org/drawingml/2006/table">
            <a:tbl>
              <a:tblPr/>
              <a:tblGrid>
                <a:gridCol w="2717640"/>
                <a:gridCol w="2718000"/>
                <a:gridCol w="2717640"/>
              </a:tblGrid>
              <a:tr h="702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00"/>
                          </a:solidFill>
                          <a:uFillTx/>
                          <a:latin typeface="Times New Roman"/>
                          <a:ea typeface="Times New Roman"/>
                        </a:rPr>
                        <a:t>Частой причиной травм становятся падение с лестницы, реже — с учебных столов или парт, подоконников, а также вследствие «подножек».</a:t>
                      </a:r>
                      <a:r>
                        <a:rPr b="0" lang="ru-RU" sz="1100" spc="-1" strike="noStrike">
                          <a:solidFill>
                            <a:srgbClr val="000000"/>
                          </a:solidFill>
                          <a:latin typeface="Times New Roman"/>
                          <a:ea typeface="Times New Roman"/>
                        </a:rPr>
                        <a:t> Травмы могут причинить </a:t>
                      </a:r>
                      <a:r>
                        <a:rPr b="0" lang="ru-RU" sz="1100" spc="-1" strike="noStrike" u="sng">
                          <a:solidFill>
                            <a:srgbClr val="000000"/>
                          </a:solidFill>
                          <a:uFillTx/>
                          <a:latin typeface="Times New Roman"/>
                          <a:ea typeface="Times New Roman"/>
                        </a:rPr>
                        <a:t>различные колющие и режущие предметы — остро отточенные карандаши, ручки, циркули, кнопки, угольники, ножницы </a:t>
                      </a:r>
                      <a:r>
                        <a:rPr b="0" lang="ru-RU" sz="1100" spc="-1" strike="noStrike">
                          <a:solidFill>
                            <a:srgbClr val="000000"/>
                          </a:solidFill>
                          <a:latin typeface="Times New Roman"/>
                          <a:ea typeface="Times New Roman"/>
                        </a:rPr>
                        <a:t>и другие при неосторожном их применении и баловстве. Дурные шутки, например, гвоздь или карандаш на сиденье парты, на которую сядет другой ученик, могут стать причиной серьезных повреждений.</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Работы по общественно полезному труду должны выполняться только в специальной одежде (халаты, комбинезоны, фартуки и др.). При выполнении работ с деревом и металлом учащиеся должны быть знакомы как с общими, так и частными правилами техники безопасности. Прежде чем приняться за шитье, надо научиться правильно пользоваться швейной машиной. Перед работой следует проверить, все ли в исправности. Перед тем как пользоваться электрическим утюгом, следует предварительно проверить исправность провода, убедиться в том, что на нем нет оголенных мест. Прикосновение к оголенному проводу включенного в сеть утюга может вызвать ожог и поражение электрическим током.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Мамы и папы, учите дома своих детей владеть молотком и швейной иглой, готовить еду!</a:t>
                      </a:r>
                      <a:r>
                        <a:rPr b="1" lang="ru-RU" sz="1200" spc="-1" strike="noStrike">
                          <a:solidFill>
                            <a:srgbClr val="000000"/>
                          </a:solidFill>
                          <a:latin typeface="Times New Roman"/>
                          <a:ea typeface="Times New Roman"/>
                        </a:rPr>
                        <a:t> Плохо подогнанная одежда и обувь при занятиях физкультурой и спортом могут также стать причиной различных повреждени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imes New Roman"/>
                          <a:ea typeface="Times New Roman"/>
                        </a:rPr>
                        <a:t>ПРОФИЛАКТИКА ШКОЛЬНОГО</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imes New Roman"/>
                          <a:ea typeface="Times New Roman"/>
                        </a:rPr>
                        <a:t>ТРАВМАТИЗМА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Основная мера предупреждения травм в школе - это привитие учащимся дисциплинированного поведения, прочных навыков осмотрительност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Обувь не должна стеснять стопу, она должна соответствовать форме ноги, быть легкой и удобной. Как в одежде, так и в спортивной обуви следует избегать различных металлических включений (застежки, пряжки и пр.), которые могут быть причиной всякого рода повреждени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Для предупреждения травм при игре в волейбол применяются специальные наколенники, налокотники, голеностопники. Кожаная обувь для игры в волейбол или баскетбол в зале не подходит. Из резиновой обуви предпочтительнее кеды и полукеды, исключающие скольжение. Хорошее знание правил игры в баскетбол всеми занимающимися снижает число случаев травматизма. Цвет одежды у игроков команд-соперниц во избежание столкновений должен быть различны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Следует помнить, что нельзя кататься на лыжах в той местности, где имеются заборы, ямы, проволока и пр.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Родителям и педагогам надо рассказать школьникам, какую опасность для здоровья представляют травмы, ознакомить с мерами по их предупреждению, привлечь внимание самих учащихся к профилактической работе.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pic>
        <p:nvPicPr>
          <p:cNvPr id="352" name="Picture 10" descr="00032020"/>
          <p:cNvPicPr/>
          <p:nvPr/>
        </p:nvPicPr>
        <p:blipFill>
          <a:blip r:embed="rId1"/>
          <a:stretch/>
        </p:blipFill>
        <p:spPr>
          <a:xfrm>
            <a:off x="609480" y="5710320"/>
            <a:ext cx="1676520" cy="1147680"/>
          </a:xfrm>
          <a:prstGeom prst="rect">
            <a:avLst/>
          </a:prstGeom>
          <a:ln w="0">
            <a:noFill/>
          </a:ln>
        </p:spPr>
      </p:pic>
      <p:pic>
        <p:nvPicPr>
          <p:cNvPr id="353" name="Picture 2" descr="ШКОЛЬНЫЙ ТРАВМАТИЗМ"/>
          <p:cNvPicPr/>
          <p:nvPr/>
        </p:nvPicPr>
        <p:blipFill>
          <a:blip r:embed="rId2"/>
          <a:stretch/>
        </p:blipFill>
        <p:spPr>
          <a:xfrm>
            <a:off x="2895480" y="2590920"/>
            <a:ext cx="2362320" cy="1887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Прямоугольник 2"/>
          <p:cNvSpPr/>
          <p:nvPr/>
        </p:nvSpPr>
        <p:spPr>
          <a:xfrm>
            <a:off x="380880" y="152280"/>
            <a:ext cx="7467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ea typeface="Times New Roman"/>
              </a:rPr>
              <a:t>Цикл занятий с элементами двигательной активности и тренинга, направленных на профилактику детского травматизм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ea typeface="Times New Roman"/>
              </a:rPr>
              <a:t>в начальной школе</a:t>
            </a:r>
            <a:endParaRPr b="0" lang="en-US" sz="1800" spc="-1" strike="noStrike">
              <a:solidFill>
                <a:srgbClr val="000000"/>
              </a:solidFill>
              <a:latin typeface="Arial"/>
            </a:endParaRPr>
          </a:p>
        </p:txBody>
      </p:sp>
      <p:sp>
        <p:nvSpPr>
          <p:cNvPr id="355" name="Rectangle 2"/>
          <p:cNvSpPr/>
          <p:nvPr/>
        </p:nvSpPr>
        <p:spPr>
          <a:xfrm>
            <a:off x="0" y="1299240"/>
            <a:ext cx="8153280" cy="946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нятия могут проводиться учителем физической культуры, а также психологом (с заменой некоторых упражнений, требующих большого пространства). Занятия и их элементы можно использовать при проведении классных часов и уроков здоровья. Они также могут быть интересны инструкторам и воспитателям в лагерях отдыха.</a:t>
            </a:r>
            <a:endParaRPr b="0" lang="en-US" sz="1400" spc="-1" strike="noStrike">
              <a:solidFill>
                <a:srgbClr val="000000"/>
              </a:solidFill>
              <a:latin typeface="Arial"/>
            </a:endParaRPr>
          </a:p>
        </p:txBody>
      </p:sp>
      <p:sp>
        <p:nvSpPr>
          <p:cNvPr id="356" name="Rectangle 3"/>
          <p:cNvSpPr/>
          <p:nvPr/>
        </p:nvSpPr>
        <p:spPr>
          <a:xfrm>
            <a:off x="0" y="2609640"/>
            <a:ext cx="8153280" cy="371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нятие "Умей слушать и слышать – 1"</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ель: развитие моторно-слухового восприятия и моторно-слуховой памят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вентарь: обруч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водная часть: беседа о различиях понятий "слушать" и "слышать", а также о ситуациях, когда важна информация, воспринимаемая на слух (переход улицы, посадка в автобус, поезд и д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инка: ходьба в колонне, легкий бег, ходьба с построением в звень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вижные игры основной части:</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вижение по памяти": водящий ребенок изучает или проходит для запоминания по начерченной зигзагообразной линии. Затем ему нужно пройти по ней с закрытыми (завязанными) глазами. Выигрывает тот, кто лучше справится с заданием;</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ови, бросай, упасть не давай": мяч перебрасывается в одном направлении по кругу между стоящими на расстоянии двух метров учащимися. По сигналу учителя дети меняют направление передачи мяча;</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Эстафета "Болото" собручами: участники команды делятся на пары: один переходит через "болото", наступая в лежащий на полу обруч, второй перекладывает обручи, прокладывая "дорогу через болото". При возвращении к месту старта участники меняются ролям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ительная часть: ходьба змейкой за водящи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машнее задание: запомнить и суметь показать выполненные на занятии упражнени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1"/>
          <p:cNvSpPr/>
          <p:nvPr/>
        </p:nvSpPr>
        <p:spPr>
          <a:xfrm>
            <a:off x="0" y="412200"/>
            <a:ext cx="8153280" cy="627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нятие "Умей слушать и слышать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ель: развитие моторно-слухового восприятия и моторно-слуховой памя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водная часть: учитель (ведущий) напоминает учащимся о роли восприятия и памяти в современной жизни и об их связи с физическими действиям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инка: ходьба, легкий бег, ускорение на отрезках прямой. Бег спиной вперед, прыжки с ноги на ногу, прыжки на двух ногах с глубоким приседом (преодоление дистанции за наименьшее количество прыжков). Затем – упражнение "Запомни движение", в ходе которого дети повторяют за ведущим движения рук и ног. Запомнив очередность упражнений, они самостоятельно повторяют их в обратном порядк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меры движений:</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сесть, встать, поднять руки, опустить;</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ставить правую ногу вправо, приставить; отставить левую ногу влево, приставить;</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сесть, встать, повернуть голову вправо, повернуть голову влево, повернуть голову прям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щеразвивающая игра основной части: "Запретная цифра". Дети стоят по кругу. Выбирается "запретная" цифра, например – "три". Вместо ее произнесения участник должен хлопать в ладоши. Игра начинается, когда первый ребенок говорит "один", следующий продолжает счет, и так до трех. Вместо произнесения цифры "три" следующий участник хлопает в ладоши. Счет продолжается, нельзя произносить числа с цифрой "три" или кратные трем (9, 12 и т. д.). Тот, кто назовет число с цифрой "три", выбывает из игр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вижные игры основной част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абочки и стрекозы": игроки в двух шеренгах располагаются в середине площадки спиной друг к другу на расстоянии одного шага. Команды получают названия "Бабочки" и "Стрекозы". Ведущий, стоя сбоку, называет одну из команд. Ее игроки должны как можно быстрее убежать за линию, обозначенную в десяти шагах от них. Игроки другой команды, повернувшись кругом, устремляются вдогонку. Сколько игроков они сумеют осалить до черты дома, столько получат очков. Из игры никто не выбывает, все участники вновь выстраиваются в шеренги. Побеждает команда, сумевшая за одинаковое количество перебежек набрать большее количество очков. (Команды можно вызывать в произвольном порядке. В исходном положении дети могут сидеть или стоять на коленя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
          <p:cNvSpPr/>
          <p:nvPr/>
        </p:nvSpPr>
        <p:spPr>
          <a:xfrm>
            <a:off x="0" y="37800"/>
            <a:ext cx="8153280" cy="712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ительная часть: дыхательные упражнения: на четыре счета глубокий вдох, на четыре счета медленный выдох ("спущенный мяч"); на два счета резкий глубокий вдох, на четыре счета медленный глубокий выдох; на четыре счета глубокий вдох ("всей грудью"), на два счета – резкий выдох ("живото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машнее задание: запомнить показанные учителем упражнения и воспроизвести их на следующем уроке (1. На счет один – руки за голову; два – присесть; три – встать, руки на поясе; четыре – опустить руки, встать ровно. 2. Руки на поясе. На счет один – шаг правой ногой вперед, руки перед грудью; два – приставить левую ногу, руки в стороны; три – руки за голову; четыре – встать ровно, руки на поя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нятие "Развиваем память и внимани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ель: развитие внимания и способности к переключению на другую деятельност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водная часть: выполнение домашнего зад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инка: ходьба в колонне, бег, ходьба змейко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реходя к подвижной игре, ведущий напоминает о внимании, которое необходимо на улице. Учащимся предлагается объяснить: почему и для кого именно важно внимание (для водителей и для пешеход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вижные игры основной час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шины и пешеходы": обучающиеся разделяются на две команды: "машины" и "пешеходы". "Машины" идут по параллельным "улицам" змейкой на полусогнутых ногах, руки перед собой "сжимают руль". "Пешеходы" пересекают "улицу" в отведенных местах. Водящий – "милиционер" поднимает руку – движутся "машины", опускает – идут "пешеходы". Если кто-либо вовремя не останавливается, его штрафуют (выводят из игр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онка мяча": две команды встают в две шеренги друг против друга на расстоянии 3–5 м. В каждой команде играющие рассчитываются на первый и второй номера. Первые номера в обеих шеренгах составляют одну команду, вторые – другую. По сигналу прогоняют (перебрасывают) мяч сначала первые номера, потом вторые. Каждая команда прогоняет мяч до пяти раз. Передавать мяч следует только игроку своей команды и в порядке очереди. Принимая мяч, играющий может выходить из шеренги. Играющий, уронивший мяч, передает его команде противника. Ведущий считает штрафные очки за каждый упавший мяч. Побеждает команда, набравшая меньшее количество штрафных очк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ительная часть: бег с переходом на ходьбу змейкой за водящи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машнее задание: на протяжении одной минуты смотреть, не отвлекаясь, на любой неподвижный предмет. Во время прогулки наблюдать за полетом воробьев, других птиц, стараясь не выпускать их из вид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0" y="228600"/>
            <a:ext cx="8229600" cy="6019920"/>
          </a:xfrm>
          <a:prstGeom prst="rect">
            <a:avLst/>
          </a:prstGeom>
          <a:noFill/>
          <a:ln w="0">
            <a:noFill/>
          </a:ln>
        </p:spPr>
        <p:txBody>
          <a:bodyPr anchor="t">
            <a:normAutofit fontScale="95000"/>
          </a:bodyPr>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едметная область:</a:t>
            </a:r>
            <a:r>
              <a:rPr b="0" lang="ru-RU" sz="1400" spc="-1" strike="noStrike">
                <a:solidFill>
                  <a:srgbClr val="000000"/>
                </a:solidFill>
                <a:latin typeface="Times New Roman"/>
                <a:ea typeface="Times New Roman"/>
              </a:rPr>
              <a:t> физическая культура.</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частники проекта:</a:t>
            </a:r>
            <a:r>
              <a:rPr b="0" lang="ru-RU" sz="1400" spc="-1" strike="noStrike">
                <a:solidFill>
                  <a:srgbClr val="000000"/>
                </a:solidFill>
                <a:latin typeface="Times New Roman"/>
                <a:ea typeface="Times New Roman"/>
              </a:rPr>
              <a:t> учащиеся МБОУ «Пестяковской СШ».</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Цель:</a:t>
            </a:r>
            <a:r>
              <a:rPr b="0" lang="ru-RU" sz="18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ыяснить, что является основными причинами детского школьного травматизма, сформулировать правила, следуя которым можно избежать травм.</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дачи:</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ктуализировать представления учащихся об опасных жизненных ситуациях.</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сследовать причины, по которым происходят детские школьные травмы.</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учить понимать необходимость соблюдения правил поведения в школьном учреждении; провести санитарно-просветительскую работу среди учащихся.</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ормировать навыки безопасного поведения учащихся в школьном учреждении</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спитывать чувство  ответственности за свою жизнь и за тех, кто рядом, дисциплинированность.</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смыслить полученный опыт и выработать алгоритм поведения в опасных ситуациях.</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Описание:</a:t>
            </a:r>
            <a:r>
              <a:rPr b="0" lang="ru-RU" sz="1400" spc="-1" strike="noStrike">
                <a:solidFill>
                  <a:srgbClr val="000000"/>
                </a:solidFill>
                <a:latin typeface="Times New Roman"/>
                <a:ea typeface="Times New Roman"/>
              </a:rPr>
              <a:t> работа над проектом «Профилактика детского школьного травматизма» осуществлялась в учебное и во внеурочное время, направлена  на здоровый образ жизни учащихся.</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Тип проекта: </a:t>
            </a:r>
            <a:r>
              <a:rPr b="0" lang="ru-RU" sz="1400" spc="-1" strike="noStrike">
                <a:solidFill>
                  <a:srgbClr val="000000"/>
                </a:solidFill>
                <a:latin typeface="Times New Roman"/>
                <a:ea typeface="Times New Roman"/>
              </a:rPr>
              <a:t>учебный</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Microsoft Office Word, Microsoft Office PowerPoint, Microsoft Office Publisher, Microsoft Internet Explorer</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лючевые слова:</a:t>
            </a:r>
            <a:r>
              <a:rPr b="0" lang="ru-RU" sz="1400" spc="-1" strike="noStrike">
                <a:solidFill>
                  <a:srgbClr val="000000"/>
                </a:solidFill>
                <a:latin typeface="Times New Roman"/>
                <a:ea typeface="Times New Roman"/>
              </a:rPr>
              <a:t> школьный травматизм, алгоритм безопасного поведения</a:t>
            </a: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59200" indent="-25920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уководитель проекта:</a:t>
            </a:r>
            <a:r>
              <a:rPr b="0" lang="ru-RU" sz="1400" spc="-1" strike="noStrike">
                <a:solidFill>
                  <a:srgbClr val="000000"/>
                </a:solidFill>
                <a:latin typeface="Times New Roman"/>
                <a:ea typeface="Times New Roman"/>
              </a:rPr>
              <a:t>  Шалагин Сергей Николаевич – учитель физической культуры МБОУ «Пестяковской СШ»</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
          <p:cNvSpPr/>
          <p:nvPr/>
        </p:nvSpPr>
        <p:spPr>
          <a:xfrm>
            <a:off x="0" y="146880"/>
            <a:ext cx="8153280" cy="4995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нятие "Развиваем наблюдательность – 1"</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ель: развитие наблюдательности в процессе двигательной активност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водная часть: в качестве примера наблюдательности учитель приводит деятельность Шерлока Холмса. Затем все вместе обсуждают роль наблюдательности в современной жизни: при переходе улицы (как для пешехода, так и для водителя), в армии, при совершении покупок в магазине, во время подвижных и спортивных игр, на воде, при входе в подъезд дом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инка: ходьба в колонне, легкий бег со сменой направления по сигналу: один хлопок – повернуться и бежать в противоположном направлении, два хлопка – повернуться на 360 градусов и бежать в том же направлени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вижные игры основной части:</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ставить посты": дети, построенные колонной во главе с "командиром" идут друг за другом. Когда "командир" хлопнет в ладоши, замыкающий колонну должен остановиться. Если раздаются два хлопка, должны остановиться двое из замыкающих, если раздаются три хлопка, никто не останавливается. Игра заканчивается, когда "командир" расставит всех участников игры;</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пей подхватить": игроки стоят в кругу, рассчитавшись по порядку номеров. Ведущий подбрасывает мяч, одновременно называя один из номеров. Вызванный должен подхватить его. Если ему это удается, он становится ведущим. В эту игру можно играть, сидя за столом. В этом случае ведущий придерживает пальцем вертикально стоящий карандаш, который должен подхватить вызванны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ительная часть: бег с переходом на ходьбу змейкой за водящи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машнее задание: по дороге из школы домой спрашивать друг у друга, что они только что видели (какая машина только что проехала мимо, какие мужчина или женщина прошли мимо, в чем они одеты, сколько ступенек на лестнице и т. д.).</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
          <p:cNvSpPr/>
          <p:nvPr/>
        </p:nvSpPr>
        <p:spPr>
          <a:xfrm>
            <a:off x="0" y="437400"/>
            <a:ext cx="8153280" cy="499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нятие "Развиваем наблюдательность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ель: развитие наблюдательности в процессе двигательной активнос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водная часть: учитель рассказывает о том, как можно избежать риска, почему важно быть наблюдательным и быстро принимать решени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инка: учащиеся делятся на две группы. Первая группа принимает позы "группового портрета", вторая в это время отворачивается, затем, повернувшись, запоминает "портрет" и снова отворачивается. Дети из первой группы меняют позы. Вторая группа должна определить произошедшие измене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вижные игры основной част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помни свое место": участники игры стоят в кругу, каждый должен запомнить свое мес то. Когда зазвучит музыка или будет подан сигнал, они разбегутся, но с окончанием музыки или по новому сигналу каждый должен вернуться на свое место;</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репость": в центре помещения обозначается круг, который является крепостью. Игроки делятся на защитников и нападающих. Последние должны прорваться сквозь кольцо защитников и наступить на круг (крепость) и при этом не быть пойманными. Тот нападающий, которого поймали, выбывает из игры. Нападающим засчитывается очко, если они завоюют крепость. Если же всех нападающих поймают защитники, участники игры меняются ролями, но очков не получает никто. Побеждает команда, набравшая наибольшее количество очк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ительная часть: упражнения на расслабление:</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нять руки вверх, потрясти кистями, уронить их;</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тянуть руки вперед, несколько раз сжать и разжать пальцы рук, уронить рук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ложить руки за голову, потянуться, уронить рук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прыгать с ноги на ногу с одновременным потряхиванием но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
          <p:cNvSpPr/>
          <p:nvPr/>
        </p:nvSpPr>
        <p:spPr>
          <a:xfrm>
            <a:off x="0" y="628200"/>
            <a:ext cx="8153280" cy="371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нятие "Умей сосредоточиться – 1"</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ель: развитие способности к сосредоточени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вентарь: детские мячи, магнитофон с релаксационной музыко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водная часть: беседа о понятии и роли сосредоточения на уроках, в отдельных играх, на работ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инка: выбирается произвольно.</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вижные игры основной части:</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ернись на место": на полу рисуют или выкладывают лентой круг диаметром около одного метра. Водящий становится в круг, закрывает глаза (можно их завязать), делает четыре шага вперед, поворачивается на 180 градусов и, возвращаясь обратно, должен снова оказаться в круге;</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о быстрее": двое-трое водящих располагаются в кругу, остальные – за линией круга. По сигналу игроки входят в круг и выходят из него. Водящие стараются их поймать. Пойманные водят. Затем ведущий на примере игры показывает, как важно уметь сосредоточиватьс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ительная часть: упражнение "</a:t>
            </a:r>
            <a:r>
              <a:rPr b="0" i="1" lang="ru-RU" sz="1400" spc="-1" strike="noStrike">
                <a:solidFill>
                  <a:srgbClr val="000000"/>
                </a:solidFill>
                <a:latin typeface="Times New Roman"/>
                <a:ea typeface="Times New Roman"/>
              </a:rPr>
              <a:t>Факир</a:t>
            </a:r>
            <a:r>
              <a:rPr b="0" lang="ru-RU" sz="1400" spc="-1" strike="noStrike">
                <a:solidFill>
                  <a:srgbClr val="000000"/>
                </a:solidFill>
                <a:latin typeface="Times New Roman"/>
                <a:ea typeface="Times New Roman"/>
              </a:rPr>
              <a:t>". Дети садятся на маты (коврики), скрестив ноги по-турецки, руки на коленях, кисти свисают вниз, голова опущена, спина и шея расслаблены, глаза закрыты. Пока звучит расслабляющая музыка, дети отдыхаю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машнее задание: внимательно рассмотреть незнакомый предмет в течение 2–3 минут, потом, закрыв глаза, описать ег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Прямоугольник 1"/>
          <p:cNvSpPr/>
          <p:nvPr/>
        </p:nvSpPr>
        <p:spPr>
          <a:xfrm>
            <a:off x="0" y="533520"/>
            <a:ext cx="8077320" cy="52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нятие "Умей сосредоточиться – 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ель: развитие способности к сосредоточени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водная часть: беседа о роли сосредоточени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инка: Игра-упражнение "</a:t>
            </a:r>
            <a:r>
              <a:rPr b="0" i="1" lang="ru-RU" sz="1400" spc="-1" strike="noStrike">
                <a:solidFill>
                  <a:srgbClr val="000000"/>
                </a:solidFill>
                <a:latin typeface="Times New Roman"/>
                <a:ea typeface="Times New Roman"/>
              </a:rPr>
              <a:t>Будь внимателен</a:t>
            </a:r>
            <a:r>
              <a:rPr b="0" lang="ru-RU" sz="1400" spc="-1" strike="noStrike">
                <a:solidFill>
                  <a:srgbClr val="000000"/>
                </a:solidFill>
                <a:latin typeface="Times New Roman"/>
                <a:ea typeface="Times New Roman"/>
              </a:rPr>
              <a:t>". Дети стоят в шеренгу и желательно под музыку маршируют. Учитель произвольно, с разными интервалами и вперемешку дает команды. Дети должны выполнять их:</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йчики! – Дети прыгают, имитируя движение зайцев.</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ошадки! – Ударяют ногой об пол, будто лошадь бьет копытом.</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ки! – Пятятся назад, как раки.</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тицы! – Бегают, раскинув руки или (стоя на месте) машут руками.</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ист! – Прыгают на месте на одной ноге.</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ягушка! – Приседают и скачут вприсядк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вижные игры основной части: "</a:t>
            </a:r>
            <a:r>
              <a:rPr b="0" i="1" lang="ru-RU" sz="1400" spc="-1" strike="noStrike">
                <a:solidFill>
                  <a:srgbClr val="000000"/>
                </a:solidFill>
                <a:latin typeface="Times New Roman"/>
                <a:ea typeface="Times New Roman"/>
              </a:rPr>
              <a:t>Ловишки</a:t>
            </a:r>
            <a:r>
              <a:rPr b="0" lang="ru-RU" sz="1400" spc="-1" strike="noStrike">
                <a:solidFill>
                  <a:srgbClr val="000000"/>
                </a:solidFill>
                <a:latin typeface="Times New Roman"/>
                <a:ea typeface="Times New Roman"/>
              </a:rPr>
              <a:t>". Водящий ("ловишка") передвигается вдоль разделительной линии в середине зала. Дети по команде стараются перебежать на другую сторону, а он не пускает их. Тот, кого "ловишка" удержит (не пропустит), становится, в свою очередь, "ловишко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ительная часть: дыхательные упражнения:</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два счета – глубокий вдох, еще на два – глубокий выдох;</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два счета – глубокий вдох, на два-три – задержать дыхание, на четыре – медленный выдох;</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четыре счета – глубокий вдох, еще на два – задержать дыхание, еще на два – резкий выдох ("животом");</a:t>
            </a:r>
            <a:endParaRPr b="0" lang="en-US" sz="1400" spc="-1" strike="noStrike">
              <a:solidFill>
                <a:srgbClr val="000000"/>
              </a:solidFill>
              <a:latin typeface="Arial"/>
            </a:endParaRPr>
          </a:p>
          <a:p>
            <a:pPr algn="just">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извольное глубокое дыхание через полуоткрытый рот ("со свисто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машнее задание: предложить родителям (близким) выполнить дома упражнение "</a:t>
            </a:r>
            <a:r>
              <a:rPr b="0" i="1" lang="ru-RU" sz="1400" spc="-1" strike="noStrike">
                <a:solidFill>
                  <a:srgbClr val="000000"/>
                </a:solidFill>
                <a:latin typeface="Times New Roman"/>
                <a:ea typeface="Times New Roman"/>
              </a:rPr>
              <a:t>Волшебное слово</a:t>
            </a:r>
            <a:r>
              <a:rPr b="0" lang="ru-RU" sz="1400" spc="-1" strike="noStrike">
                <a:solidFill>
                  <a:srgbClr val="000000"/>
                </a:solidFill>
                <a:latin typeface="Times New Roman"/>
                <a:ea typeface="Times New Roman"/>
              </a:rPr>
              <a:t>" и дыхательные упражнени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1"/>
          <p:cNvSpPr/>
          <p:nvPr/>
        </p:nvSpPr>
        <p:spPr>
          <a:xfrm>
            <a:off x="0" y="402480"/>
            <a:ext cx="8153280" cy="41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нятие "Развивай глазоме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ель: развитие глазомер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вентарь: детские мячи, обручи, кегли, рулет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водная часть: беседа о понятии и роли глазомера в повседневной жизн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минка: ходьба со сменой направления, перестроение через центр в две колонны. Бег в парах, взявшись за руки, с резкой остановкой по сигналу (нужно следить, чтобы пары не разрывались). Спокойная ходьба, построение в звень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вижные игры основной част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помни свое место": участники стоят в кругу или в различных углах зала, каждый должен запомнить свое место. Когда зазвучит музыка или будет подан сигнал, они разбегутся, но с окончанием музыки или подачей нового сигнала каждый должен вернуться на свое место;</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ребрось мяч": может выполняться в различных условиях. В спортивном зале учащимся можно предложить попасть в баскетбольную корзину броском мяча снизу. Возможные варианты – сбить расставленные кегли, бросить мяч на определенное расстояние (2–10 м). В небольшом помещении (классе) им можно предложить определить, на какой странице в книге лежит заклад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ительная часть: по команде ведущего посмотреть вправо, влево, вверх, вниз.</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машнее задание: определить с помощью глазомера (в шагах) расстояние между деревьями, домами, проверить себ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0" y="838080"/>
            <a:ext cx="8229600" cy="5639040"/>
          </a:xfrm>
          <a:prstGeom prst="rect">
            <a:avLst/>
          </a:prstGeom>
          <a:noFill/>
          <a:ln w="0">
            <a:noFill/>
          </a:ln>
        </p:spPr>
        <p:txBody>
          <a:bodyPr anchor="t">
            <a:normAutofit/>
          </a:bodyPr>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ктуальность:</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Каждый день в мире в результате несчастных случаев погибает 2270 детей, это 830 000 детских смертей в год, еще несколько десятков миллионов детей попадают в больницы с травмами различной степени тяжести. Уровень детской смертности, связанной с травмами, в России-самый высокий в Европе и составляет более 13 000 детей в год или 35 в день. Последствие вреда травм приводит в 18-20 % к инвалидности. Легкие травмы нередко вызывают паталогические изменения в организме и в той или иной степени ограничивают функциональные возможности ребенка. </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Предполагаемый результат: </a:t>
            </a:r>
            <a:r>
              <a:rPr b="0" lang="ru-RU" sz="1500" spc="-1" strike="noStrike">
                <a:solidFill>
                  <a:srgbClr val="000000"/>
                </a:solidFill>
                <a:latin typeface="Times New Roman"/>
                <a:ea typeface="Times New Roman"/>
              </a:rPr>
              <a:t>Разработка правил поведения  для учащихся в виде буклета.</a:t>
            </a:r>
            <a:r>
              <a:rPr b="1" lang="ru-RU" sz="1500" spc="-1" strike="noStrike">
                <a:solidFill>
                  <a:srgbClr val="000000"/>
                </a:solidFill>
                <a:latin typeface="Times New Roman"/>
                <a:ea typeface="Times New Roman"/>
              </a:rPr>
              <a:t> </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a:p>
            <a:pPr marL="2728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Этапы реализации проекта с конкретными предполагаемыми результатами, </a:t>
            </a:r>
            <a:endParaRPr b="0" lang="en-US" sz="1500" spc="-1" strike="noStrike">
              <a:solidFill>
                <a:srgbClr val="000000"/>
              </a:solidFill>
              <a:latin typeface="Trebuchet MS"/>
            </a:endParaRPr>
          </a:p>
          <a:p>
            <a:pPr marL="2728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ожидаемые трудности и способы их решения </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ea typeface="Times New Roman"/>
              </a:rPr>
              <a:t>1.Подготовка.</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ea typeface="Times New Roman"/>
              </a:rPr>
              <a:t>2. Планирование.</a:t>
            </a:r>
            <a:endParaRPr b="0" lang="en-US" sz="15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Анкетирование одноклассников, наблюдения.</a:t>
            </a:r>
            <a:endParaRPr b="0" lang="en-US" sz="15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Поиск информации в Интернете и других источниках.</a:t>
            </a:r>
            <a:endParaRPr b="0" lang="en-US" sz="15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Поиск удобной формы для запоминания правил поведения учащимися в школе и убеждения учащихся в их соблюдении</a:t>
            </a:r>
            <a:endParaRPr b="0" lang="en-US" sz="15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Поиск  определенных занятий направленных на профилактику травматизма.</a:t>
            </a:r>
            <a:endParaRPr b="0" lang="en-US" sz="15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Подготовка к презентации проекта.</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ea typeface="Times New Roman"/>
              </a:rPr>
              <a:t>3. Сбор информации.</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ea typeface="Times New Roman"/>
              </a:rPr>
              <a:t>4. Творческая мастерская. Подготовка к презентации проекта</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ea typeface="Times New Roman"/>
              </a:rPr>
              <a:t>5. Презентация:</a:t>
            </a:r>
            <a:r>
              <a:rPr b="0" lang="ru-RU" sz="1500" spc="-1" strike="noStrike">
                <a:solidFill>
                  <a:srgbClr val="000000"/>
                </a:solidFill>
                <a:latin typeface="Times New Roman"/>
                <a:ea typeface="Times New Roman"/>
              </a:rPr>
              <a:t> форма отчета – литературная композиция с демонстрацией компьютерной презентации.</a:t>
            </a:r>
            <a:endParaRPr b="0" lang="en-US" sz="15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313" name="TextBox 8"/>
          <p:cNvSpPr/>
          <p:nvPr/>
        </p:nvSpPr>
        <p:spPr>
          <a:xfrm>
            <a:off x="2379960" y="228600"/>
            <a:ext cx="449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Планирование проек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10" descr="Рисунок1"/>
          <p:cNvPicPr/>
          <p:nvPr/>
        </p:nvPicPr>
        <p:blipFill>
          <a:blip r:embed="rId1"/>
          <a:stretch/>
        </p:blipFill>
        <p:spPr>
          <a:xfrm>
            <a:off x="3200400" y="533520"/>
            <a:ext cx="2065320" cy="1676160"/>
          </a:xfrm>
          <a:prstGeom prst="rect">
            <a:avLst/>
          </a:prstGeom>
          <a:ln w="0">
            <a:noFill/>
          </a:ln>
        </p:spPr>
      </p:pic>
      <p:pic>
        <p:nvPicPr>
          <p:cNvPr id="315" name="Picture 9" descr="i?id=158769896&amp;tov=0"/>
          <p:cNvPicPr/>
          <p:nvPr/>
        </p:nvPicPr>
        <p:blipFill>
          <a:blip r:embed="rId2"/>
          <a:stretch/>
        </p:blipFill>
        <p:spPr>
          <a:xfrm>
            <a:off x="6095880" y="304920"/>
            <a:ext cx="1905120" cy="2449440"/>
          </a:xfrm>
          <a:prstGeom prst="rect">
            <a:avLst/>
          </a:prstGeom>
          <a:ln w="0">
            <a:noFill/>
          </a:ln>
        </p:spPr>
      </p:pic>
      <p:sp>
        <p:nvSpPr>
          <p:cNvPr id="316" name="PlaceHolder 1"/>
          <p:cNvSpPr>
            <a:spLocks noGrp="1"/>
          </p:cNvSpPr>
          <p:nvPr>
            <p:ph/>
          </p:nvPr>
        </p:nvSpPr>
        <p:spPr>
          <a:xfrm>
            <a:off x="228600" y="3504960"/>
            <a:ext cx="7696080" cy="3352680"/>
          </a:xfrm>
          <a:prstGeom prst="rect">
            <a:avLst/>
          </a:prstGeom>
          <a:noFill/>
          <a:ln w="0">
            <a:noFill/>
          </a:ln>
        </p:spPr>
        <p:txBody>
          <a:bodyPr anchor="t">
            <a:normAutofit/>
          </a:bodyPr>
          <a:p>
            <a:pPr marL="272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rebuchet MS"/>
              </a:rPr>
              <a:t>Учебно-методические материалы</a:t>
            </a:r>
            <a:endParaRPr b="0" lang="en-US" sz="1900" spc="-1" strike="noStrike">
              <a:solidFill>
                <a:srgbClr val="000000"/>
              </a:solidFill>
              <a:latin typeface="Trebuchet MS"/>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rebuchet MS"/>
              </a:rPr>
              <a:t> </a:t>
            </a:r>
            <a:endParaRPr b="0" lang="en-US" sz="1900" spc="-1" strike="noStrike">
              <a:solidFill>
                <a:srgbClr val="000000"/>
              </a:solidFill>
              <a:latin typeface="Trebuchet MS"/>
            </a:endParaRPr>
          </a:p>
          <a:p>
            <a:pPr marL="272880" indent="-27288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Учебные материалы :</a:t>
            </a:r>
            <a:r>
              <a:rPr b="0" lang="ru-RU" sz="1500" spc="-1" strike="noStrike">
                <a:solidFill>
                  <a:srgbClr val="000000"/>
                </a:solidFill>
                <a:latin typeface="Times New Roman"/>
                <a:ea typeface="Times New Roman"/>
              </a:rPr>
              <a:t>в ходе проекта были использованы иллюстрации, справочная литература, средства интернета, презентация «Детский школьный травматизм, его виды и причины» </a:t>
            </a:r>
            <a:endParaRPr b="0" lang="en-US" sz="1500" spc="-1" strike="noStrike">
              <a:solidFill>
                <a:srgbClr val="000000"/>
              </a:solidFill>
              <a:latin typeface="Trebuchet MS"/>
            </a:endParaRPr>
          </a:p>
          <a:p>
            <a:pPr marL="272880" indent="-27288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Руководство для учащихся:</a:t>
            </a:r>
            <a:r>
              <a:rPr b="0" lang="ru-RU" sz="1500" spc="-1" strike="noStrike">
                <a:solidFill>
                  <a:srgbClr val="000000"/>
                </a:solidFill>
                <a:latin typeface="Times New Roman"/>
                <a:ea typeface="Times New Roman"/>
              </a:rPr>
              <a:t> были подготовлены анкеты</a:t>
            </a:r>
            <a:endParaRPr b="0" lang="en-US" sz="1500" spc="-1" strike="noStrike">
              <a:solidFill>
                <a:srgbClr val="000000"/>
              </a:solidFill>
              <a:latin typeface="Trebuchet MS"/>
            </a:endParaRPr>
          </a:p>
          <a:p>
            <a:pPr marL="272880" indent="-272880">
              <a:lnSpc>
                <a:spcPct val="80000"/>
              </a:lnSpc>
              <a:spcBef>
                <a:spcPts val="575"/>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Дополнительная информация</a:t>
            </a:r>
            <a:endParaRPr b="0" lang="en-US" sz="1500" spc="-1" strike="noStrike">
              <a:solidFill>
                <a:srgbClr val="000000"/>
              </a:solidFill>
              <a:latin typeface="Trebuchet MS"/>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      </a:t>
            </a:r>
            <a:r>
              <a:rPr b="0" lang="ru-RU" sz="1500" spc="-1" strike="noStrike">
                <a:solidFill>
                  <a:srgbClr val="000000"/>
                </a:solidFill>
                <a:latin typeface="Times New Roman"/>
                <a:ea typeface="Times New Roman"/>
              </a:rPr>
              <a:t>При планировании проекта были использованы  ресурсы Интернета.</a:t>
            </a:r>
            <a:endParaRPr b="0" lang="en-US" sz="1500" spc="-1" strike="noStrike">
              <a:solidFill>
                <a:srgbClr val="000000"/>
              </a:solidFill>
              <a:latin typeface="Trebuchet MS"/>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        </a:t>
            </a:r>
            <a:endParaRPr b="0" lang="en-US" sz="1500" spc="-1" strike="noStrike">
              <a:solidFill>
                <a:srgbClr val="000000"/>
              </a:solidFill>
              <a:latin typeface="Trebuchet MS"/>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p:txBody>
      </p:sp>
      <p:pic>
        <p:nvPicPr>
          <p:cNvPr id="317" name="Picture 11" descr="i?id=191600417&amp;tov=7"/>
          <p:cNvPicPr/>
          <p:nvPr/>
        </p:nvPicPr>
        <p:blipFill>
          <a:blip r:embed="rId3"/>
          <a:stretch/>
        </p:blipFill>
        <p:spPr>
          <a:xfrm>
            <a:off x="457200" y="457200"/>
            <a:ext cx="213372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228240" y="457200"/>
            <a:ext cx="7924680" cy="55627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1" lang="ru-RU" sz="2800" spc="-1" strike="noStrike">
                <a:solidFill>
                  <a:srgbClr val="000000"/>
                </a:solidFill>
                <a:latin typeface="Trebuchet MS"/>
              </a:rPr>
              <a:t>Об авторе проекта</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0" lang="ru-RU" sz="2400" spc="-1" strike="noStrike">
                <a:solidFill>
                  <a:srgbClr val="000000"/>
                </a:solidFill>
                <a:latin typeface="Trebuchet MS"/>
              </a:rPr>
              <a:t>Автор проекта: </a:t>
            </a:r>
            <a:r>
              <a:rPr b="0" lang="ru-RU" sz="2400" spc="-1" strike="noStrike" u="sng">
                <a:solidFill>
                  <a:srgbClr val="000000"/>
                </a:solidFill>
                <a:uFillTx/>
                <a:latin typeface="Trebuchet MS"/>
              </a:rPr>
              <a:t>Шалагин Сергей Николаевич </a:t>
            </a:r>
            <a:r>
              <a:rPr b="0" lang="ru-RU" sz="2400" spc="-1" strike="noStrike">
                <a:solidFill>
                  <a:srgbClr val="000000"/>
                </a:solidFill>
                <a:latin typeface="Trebuchet MS"/>
              </a:rPr>
              <a:t>- </a:t>
            </a:r>
            <a:r>
              <a:rPr b="0" lang="ru-RU" sz="1800" spc="-1" strike="noStrike">
                <a:solidFill>
                  <a:srgbClr val="000000"/>
                </a:solidFill>
                <a:latin typeface="Trebuchet MS"/>
              </a:rPr>
              <a:t>учитель физической культуры высшей категории, педагогический стаж работы 23 года.</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0" lang="ru-RU" sz="2400" spc="-1" strike="noStrike">
                <a:solidFill>
                  <a:srgbClr val="000000"/>
                </a:solidFill>
                <a:latin typeface="Trebuchet MS"/>
              </a:rPr>
              <a:t>Контактная информация: </a:t>
            </a:r>
            <a:r>
              <a:rPr b="0" lang="en-US" sz="2000" spc="-1" strike="noStrike" u="sng">
                <a:solidFill>
                  <a:srgbClr val="000000"/>
                </a:solidFill>
                <a:uFillTx/>
                <a:latin typeface="Trebuchet MS"/>
              </a:rPr>
              <a:t>sergej-shalagin@mail.ru</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0" lang="ru-RU" sz="2400" spc="-1" strike="noStrike">
                <a:solidFill>
                  <a:srgbClr val="000000"/>
                </a:solidFill>
                <a:latin typeface="Trebuchet MS"/>
              </a:rPr>
              <a:t>Образовательное учреждение:</a:t>
            </a:r>
            <a:r>
              <a:rPr b="0" lang="en-US" sz="2400" spc="-1" strike="noStrike">
                <a:solidFill>
                  <a:srgbClr val="000000"/>
                </a:solidFill>
                <a:latin typeface="Trebuchet MS"/>
              </a:rPr>
              <a:t> </a:t>
            </a:r>
            <a:r>
              <a:rPr b="0" lang="ru-RU" sz="1800" spc="-1" strike="noStrike">
                <a:solidFill>
                  <a:srgbClr val="000000"/>
                </a:solidFill>
                <a:latin typeface="Trebuchet MS"/>
              </a:rPr>
              <a:t>МБОУ</a:t>
            </a:r>
            <a:r>
              <a:rPr b="0" lang="ru-RU" sz="2400" spc="-1" strike="noStrike">
                <a:solidFill>
                  <a:srgbClr val="000000"/>
                </a:solidFill>
                <a:latin typeface="Trebuchet MS"/>
              </a:rPr>
              <a:t> «</a:t>
            </a:r>
            <a:r>
              <a:rPr b="0" lang="ru-RU" sz="1800" spc="-1" strike="noStrike">
                <a:solidFill>
                  <a:srgbClr val="000000"/>
                </a:solidFill>
                <a:latin typeface="Trebuchet MS"/>
              </a:rPr>
              <a:t>Пестяковская СШ»</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  </a:t>
            </a:r>
            <a:r>
              <a:rPr b="0" lang="ru-RU" sz="2400" spc="-1" strike="noStrike">
                <a:solidFill>
                  <a:srgbClr val="000000"/>
                </a:solidFill>
                <a:latin typeface="Trebuchet MS"/>
              </a:rPr>
              <a:t>фото  школы</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319" name="Picture 2" descr="C:\Documents and Settings\User\Рабочий стол\S4200190.JPG"/>
          <p:cNvPicPr/>
          <p:nvPr/>
        </p:nvPicPr>
        <p:blipFill>
          <a:blip r:embed="rId1"/>
          <a:stretch/>
        </p:blipFill>
        <p:spPr>
          <a:xfrm>
            <a:off x="2286000" y="3581280"/>
            <a:ext cx="4267080" cy="290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
          <p:cNvSpPr/>
          <p:nvPr/>
        </p:nvSpPr>
        <p:spPr>
          <a:xfrm>
            <a:off x="0" y="825840"/>
            <a:ext cx="8153280" cy="627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нкета.</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Цель: </a:t>
            </a:r>
            <a:r>
              <a:rPr b="0" lang="ru-RU" sz="1400" spc="-1" strike="noStrike">
                <a:solidFill>
                  <a:srgbClr val="000000"/>
                </a:solidFill>
                <a:latin typeface="Times New Roman"/>
                <a:ea typeface="Times New Roman"/>
              </a:rPr>
              <a:t>выяснить, получали ли дети травмы, какого вида, что служило причиной травмирования детей;</a:t>
            </a: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оказать необходимость и возможность работы по снижению детского травматизма</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 Была ли такая ситуация, в результате которой вы  (ваш ребенок) получали травму?</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да</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нет</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Какого вида была травма?</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промышленная, </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сельскохозяйственная,</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бытовая,</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 уличная, </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 спортивная,</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 военная.</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По чьей вине она произошла? </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по вашей </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по вине окружающих</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затрудняюсь оценить ситуацию</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 Что служило причиной появления травмы?</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недисциплинированность;</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неумением распознавать травмоопасную ситуацию;</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необученностью необходимым навыкам поведения;</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 недооценкой степени опасности внезапно возникшей ситуации;</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 физической слабостью;</a:t>
            </a:r>
            <a:endParaRPr b="0" lang="en-US" sz="1400" spc="-1" strike="noStrike">
              <a:solidFill>
                <a:srgbClr val="000000"/>
              </a:solidFill>
              <a:latin typeface="Arial"/>
            </a:endParaRPr>
          </a:p>
          <a:p>
            <a:pPr>
              <a:lnSpc>
                <a:spcPct val="100000"/>
              </a:lnSpc>
              <a:buClr>
                <a:srgbClr val="000000"/>
              </a:buClr>
              <a:buSzPct val="73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 определенными особенностями развития</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 Можно ли было ее предотвратить, избежать?</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да</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нет</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рудно сказать </a:t>
            </a:r>
            <a:endParaRPr b="0" lang="en-US" sz="1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Прямоугольник 2"/>
          <p:cNvSpPr/>
          <p:nvPr/>
        </p:nvSpPr>
        <p:spPr>
          <a:xfrm>
            <a:off x="304920" y="228600"/>
            <a:ext cx="7619760" cy="33768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imes New Roman"/>
                <a:ea typeface="Times New Roman"/>
              </a:rPr>
              <a:t>Анкетирование одноклассников, наблюдения</a:t>
            </a:r>
            <a:endParaRPr b="0" lang="en-US" sz="2000" spc="-1" strike="noStrike">
              <a:solidFill>
                <a:srgbClr val="000000"/>
              </a:solidFill>
              <a:latin typeface="Arial"/>
            </a:endParaRPr>
          </a:p>
        </p:txBody>
      </p:sp>
      <p:pic>
        <p:nvPicPr>
          <p:cNvPr id="322" name="Picture 5" descr="F:\Школьные - проекты\проекты\проект Профилактика детского школьного травматизма\IMG10224.jpg"/>
          <p:cNvPicPr/>
          <p:nvPr/>
        </p:nvPicPr>
        <p:blipFill>
          <a:blip r:embed="rId1"/>
          <a:stretch/>
        </p:blipFill>
        <p:spPr>
          <a:xfrm>
            <a:off x="3809880" y="1981080"/>
            <a:ext cx="3962520" cy="250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4" descr="F:\Школьные - проекты\проекты\проект Профилактика детского школьного травматизма\IMG10222.jpg"/>
          <p:cNvPicPr/>
          <p:nvPr/>
        </p:nvPicPr>
        <p:blipFill>
          <a:blip r:embed="rId1"/>
          <a:stretch/>
        </p:blipFill>
        <p:spPr>
          <a:xfrm>
            <a:off x="2971800" y="4572000"/>
            <a:ext cx="2971800" cy="1987560"/>
          </a:xfrm>
          <a:prstGeom prst="rect">
            <a:avLst/>
          </a:prstGeom>
          <a:ln w="0">
            <a:noFill/>
          </a:ln>
        </p:spPr>
      </p:pic>
      <p:graphicFrame>
        <p:nvGraphicFramePr>
          <p:cNvPr id="324" name=""/>
          <p:cNvGraphicFramePr/>
          <p:nvPr/>
        </p:nvGraphicFramePr>
        <p:xfrm>
          <a:off x="457200" y="838080"/>
          <a:ext cx="7391520" cy="2556000"/>
        </p:xfrm>
        <a:graphic>
          <a:graphicData uri="http://schemas.openxmlformats.org/drawingml/2006/table">
            <a:tbl>
              <a:tblPr/>
              <a:tblGrid>
                <a:gridCol w="3002040"/>
                <a:gridCol w="731880"/>
                <a:gridCol w="731880"/>
                <a:gridCol w="730080"/>
                <a:gridCol w="731880"/>
                <a:gridCol w="731880"/>
                <a:gridCol w="731880"/>
              </a:tblGrid>
              <a:tr h="236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Была ли ситуация, в результате которой вы получили травму?</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7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Какого вида была травм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По  чьей вине произошла травма?</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 Что служило причиной появления травмы?</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 Можно ли было предотвратить получение травм?</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5" name="Rectangle 2"/>
          <p:cNvSpPr/>
          <p:nvPr/>
        </p:nvSpPr>
        <p:spPr>
          <a:xfrm>
            <a:off x="0" y="3539880"/>
            <a:ext cx="815328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нализ анк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ывод:</a:t>
            </a:r>
            <a:r>
              <a:rPr b="0" lang="ru-RU" sz="1400" spc="-1" strike="noStrike">
                <a:solidFill>
                  <a:srgbClr val="000000"/>
                </a:solidFill>
                <a:latin typeface="Times New Roman"/>
                <a:ea typeface="Times New Roman"/>
              </a:rPr>
              <a:t> В результате анкетирования детей выяснено, что дети, имевшие когда-либо травмы, понимают причину их получения и убеждены в том, что во многих случаях их можно было избежать.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TextBox 11"/>
          <p:cNvSpPr/>
          <p:nvPr/>
        </p:nvSpPr>
        <p:spPr>
          <a:xfrm>
            <a:off x="2508840" y="304920"/>
            <a:ext cx="33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imes New Roman"/>
                <a:ea typeface="Times New Roman"/>
              </a:rPr>
              <a:t>Результаты анкетиро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
          <p:cNvSpPr/>
          <p:nvPr/>
        </p:nvSpPr>
        <p:spPr>
          <a:xfrm>
            <a:off x="228600" y="1068480"/>
            <a:ext cx="7696080" cy="55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рачи-травматологи, психологи и другие специалисты выделяют четыре основных вида детского травматизма: </a:t>
            </a:r>
            <a:r>
              <a:rPr b="1" i="1" lang="ru-RU" sz="1600" spc="-1" strike="noStrike" u="sng">
                <a:solidFill>
                  <a:srgbClr val="000000"/>
                </a:solidFill>
                <a:uFillTx/>
                <a:latin typeface="Times New Roman"/>
                <a:ea typeface="Times New Roman"/>
              </a:rPr>
              <a:t>школьный, бытовой, уличный и спортивный</a:t>
            </a:r>
            <a:r>
              <a:rPr b="1"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pic>
        <p:nvPicPr>
          <p:cNvPr id="328" name="Picture 5" descr="j0240719"/>
          <p:cNvPicPr/>
          <p:nvPr/>
        </p:nvPicPr>
        <p:blipFill>
          <a:blip r:embed="rId1"/>
          <a:stretch/>
        </p:blipFill>
        <p:spPr>
          <a:xfrm>
            <a:off x="685800" y="2209680"/>
            <a:ext cx="2666880" cy="3556080"/>
          </a:xfrm>
          <a:prstGeom prst="rect">
            <a:avLst/>
          </a:prstGeom>
          <a:ln w="0">
            <a:noFill/>
          </a:ln>
        </p:spPr>
      </p:pic>
      <p:sp>
        <p:nvSpPr>
          <p:cNvPr id="329" name="Rectangle 4"/>
          <p:cNvSpPr/>
          <p:nvPr/>
        </p:nvSpPr>
        <p:spPr>
          <a:xfrm>
            <a:off x="4267080" y="1676520"/>
            <a:ext cx="3286080" cy="49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Black"/>
              </a:rPr>
              <a:t>Школа по определению «нетравмоопасное» предприятие, тем не менее по статистике </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Black"/>
              </a:rPr>
              <a:t>15% детских травм это несчастные случаи в стенах школы из них</a:t>
            </a:r>
            <a:r>
              <a:rPr b="0" lang="ru-RU" sz="1800" spc="-1" strike="noStrike">
                <a:solidFill>
                  <a:srgbClr val="cc0000"/>
                </a:solidFill>
                <a:latin typeface="Arial Black"/>
              </a:rPr>
              <a:t> </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Black"/>
              </a:rPr>
              <a:t>80% приходится на перемены </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Black"/>
              </a:rPr>
              <a:t>  </a:t>
            </a:r>
            <a:r>
              <a:rPr b="0" lang="ru-RU" sz="1800" spc="-1" strike="noStrike">
                <a:solidFill>
                  <a:srgbClr val="cc0000"/>
                </a:solidFill>
                <a:latin typeface="Arial Black"/>
              </a:rPr>
              <a:t>18 % на уроки физической культуры</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Black"/>
              </a:rPr>
              <a:t>2% это несчастные случаи на других учебных занятиях</a:t>
            </a:r>
            <a:endParaRPr b="0" lang="en-US" sz="1800" spc="-1" strike="noStrike">
              <a:solidFill>
                <a:srgbClr val="000000"/>
              </a:solidFill>
              <a:latin typeface="Arial"/>
            </a:endParaRPr>
          </a:p>
        </p:txBody>
      </p:sp>
      <p:sp>
        <p:nvSpPr>
          <p:cNvPr id="330" name="Прямоугольник 6"/>
          <p:cNvSpPr/>
          <p:nvPr/>
        </p:nvSpPr>
        <p:spPr>
          <a:xfrm>
            <a:off x="2063160" y="380880"/>
            <a:ext cx="45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4 ГРУППЫ ДЕТСКОГО ТРАВМАТИЗМА</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C:\Documents and Settings\Учитель\Рабочий стол\Рисунок1.jpg"/>
          <p:cNvPicPr/>
          <p:nvPr/>
        </p:nvPicPr>
        <p:blipFill>
          <a:blip r:embed="rId1"/>
          <a:stretch/>
        </p:blipFill>
        <p:spPr>
          <a:xfrm>
            <a:off x="2792520" y="3962520"/>
            <a:ext cx="2541600" cy="1904760"/>
          </a:xfrm>
          <a:prstGeom prst="rect">
            <a:avLst/>
          </a:prstGeom>
          <a:ln w="0">
            <a:noFill/>
          </a:ln>
        </p:spPr>
      </p:pic>
      <p:pic>
        <p:nvPicPr>
          <p:cNvPr id="332" name="Заголовок 1" descr=""/>
          <p:cNvPicPr/>
          <p:nvPr/>
        </p:nvPicPr>
        <p:blipFill>
          <a:blip r:embed="rId2"/>
          <a:stretch/>
        </p:blipFill>
        <p:spPr>
          <a:xfrm>
            <a:off x="0" y="231840"/>
            <a:ext cx="8686800" cy="834840"/>
          </a:xfrm>
          <a:prstGeom prst="rect">
            <a:avLst/>
          </a:prstGeom>
          <a:ln w="0">
            <a:noFill/>
          </a:ln>
        </p:spPr>
      </p:pic>
      <p:sp>
        <p:nvSpPr>
          <p:cNvPr id="333" name="Содержимое 2"/>
          <p:cNvSpPr/>
          <p:nvPr/>
        </p:nvSpPr>
        <p:spPr>
          <a:xfrm>
            <a:off x="0" y="762120"/>
            <a:ext cx="868680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Недисциплинированность детей;</a:t>
            </a:r>
            <a:endParaRPr b="0" lang="en-US" sz="2400" spc="-1" strike="noStrike">
              <a:solidFill>
                <a:srgbClr val="000000"/>
              </a:solidFill>
              <a:latin typeface="Arial"/>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Неумение распознавать травмоопасную ситуацию;</a:t>
            </a:r>
            <a:endParaRPr b="0" lang="en-US" sz="2400" spc="-1" strike="noStrike">
              <a:solidFill>
                <a:srgbClr val="000000"/>
              </a:solidFill>
              <a:latin typeface="Arial"/>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Необученность необходимым навыкам поведения;</a:t>
            </a:r>
            <a:endParaRPr b="0" lang="en-US" sz="2400" spc="-1" strike="noStrike">
              <a:solidFill>
                <a:srgbClr val="000000"/>
              </a:solidFill>
              <a:latin typeface="Arial"/>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Недооценка степени опасности внезапно возникшей ситуации;</a:t>
            </a:r>
            <a:endParaRPr b="0" lang="en-US" sz="2400" spc="-1" strike="noStrike">
              <a:solidFill>
                <a:srgbClr val="000000"/>
              </a:solidFill>
              <a:latin typeface="Arial"/>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Физическая слабость;</a:t>
            </a:r>
            <a:endParaRPr b="0" lang="en-US" sz="2400" spc="-1" strike="noStrike">
              <a:solidFill>
                <a:srgbClr val="000000"/>
              </a:solidFill>
              <a:latin typeface="Arial"/>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Определённые особенности развития.</a:t>
            </a:r>
            <a:endParaRPr b="0" lang="en-US" sz="2400" spc="-1" strike="noStrike">
              <a:solidFill>
                <a:srgbClr val="000000"/>
              </a:solidFill>
              <a:latin typeface="Arial"/>
            </a:endParaRPr>
          </a:p>
        </p:txBody>
      </p:sp>
      <p:pic>
        <p:nvPicPr>
          <p:cNvPr id="334" name="Picture 4" descr="C:\Users\сергей\Pictures\картинки для презентаций\Я и мир РИСУНКИ\дети\Драка.jpg"/>
          <p:cNvPicPr/>
          <p:nvPr/>
        </p:nvPicPr>
        <p:blipFill>
          <a:blip r:embed="rId3"/>
          <a:stretch/>
        </p:blipFill>
        <p:spPr>
          <a:xfrm>
            <a:off x="152280" y="5029200"/>
            <a:ext cx="2286000" cy="1525680"/>
          </a:xfrm>
          <a:prstGeom prst="rect">
            <a:avLst/>
          </a:prstGeom>
          <a:ln w="9360">
            <a:solidFill>
              <a:srgbClr val="984204"/>
            </a:solidFill>
            <a:miter/>
          </a:ln>
        </p:spPr>
      </p:pic>
      <p:pic>
        <p:nvPicPr>
          <p:cNvPr id="335" name="Picture 3" descr="C:\Users\сергей\Pictures\картинки для презентаций\Я и мир РИСУНКИ\дети\3.jpg"/>
          <p:cNvPicPr/>
          <p:nvPr/>
        </p:nvPicPr>
        <p:blipFill>
          <a:blip r:embed="rId4"/>
          <a:stretch/>
        </p:blipFill>
        <p:spPr>
          <a:xfrm>
            <a:off x="5715000" y="4952880"/>
            <a:ext cx="2189160" cy="1638360"/>
          </a:xfrm>
          <a:prstGeom prst="rect">
            <a:avLst/>
          </a:prstGeom>
          <a:ln w="9360">
            <a:solidFill>
              <a:srgbClr val="984204"/>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20-08-30T18:56:36Z</dcterms:modified>
  <cp:revision>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