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18.jpeg" ContentType="image/jpeg"/>
  <Override PartName="/ppt/media/image17.wmf" ContentType="image/x-wmf"/>
  <Override PartName="/ppt/media/image16.jpeg" ContentType="image/jpeg"/>
  <Override PartName="/ppt/media/image9.gif" ContentType="image/gif"/>
  <Override PartName="/ppt/media/image35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30.png" ContentType="image/png"/>
  <Override PartName="/ppt/media/image12.png" ContentType="image/png"/>
  <Override PartName="/ppt/media/image47.png" ContentType="image/png"/>
  <Override PartName="/ppt/media/image20.jpeg" ContentType="image/jpeg"/>
  <Override PartName="/ppt/media/image28.png" ContentType="image/png"/>
  <Override PartName="/ppt/media/image7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43.png" ContentType="image/png"/>
  <Override PartName="/ppt/media/image34.jpeg" ContentType="image/jpeg"/>
  <Override PartName="/ppt/media/image37.png" ContentType="image/png"/>
  <Override PartName="/ppt/media/image36.wmf" ContentType="image/x-wmf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10.gif" ContentType="image/gif"/>
  <Override PartName="/ppt/media/image13.png" ContentType="image/png"/>
  <Override PartName="/ppt/media/image8.jpeg" ContentType="image/jpeg"/>
  <Override PartName="/ppt/media/image38.png" ContentType="image/png"/>
  <Override PartName="/ppt/media/image1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BB34-C423-4FD6-9EB6-E8F3E1974F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85BB-2332-4457-B5F5-8C11CB5D494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C8E-5D7D-4732-9906-29F7432B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71C-152F-4D57-95F3-B7822CDF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580C3-15C8-46CA-B066-F55E00D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C246-48C4-4BDD-8415-100ED4C4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6BB9B-0F9C-43EB-A6F2-1B5B3E6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1AA83-C2BA-4FD5-B451-783101E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688B8-97D5-4AF9-BFC1-16B7C27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FD562-25DF-428E-A4AF-DF7A783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A0965-8BF4-4F1E-9706-EF850A3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F3032-C395-4D25-9580-25E71850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B6ABB-3624-4EF8-AD0B-113D662B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F7FDF-DDD0-4F8F-9ADE-4B25FE1B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997-F8D1-49A2-9E7F-73624D92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8DF9-F7D9-440A-B407-6812458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3494D-37FD-48E3-910F-0C0F9B6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92307-7151-477D-B785-B1461062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D91AE-767A-4D38-80D4-4626111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98965-FF94-40B5-813D-33C7605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D9D6E-C50C-4E9E-8555-9A43BCE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69400-4380-4CFE-A802-4959139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717E2-DF6A-4696-AF0E-66738C8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744EC-9111-443A-BBC5-7A1F8971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D0A9-011E-48C3-BBFD-EE3D1AF5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D4A-025E-479E-BBC3-0F816B82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3828D-4969-4B73-8F83-4103F7ED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0DE6-0699-4129-A3FC-DBD16FE2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BB1F-1106-4507-AA80-C71AEA3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544-5658-46A2-8D4F-B6F62B4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5DE1-7065-4A54-B1EB-B4F5283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4DAA-5B2E-4CE7-84E0-E367808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7B59-C43B-4682-BF92-7AC4B502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ABE-57BE-4DAC-BD53-958259C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9AB-EB64-49C6-A8B1-2873FA6B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78B1-30B8-407B-BE71-6828FD3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A415-7D3B-4733-97FB-7A09CC4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D6B6-F8F8-4952-8D63-C6529255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B806-FEA3-439C-8A4A-17467E50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A4C8-5405-4C01-B17A-E43E0D50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7F97-AB5F-4CA4-A68B-33E51B0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E4F4-1D65-46BE-A099-367DD515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1C4F-7941-4BCB-A1A7-8231C61A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120D-FC28-4BF1-803F-C838618D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5C75-111F-4DAF-AED7-F51F5B11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3F6-9E7B-426D-AB23-7077DB1E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C0D0-FE53-4A8E-A4C1-53E54EA4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929F-1C95-4B5E-9B96-B3F8B1BB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346E-BC5E-4120-8EDE-BD7ABB7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6049-A840-472F-A648-2CC39C49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9329-0A5D-4D95-994F-62FF2C6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6E9D-78B3-4F8C-9B47-F61686F6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628C-67A8-42FA-B527-EBCD595E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1ACC-4E35-426B-91B8-D68CA09F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9336-535E-4144-9DBB-9336042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E93C-EEA4-4D74-B564-442E1D5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CE2-E037-4A05-B577-777DF4D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D469-D021-4EDA-8507-1852AC82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ACBD-01BE-49E7-BDFB-70317A33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8BF4-6660-4B94-A6AB-FA3AACD7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5923-B07B-4883-8F1E-CC28C03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20F3-3DCA-49D7-B808-56B3847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18E0-1D4E-49EA-B6F0-00E191E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B2A6-F034-41AC-8DDB-C1D58A27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A9D3-550D-4687-970C-0A7CBFC7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CD39-5204-4A17-834E-6348E6FE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CCC9-0E44-45A2-ADAE-C5268F8C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F06-155B-4916-82AD-70A49043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6157-290D-4C52-87E5-507111C0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557B1-AD29-40C9-979C-2E8620F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C164-437D-4BCC-A3A5-621CFE7F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AD3F-7ED2-4877-9AE0-3BB785FB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9260-DFD8-44AC-B7A8-5ADC6112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3642-F8E1-4297-8467-5C29C61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87D8-B19A-430A-926A-D7F7A46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23A7-6C79-47A3-819B-4B3C262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1FA8-CAED-4666-AC2E-D0C0212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1F67-4C59-4056-B809-4381F3A0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FC4-E954-4C9D-8436-7091B6E1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3B98-914E-4354-B21F-CC7420B1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7491-FF54-4EDC-B6CA-E61023BC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2FF92-E205-41CD-B5D4-C51BE1E4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9D21B-62B0-4A2B-B500-51D3729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AD53-BEAA-4AC5-A01A-73E05CF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10E5-3A0E-4D87-AEC8-4A136DD5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78B05-4656-402A-8F27-1364DC9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AD5D-15F9-42C4-BDA0-F0F28C0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0EFA0-0990-4EA3-8E54-36B456A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B5FC7-1232-4F56-95BE-2DE50488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0C3-6A49-4B65-A081-EBE9A409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7A581-661D-4EAB-8F64-08DF4B06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A3C50-475A-4840-A8A7-C6EEF6DD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FD4A2-F8D5-4706-AA11-D7B90C0D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1FF10-09CB-42BA-B1B7-EC321346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FB5E1-6255-44BF-B115-EFEAA335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553E6-5D2F-46ED-8AB7-B3EA768A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3120-346F-4E80-A79C-29D2F54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2DE0-44F1-4E5F-8DBB-11FA13EF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4BC2-63E5-450E-A028-6455A31F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E634-F1E6-4D81-A34B-E18FF033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095-009E-48E8-8130-F81C083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D48E4-7DE9-4C7F-93A3-A46B045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DF20A-060A-435C-B0D3-B26FEBE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D1C5C-C427-4229-BF23-CC50410C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8E7A-D506-49C4-9FD4-F5705E97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5980-DF84-44B6-90E0-8F8EC269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F55BA-95B1-40BA-A86F-17A83445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16DCA-42DC-4130-8DFC-DA75C3C3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E977A-387D-445D-8916-5BFFEF5C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84968-EDEC-4139-A1DF-38087D9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A51E-E3A1-44F5-A8DC-8140790B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F86-B568-4A48-BEED-E663796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1A71-7DE2-4752-9421-6DA53E5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161AD-14AF-4E00-98A9-736E26E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0401-0EA7-4C7D-A701-0097706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C84B8-A676-4692-AEEF-E6BF078E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5991-B359-4A9B-A278-BCFF0348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37972-EA15-46D3-80F6-621FC381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A742A-86FC-4667-8A4F-1CA2582B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7C391-B87C-4728-8D27-4F88F840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8C660-4298-4E5D-B9C7-4D67FFF4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CF684-0518-4976-AC86-7336AC48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BE86-EE91-465F-A7EE-195A5B3C5DDF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6313-D509-439C-A5F3-B0AAB8290378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D4FB-DDE3-4B1B-8252-D777E78A49C0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0915-01FD-44AC-95A6-EE369BE23CC7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D281-F710-4FCE-9173-1E368C81B651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9E5-D5A4-40D4-B1E5-AF0553C887EE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9359-2F5C-48D6-8604-5E7C9BB4269B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7F7B-1147-4663-8F0B-6FCA6D555CCB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B58E-4099-4559-9ECB-AC26188278A4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08F-005E-48AA-A32C-E8C37805D83D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9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сновные разделы 9 класс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04920" y="1676160"/>
            <a:ext cx="8686800" cy="2965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ы взаимодействия и движения 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ханические колебания и волны. Зву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магнитное по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ение атома и атомного яд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годня мы ответим на вопросы: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3352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материальная точ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гда ли можно применять понятие материальная точ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система отсчё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чего состоит система отсчёт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виды систем отсчёта существую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91440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Что такое 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материальная точка?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143080" y="1285920"/>
            <a:ext cx="6005520" cy="18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, размерами и формой которого в рассматриваемом случае можно пренебреч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Заголовок 1"/>
          <p:cNvSpPr/>
          <p:nvPr/>
        </p:nvSpPr>
        <p:spPr>
          <a:xfrm>
            <a:off x="1928880" y="500040"/>
            <a:ext cx="6072120" cy="57960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 Black"/>
              </a:rPr>
              <a:t>Материальная точка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Рисунок 14" descr="http://customcontentinsiderscircle.com/wp-content/uploads/2015/10/professor.png"/>
          <p:cNvPicPr/>
          <p:nvPr/>
        </p:nvPicPr>
        <p:blipFill>
          <a:blip r:embed="rId1"/>
          <a:srcRect l="17252" t="0" r="8848" b="8022"/>
          <a:stretch/>
        </p:blipFill>
        <p:spPr>
          <a:xfrm>
            <a:off x="285840" y="500040"/>
            <a:ext cx="2143080" cy="250020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15"/>
          <p:cNvSpPr/>
          <p:nvPr/>
        </p:nvSpPr>
        <p:spPr>
          <a:xfrm>
            <a:off x="642960" y="3105000"/>
            <a:ext cx="7929720" cy="94716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итуации, в которых используется понятие материальная точ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Прямоугольник 16"/>
          <p:cNvSpPr/>
          <p:nvPr/>
        </p:nvSpPr>
        <p:spPr>
          <a:xfrm>
            <a:off x="500040" y="4429080"/>
            <a:ext cx="807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стояние проходимое каждой точкой тела много больше размеров самого те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се точки тела движутся поступатель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71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Наприме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 материальную точку очень часто рассматривают Землю, если исследуют её движение вокруг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10" descr="Вращение-Земли-вокруг-Солнца-300x225"/>
          <p:cNvPicPr/>
          <p:nvPr/>
        </p:nvPicPr>
        <p:blipFill>
          <a:blip r:embed="rId1"/>
          <a:stretch/>
        </p:blipFill>
        <p:spPr>
          <a:xfrm>
            <a:off x="4343400" y="1676520"/>
            <a:ext cx="4632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336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Наприме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о если мы решаем задачу связанную с суточным вращением планет, то нужно обязательно учесть форму и размер планеты. Например, если требуется определить </a:t>
            </a:r>
            <a:r>
              <a:rPr b="0" lang="ru-RU" sz="2600" spc="-1" strike="noStrike">
                <a:solidFill>
                  <a:srgbClr val="6b9f25"/>
                </a:solidFill>
                <a:latin typeface="Verdana"/>
              </a:rPr>
              <a:t>время восхода Солнц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в разных местах земного ша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Picture 9" descr="Восход солнца над землей"/>
          <p:cNvPicPr/>
          <p:nvPr/>
        </p:nvPicPr>
        <p:blipFill>
          <a:blip r:embed="rId1"/>
          <a:stretch/>
        </p:blipFill>
        <p:spPr>
          <a:xfrm>
            <a:off x="4419720" y="1828800"/>
            <a:ext cx="4422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Ответим на вопро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4" name="Picture 7" descr="MC900431985[1]"/>
          <p:cNvPicPr/>
          <p:nvPr/>
        </p:nvPicPr>
        <p:blipFill>
          <a:blip r:embed="rId1"/>
          <a:stretch/>
        </p:blipFill>
        <p:spPr>
          <a:xfrm>
            <a:off x="1484280" y="1773360"/>
            <a:ext cx="1828800" cy="1827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MP900422729[1]"/>
          <p:cNvPicPr/>
          <p:nvPr/>
        </p:nvPicPr>
        <p:blipFill>
          <a:blip r:embed="rId2"/>
          <a:stretch/>
        </p:blipFill>
        <p:spPr>
          <a:xfrm>
            <a:off x="5657760" y="1600200"/>
            <a:ext cx="2173320" cy="2173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аких случаях автомобиль можно считать материальной точко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обиль движется  из Новосибирска в Томс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изводится заправка бензином автомобил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обиль совершает обго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им на вопро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каких случаях самолет можно считать материальной точкой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молет летит из Москвы в Новосибирс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молет выруливает на взлетную полос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исходит посадка пассажиров в самолет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Picture 5" descr="MP900442499[1]"/>
          <p:cNvPicPr/>
          <p:nvPr/>
        </p:nvPicPr>
        <p:blipFill>
          <a:blip r:embed="rId1"/>
          <a:stretch/>
        </p:blipFill>
        <p:spPr>
          <a:xfrm>
            <a:off x="2952720" y="3925800"/>
            <a:ext cx="32385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поступательное движени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Тело движется поступательно, если все его точки движутся одинако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3b6431"/>
                </a:solidFill>
                <a:latin typeface="Verdana"/>
              </a:rPr>
              <a:t>или</a:t>
            </a:r>
            <a:br>
              <a:rPr sz="2800"/>
            </a:b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Тело движется поступательно, если прямая, проведенная через две точки этого тела, при его перемещении смещается параллельно своему первоначальному положен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поступательного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118040" cy="1905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упательно движется кабина лиф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Picture 6" descr="Современный лифт"/>
          <p:cNvPicPr/>
          <p:nvPr/>
        </p:nvPicPr>
        <p:blipFill>
          <a:blip r:embed="rId1"/>
          <a:stretch/>
        </p:blipFill>
        <p:spPr>
          <a:xfrm>
            <a:off x="4395960" y="1031760"/>
            <a:ext cx="3436920" cy="2473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838080" y="3505320"/>
            <a:ext cx="3436920" cy="29718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"/>
          <p:cNvSpPr/>
          <p:nvPr/>
        </p:nvSpPr>
        <p:spPr>
          <a:xfrm>
            <a:off x="4419720" y="4156200"/>
            <a:ext cx="37335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упательно движется кабина колеса обоз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бы определить положение тела (материальной точки) в пространстве надо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задать тело отсчета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ыбрать систему координат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иметь прибор для отсчёта времени (часы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Picture 7" descr="система отсчета"/>
          <p:cNvPicPr/>
          <p:nvPr/>
        </p:nvPicPr>
        <p:blipFill>
          <a:blip r:embed="rId1"/>
          <a:stretch/>
        </p:blipFill>
        <p:spPr>
          <a:xfrm>
            <a:off x="4114800" y="2438280"/>
            <a:ext cx="457524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189640" cy="250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b9f25"/>
                </a:solidFill>
                <a:latin typeface="Verdana"/>
              </a:rPr>
              <a:t>Материальная точка. Система отсчет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реде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088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9f25"/>
                </a:solidFill>
                <a:latin typeface="Verdana"/>
              </a:rPr>
              <a:t>Тело отсчета, связанная с ним система координат и часы для отсчета времени движения образуют систему отсчета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b9f25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тело отсчета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Verdana"/>
              </a:rPr>
              <a:t>Тело отсчёта - это тело, относительно которого определяется положение других (движущихся) те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это может быть </a:t>
            </a:r>
            <a:r>
              <a:rPr b="0" lang="ru-RU" sz="2400" spc="-1" strike="noStrike">
                <a:solidFill>
                  <a:srgbClr val="6b9f25"/>
                </a:solidFill>
                <a:latin typeface="Verdana"/>
              </a:rPr>
              <a:t>дерев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когда рассматриваем движение автобуса, или </a:t>
            </a:r>
            <a:r>
              <a:rPr b="0" lang="ru-RU" sz="2400" spc="-1" strike="noStrike">
                <a:solidFill>
                  <a:srgbClr val="6b9f25"/>
                </a:solidFill>
                <a:latin typeface="Verdana"/>
              </a:rPr>
              <a:t>Зем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и расчёте движения рак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Picture 9" descr="тело отсчета"/>
          <p:cNvPicPr/>
          <p:nvPr/>
        </p:nvPicPr>
        <p:blipFill>
          <a:blip r:embed="rId1"/>
          <a:stretch/>
        </p:blipFill>
        <p:spPr>
          <a:xfrm>
            <a:off x="4648320" y="1789200"/>
            <a:ext cx="4194000" cy="1795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тело отсчета"/>
          <p:cNvPicPr/>
          <p:nvPr/>
        </p:nvPicPr>
        <p:blipFill>
          <a:blip r:embed="rId2"/>
          <a:stretch/>
        </p:blipFill>
        <p:spPr>
          <a:xfrm>
            <a:off x="5818320" y="3925800"/>
            <a:ext cx="18540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480" y="2328840"/>
            <a:ext cx="449892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ямолинейном движении тела достаточно одной координатной о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8" name="Picture 21" descr="тело отсчета"/>
          <p:cNvPicPr/>
          <p:nvPr/>
        </p:nvPicPr>
        <p:blipFill>
          <a:blip r:embed="rId1"/>
          <a:stretch/>
        </p:blipFill>
        <p:spPr>
          <a:xfrm>
            <a:off x="4648320" y="2951280"/>
            <a:ext cx="41940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Рисунок 20" descr="487px-3D_coordinate_system_svg.png"/>
          <p:cNvPicPr/>
          <p:nvPr/>
        </p:nvPicPr>
        <p:blipFill>
          <a:blip r:embed="rId1"/>
          <a:stretch/>
        </p:blipFill>
        <p:spPr>
          <a:xfrm>
            <a:off x="4505400" y="1785960"/>
            <a:ext cx="4638600" cy="46386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71880" y="428400"/>
            <a:ext cx="5533920" cy="57924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истемы координа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00240" y="1071720"/>
            <a:ext cx="2757600" cy="5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дномерн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Содержимое 2"/>
          <p:cNvSpPr/>
          <p:nvPr/>
        </p:nvSpPr>
        <p:spPr>
          <a:xfrm>
            <a:off x="1357200" y="5857920"/>
            <a:ext cx="2757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 Black"/>
              </a:rPr>
              <a:t>Двухмер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Содержимое 2"/>
          <p:cNvSpPr/>
          <p:nvPr/>
        </p:nvSpPr>
        <p:spPr>
          <a:xfrm>
            <a:off x="6386400" y="5857920"/>
            <a:ext cx="2757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 Black"/>
              </a:rPr>
              <a:t>Трехмер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Box 9"/>
          <p:cNvSpPr/>
          <p:nvPr/>
        </p:nvSpPr>
        <p:spPr>
          <a:xfrm>
            <a:off x="20700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136480" y="1928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Овал 11"/>
          <p:cNvSpPr/>
          <p:nvPr/>
        </p:nvSpPr>
        <p:spPr>
          <a:xfrm>
            <a:off x="214200" y="2500200"/>
            <a:ext cx="4643640" cy="3500640"/>
          </a:xfrm>
          <a:prstGeom prst="ellipse">
            <a:avLst/>
          </a:prstGeom>
          <a:blipFill rotWithShape="0">
            <a:blip r:embed="rId2">
              <a:alphaModFix amt="31000"/>
            </a:blip>
            <a:srcRect/>
            <a:tile tx="0" ty="0" sx="100000" sy="100000" algn="ctr"/>
          </a:blipFill>
          <a:ln w="648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7" name="Прямая со стрелкой 14"/>
          <p:cNvCxnSpPr/>
          <p:nvPr/>
        </p:nvCxnSpPr>
        <p:spPr>
          <a:xfrm flipH="1">
            <a:off x="642600" y="3285000"/>
            <a:ext cx="2929680" cy="1500840"/>
          </a:xfrm>
          <a:prstGeom prst="straightConnector1">
            <a:avLst/>
          </a:prstGeom>
          <a:ln w="25560">
            <a:solidFill>
              <a:srgbClr val="ff8000"/>
            </a:solidFill>
            <a:miter/>
            <a:tailEnd len="lg" type="arrow" w="lg"/>
          </a:ln>
        </p:spPr>
      </p:cxnSp>
      <p:cxnSp>
        <p:nvCxnSpPr>
          <p:cNvPr id="538" name="Прямая со стрелкой 16"/>
          <p:cNvCxnSpPr/>
          <p:nvPr/>
        </p:nvCxnSpPr>
        <p:spPr>
          <a:xfrm>
            <a:off x="3571560" y="3285720"/>
            <a:ext cx="1143720" cy="715320"/>
          </a:xfrm>
          <a:prstGeom prst="straightConnector1">
            <a:avLst/>
          </a:prstGeom>
          <a:ln w="25560">
            <a:solidFill>
              <a:srgbClr val="ff8000"/>
            </a:solidFill>
            <a:miter/>
            <a:tailEnd len="lg" type="arrow" w="lg"/>
          </a:ln>
        </p:spPr>
      </p:cxnSp>
      <p:pic>
        <p:nvPicPr>
          <p:cNvPr id="539" name="TextBox 17" descr=""/>
          <p:cNvPicPr/>
          <p:nvPr/>
        </p:nvPicPr>
        <p:blipFill>
          <a:blip r:embed="rId3"/>
          <a:stretch/>
        </p:blipFill>
        <p:spPr>
          <a:xfrm>
            <a:off x="3286080" y="2762280"/>
            <a:ext cx="633600" cy="743040"/>
          </a:xfrm>
          <a:prstGeom prst="rect">
            <a:avLst/>
          </a:prstGeom>
          <a:ln w="0">
            <a:noFill/>
          </a:ln>
        </p:spPr>
      </p:pic>
      <p:pic>
        <p:nvPicPr>
          <p:cNvPr id="540" name="TextBox 18" descr=""/>
          <p:cNvPicPr/>
          <p:nvPr/>
        </p:nvPicPr>
        <p:blipFill>
          <a:blip r:embed="rId4"/>
          <a:stretch/>
        </p:blipFill>
        <p:spPr>
          <a:xfrm>
            <a:off x="285840" y="4187880"/>
            <a:ext cx="647640" cy="744480"/>
          </a:xfrm>
          <a:prstGeom prst="rect">
            <a:avLst/>
          </a:prstGeom>
          <a:ln w="0">
            <a:noFill/>
          </a:ln>
        </p:spPr>
      </p:pic>
      <p:pic>
        <p:nvPicPr>
          <p:cNvPr id="541" name="TextBox 19" descr=""/>
          <p:cNvPicPr/>
          <p:nvPr/>
        </p:nvPicPr>
        <p:blipFill>
          <a:blip r:embed="rId5"/>
          <a:stretch/>
        </p:blipFill>
        <p:spPr>
          <a:xfrm>
            <a:off x="4286160" y="3828960"/>
            <a:ext cx="646200" cy="749520"/>
          </a:xfrm>
          <a:prstGeom prst="rect">
            <a:avLst/>
          </a:prstGeom>
          <a:ln w="0">
            <a:noFill/>
          </a:ln>
        </p:spPr>
      </p:pic>
      <p:cxnSp>
        <p:nvCxnSpPr>
          <p:cNvPr id="542" name="Прямая со стрелкой 8"/>
          <p:cNvCxnSpPr/>
          <p:nvPr/>
        </p:nvCxnSpPr>
        <p:spPr>
          <a:xfrm>
            <a:off x="282600" y="1629360"/>
            <a:ext cx="5150520" cy="3394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lg" type="arrow" w="lg"/>
          </a:ln>
        </p:spPr>
      </p:cxnSp>
      <p:pic>
        <p:nvPicPr>
          <p:cNvPr id="543" name="TextBox 24" descr=""/>
          <p:cNvPicPr/>
          <p:nvPr/>
        </p:nvPicPr>
        <p:blipFill>
          <a:blip r:embed="rId6"/>
          <a:stretch/>
        </p:blipFill>
        <p:spPr>
          <a:xfrm>
            <a:off x="6645240" y="4400640"/>
            <a:ext cx="633600" cy="744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preview.turbosquid.com/Preview/2014/05/18__22_54_38/01.jpge1b543cb-2f9b-43bf-a869-fa774a47b446Original.jpg"/>
          <p:cNvPicPr/>
          <p:nvPr/>
        </p:nvPicPr>
        <p:blipFill>
          <a:blip r:embed="rId7"/>
          <a:stretch/>
        </p:blipFill>
        <p:spPr>
          <a:xfrm>
            <a:off x="571680" y="428760"/>
            <a:ext cx="2214360" cy="1500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ttp://papapodari.com.ua/sites/default/files/styles/product-displey-galery-big/public/node/product/2009_9b3f092cc3580adf7d58846753bab60c_1.jpg?itok=G531NIie"/>
          <p:cNvPicPr/>
          <p:nvPr/>
        </p:nvPicPr>
        <p:blipFill>
          <a:blip r:embed="rId8"/>
          <a:stretch/>
        </p:blipFill>
        <p:spPr>
          <a:xfrm>
            <a:off x="1428840" y="2928960"/>
            <a:ext cx="2500200" cy="17319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http://www.okclipart.com/img166/ndjurymfgkfwihbnwecx.jpg"/>
          <p:cNvPicPr/>
          <p:nvPr/>
        </p:nvPicPr>
        <p:blipFill>
          <a:blip r:embed="rId9"/>
          <a:stretch/>
        </p:blipFill>
        <p:spPr>
          <a:xfrm>
            <a:off x="5715000" y="2357280"/>
            <a:ext cx="2747880" cy="12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5357520"/>
            <a:ext cx="3425760" cy="67788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думай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00040" y="3357360"/>
            <a:ext cx="8329680" cy="1928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координату начала и конца векто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оекции векторов на ось О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модули этих вектор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1071720" y="928800"/>
            <a:ext cx="6696000" cy="192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0" name="Прямая со стрелкой 5"/>
          <p:cNvCxnSpPr/>
          <p:nvPr/>
        </p:nvCxnSpPr>
        <p:spPr>
          <a:xfrm>
            <a:off x="785880" y="2928960"/>
            <a:ext cx="75729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TextBox 6"/>
          <p:cNvSpPr/>
          <p:nvPr/>
        </p:nvSpPr>
        <p:spPr>
          <a:xfrm>
            <a:off x="327888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420732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520776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613620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713628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8208000" y="2928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2349000" y="2928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1420200" y="2928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9" name="Прямая со стрелкой 15"/>
          <p:cNvCxnSpPr/>
          <p:nvPr/>
        </p:nvCxnSpPr>
        <p:spPr>
          <a:xfrm>
            <a:off x="4429080" y="1928880"/>
            <a:ext cx="28440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0" name="Прямая со стрелкой 17"/>
          <p:cNvCxnSpPr/>
          <p:nvPr/>
        </p:nvCxnSpPr>
        <p:spPr>
          <a:xfrm flipH="1" flipV="1">
            <a:off x="1547280" y="2428560"/>
            <a:ext cx="2377440" cy="2160"/>
          </a:xfrm>
          <a:prstGeom prst="straightConnector1">
            <a:avLst/>
          </a:prstGeom>
          <a:ln w="25560">
            <a:solidFill>
              <a:srgbClr val="3b6431"/>
            </a:solidFill>
            <a:miter/>
            <a:tailEnd len="med" type="triangle" w="med"/>
          </a:ln>
        </p:spPr>
      </p:cxnSp>
      <p:pic>
        <p:nvPicPr>
          <p:cNvPr id="561" name="Объект 16" descr=""/>
          <p:cNvPicPr/>
          <p:nvPr/>
        </p:nvPicPr>
        <p:blipFill>
          <a:blip r:embed="rId2"/>
          <a:stretch/>
        </p:blipFill>
        <p:spPr>
          <a:xfrm>
            <a:off x="2428920" y="1857240"/>
            <a:ext cx="420480" cy="58896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3" descr=""/>
          <p:cNvPicPr/>
          <p:nvPr/>
        </p:nvPicPr>
        <p:blipFill>
          <a:blip r:embed="rId3"/>
          <a:stretch/>
        </p:blipFill>
        <p:spPr>
          <a:xfrm>
            <a:off x="5786280" y="1285920"/>
            <a:ext cx="463680" cy="71424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8" descr="http://www.edu4u.gr/Portals/0/ArticlePhotos/large/87b23e23d99e4c06a64de492cfc3989d.jpg"/>
          <p:cNvPicPr/>
          <p:nvPr/>
        </p:nvPicPr>
        <p:blipFill>
          <a:blip r:embed="rId4"/>
          <a:srcRect l="0" t="0" r="32" b="0"/>
          <a:stretch/>
        </p:blipFill>
        <p:spPr>
          <a:xfrm>
            <a:off x="7786800" y="4857840"/>
            <a:ext cx="1071360" cy="17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Выноска-облако 4" descr=""/>
          <p:cNvPicPr/>
          <p:nvPr/>
        </p:nvPicPr>
        <p:blipFill>
          <a:blip r:embed="rId1"/>
          <a:stretch/>
        </p:blipFill>
        <p:spPr>
          <a:xfrm>
            <a:off x="1401840" y="347760"/>
            <a:ext cx="6059520" cy="3389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https://im0-tub-ru.yandex.net/i?id=0bc910f0878d8ce30b66a7a381b7a1ad&amp;n=33&amp;h=215&amp;w=154"/>
          <p:cNvPicPr/>
          <p:nvPr/>
        </p:nvPicPr>
        <p:blipFill>
          <a:blip r:embed="rId2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https://im0-tub-ru.yandex.net/i?id=4ff5bde57ddc2e44dff2c079fa63ba77&amp;n=33&amp;h=215&amp;w=287"/>
          <p:cNvPicPr/>
          <p:nvPr/>
        </p:nvPicPr>
        <p:blipFill>
          <a:blip r:embed="rId3"/>
          <a:stretch/>
        </p:blipFill>
        <p:spPr>
          <a:xfrm>
            <a:off x="4786200" y="3465360"/>
            <a:ext cx="4019760" cy="3011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Выноска-облако 4" descr=""/>
          <p:cNvPicPr/>
          <p:nvPr/>
        </p:nvPicPr>
        <p:blipFill>
          <a:blip r:embed="rId1"/>
          <a:stretch/>
        </p:blipFill>
        <p:spPr>
          <a:xfrm>
            <a:off x="1822320" y="249120"/>
            <a:ext cx="5139000" cy="3664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s://im0-tub-ru.yandex.net/i?id=0bc910f0878d8ce30b66a7a381b7a1ad&amp;n=33&amp;h=215&amp;w=154"/>
          <p:cNvPicPr/>
          <p:nvPr/>
        </p:nvPicPr>
        <p:blipFill>
          <a:blip r:embed="rId2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https://im0-tub-ru.yandex.net/i?id=f8b7a11c9ce807fe958d498d63907410&amp;n=33&amp;h=215&amp;w=344"/>
          <p:cNvPicPr/>
          <p:nvPr/>
        </p:nvPicPr>
        <p:blipFill>
          <a:blip r:embed="rId3"/>
          <a:stretch/>
        </p:blipFill>
        <p:spPr>
          <a:xfrm>
            <a:off x="4572000" y="3919680"/>
            <a:ext cx="42051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https://im0-tub-ru.yandex.net/i?id=0bc910f0878d8ce30b66a7a381b7a1ad&amp;n=33&amp;h=215&amp;w=154"/>
          <p:cNvPicPr/>
          <p:nvPr/>
        </p:nvPicPr>
        <p:blipFill>
          <a:blip r:embed="rId1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71" name="Выноска-облако 5" descr=""/>
          <p:cNvPicPr/>
          <p:nvPr/>
        </p:nvPicPr>
        <p:blipFill>
          <a:blip r:embed="rId2"/>
          <a:stretch/>
        </p:blipFill>
        <p:spPr>
          <a:xfrm>
            <a:off x="1474920" y="463680"/>
            <a:ext cx="5773680" cy="3297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http://www.stihi.ru/pics/2015/08/09/6019.jpg"/>
          <p:cNvPicPr/>
          <p:nvPr/>
        </p:nvPicPr>
        <p:blipFill>
          <a:blip r:embed="rId3"/>
          <a:stretch/>
        </p:blipFill>
        <p:spPr>
          <a:xfrm>
            <a:off x="4572000" y="3584520"/>
            <a:ext cx="432432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https://im0-tub-ru.yandex.net/i?id=0bc910f0878d8ce30b66a7a381b7a1ad&amp;n=33&amp;h=215&amp;w=154"/>
          <p:cNvPicPr/>
          <p:nvPr/>
        </p:nvPicPr>
        <p:blipFill>
          <a:blip r:embed="rId1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74" name="Выноска-облако 5" descr=""/>
          <p:cNvPicPr/>
          <p:nvPr/>
        </p:nvPicPr>
        <p:blipFill>
          <a:blip r:embed="rId2"/>
          <a:stretch/>
        </p:blipFill>
        <p:spPr>
          <a:xfrm>
            <a:off x="1620720" y="-12600"/>
            <a:ext cx="5481720" cy="3998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http://hyser.com.ua/wp-content/uploads/2016/01/avia.jpg"/>
          <p:cNvPicPr/>
          <p:nvPr/>
        </p:nvPicPr>
        <p:blipFill>
          <a:blip r:embed="rId3"/>
          <a:stretch/>
        </p:blipFill>
        <p:spPr>
          <a:xfrm>
            <a:off x="4357800" y="3714840"/>
            <a:ext cx="4429080" cy="2768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336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Это интересн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временное понимание трехмерности окружающего пространства появилось в 17 веке, когда </a:t>
            </a:r>
            <a:r>
              <a:rPr b="0" lang="ru-RU" sz="2200" spc="-1" strike="noStrike">
                <a:solidFill>
                  <a:srgbClr val="6b9f25"/>
                </a:solidFill>
                <a:latin typeface="Verdana"/>
              </a:rPr>
              <a:t>Декарт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обрел прямоугольную систему координат. В древности понятие размерности пространства не применялось, т.к. отсутствовало понятие координ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8" name="Picture 13" descr="Декартова система координат"/>
          <p:cNvPicPr/>
          <p:nvPr/>
        </p:nvPicPr>
        <p:blipFill>
          <a:blip r:embed="rId1"/>
          <a:stretch/>
        </p:blipFill>
        <p:spPr>
          <a:xfrm>
            <a:off x="5442120" y="2511360"/>
            <a:ext cx="23716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Движение – любое изменение, происходящее в окружающем мир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6" name="Picture 6" descr="Мы живем в мире движущихся объектов"/>
          <p:cNvPicPr/>
          <p:nvPr/>
        </p:nvPicPr>
        <p:blipFill>
          <a:blip r:embed="rId1"/>
          <a:stretch/>
        </p:blipFill>
        <p:spPr>
          <a:xfrm>
            <a:off x="1828800" y="30492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втори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294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механическое движени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 материальная точ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ких случаях тело можно считать материальной точко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ое движение называется поступательны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система отсчет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336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иболее простым видом движения является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механическое движени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8" name="Picture 9" descr="Движение бегуна"/>
          <p:cNvPicPr/>
          <p:nvPr/>
        </p:nvPicPr>
        <p:blipFill>
          <a:blip r:embed="rId1"/>
          <a:stretch/>
        </p:blipFill>
        <p:spPr>
          <a:xfrm>
            <a:off x="776160" y="2206800"/>
            <a:ext cx="2695680" cy="2652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7" descr="Движение велосипедиста"/>
          <p:cNvPicPr/>
          <p:nvPr/>
        </p:nvPicPr>
        <p:blipFill>
          <a:blip r:embed="rId2"/>
          <a:stretch/>
        </p:blipFill>
        <p:spPr>
          <a:xfrm>
            <a:off x="5316480" y="197316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1" descr="Движение автомобиля"/>
          <p:cNvPicPr/>
          <p:nvPr/>
        </p:nvPicPr>
        <p:blipFill>
          <a:blip r:embed="rId3"/>
          <a:stretch/>
        </p:blipFill>
        <p:spPr>
          <a:xfrm>
            <a:off x="838080" y="5334120"/>
            <a:ext cx="2181240" cy="1377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Движение поезда"/>
          <p:cNvPicPr/>
          <p:nvPr/>
        </p:nvPicPr>
        <p:blipFill>
          <a:blip r:embed="rId4"/>
          <a:stretch/>
        </p:blipFill>
        <p:spPr>
          <a:xfrm>
            <a:off x="4572000" y="4846680"/>
            <a:ext cx="3100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Повторим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79520" y="1623600"/>
            <a:ext cx="818496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механическое движени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Механическое движение - это изменение положения тел в пространстве относительно друг друга с течением времени.</a:t>
            </a:r>
            <a:br>
              <a:rPr sz="2800"/>
            </a:b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4" descr="улитка"/>
          <p:cNvPicPr/>
          <p:nvPr/>
        </p:nvPicPr>
        <p:blipFill>
          <a:blip r:embed="rId1"/>
          <a:stretch/>
        </p:blipFill>
        <p:spPr>
          <a:xfrm>
            <a:off x="457200" y="4172040"/>
            <a:ext cx="4043520" cy="11048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улитка"/>
          <p:cNvPicPr/>
          <p:nvPr/>
        </p:nvPicPr>
        <p:blipFill>
          <a:blip r:embed="rId2"/>
          <a:stretch/>
        </p:blipFill>
        <p:spPr>
          <a:xfrm>
            <a:off x="4049640" y="3718080"/>
            <a:ext cx="46022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ханическое движение может быт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727520" cy="426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ямолинейным или криволинейным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вномерным или неравномерным.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0" descr="auto движется"/>
          <p:cNvPicPr/>
          <p:nvPr/>
        </p:nvPicPr>
        <p:blipFill>
          <a:blip r:embed="rId1"/>
          <a:stretch/>
        </p:blipFill>
        <p:spPr>
          <a:xfrm>
            <a:off x="4737240" y="2462040"/>
            <a:ext cx="4019400" cy="446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Движение спутника вокруг Земли"/>
          <p:cNvPicPr/>
          <p:nvPr/>
        </p:nvPicPr>
        <p:blipFill>
          <a:blip r:embed="rId2"/>
          <a:stretch/>
        </p:blipFill>
        <p:spPr>
          <a:xfrm>
            <a:off x="5649840" y="4214880"/>
            <a:ext cx="21938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 решении задач, связанных с механическим движением, необходимо определить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3520" y="1676160"/>
            <a:ext cx="7238880" cy="380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екторию движ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рость движ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уть пройденный тел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ение тела в пространстве в любой момент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57880" y="500040"/>
            <a:ext cx="2643120" cy="57960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имер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428560" y="1285920"/>
            <a:ext cx="5791320" cy="18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пе вагона на столике лежит яблоко. Пассажир видит, что расстояние до яблока с течением времени сохраняется, т.е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500040" y="31431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не совершает механического дви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571680" y="38577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Но с точки зрения провожающего, яблоко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1500120" y="43578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тся, т.к.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1500120" y="492912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от яблока до перрона с течением времени раст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Рисунок 9" descr="http://customcontentinsiderscircle.com/wp-content/uploads/2015/10/professor.png"/>
          <p:cNvPicPr/>
          <p:nvPr/>
        </p:nvPicPr>
        <p:blipFill>
          <a:blip r:embed="rId1"/>
          <a:srcRect l="17252" t="0" r="8848" b="8022"/>
          <a:stretch/>
        </p:blipFill>
        <p:spPr>
          <a:xfrm>
            <a:off x="285840" y="500040"/>
            <a:ext cx="2143080" cy="25002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https://files.web2edu.ru/3e2978ea-07b4-4395-975e-320f780d6883/f39cd101-47ee-4fde-b745-6487834f64c7.jpg"/>
          <p:cNvPicPr/>
          <p:nvPr/>
        </p:nvPicPr>
        <p:blipFill>
          <a:blip r:embed="rId2"/>
          <a:stretch/>
        </p:blipFill>
        <p:spPr>
          <a:xfrm>
            <a:off x="7283520" y="5000760"/>
            <a:ext cx="18604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43080" y="1285920"/>
            <a:ext cx="6005520" cy="18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находитесь в классе в покое (сидя за партой) относительно Земли, но движетесь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1143000" y="33577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Землей вокруг Солн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" name="Group 14"/>
          <p:cNvGrpSpPr/>
          <p:nvPr/>
        </p:nvGrpSpPr>
        <p:grpSpPr>
          <a:xfrm>
            <a:off x="1571760" y="4357800"/>
            <a:ext cx="6500160" cy="480960"/>
            <a:chOff x="1571760" y="4357800"/>
            <a:chExt cx="6500160" cy="480960"/>
          </a:xfrm>
        </p:grpSpPr>
        <p:sp>
          <p:nvSpPr>
            <p:cNvPr id="483" name="Text Box 30"/>
            <p:cNvSpPr/>
            <p:nvPr/>
          </p:nvSpPr>
          <p:spPr>
            <a:xfrm>
              <a:off x="2170440" y="4357800"/>
              <a:ext cx="59014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Что следует из этих примеров?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Oval 31"/>
            <p:cNvSpPr/>
            <p:nvPr/>
          </p:nvSpPr>
          <p:spPr>
            <a:xfrm>
              <a:off x="1571760" y="4357800"/>
              <a:ext cx="777600" cy="480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TextBox 13"/>
          <p:cNvSpPr/>
          <p:nvPr/>
        </p:nvSpPr>
        <p:spPr>
          <a:xfrm>
            <a:off x="1428840" y="528624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и не может быть абсолютно неподвижных тел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Заголовок 1"/>
          <p:cNvSpPr/>
          <p:nvPr/>
        </p:nvSpPr>
        <p:spPr>
          <a:xfrm>
            <a:off x="5357880" y="500040"/>
            <a:ext cx="2643120" cy="57960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 Black"/>
              </a:rPr>
              <a:t>Пример 2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Рисунок 14" descr="http://customcontentinsiderscircle.com/wp-content/uploads/2015/10/professor.png"/>
          <p:cNvPicPr/>
          <p:nvPr/>
        </p:nvPicPr>
        <p:blipFill>
          <a:blip r:embed="rId1"/>
          <a:srcRect l="17252" t="0" r="8848" b="8022"/>
          <a:stretch/>
        </p:blipFill>
        <p:spPr>
          <a:xfrm>
            <a:off x="285840" y="500040"/>
            <a:ext cx="2143080" cy="2500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http://img.espicture.ru/13/zemnoyy-yshar-kartinki-4.jpg"/>
          <p:cNvPicPr/>
          <p:nvPr/>
        </p:nvPicPr>
        <p:blipFill>
          <a:blip r:embed="rId2"/>
          <a:stretch/>
        </p:blipFill>
        <p:spPr>
          <a:xfrm>
            <a:off x="6643800" y="1849320"/>
            <a:ext cx="250020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ovo</dc:creator>
  <dc:description/>
  <dc:language>en-US</dc:language>
  <cp:lastModifiedBy>lenovo</cp:lastModifiedBy>
  <dcterms:modified xsi:type="dcterms:W3CDTF">2019-09-03T17:00:5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