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18.jpeg" ContentType="image/jpeg"/>
  <Override PartName="/ppt/media/image17.wmf" ContentType="image/x-wmf"/>
  <Override PartName="/ppt/media/image16.jpeg" ContentType="image/jpeg"/>
  <Override PartName="/ppt/media/image9.gif" ContentType="image/gif"/>
  <Override PartName="/ppt/media/image35.wmf" ContentType="image/x-wmf"/>
  <Override PartName="/ppt/media/image15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3.png" ContentType="image/png"/>
  <Override PartName="/ppt/media/image33.png" ContentType="image/png"/>
  <Override PartName="/ppt/media/image30.png" ContentType="image/png"/>
  <Override PartName="/ppt/media/image12.png" ContentType="image/png"/>
  <Override PartName="/ppt/media/image47.png" ContentType="image/png"/>
  <Override PartName="/ppt/media/image20.jpeg" ContentType="image/jpeg"/>
  <Override PartName="/ppt/media/image28.png" ContentType="image/png"/>
  <Override PartName="/ppt/media/image7.jpeg" ContentType="image/jpeg"/>
  <Override PartName="/ppt/media/image39.png" ContentType="image/png"/>
  <Override PartName="/ppt/media/image41.png" ContentType="image/png"/>
  <Override PartName="/ppt/media/image40.jpeg" ContentType="image/jpeg"/>
  <Override PartName="/ppt/media/image43.png" ContentType="image/png"/>
  <Override PartName="/ppt/media/image34.jpeg" ContentType="image/jpeg"/>
  <Override PartName="/ppt/media/image37.png" ContentType="image/png"/>
  <Override PartName="/ppt/media/image36.wmf" ContentType="image/x-wmf"/>
  <Override PartName="/ppt/media/image44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10.gif" ContentType="image/gif"/>
  <Override PartName="/ppt/media/image13.png" ContentType="image/png"/>
  <Override PartName="/ppt/media/image8.jpeg" ContentType="image/jpeg"/>
  <Override PartName="/ppt/media/image38.png" ContentType="image/png"/>
  <Override PartName="/ppt/media/image1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25.png" ContentType="image/png"/>
  <Override PartName="/ppt/media/image19.jpeg" ContentType="image/jpeg"/>
  <Override PartName="/ppt/media/image4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0D5C-1D32-4357-8584-EA820C4C1C8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38FA-556A-4147-AE75-B387AF382F1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39F0-BED4-48BF-891B-2900CB1E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4790-6CC4-4775-814A-FEC550F2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1C876-5FCA-41B5-8AE9-07080F00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8D5D7-C926-4444-87D6-7B6DD7E5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08C0D-EC09-4B2B-A4B3-AA1DFBB8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9EB50-0AC9-44D2-B675-55FC2E9F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3FC68-B3A7-4B87-B826-052750B1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0A582-75F3-4D61-9F39-A89D0C79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E8172-B47D-475E-85F1-4110EF7A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0FBAC-918D-41C0-BA17-8304B5BF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D2BF9-85B7-41A5-AA07-BF3EFAEC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2074C-6E52-4D3E-A7AC-C17C2D30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27BA-2C7C-48BD-B13D-75A56315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29AAF-A6C3-48CD-9938-BC915876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C1F37-D524-4936-A0B4-852CD053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083F5-563C-40B4-B9C0-60A34477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A57BF-832E-4157-849B-1805F8E1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272A4-6581-4C35-A4FD-F1545C59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0B5E0-BB24-41ED-AB1F-0DAECBB5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9DEBF-2A6B-44B6-949A-7F2E373F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96AFA-2A78-483B-8A7E-BEEB3B22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04F14-993D-4997-B408-A05D4940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2D4AE-62D8-48AB-8684-94A5F7E7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98F-7E27-4256-8831-F6808C46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0EE90-A72C-4BEF-B3A8-9F7E35EA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D52F-881C-4688-B05D-EA3B9A0E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2E24-F7AA-44C7-8375-A74D2FA3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36E9-F989-4D4A-99C8-75FF6FC1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8FE0-5945-42E2-B3AE-8F900114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4ECD-E2A6-444A-BA70-A47F5F1E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85B9-B13A-46EA-940B-25D8E149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C783-A39B-45EE-A90F-3ACE43BC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6ED6-30BD-45B7-B669-BB352E41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4A0A-2540-4EA2-8E4D-6DBF6A04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1E69-E121-4336-B363-6D2673A1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F29B-D9D2-48AF-81A3-6AE95E8F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3079-E7AF-493D-94F8-AE2FD2D9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4AC1-30DC-4BD0-93F4-BA0115DF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614CD-146E-463F-AC9A-795E4EEA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16CF1-DE59-4B7E-A095-577F4BF4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1B687-A626-4CED-8903-732AC4ED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2F884-66A6-4EFF-B289-44B3B6AD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C747C-879F-40F9-BD46-F362C73D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BD4-7095-4242-85C7-5DD30EA3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B17CF-C755-4F70-810B-141C3B81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42E4B-AB52-426D-BAF5-FA0AC4F0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823F1-478C-4D47-A0A0-7E5B8E8C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8B53D-66C3-4F05-9620-4435EF60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9884C-BC29-456F-B1EE-497F1BD3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D6B7D-B93B-4F72-B765-424C472D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B539B-6E73-4F16-B7F9-FEBF0CF2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EA0AC-5B75-4336-8734-BD178CB9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6637C-3548-4865-85D7-4924339C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631D6-1581-4EF0-9D89-EA1B2E35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D5E-E005-4C3B-AFCD-2F36D8E8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F59C9-FA06-4145-8BDE-22F0004E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688C7-2848-426E-B59F-323FD1D1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86E94-B3CA-4636-B92A-2C3BC5AC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003F7-10D0-4900-868F-8E3FFA48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6B8B8-5987-44B9-95ED-E5173A79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580CE-048F-4339-9137-CA12AE40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0B049-A291-44BE-B1D7-EF9203AE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9CA4E-283B-40CE-B6EA-80BF6F38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BDBFB-C8CB-408E-B68C-B3F4E3E6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2395E-C52D-4BA4-AA81-F251C29B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FABC-481E-4880-ABC3-D3DA2F75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3943E-CE59-4B22-B4F2-D708B4B2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C1D75-FBD5-4DBB-9490-35ACFEFC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E25CB-42CF-4344-B1E7-E9FF6F82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B825E-6ACD-43FF-A4C1-192928A2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D27B3-2353-43A1-80F8-31BD700D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5A4D0-0189-4B49-B46F-B9B6D1C2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EA5A1-3916-4E6A-A67A-DCEACF51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EAEDE-8EF1-4D19-9416-12D5C5D3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581E5-E0A5-4D85-9A1B-013EA833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059D9-50FE-4AB5-A129-731AA45E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DCE8-A7FE-44BD-B881-5387C69C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E5DA4-205E-48ED-BFE8-8E76052A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D2669-E6E2-4598-9A65-A78C549C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F3E13-F3E7-49A7-893B-E4017E4B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D21CE-FF3F-4567-ADCA-B231F0E4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856BD-8169-4B64-8527-32ADF8E9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A1374-84D8-4387-9951-925D32D3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0C63A-2C68-4448-9540-3B0B3804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5B9B6-CA5C-44D1-AC61-8A6AEB37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CBC78-AB2C-478A-A13F-5ED3D1AD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B57A6-29BF-44F6-8446-B7F645D7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84E2-B4E8-4372-84CE-44390252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F0999-68AF-4435-A8EB-3017F740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6A436-13DA-437E-ABA6-42209E1F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7BD5C-B672-4FEB-AFA3-F5B34434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76EDC-4AD0-4A8B-9CCA-02ABCFBF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1AEB0-7490-49AD-B74D-3EE8E2FD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4C6BD-3A58-4DD1-9CAF-C6C1539C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3D611-1A88-4899-8E94-D2FF0E61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052D7-09CF-490A-A918-9773BFEE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C7E21-AAB1-4A3C-BC23-78F84553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44665-55BF-4FCA-9CA0-C64BFF64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7693-6018-4CE2-AD10-70273E30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C1E7D-F738-444A-978B-8C758B6C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4FAF0-25F1-4827-9569-E884C8B4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F77FE-A8F9-4784-B702-38D56312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F0037-B4CD-48FA-868D-30FBBC4D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A526E-8B81-4229-B811-EFFC5942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09EBC-2F6F-400D-BE89-BC26C530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C7002-588A-43DA-ACD4-1772777E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E7270-3596-4A1B-B08B-2B8C4EEB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93234-0F7B-4247-B91F-CCFB9E68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5085B-AF58-4F91-9854-B2B29C18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9F2-6E6C-4ECE-9193-50437843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3F35E-D1AB-430E-9DEE-653826CC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C5ACB-AFC3-4980-AA92-88DDBCF4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0D959-97BD-4986-B595-72121BED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6E810-94F9-45E3-B256-62C5C301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B2DE8-8D07-4236-AEFB-670DE0AD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662A0-42AE-4ABC-8E49-BA9B8C7D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F9CDB-9861-4274-834B-3EED3BF6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CEECE-7515-413C-AA4E-7CA1CA30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ED263-1A58-43CB-BF82-4A2D4C73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97A5B-E9BD-42A9-A188-E311FF7B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44BD-1DBB-4ACC-885B-C1E073BABA89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0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55FB-4567-40B1-B691-1BE249E8868C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3AAA-D91C-4616-8738-F603315A9A22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AAA8-7A44-43F8-BA9F-205E8B4EC4CE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1AF3-F828-458A-9BAB-90D1EA79E2F3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E971-A09B-4395-951C-040179D828F1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99EC-2996-42F0-BD14-9CD193710A25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7B3B-E5A0-482D-B3AD-36BD0C276E20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2186-FE12-4A9A-8E16-EB0AD5DF05E3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5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DF9C-1C35-4D31-9352-2D39D85C57DF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9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сновные разделы 9 класс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04920" y="1676160"/>
            <a:ext cx="8686800" cy="2965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оны взаимодействия и движения те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ханические колебания и волны. Зву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омагнитное пол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оение атома и атомного яд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егодня мы ответим на вопросы: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533520" y="1752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такое </a:t>
            </a:r>
            <a:r>
              <a:rPr b="0" lang="ru-RU" sz="2800" spc="-1" strike="noStrike">
                <a:solidFill>
                  <a:srgbClr val="6b9f25"/>
                </a:solidFill>
                <a:latin typeface="Verdana"/>
              </a:rPr>
              <a:t>материальная точк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гда ли можно применять понятие материальная точк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такое </a:t>
            </a:r>
            <a:r>
              <a:rPr b="0" lang="ru-RU" sz="2800" spc="-1" strike="noStrike">
                <a:solidFill>
                  <a:srgbClr val="6b9f25"/>
                </a:solidFill>
                <a:latin typeface="Verdana"/>
              </a:rPr>
              <a:t>система отсчёт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 чего состоит система отсчёт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виды систем отсчёта существуют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1920" y="914400"/>
            <a:ext cx="8991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8d3e"/>
                </a:solidFill>
                <a:latin typeface="Verdana"/>
              </a:rPr>
              <a:t>Что такое </a:t>
            </a:r>
            <a:br>
              <a:rPr sz="6000"/>
            </a:br>
            <a:r>
              <a:rPr b="1" lang="ru-RU" sz="6000" spc="-1" strike="noStrike">
                <a:solidFill>
                  <a:srgbClr val="ff8d3e"/>
                </a:solidFill>
                <a:latin typeface="Verdana"/>
              </a:rPr>
              <a:t>материальная точка?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2143080" y="1285920"/>
            <a:ext cx="6005520" cy="1828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, размерами и формой которого в рассматриваемом случае можно пренебреч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Заголовок 1"/>
          <p:cNvSpPr/>
          <p:nvPr/>
        </p:nvSpPr>
        <p:spPr>
          <a:xfrm>
            <a:off x="1928880" y="500040"/>
            <a:ext cx="6072120" cy="579600"/>
          </a:xfrm>
          <a:prstGeom prst="rect">
            <a:avLst/>
          </a:prstGeom>
          <a:solidFill>
            <a:srgbClr val="604878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 Black"/>
              </a:rPr>
              <a:t>Материальная точка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4" name="Рисунок 14" descr="http://customcontentinsiderscircle.com/wp-content/uploads/2015/10/professor.png"/>
          <p:cNvPicPr/>
          <p:nvPr/>
        </p:nvPicPr>
        <p:blipFill>
          <a:blip r:embed="rId1"/>
          <a:srcRect l="17252" t="0" r="8848" b="8022"/>
          <a:stretch/>
        </p:blipFill>
        <p:spPr>
          <a:xfrm>
            <a:off x="285840" y="500040"/>
            <a:ext cx="2143080" cy="2500200"/>
          </a:xfrm>
          <a:prstGeom prst="rect">
            <a:avLst/>
          </a:prstGeom>
          <a:ln w="0">
            <a:noFill/>
          </a:ln>
        </p:spPr>
      </p:pic>
      <p:sp>
        <p:nvSpPr>
          <p:cNvPr id="495" name="Прямоугольник 15"/>
          <p:cNvSpPr/>
          <p:nvPr/>
        </p:nvSpPr>
        <p:spPr>
          <a:xfrm>
            <a:off x="642960" y="3105000"/>
            <a:ext cx="7929720" cy="947160"/>
          </a:xfrm>
          <a:prstGeom prst="rect">
            <a:avLst/>
          </a:prstGeom>
          <a:solidFill>
            <a:srgbClr val="604878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итуации, в которых используется понятие материальная точк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Прямоугольник 16"/>
          <p:cNvSpPr/>
          <p:nvPr/>
        </p:nvSpPr>
        <p:spPr>
          <a:xfrm>
            <a:off x="500040" y="4429080"/>
            <a:ext cx="8072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асстояние проходимое каждой точкой тела много больше размеров самого те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се точки тела движутся поступательн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71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9f25"/>
                </a:solidFill>
                <a:latin typeface="Verdana"/>
              </a:rPr>
              <a:t>Например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 материальную точку очень часто рассматривают Землю, если исследуют её движение вокруг Солнц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9" name="Picture 10" descr="Вращение-Земли-вокруг-Солнца-300x225"/>
          <p:cNvPicPr/>
          <p:nvPr/>
        </p:nvPicPr>
        <p:blipFill>
          <a:blip r:embed="rId1"/>
          <a:stretch/>
        </p:blipFill>
        <p:spPr>
          <a:xfrm>
            <a:off x="4343400" y="1676520"/>
            <a:ext cx="4632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3360" y="15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9f25"/>
                </a:solidFill>
                <a:latin typeface="Verdana"/>
              </a:rPr>
              <a:t>Например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о если мы решаем задачу связанную с суточным вращением планет, то нужно обязательно учесть форму и размер планеты. Например, если требуется определить </a:t>
            </a:r>
            <a:r>
              <a:rPr b="0" lang="ru-RU" sz="2600" spc="-1" strike="noStrike">
                <a:solidFill>
                  <a:srgbClr val="6b9f25"/>
                </a:solidFill>
                <a:latin typeface="Verdana"/>
              </a:rPr>
              <a:t>время восхода Солнц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в разных местах земного шар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Picture 9" descr="Восход солнца над землей"/>
          <p:cNvPicPr/>
          <p:nvPr/>
        </p:nvPicPr>
        <p:blipFill>
          <a:blip r:embed="rId1"/>
          <a:stretch/>
        </p:blipFill>
        <p:spPr>
          <a:xfrm>
            <a:off x="4419720" y="1828800"/>
            <a:ext cx="4422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9f25"/>
                </a:solidFill>
                <a:latin typeface="Verdana"/>
              </a:rPr>
              <a:t>Ответим на вопрос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504" name="Picture 7" descr="MC900431985[1]"/>
          <p:cNvPicPr/>
          <p:nvPr/>
        </p:nvPicPr>
        <p:blipFill>
          <a:blip r:embed="rId1"/>
          <a:stretch/>
        </p:blipFill>
        <p:spPr>
          <a:xfrm>
            <a:off x="1484280" y="1773360"/>
            <a:ext cx="1828800" cy="18270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" descr="MP900422729[1]"/>
          <p:cNvPicPr/>
          <p:nvPr/>
        </p:nvPicPr>
        <p:blipFill>
          <a:blip r:embed="rId2"/>
          <a:stretch/>
        </p:blipFill>
        <p:spPr>
          <a:xfrm>
            <a:off x="5657760" y="1600200"/>
            <a:ext cx="2173320" cy="217332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1680" y="39254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каких случаях автомобиль можно считать материальной точко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мобиль движется  из Новосибирска в Томс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изводится заправка бензином автомобил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мобиль совершает обго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ветим на вопрос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каких случаях самолет можно считать материальной точкой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амолет летит из Москвы в Новосибирск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амолет выруливает на взлетную полос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исходит посадка пассажиров в самолет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9" name="Picture 5" descr="MP900442499[1]"/>
          <p:cNvPicPr/>
          <p:nvPr/>
        </p:nvPicPr>
        <p:blipFill>
          <a:blip r:embed="rId1"/>
          <a:stretch/>
        </p:blipFill>
        <p:spPr>
          <a:xfrm>
            <a:off x="2952720" y="3925800"/>
            <a:ext cx="323856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Что такое </a:t>
            </a:r>
            <a:r>
              <a:rPr b="1" lang="ru-RU" sz="3600" spc="-1" strike="noStrike">
                <a:solidFill>
                  <a:srgbClr val="6b9f25"/>
                </a:solidFill>
                <a:latin typeface="Verdana"/>
              </a:rPr>
              <a:t>поступательное движение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752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9f25"/>
                </a:solidFill>
                <a:latin typeface="Verdana"/>
              </a:rPr>
              <a:t>Тело движется поступательно, если все его точки движутся одинако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3b6431"/>
                </a:solidFill>
                <a:latin typeface="Verdana"/>
              </a:rPr>
              <a:t>или</a:t>
            </a:r>
            <a:br>
              <a:rPr sz="2800"/>
            </a:br>
            <a:r>
              <a:rPr b="0" lang="ru-RU" sz="2800" spc="-1" strike="noStrike">
                <a:solidFill>
                  <a:srgbClr val="6b9f25"/>
                </a:solidFill>
                <a:latin typeface="Verdana"/>
              </a:rPr>
              <a:t>Тело движется поступательно, если прямая, проведенная через две точки этого тела, при его перемещении смещается параллельно своему первоначальному положени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имеры поступательного движ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4118040" cy="1905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упательно движется кабина лиф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4" name="Picture 6" descr="Современный лифт"/>
          <p:cNvPicPr/>
          <p:nvPr/>
        </p:nvPicPr>
        <p:blipFill>
          <a:blip r:embed="rId1"/>
          <a:stretch/>
        </p:blipFill>
        <p:spPr>
          <a:xfrm>
            <a:off x="4395960" y="1031760"/>
            <a:ext cx="3436920" cy="2473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9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838080" y="3505320"/>
            <a:ext cx="3436920" cy="2971800"/>
          </a:xfrm>
          <a:prstGeom prst="rect">
            <a:avLst/>
          </a:prstGeom>
          <a:ln w="0">
            <a:noFill/>
          </a:ln>
        </p:spPr>
      </p:pic>
      <p:sp>
        <p:nvSpPr>
          <p:cNvPr id="516" name="TextBox 1"/>
          <p:cNvSpPr/>
          <p:nvPr/>
        </p:nvSpPr>
        <p:spPr>
          <a:xfrm>
            <a:off x="4419720" y="4156200"/>
            <a:ext cx="37335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упательно движется кабина колеса обозр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Чтобы определить положение тела (материальной точки) в пространстве надо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задать тело отсчета;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выбрать систему координат;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иметь прибор для отсчёта времени (часы)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9" name="Picture 7" descr="система отсчета"/>
          <p:cNvPicPr/>
          <p:nvPr/>
        </p:nvPicPr>
        <p:blipFill>
          <a:blip r:embed="rId1"/>
          <a:stretch/>
        </p:blipFill>
        <p:spPr>
          <a:xfrm>
            <a:off x="4114800" y="2438280"/>
            <a:ext cx="457524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189640" cy="250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6b9f25"/>
                </a:solidFill>
                <a:latin typeface="Verdana"/>
              </a:rPr>
              <a:t>Материальная точка. Система отсчета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предел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80880" y="13712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7000"/>
          </a:bodyPr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b9f25"/>
                </a:solidFill>
                <a:latin typeface="Verdana"/>
              </a:rPr>
              <a:t>Тело отсчета, связанная с ним система координат и часы для отсчета времени движения образуют систему отсчета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6b9f25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Что такое тело отсчета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190760" cy="4498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9f25"/>
                </a:solidFill>
                <a:latin typeface="Verdana"/>
              </a:rPr>
              <a:t>Тело отсчёта - это тело, относительно которого определяется положение других (движущихся) те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имер, это может быть </a:t>
            </a:r>
            <a:r>
              <a:rPr b="0" lang="ru-RU" sz="2400" spc="-1" strike="noStrike">
                <a:solidFill>
                  <a:srgbClr val="6b9f25"/>
                </a:solidFill>
                <a:latin typeface="Verdana"/>
              </a:rPr>
              <a:t>дерев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когда рассматриваем движение автобуса, или </a:t>
            </a:r>
            <a:r>
              <a:rPr b="0" lang="ru-RU" sz="2400" spc="-1" strike="noStrike">
                <a:solidFill>
                  <a:srgbClr val="6b9f25"/>
                </a:solidFill>
                <a:latin typeface="Verdana"/>
              </a:rPr>
              <a:t>Земл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при расчёте движения раке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4" name="Picture 9" descr="тело отсчета"/>
          <p:cNvPicPr/>
          <p:nvPr/>
        </p:nvPicPr>
        <p:blipFill>
          <a:blip r:embed="rId1"/>
          <a:stretch/>
        </p:blipFill>
        <p:spPr>
          <a:xfrm>
            <a:off x="4648320" y="1789200"/>
            <a:ext cx="4194000" cy="17953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0" descr="тело отсчета"/>
          <p:cNvPicPr/>
          <p:nvPr/>
        </p:nvPicPr>
        <p:blipFill>
          <a:blip r:embed="rId2"/>
          <a:stretch/>
        </p:blipFill>
        <p:spPr>
          <a:xfrm>
            <a:off x="5818320" y="3925800"/>
            <a:ext cx="18540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480" y="2328840"/>
            <a:ext cx="4498920" cy="4495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ямолинейном движении тела достаточно одной координатной о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8" name="Picture 21" descr="тело отсчета"/>
          <p:cNvPicPr/>
          <p:nvPr/>
        </p:nvPicPr>
        <p:blipFill>
          <a:blip r:embed="rId1"/>
          <a:stretch/>
        </p:blipFill>
        <p:spPr>
          <a:xfrm>
            <a:off x="4648320" y="2951280"/>
            <a:ext cx="419400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Рисунок 20" descr="487px-3D_coordinate_system_svg.png"/>
          <p:cNvPicPr/>
          <p:nvPr/>
        </p:nvPicPr>
        <p:blipFill>
          <a:blip r:embed="rId1"/>
          <a:stretch/>
        </p:blipFill>
        <p:spPr>
          <a:xfrm>
            <a:off x="4505400" y="1785960"/>
            <a:ext cx="4638600" cy="46386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71880" y="428400"/>
            <a:ext cx="5533920" cy="579240"/>
          </a:xfrm>
          <a:prstGeom prst="rect">
            <a:avLst/>
          </a:prstGeom>
          <a:solidFill>
            <a:srgbClr val="604878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истемы координат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000240" y="1071720"/>
            <a:ext cx="2757600" cy="54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дномерн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Содержимое 2"/>
          <p:cNvSpPr/>
          <p:nvPr/>
        </p:nvSpPr>
        <p:spPr>
          <a:xfrm>
            <a:off x="1357200" y="5857920"/>
            <a:ext cx="2757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 Black"/>
              </a:rPr>
              <a:t>Двухмер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Содержимое 2"/>
          <p:cNvSpPr/>
          <p:nvPr/>
        </p:nvSpPr>
        <p:spPr>
          <a:xfrm>
            <a:off x="6386400" y="5857920"/>
            <a:ext cx="2757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 Black"/>
              </a:rPr>
              <a:t>Трехмер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Box 9"/>
          <p:cNvSpPr/>
          <p:nvPr/>
        </p:nvSpPr>
        <p:spPr>
          <a:xfrm>
            <a:off x="207000" y="1571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Box 10"/>
          <p:cNvSpPr/>
          <p:nvPr/>
        </p:nvSpPr>
        <p:spPr>
          <a:xfrm>
            <a:off x="5136480" y="19288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Овал 11"/>
          <p:cNvSpPr/>
          <p:nvPr/>
        </p:nvSpPr>
        <p:spPr>
          <a:xfrm>
            <a:off x="214200" y="2500200"/>
            <a:ext cx="4643640" cy="3500640"/>
          </a:xfrm>
          <a:prstGeom prst="ellipse">
            <a:avLst/>
          </a:prstGeom>
          <a:blipFill rotWithShape="0">
            <a:blip r:embed="rId2">
              <a:alphaModFix amt="31000"/>
            </a:blip>
            <a:srcRect/>
            <a:tile tx="0" ty="0" sx="100000" sy="100000" algn="ctr"/>
          </a:blipFill>
          <a:ln w="6480">
            <a:solidFill>
              <a:srgbClr val="d6d6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37" name="Прямая со стрелкой 14"/>
          <p:cNvCxnSpPr/>
          <p:nvPr/>
        </p:nvCxnSpPr>
        <p:spPr>
          <a:xfrm flipH="1">
            <a:off x="642600" y="3285000"/>
            <a:ext cx="2929680" cy="1500840"/>
          </a:xfrm>
          <a:prstGeom prst="straightConnector1">
            <a:avLst/>
          </a:prstGeom>
          <a:ln w="25560">
            <a:solidFill>
              <a:srgbClr val="ff8000"/>
            </a:solidFill>
            <a:miter/>
            <a:tailEnd len="lg" type="arrow" w="lg"/>
          </a:ln>
        </p:spPr>
      </p:cxnSp>
      <p:cxnSp>
        <p:nvCxnSpPr>
          <p:cNvPr id="538" name="Прямая со стрелкой 16"/>
          <p:cNvCxnSpPr/>
          <p:nvPr/>
        </p:nvCxnSpPr>
        <p:spPr>
          <a:xfrm>
            <a:off x="3571560" y="3285720"/>
            <a:ext cx="1143720" cy="715320"/>
          </a:xfrm>
          <a:prstGeom prst="straightConnector1">
            <a:avLst/>
          </a:prstGeom>
          <a:ln w="25560">
            <a:solidFill>
              <a:srgbClr val="ff8000"/>
            </a:solidFill>
            <a:miter/>
            <a:tailEnd len="lg" type="arrow" w="lg"/>
          </a:ln>
        </p:spPr>
      </p:cxnSp>
      <p:pic>
        <p:nvPicPr>
          <p:cNvPr id="539" name="TextBox 17" descr=""/>
          <p:cNvPicPr/>
          <p:nvPr/>
        </p:nvPicPr>
        <p:blipFill>
          <a:blip r:embed="rId3"/>
          <a:stretch/>
        </p:blipFill>
        <p:spPr>
          <a:xfrm>
            <a:off x="3286080" y="2762280"/>
            <a:ext cx="633600" cy="743040"/>
          </a:xfrm>
          <a:prstGeom prst="rect">
            <a:avLst/>
          </a:prstGeom>
          <a:ln w="0">
            <a:noFill/>
          </a:ln>
        </p:spPr>
      </p:pic>
      <p:pic>
        <p:nvPicPr>
          <p:cNvPr id="540" name="TextBox 18" descr=""/>
          <p:cNvPicPr/>
          <p:nvPr/>
        </p:nvPicPr>
        <p:blipFill>
          <a:blip r:embed="rId4"/>
          <a:stretch/>
        </p:blipFill>
        <p:spPr>
          <a:xfrm>
            <a:off x="285840" y="4187880"/>
            <a:ext cx="647640" cy="744480"/>
          </a:xfrm>
          <a:prstGeom prst="rect">
            <a:avLst/>
          </a:prstGeom>
          <a:ln w="0">
            <a:noFill/>
          </a:ln>
        </p:spPr>
      </p:pic>
      <p:pic>
        <p:nvPicPr>
          <p:cNvPr id="541" name="TextBox 19" descr=""/>
          <p:cNvPicPr/>
          <p:nvPr/>
        </p:nvPicPr>
        <p:blipFill>
          <a:blip r:embed="rId5"/>
          <a:stretch/>
        </p:blipFill>
        <p:spPr>
          <a:xfrm>
            <a:off x="4286160" y="3828960"/>
            <a:ext cx="646200" cy="749520"/>
          </a:xfrm>
          <a:prstGeom prst="rect">
            <a:avLst/>
          </a:prstGeom>
          <a:ln w="0">
            <a:noFill/>
          </a:ln>
        </p:spPr>
      </p:pic>
      <p:cxnSp>
        <p:nvCxnSpPr>
          <p:cNvPr id="542" name="Прямая со стрелкой 8"/>
          <p:cNvCxnSpPr/>
          <p:nvPr/>
        </p:nvCxnSpPr>
        <p:spPr>
          <a:xfrm>
            <a:off x="282600" y="1629360"/>
            <a:ext cx="5150520" cy="339480"/>
          </a:xfrm>
          <a:prstGeom prst="straightConnector1">
            <a:avLst/>
          </a:prstGeom>
          <a:ln w="57240">
            <a:solidFill>
              <a:srgbClr val="7030a0"/>
            </a:solidFill>
            <a:miter/>
            <a:tailEnd len="lg" type="arrow" w="lg"/>
          </a:ln>
        </p:spPr>
      </p:cxnSp>
      <p:pic>
        <p:nvPicPr>
          <p:cNvPr id="543" name="TextBox 24" descr=""/>
          <p:cNvPicPr/>
          <p:nvPr/>
        </p:nvPicPr>
        <p:blipFill>
          <a:blip r:embed="rId6"/>
          <a:stretch/>
        </p:blipFill>
        <p:spPr>
          <a:xfrm>
            <a:off x="6645240" y="4400640"/>
            <a:ext cx="633600" cy="7444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http://preview.turbosquid.com/Preview/2014/05/18__22_54_38/01.jpge1b543cb-2f9b-43bf-a869-fa774a47b446Original.jpg"/>
          <p:cNvPicPr/>
          <p:nvPr/>
        </p:nvPicPr>
        <p:blipFill>
          <a:blip r:embed="rId7"/>
          <a:stretch/>
        </p:blipFill>
        <p:spPr>
          <a:xfrm>
            <a:off x="571680" y="428760"/>
            <a:ext cx="2214360" cy="15001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http://papapodari.com.ua/sites/default/files/styles/product-displey-galery-big/public/node/product/2009_9b3f092cc3580adf7d58846753bab60c_1.jpg?itok=G531NIie"/>
          <p:cNvPicPr/>
          <p:nvPr/>
        </p:nvPicPr>
        <p:blipFill>
          <a:blip r:embed="rId8"/>
          <a:stretch/>
        </p:blipFill>
        <p:spPr>
          <a:xfrm>
            <a:off x="1428840" y="2928960"/>
            <a:ext cx="2500200" cy="17319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http://www.okclipart.com/img166/ndjurymfgkfwihbnwecx.jpg"/>
          <p:cNvPicPr/>
          <p:nvPr/>
        </p:nvPicPr>
        <p:blipFill>
          <a:blip r:embed="rId9"/>
          <a:stretch/>
        </p:blipFill>
        <p:spPr>
          <a:xfrm>
            <a:off x="5715000" y="2357280"/>
            <a:ext cx="2747880" cy="12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3280" y="5357520"/>
            <a:ext cx="3425760" cy="677880"/>
          </a:xfrm>
          <a:prstGeom prst="rect">
            <a:avLst/>
          </a:prstGeom>
          <a:solidFill>
            <a:srgbClr val="604878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думай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500040" y="3357360"/>
            <a:ext cx="8329680" cy="1928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координату начала и конца вектор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проекции векторов на ось О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модули этих вектор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Прямоугольник 3"/>
          <p:cNvSpPr/>
          <p:nvPr/>
        </p:nvSpPr>
        <p:spPr>
          <a:xfrm>
            <a:off x="1071720" y="928800"/>
            <a:ext cx="6696000" cy="192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50" name="Прямая со стрелкой 5"/>
          <p:cNvCxnSpPr/>
          <p:nvPr/>
        </p:nvCxnSpPr>
        <p:spPr>
          <a:xfrm>
            <a:off x="785880" y="2928960"/>
            <a:ext cx="75729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TextBox 6"/>
          <p:cNvSpPr/>
          <p:nvPr/>
        </p:nvSpPr>
        <p:spPr>
          <a:xfrm>
            <a:off x="3278880" y="2928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Box 7"/>
          <p:cNvSpPr/>
          <p:nvPr/>
        </p:nvSpPr>
        <p:spPr>
          <a:xfrm>
            <a:off x="4207320" y="2928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5207760" y="2928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Box 9"/>
          <p:cNvSpPr/>
          <p:nvPr/>
        </p:nvSpPr>
        <p:spPr>
          <a:xfrm>
            <a:off x="6136200" y="2928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TextBox 10"/>
          <p:cNvSpPr/>
          <p:nvPr/>
        </p:nvSpPr>
        <p:spPr>
          <a:xfrm>
            <a:off x="7136280" y="2928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TextBox 11"/>
          <p:cNvSpPr/>
          <p:nvPr/>
        </p:nvSpPr>
        <p:spPr>
          <a:xfrm>
            <a:off x="8208000" y="29289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2349000" y="29289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1420200" y="29289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59" name="Прямая со стрелкой 15"/>
          <p:cNvCxnSpPr/>
          <p:nvPr/>
        </p:nvCxnSpPr>
        <p:spPr>
          <a:xfrm>
            <a:off x="4429080" y="1928880"/>
            <a:ext cx="284400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60" name="Прямая со стрелкой 17"/>
          <p:cNvCxnSpPr/>
          <p:nvPr/>
        </p:nvCxnSpPr>
        <p:spPr>
          <a:xfrm flipH="1" flipV="1">
            <a:off x="1547280" y="2428560"/>
            <a:ext cx="2377440" cy="2160"/>
          </a:xfrm>
          <a:prstGeom prst="straightConnector1">
            <a:avLst/>
          </a:prstGeom>
          <a:ln w="25560">
            <a:solidFill>
              <a:srgbClr val="3b6431"/>
            </a:solidFill>
            <a:miter/>
            <a:tailEnd len="med" type="triangle" w="med"/>
          </a:ln>
        </p:spPr>
      </p:cxnSp>
      <p:pic>
        <p:nvPicPr>
          <p:cNvPr id="561" name="Объект 16" descr=""/>
          <p:cNvPicPr/>
          <p:nvPr/>
        </p:nvPicPr>
        <p:blipFill>
          <a:blip r:embed="rId2"/>
          <a:stretch/>
        </p:blipFill>
        <p:spPr>
          <a:xfrm>
            <a:off x="2428920" y="1857240"/>
            <a:ext cx="420480" cy="588960"/>
          </a:xfrm>
          <a:prstGeom prst="rect">
            <a:avLst/>
          </a:prstGeom>
          <a:ln w="0">
            <a:noFill/>
          </a:ln>
        </p:spPr>
      </p:pic>
      <p:pic>
        <p:nvPicPr>
          <p:cNvPr id="562" name="Object 3" descr=""/>
          <p:cNvPicPr/>
          <p:nvPr/>
        </p:nvPicPr>
        <p:blipFill>
          <a:blip r:embed="rId3"/>
          <a:stretch/>
        </p:blipFill>
        <p:spPr>
          <a:xfrm>
            <a:off x="5786280" y="1285920"/>
            <a:ext cx="463680" cy="71424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18" descr="http://www.edu4u.gr/Portals/0/ArticlePhotos/large/87b23e23d99e4c06a64de492cfc3989d.jpg"/>
          <p:cNvPicPr/>
          <p:nvPr/>
        </p:nvPicPr>
        <p:blipFill>
          <a:blip r:embed="rId4"/>
          <a:srcRect l="0" t="0" r="32" b="0"/>
          <a:stretch/>
        </p:blipFill>
        <p:spPr>
          <a:xfrm>
            <a:off x="7786800" y="4857840"/>
            <a:ext cx="1071360" cy="17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Выноска-облако 4" descr=""/>
          <p:cNvPicPr/>
          <p:nvPr/>
        </p:nvPicPr>
        <p:blipFill>
          <a:blip r:embed="rId1"/>
          <a:stretch/>
        </p:blipFill>
        <p:spPr>
          <a:xfrm>
            <a:off x="1401840" y="347760"/>
            <a:ext cx="6059520" cy="33890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https://im0-tub-ru.yandex.net/i?id=0bc910f0878d8ce30b66a7a381b7a1ad&amp;n=33&amp;h=215&amp;w=154"/>
          <p:cNvPicPr/>
          <p:nvPr/>
        </p:nvPicPr>
        <p:blipFill>
          <a:blip r:embed="rId2"/>
          <a:stretch/>
        </p:blipFill>
        <p:spPr>
          <a:xfrm>
            <a:off x="500040" y="2857680"/>
            <a:ext cx="2071800" cy="30715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" descr="https://im0-tub-ru.yandex.net/i?id=4ff5bde57ddc2e44dff2c079fa63ba77&amp;n=33&amp;h=215&amp;w=287"/>
          <p:cNvPicPr/>
          <p:nvPr/>
        </p:nvPicPr>
        <p:blipFill>
          <a:blip r:embed="rId3"/>
          <a:stretch/>
        </p:blipFill>
        <p:spPr>
          <a:xfrm>
            <a:off x="4786200" y="3465360"/>
            <a:ext cx="4019760" cy="3011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Выноска-облако 4" descr=""/>
          <p:cNvPicPr/>
          <p:nvPr/>
        </p:nvPicPr>
        <p:blipFill>
          <a:blip r:embed="rId1"/>
          <a:stretch/>
        </p:blipFill>
        <p:spPr>
          <a:xfrm>
            <a:off x="1822320" y="249120"/>
            <a:ext cx="5139000" cy="36640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https://im0-tub-ru.yandex.net/i?id=0bc910f0878d8ce30b66a7a381b7a1ad&amp;n=33&amp;h=215&amp;w=154"/>
          <p:cNvPicPr/>
          <p:nvPr/>
        </p:nvPicPr>
        <p:blipFill>
          <a:blip r:embed="rId2"/>
          <a:stretch/>
        </p:blipFill>
        <p:spPr>
          <a:xfrm>
            <a:off x="500040" y="2857680"/>
            <a:ext cx="2071800" cy="30715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https://im0-tub-ru.yandex.net/i?id=f8b7a11c9ce807fe958d498d63907410&amp;n=33&amp;h=215&amp;w=344"/>
          <p:cNvPicPr/>
          <p:nvPr/>
        </p:nvPicPr>
        <p:blipFill>
          <a:blip r:embed="rId3"/>
          <a:stretch/>
        </p:blipFill>
        <p:spPr>
          <a:xfrm>
            <a:off x="4572000" y="3919680"/>
            <a:ext cx="4205160" cy="2628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https://im0-tub-ru.yandex.net/i?id=0bc910f0878d8ce30b66a7a381b7a1ad&amp;n=33&amp;h=215&amp;w=154"/>
          <p:cNvPicPr/>
          <p:nvPr/>
        </p:nvPicPr>
        <p:blipFill>
          <a:blip r:embed="rId1"/>
          <a:stretch/>
        </p:blipFill>
        <p:spPr>
          <a:xfrm>
            <a:off x="500040" y="2857680"/>
            <a:ext cx="2071800" cy="3071520"/>
          </a:xfrm>
          <a:prstGeom prst="rect">
            <a:avLst/>
          </a:prstGeom>
          <a:ln w="0">
            <a:noFill/>
          </a:ln>
        </p:spPr>
      </p:pic>
      <p:pic>
        <p:nvPicPr>
          <p:cNvPr id="571" name="Выноска-облако 5" descr=""/>
          <p:cNvPicPr/>
          <p:nvPr/>
        </p:nvPicPr>
        <p:blipFill>
          <a:blip r:embed="rId2"/>
          <a:stretch/>
        </p:blipFill>
        <p:spPr>
          <a:xfrm>
            <a:off x="1474920" y="463680"/>
            <a:ext cx="5773680" cy="32972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" descr="http://www.stihi.ru/pics/2015/08/09/6019.jpg"/>
          <p:cNvPicPr/>
          <p:nvPr/>
        </p:nvPicPr>
        <p:blipFill>
          <a:blip r:embed="rId3"/>
          <a:stretch/>
        </p:blipFill>
        <p:spPr>
          <a:xfrm>
            <a:off x="4572000" y="3584520"/>
            <a:ext cx="4324320" cy="3063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4" descr="https://im0-tub-ru.yandex.net/i?id=0bc910f0878d8ce30b66a7a381b7a1ad&amp;n=33&amp;h=215&amp;w=154"/>
          <p:cNvPicPr/>
          <p:nvPr/>
        </p:nvPicPr>
        <p:blipFill>
          <a:blip r:embed="rId1"/>
          <a:stretch/>
        </p:blipFill>
        <p:spPr>
          <a:xfrm>
            <a:off x="500040" y="2857680"/>
            <a:ext cx="2071800" cy="3071520"/>
          </a:xfrm>
          <a:prstGeom prst="rect">
            <a:avLst/>
          </a:prstGeom>
          <a:ln w="0">
            <a:noFill/>
          </a:ln>
        </p:spPr>
      </p:pic>
      <p:pic>
        <p:nvPicPr>
          <p:cNvPr id="574" name="Выноска-облако 5" descr=""/>
          <p:cNvPicPr/>
          <p:nvPr/>
        </p:nvPicPr>
        <p:blipFill>
          <a:blip r:embed="rId2"/>
          <a:stretch/>
        </p:blipFill>
        <p:spPr>
          <a:xfrm>
            <a:off x="1620720" y="-12600"/>
            <a:ext cx="5481720" cy="3998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" descr="http://hyser.com.ua/wp-content/uploads/2016/01/avia.jpg"/>
          <p:cNvPicPr/>
          <p:nvPr/>
        </p:nvPicPr>
        <p:blipFill>
          <a:blip r:embed="rId3"/>
          <a:stretch/>
        </p:blipFill>
        <p:spPr>
          <a:xfrm>
            <a:off x="4357800" y="3714840"/>
            <a:ext cx="4429080" cy="2768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3360" y="15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9f25"/>
                </a:solidFill>
                <a:latin typeface="Verdana"/>
              </a:rPr>
              <a:t>Это интересн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овременное понимание трехмерности окружающего пространства появилось в 17 веке, когда </a:t>
            </a:r>
            <a:r>
              <a:rPr b="0" lang="ru-RU" sz="2200" spc="-1" strike="noStrike">
                <a:solidFill>
                  <a:srgbClr val="6b9f25"/>
                </a:solidFill>
                <a:latin typeface="Verdana"/>
              </a:rPr>
              <a:t>Декарт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обрел прямоугольную систему координат. В древности понятие размерности пространства не применялось, т.к. отсутствовало понятие координа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8" name="Picture 13" descr="Декартова система координат"/>
          <p:cNvPicPr/>
          <p:nvPr/>
        </p:nvPicPr>
        <p:blipFill>
          <a:blip r:embed="rId1"/>
          <a:stretch/>
        </p:blipFill>
        <p:spPr>
          <a:xfrm>
            <a:off x="5442120" y="2511360"/>
            <a:ext cx="23716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5181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9f25"/>
                </a:solidFill>
                <a:latin typeface="Verdana"/>
              </a:rPr>
              <a:t>Движение – любое изменение, происходящее в окружающем мире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56" name="Picture 6" descr="Мы живем в мире движущихся объектов"/>
          <p:cNvPicPr/>
          <p:nvPr/>
        </p:nvPicPr>
        <p:blipFill>
          <a:blip r:embed="rId1"/>
          <a:stretch/>
        </p:blipFill>
        <p:spPr>
          <a:xfrm>
            <a:off x="1828800" y="30492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овтори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04920" y="1294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такое механическое движени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такое  материальная точк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ких случаях тело можно считать материальной точкой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ое движение называется поступательны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такое система отсчет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3360" y="9140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Наиболее простым видом движения является </a:t>
            </a:r>
            <a:r>
              <a:rPr b="1" lang="ru-RU" sz="3600" spc="-1" strike="noStrike">
                <a:solidFill>
                  <a:srgbClr val="6b9f25"/>
                </a:solidFill>
                <a:latin typeface="Verdana"/>
              </a:rPr>
              <a:t>механическое движение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58" name="Picture 9" descr="Движение бегуна"/>
          <p:cNvPicPr/>
          <p:nvPr/>
        </p:nvPicPr>
        <p:blipFill>
          <a:blip r:embed="rId1"/>
          <a:stretch/>
        </p:blipFill>
        <p:spPr>
          <a:xfrm>
            <a:off x="776160" y="2206800"/>
            <a:ext cx="2695680" cy="26524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7" descr="Движение велосипедиста"/>
          <p:cNvPicPr/>
          <p:nvPr/>
        </p:nvPicPr>
        <p:blipFill>
          <a:blip r:embed="rId2"/>
          <a:stretch/>
        </p:blipFill>
        <p:spPr>
          <a:xfrm>
            <a:off x="5316480" y="1973160"/>
            <a:ext cx="2857680" cy="14288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1" descr="Движение автомобиля"/>
          <p:cNvPicPr/>
          <p:nvPr/>
        </p:nvPicPr>
        <p:blipFill>
          <a:blip r:embed="rId3"/>
          <a:stretch/>
        </p:blipFill>
        <p:spPr>
          <a:xfrm>
            <a:off x="838080" y="5334120"/>
            <a:ext cx="2181240" cy="13777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2" descr="Движение поезда"/>
          <p:cNvPicPr/>
          <p:nvPr/>
        </p:nvPicPr>
        <p:blipFill>
          <a:blip r:embed="rId4"/>
          <a:stretch/>
        </p:blipFill>
        <p:spPr>
          <a:xfrm>
            <a:off x="4572000" y="4846680"/>
            <a:ext cx="31003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8d3e"/>
                </a:solidFill>
                <a:latin typeface="Verdana"/>
              </a:rPr>
              <a:t>Повторим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79520" y="1623600"/>
            <a:ext cx="818496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такое механическое движени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9f25"/>
                </a:solidFill>
                <a:latin typeface="Verdana"/>
              </a:rPr>
              <a:t>Механическое движение - это изменение положения тел в пространстве относительно друг друга с течением времени.</a:t>
            </a:r>
            <a:br>
              <a:rPr sz="2800"/>
            </a:br>
            <a:r>
              <a:rPr b="0" lang="ru-RU" sz="2800" spc="-1" strike="noStrike">
                <a:solidFill>
                  <a:srgbClr val="6b9f2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4" descr="улитка"/>
          <p:cNvPicPr/>
          <p:nvPr/>
        </p:nvPicPr>
        <p:blipFill>
          <a:blip r:embed="rId1"/>
          <a:stretch/>
        </p:blipFill>
        <p:spPr>
          <a:xfrm>
            <a:off x="457200" y="4172040"/>
            <a:ext cx="4043520" cy="11048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улитка"/>
          <p:cNvPicPr/>
          <p:nvPr/>
        </p:nvPicPr>
        <p:blipFill>
          <a:blip r:embed="rId2"/>
          <a:stretch/>
        </p:blipFill>
        <p:spPr>
          <a:xfrm>
            <a:off x="4049640" y="3718080"/>
            <a:ext cx="46022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ханическое движение может быть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727520" cy="4267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ямолинейным или криволинейным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вномерным или неравномерным. 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Picture 10" descr="auto движется"/>
          <p:cNvPicPr/>
          <p:nvPr/>
        </p:nvPicPr>
        <p:blipFill>
          <a:blip r:embed="rId1"/>
          <a:stretch/>
        </p:blipFill>
        <p:spPr>
          <a:xfrm>
            <a:off x="4737240" y="2462040"/>
            <a:ext cx="4019400" cy="4464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9" descr="Движение спутника вокруг Земли"/>
          <p:cNvPicPr/>
          <p:nvPr/>
        </p:nvPicPr>
        <p:blipFill>
          <a:blip r:embed="rId2"/>
          <a:stretch/>
        </p:blipFill>
        <p:spPr>
          <a:xfrm>
            <a:off x="5649840" y="4214880"/>
            <a:ext cx="219384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и решении задач, связанных с механическим движением, необходимо определить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33520" y="1676160"/>
            <a:ext cx="7238880" cy="3803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аекторию движе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корость движе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уть пройденный тел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ожение тела в пространстве в любой момент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57880" y="500040"/>
            <a:ext cx="2643120" cy="579600"/>
          </a:xfrm>
          <a:prstGeom prst="rect">
            <a:avLst/>
          </a:prstGeom>
          <a:solidFill>
            <a:srgbClr val="604878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ример 1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2428560" y="1285920"/>
            <a:ext cx="5791320" cy="1828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пе вагона на столике лежит яблоко. Пассажир видит, что расстояние до яблока с течением времени сохраняется, т.е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500040" y="31431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о не совершает механического движ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Box 6"/>
          <p:cNvSpPr/>
          <p:nvPr/>
        </p:nvSpPr>
        <p:spPr>
          <a:xfrm>
            <a:off x="571680" y="385776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Но с точки зрения провожающего, яблоко 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Box 7"/>
          <p:cNvSpPr/>
          <p:nvPr/>
        </p:nvSpPr>
        <p:spPr>
          <a:xfrm>
            <a:off x="1500120" y="435780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тся, т.к.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Box 8"/>
          <p:cNvSpPr/>
          <p:nvPr/>
        </p:nvSpPr>
        <p:spPr>
          <a:xfrm>
            <a:off x="1500120" y="4929120"/>
            <a:ext cx="614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от яблока до перрона с течением времени расте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8" name="Рисунок 9" descr="http://customcontentinsiderscircle.com/wp-content/uploads/2015/10/professor.png"/>
          <p:cNvPicPr/>
          <p:nvPr/>
        </p:nvPicPr>
        <p:blipFill>
          <a:blip r:embed="rId1"/>
          <a:srcRect l="17252" t="0" r="8848" b="8022"/>
          <a:stretch/>
        </p:blipFill>
        <p:spPr>
          <a:xfrm>
            <a:off x="285840" y="500040"/>
            <a:ext cx="2143080" cy="25002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" descr="https://files.web2edu.ru/3e2978ea-07b4-4395-975e-320f780d6883/f39cd101-47ee-4fde-b745-6487834f64c7.jpg"/>
          <p:cNvPicPr/>
          <p:nvPr/>
        </p:nvPicPr>
        <p:blipFill>
          <a:blip r:embed="rId2"/>
          <a:stretch/>
        </p:blipFill>
        <p:spPr>
          <a:xfrm>
            <a:off x="7283520" y="5000760"/>
            <a:ext cx="186048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2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2143080" y="1285920"/>
            <a:ext cx="6005520" cy="1828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находитесь в классе в покое (сидя за партой) относительно Земли, но движетесь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Box 5"/>
          <p:cNvSpPr/>
          <p:nvPr/>
        </p:nvSpPr>
        <p:spPr>
          <a:xfrm>
            <a:off x="1143000" y="335772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 с Землей вокруг Солнц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2" name="Group 14"/>
          <p:cNvGrpSpPr/>
          <p:nvPr/>
        </p:nvGrpSpPr>
        <p:grpSpPr>
          <a:xfrm>
            <a:off x="1571760" y="4357800"/>
            <a:ext cx="6500160" cy="480960"/>
            <a:chOff x="1571760" y="4357800"/>
            <a:chExt cx="6500160" cy="480960"/>
          </a:xfrm>
        </p:grpSpPr>
        <p:sp>
          <p:nvSpPr>
            <p:cNvPr id="483" name="Text Box 30"/>
            <p:cNvSpPr/>
            <p:nvPr/>
          </p:nvSpPr>
          <p:spPr>
            <a:xfrm>
              <a:off x="2170440" y="4357800"/>
              <a:ext cx="59014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 Black"/>
                </a:rPr>
                <a:t>Что следует из этих примеров?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Oval 31"/>
            <p:cNvSpPr/>
            <p:nvPr/>
          </p:nvSpPr>
          <p:spPr>
            <a:xfrm>
              <a:off x="1571760" y="4357800"/>
              <a:ext cx="777600" cy="4809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5" name="TextBox 13"/>
          <p:cNvSpPr/>
          <p:nvPr/>
        </p:nvSpPr>
        <p:spPr>
          <a:xfrm>
            <a:off x="1428840" y="528624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и не может быть абсолютно неподвижных тел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Заголовок 1"/>
          <p:cNvSpPr/>
          <p:nvPr/>
        </p:nvSpPr>
        <p:spPr>
          <a:xfrm>
            <a:off x="5357880" y="500040"/>
            <a:ext cx="2643120" cy="579600"/>
          </a:xfrm>
          <a:prstGeom prst="rect">
            <a:avLst/>
          </a:prstGeom>
          <a:solidFill>
            <a:srgbClr val="604878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 Black"/>
              </a:rPr>
              <a:t>Пример 2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7" name="Рисунок 14" descr="http://customcontentinsiderscircle.com/wp-content/uploads/2015/10/professor.png"/>
          <p:cNvPicPr/>
          <p:nvPr/>
        </p:nvPicPr>
        <p:blipFill>
          <a:blip r:embed="rId1"/>
          <a:srcRect l="17252" t="0" r="8848" b="8022"/>
          <a:stretch/>
        </p:blipFill>
        <p:spPr>
          <a:xfrm>
            <a:off x="285840" y="500040"/>
            <a:ext cx="2143080" cy="25002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http://img.espicture.ru/13/zemnoyy-yshar-kartinki-4.jpg"/>
          <p:cNvPicPr/>
          <p:nvPr/>
        </p:nvPicPr>
        <p:blipFill>
          <a:blip r:embed="rId2"/>
          <a:stretch/>
        </p:blipFill>
        <p:spPr>
          <a:xfrm>
            <a:off x="6643800" y="1849320"/>
            <a:ext cx="2500200" cy="26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2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novo</dc:creator>
  <dc:description/>
  <dc:language>en-US</dc:language>
  <cp:lastModifiedBy>lenovo</cp:lastModifiedBy>
  <dcterms:modified xsi:type="dcterms:W3CDTF">2019-09-03T17:00:5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