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778-CF88-416F-B508-9FA4CF1EE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866-8123-4725-B468-C30DFD89F3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5B5-B302-4BB9-A6A4-4454E1A9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342-BB83-48F1-BCB4-7F13513C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48A-B708-415E-84EF-C36F4475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D77-87EB-42B9-97C9-E0F98275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31C-EC6D-4B31-926C-CD78A540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D6B8-2C65-4DF6-AEEB-EE47120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AAF7-173B-4456-A1A8-E218FEA7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EF06-F315-4AC4-8700-D662E39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DB2F-A480-4843-92BB-07DE130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C51F-CCFA-4163-8502-34CDB2BF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FD1-172F-4455-8531-272122B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E3D-E498-487F-B495-2BBDF863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61C-009A-4599-9E83-8E2E390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0753-DAD5-4028-9596-16CB3E0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08B-83B8-413B-BDA6-BDBFCDB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C8D-75B4-40BA-9FBE-38953857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265-ED08-4B53-8A63-E17B5F8F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64BF-E7A0-4E6A-A039-C76D084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C010-8BA1-4E13-B807-73B205CA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7235-83E4-4101-96B2-E94E8D26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18C8-16A7-4DB6-9A77-5C22825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30B3-D04B-4AE6-93BA-25E8DE31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662-D4DB-4DD1-8B6C-5F91D6CA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68BC-402C-4371-B371-2A6F61A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23DA-36E3-4B80-A179-1082815A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670A-C331-40C9-89EC-8DB358D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B138-1A0C-4277-A9A6-2B51D7B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D912-F852-4BAC-A440-8557CA8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4AA9-E43B-4B2C-8374-78BB4D6B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5057-6611-4856-8956-A35B242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DBDF-CCEC-437D-A74B-D098EC39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C053-DA66-4361-A6B3-A53B0D95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B02A-4698-4697-A43C-809ABE3A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70D-AAB9-4D98-B527-9A43646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170F-8291-4061-B456-589712E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CD6F-F8D2-4F99-8864-43B5966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A353-D4DD-402B-BF5F-D295CA45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A372-5726-4B07-90EC-B7C0AEC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2A88-D39C-4AE0-A9DD-CB1F5E1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3BC1-E43A-42E0-B65E-0B0F1B6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AAA8-16B2-4876-A59E-5D5F537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FA0B-3600-4635-AFE8-AC9A5520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C6CC-A4FC-45B3-A29B-19D8B346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DED-45CD-49F4-AE66-5541CE7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158-5DC1-4D85-8A36-C54BFC0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29E-FBF5-4474-BB1F-4CC847D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466-070D-4BE2-A182-4C5629D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0D1-2E27-47BE-BC23-72AD1E24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1B0-FC27-4865-A681-1A8CA88C29A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B175-2D50-4722-A69D-E0E5F16FA7A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24B-624E-4A6A-9020-EC86C9810AD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A1C-2458-40CF-948F-D69E90BA053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5"/>
          <p:cNvSpPr txBox="1"/>
          <p:nvPr/>
        </p:nvSpPr>
        <p:spPr>
          <a:xfrm>
            <a:off x="1116000" y="1268280"/>
            <a:ext cx="7345440" cy="24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Дикие  животные 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со своими детенышам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450040" y="465300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ДОУ  №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анасье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83280" y="-360"/>
            <a:ext cx="39607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ЗАЙЧИХИ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Содержимое 7" descr="zaichomnok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87320" y="174600"/>
            <a:ext cx="2303640" cy="342252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18" descr="zayc.jpg"/>
          <p:cNvPicPr/>
          <p:nvPr/>
        </p:nvPicPr>
        <p:blipFill>
          <a:blip r:embed="rId2"/>
          <a:stretch/>
        </p:blipFill>
        <p:spPr>
          <a:xfrm>
            <a:off x="4500720" y="746280"/>
            <a:ext cx="3960720" cy="570060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16" descr="0_50bd9_98be6d5f_XL.jpg"/>
          <p:cNvPicPr/>
          <p:nvPr/>
        </p:nvPicPr>
        <p:blipFill>
          <a:blip r:embed="rId3"/>
          <a:stretch/>
        </p:blipFill>
        <p:spPr>
          <a:xfrm>
            <a:off x="250920" y="3716280"/>
            <a:ext cx="3732120" cy="2521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2497680" y="614988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зай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16000" y="189000"/>
            <a:ext cx="27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зай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9610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ЕЖИХИ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Содержимое 8" descr="0a23f7b3af5f1adddd44e836e9d54464.jpg"/>
          <p:cNvPicPr/>
          <p:nvPr/>
        </p:nvPicPr>
        <p:blipFill>
          <a:blip r:embed="rId1"/>
          <a:stretch/>
        </p:blipFill>
        <p:spPr>
          <a:xfrm>
            <a:off x="0" y="2637000"/>
            <a:ext cx="3102120" cy="252072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5" descr="169394.JPG"/>
          <p:cNvPicPr/>
          <p:nvPr/>
        </p:nvPicPr>
        <p:blipFill>
          <a:blip r:embed="rId2"/>
          <a:stretch/>
        </p:blipFill>
        <p:spPr>
          <a:xfrm>
            <a:off x="3170160" y="0"/>
            <a:ext cx="5973840" cy="42210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1"/>
          <p:cNvSpPr/>
          <p:nvPr/>
        </p:nvSpPr>
        <p:spPr>
          <a:xfrm>
            <a:off x="344160" y="5157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ежо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Содержимое 9" descr="0_89066_dc0a6f56_XL.jpg"/>
          <p:cNvPicPr/>
          <p:nvPr/>
        </p:nvPicPr>
        <p:blipFill>
          <a:blip r:embed="rId3"/>
          <a:stretch/>
        </p:blipFill>
        <p:spPr>
          <a:xfrm>
            <a:off x="3419640" y="4365720"/>
            <a:ext cx="3324240" cy="24922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0"/>
          <p:cNvSpPr/>
          <p:nvPr/>
        </p:nvSpPr>
        <p:spPr>
          <a:xfrm>
            <a:off x="5508720" y="5931000"/>
            <a:ext cx="199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еж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БЕЛКИ…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5" name="Содержимое 10" descr="0_75791_b937023f_XL.jpg"/>
          <p:cNvPicPr/>
          <p:nvPr/>
        </p:nvPicPr>
        <p:blipFill>
          <a:blip r:embed="rId1"/>
          <a:stretch/>
        </p:blipFill>
        <p:spPr>
          <a:xfrm>
            <a:off x="5340240" y="4149720"/>
            <a:ext cx="3803760" cy="244800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4" descr="squirrel2.jpg"/>
          <p:cNvPicPr/>
          <p:nvPr/>
        </p:nvPicPr>
        <p:blipFill>
          <a:blip r:embed="rId2"/>
          <a:stretch/>
        </p:blipFill>
        <p:spPr>
          <a:xfrm>
            <a:off x="250920" y="1052640"/>
            <a:ext cx="4763880" cy="439236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7" descr="squirreltastic.jpg"/>
          <p:cNvPicPr/>
          <p:nvPr/>
        </p:nvPicPr>
        <p:blipFill>
          <a:blip r:embed="rId3"/>
          <a:stretch/>
        </p:blipFill>
        <p:spPr>
          <a:xfrm>
            <a:off x="5508720" y="260280"/>
            <a:ext cx="3316320" cy="244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4019040" y="593712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бе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5647320" y="2246400"/>
            <a:ext cx="30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бе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00" y="333000"/>
            <a:ext cx="29718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ЛИСЫ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Содержимое 9" descr="fox32_1600x1200.jpg"/>
          <p:cNvPicPr/>
          <p:nvPr/>
        </p:nvPicPr>
        <p:blipFill>
          <a:blip r:embed="rId1"/>
          <a:stretch/>
        </p:blipFill>
        <p:spPr>
          <a:xfrm>
            <a:off x="3708360" y="189000"/>
            <a:ext cx="5148360" cy="468000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8" descr="355499267.jpg"/>
          <p:cNvPicPr/>
          <p:nvPr/>
        </p:nvPicPr>
        <p:blipFill>
          <a:blip r:embed="rId2"/>
          <a:stretch/>
        </p:blipFill>
        <p:spPr>
          <a:xfrm>
            <a:off x="349200" y="4076640"/>
            <a:ext cx="3359160" cy="25178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19" descr="Hum0O5n7.jpg"/>
          <p:cNvPicPr/>
          <p:nvPr/>
        </p:nvPicPr>
        <p:blipFill>
          <a:blip r:embed="rId3"/>
          <a:stretch/>
        </p:blipFill>
        <p:spPr>
          <a:xfrm>
            <a:off x="611280" y="1052640"/>
            <a:ext cx="2305080" cy="27367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1"/>
          <p:cNvSpPr/>
          <p:nvPr/>
        </p:nvSpPr>
        <p:spPr>
          <a:xfrm>
            <a:off x="497520" y="189000"/>
            <a:ext cx="26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ли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077280" y="5832360"/>
            <a:ext cx="22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ли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32000" y="333360"/>
            <a:ext cx="368604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У ВОЛЧИЦЫ…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Содержимое 9" descr="1011.jpg"/>
          <p:cNvPicPr/>
          <p:nvPr/>
        </p:nvPicPr>
        <p:blipFill>
          <a:blip r:embed="rId1"/>
          <a:stretch/>
        </p:blipFill>
        <p:spPr>
          <a:xfrm>
            <a:off x="324000" y="4149720"/>
            <a:ext cx="3206520" cy="23749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8" descr="15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24000" y="260280"/>
            <a:ext cx="4535280" cy="3602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6369120" y="47973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вол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21" descr="1256321887_wolf83_1024x768.jpg"/>
          <p:cNvPicPr/>
          <p:nvPr/>
        </p:nvPicPr>
        <p:blipFill>
          <a:blip r:embed="rId3"/>
          <a:stretch/>
        </p:blipFill>
        <p:spPr>
          <a:xfrm>
            <a:off x="5724360" y="1844640"/>
            <a:ext cx="3040200" cy="2952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3018960" y="5805360"/>
            <a:ext cx="27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вол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90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МЕДВЕДИЦЫ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Содержимое 8" descr="foto_medvedey_920829.jpeg"/>
          <p:cNvPicPr/>
          <p:nvPr/>
        </p:nvPicPr>
        <p:blipFill>
          <a:blip r:embed="rId1"/>
          <a:stretch/>
        </p:blipFill>
        <p:spPr>
          <a:xfrm>
            <a:off x="550800" y="4164120"/>
            <a:ext cx="3565440" cy="233496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7" descr="00eqbrpt.jpg"/>
          <p:cNvPicPr/>
          <p:nvPr/>
        </p:nvPicPr>
        <p:blipFill>
          <a:blip r:embed="rId2"/>
          <a:stretch/>
        </p:blipFill>
        <p:spPr>
          <a:xfrm>
            <a:off x="485640" y="1284120"/>
            <a:ext cx="3435480" cy="216072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23" descr="Image 62.jpg"/>
          <p:cNvPicPr/>
          <p:nvPr/>
        </p:nvPicPr>
        <p:blipFill>
          <a:blip r:embed="rId3"/>
          <a:stretch/>
        </p:blipFill>
        <p:spPr>
          <a:xfrm>
            <a:off x="4211640" y="189000"/>
            <a:ext cx="468000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584640" y="3068640"/>
            <a:ext cx="35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медвеж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520360" y="5881680"/>
            <a:ext cx="3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медвеж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6"/>
          <p:cNvSpPr/>
          <p:nvPr/>
        </p:nvSpPr>
        <p:spPr>
          <a:xfrm>
            <a:off x="6099480" y="4653000"/>
            <a:ext cx="25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игр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43280" y="260280"/>
            <a:ext cx="41148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ТИГРИЦЫ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Содержимое 10" descr="www.desktopp.ru_1383.jpg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41054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9" descr="af6b816073b4f7703cab1d09deb5bec8_1000.jpg"/>
          <p:cNvPicPr/>
          <p:nvPr/>
        </p:nvPicPr>
        <p:blipFill>
          <a:blip r:embed="rId2"/>
          <a:stretch/>
        </p:blipFill>
        <p:spPr>
          <a:xfrm>
            <a:off x="5595840" y="2637000"/>
            <a:ext cx="3362400" cy="223200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25" descr="Tigrenok_1807.jpg"/>
          <p:cNvPicPr/>
          <p:nvPr/>
        </p:nvPicPr>
        <p:blipFill>
          <a:blip r:embed="rId3"/>
          <a:stretch/>
        </p:blipFill>
        <p:spPr>
          <a:xfrm>
            <a:off x="684360" y="4749840"/>
            <a:ext cx="3241440" cy="20160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2"/>
          <p:cNvSpPr/>
          <p:nvPr/>
        </p:nvSpPr>
        <p:spPr>
          <a:xfrm>
            <a:off x="25920" y="4365720"/>
            <a:ext cx="29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игр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61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ЛЬВИЦЫ…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Содержимое 9" descr="free-animal-227.jpg"/>
          <p:cNvPicPr/>
          <p:nvPr/>
        </p:nvPicPr>
        <p:blipFill>
          <a:blip r:embed="rId1"/>
          <a:stretch/>
        </p:blipFill>
        <p:spPr>
          <a:xfrm>
            <a:off x="5651640" y="4226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8" descr="aslanlion100tr.jpg"/>
          <p:cNvPicPr/>
          <p:nvPr/>
        </p:nvPicPr>
        <p:blipFill>
          <a:blip r:embed="rId2"/>
          <a:stretch/>
        </p:blipFill>
        <p:spPr>
          <a:xfrm>
            <a:off x="395280" y="4624560"/>
            <a:ext cx="3948120" cy="20271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755640" y="595008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льв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Содержимое 27" descr="lvica-2633.jpg"/>
          <p:cNvPicPr/>
          <p:nvPr/>
        </p:nvPicPr>
        <p:blipFill>
          <a:blip r:embed="rId3"/>
          <a:stretch/>
        </p:blipFill>
        <p:spPr>
          <a:xfrm>
            <a:off x="250920" y="189000"/>
            <a:ext cx="6137280" cy="424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6031440" y="5445000"/>
            <a:ext cx="24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льв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Родители</cp:lastModifiedBy>
  <cp:lastPrinted>2015-12-06T17:55:39Z</cp:lastPrinted>
  <dcterms:modified xsi:type="dcterms:W3CDTF">2015-12-06T17:55:51Z</dcterms:modified>
  <cp:revision>72</cp:revision>
  <dc:subject/>
  <dc:title>PowerPoint Presentation</dc:title>
</cp:coreProperties>
</file>