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F3A-172B-481A-9C6A-F84BDCF2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B74-E648-4BB3-94DD-415D887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296-50CE-4CDA-835E-09AD4735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7DD-D092-448C-A139-980CA1DE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D69A-17C7-409B-977F-7E8FCCAB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2FD6-3B4A-437A-8BAC-92D3D40A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0232-8863-4F21-8409-2C55568A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4F18-D7DF-4EAC-9F48-A1AAE8C3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0F5A-466E-4F79-833E-94059FA6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3B7C-AD2E-4A5B-B7B9-63409582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58EC-19F4-4822-977E-C5F7A8C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435-BB87-4B30-B5FB-6894CE68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98AF-CCFB-43EB-A77B-D8B02DAD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AB6B-4584-42BE-9667-ECF0725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86FB-AF05-425D-AF4E-046A0F0B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B023-E6A2-466B-BC44-708BAF6B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2774-D58D-4F4D-A62D-670EC545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891F-10CB-477B-A4AF-621A0893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A2ABC-FB81-4CA7-BE89-0DA0C956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5AA7-9F54-4B7C-870A-9F4F2645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BCDB-8AB3-4AA2-98C1-847EA6D5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6B9A-AA6C-4AAD-AD86-3225C696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A07-B95D-47A6-857E-172AA60F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A88B-68AB-463E-9CBB-9A6EA94F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43B1-35B6-48D3-B2FB-4A6D7AA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1484-1F8A-4D1D-A844-D6FF8105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EDCB0-8C12-41FD-9040-5EBACF58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09A1-A66C-4D60-A16E-CB7C6BF8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4FFB-6119-4952-9344-473C4C47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8B77-C8F8-4F89-AAE1-880B60DF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A27-8281-41E5-91AD-CE59BBAF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F40-CE26-4870-B881-6FF73B20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2D5-56DE-4B2D-A45C-3D63AE9B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F85-3EB7-4871-B7E0-09C8F2AA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42C-65D0-404C-93ED-266CBD5C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94E-6B0C-4898-BA77-B1F00DE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A282-1762-4248-AFDD-C84591A2E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5C6B-C9CE-4422-A136-CCB02942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555A-DE8E-4AB3-8F12-1ACD899F6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65026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«ДЕТСКАЯ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58920" y="476280"/>
            <a:ext cx="621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.П. МУСОРГ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5960" y="259920"/>
            <a:ext cx="44668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«С кукл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3840" y="642960"/>
            <a:ext cx="42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вочка укачивает свою куклу, приговаривая нянину байку про буку и серого волка  и навевает «тяпе» волшебный сон о «чудном острове, где ни жнут, не сеют, где зреют груши наливные, а день и ночь поют птички золоты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 куклой.mp3" descr=""/>
          <p:cNvPicPr/>
          <p:nvPr/>
        </p:nvPicPr>
        <p:blipFill>
          <a:blip r:embed="rId1"/>
          <a:stretch/>
        </p:blipFill>
        <p:spPr>
          <a:xfrm>
            <a:off x="8215200" y="6000840"/>
            <a:ext cx="447840" cy="44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0" y="4797360"/>
            <a:ext cx="4500720" cy="206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вали куклу в пес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на относится к 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огада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Народный костюм в живописи и графике - Страница 7 • Форум о журнальных  коллекциях Деагостини, Ашет, Eaglemoss, Modimio"/>
          <p:cNvPicPr/>
          <p:nvPr/>
        </p:nvPicPr>
        <p:blipFill>
          <a:blip r:embed="rId2"/>
          <a:stretch/>
        </p:blipFill>
        <p:spPr>
          <a:xfrm>
            <a:off x="4427640" y="1413000"/>
            <a:ext cx="423540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«КОТ МАТР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3280" y="620280"/>
            <a:ext cx="4246560" cy="287964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каз о маленьком домашнем происшествии. Хитрый кот подкрался к клетке со снегирем, приготовился уже цапнуть свою жертву, и в ту же минуту был прихлопнут перехитрившей его девочкой. Болят ее пальчики, но она довольна: снегирь спасен, а проказник-кот наказ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Documents and Settings\User\Рабочий стол\18.jpg"/>
          <p:cNvPicPr/>
          <p:nvPr/>
        </p:nvPicPr>
        <p:blipFill>
          <a:blip r:embed="rId1"/>
          <a:stretch/>
        </p:blipFill>
        <p:spPr>
          <a:xfrm>
            <a:off x="298440" y="1071720"/>
            <a:ext cx="4202280" cy="5357520"/>
          </a:xfrm>
          <a:prstGeom prst="rect">
            <a:avLst/>
          </a:prstGeom>
          <a:ln w="0">
            <a:noFill/>
          </a:ln>
        </p:spPr>
      </p:pic>
      <p:pic>
        <p:nvPicPr>
          <p:cNvPr id="167" name="кот матрос.mp3" descr=""/>
          <p:cNvPicPr/>
          <p:nvPr/>
        </p:nvPicPr>
        <p:blipFill>
          <a:blip r:embed="rId2"/>
          <a:stretch/>
        </p:blipFill>
        <p:spPr>
          <a:xfrm>
            <a:off x="7500960" y="5643720"/>
            <a:ext cx="662040" cy="6616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4932360" y="4149720"/>
            <a:ext cx="323064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ы вы поступили в этой ситуации? Музыка передает чувства девочки или птички? Какая о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692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2636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«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Поскакал на палочк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1073160"/>
            <a:ext cx="8020080" cy="17352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шутливая игровая сценка: малыш лихо скачет на палочке возле дачи, воображая, что он «поехал на лошад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тельное свойство всех етей иметь богатое воображение. Можете представить себя лихим всадником, взяв палку с головой лошадки. Давайте представим, какие чувства испытывает мальчик? Что он 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оехал на палочке.mp3" descr=""/>
          <p:cNvPicPr/>
          <p:nvPr/>
        </p:nvPicPr>
        <p:blipFill>
          <a:blip r:embed="rId1"/>
          <a:stretch/>
        </p:blipFill>
        <p:spPr>
          <a:xfrm>
            <a:off x="7786800" y="5786280"/>
            <a:ext cx="733320" cy="73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Сообщество иллюстраторов | Иллюстрация Игра в лошадки (альбом"/>
          <p:cNvPicPr/>
          <p:nvPr/>
        </p:nvPicPr>
        <p:blipFill>
          <a:blip r:embed="rId2"/>
          <a:stretch/>
        </p:blipFill>
        <p:spPr>
          <a:xfrm>
            <a:off x="1476360" y="2835360"/>
            <a:ext cx="5543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Вот и закончились музыкальные сценк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1600200"/>
            <a:ext cx="7997760" cy="16128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впечатлений оставила каждая из них. А ведь вы только слушали и представляли... И не только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ерняка сравнивали себя и свои поступки, узнали о детях 19 века, о их играх. Какие эпизоды особенно запомнились? Что вы можете рассказать своей маме или друзьям об этой музы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395280" y="3230640"/>
            <a:ext cx="2521080" cy="3663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Игра в лошадки. Чарльз Бертран Антраг» Дети холст/масло купить в Москве  С-Петербурге арт 20060"/>
          <p:cNvPicPr/>
          <p:nvPr/>
        </p:nvPicPr>
        <p:blipFill>
          <a:blip r:embed="rId2"/>
          <a:stretch/>
        </p:blipFill>
        <p:spPr>
          <a:xfrm>
            <a:off x="3203640" y="3230640"/>
            <a:ext cx="5545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ahnschrift Light"/>
              </a:rPr>
              <a:t>Правда они интересные? Кажется история продолжается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0" y="1700280"/>
            <a:ext cx="90597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ступление для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1413000"/>
            <a:ext cx="8642160" cy="4680000"/>
          </a:xfrm>
          <a:prstGeom prst="rect">
            <a:avLst/>
          </a:prstGeom>
          <a:gradFill rotWithShape="0">
            <a:gsLst>
              <a:gs pos="0">
                <a:srgbClr val="669864"/>
              </a:gs>
              <a:gs pos="100000">
                <a:srgbClr val="b1ffa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тская» — совершенно необычное, не имевшее ранее аналогов произведение. Это не песни, не романсы, а тонкие вокальные сценки, в которых удивительно точно, глубоко и любовно раскрывается мир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имо того что он вокальный, он с яркими, запоминающими образами. Во время прослушивание все внимание уделяется интонации и настроению мелод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равнения с реальной жизнью  современного ребенка и сценкой из «Детской», поможет глубже понять и усилить музыкальное впечатление. Таким образом, проследить музыкальное развитие сценки(кульминационный момент и 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комендации использование матери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4000" y="1197000"/>
            <a:ext cx="8696160" cy="48960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сформирована для педагога и детей. Весь материал для педагога выделен зеленым цветом, а вопросы для детей желт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й кто захочет познакомить детей с циклом «В детской» может легко это сделать. Так как работа содержит всю необходимую информацию о содержании произведения, иллюстрации, вопросы для беседы и диалога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 может легко импровизировать и подавать материал в совей интерпре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 прослушивать одно -два произведения за занятие, и оставлять интригу для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дест Петрович П. МУСОРГ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Documents and Settings\User\Рабочий стол\m-p-g.jpg"/>
          <p:cNvPicPr/>
          <p:nvPr/>
        </p:nvPicPr>
        <p:blipFill>
          <a:blip r:embed="rId1"/>
          <a:stretch/>
        </p:blipFill>
        <p:spPr>
          <a:xfrm>
            <a:off x="395280" y="1268280"/>
            <a:ext cx="3500280" cy="508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176720" y="1197000"/>
            <a:ext cx="4967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39-1881 русский компози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4211640" y="1844640"/>
            <a:ext cx="4753080" cy="503172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, сегодня вы познакомитесь  удивительным русским композитором, который писал исторические оперы, романсы, оркестровые пьесы, произведения для фортепиано. Но больше всего произведений- вокальных. Вокальные произведения-это произведения, которые поют, и главной является мело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узыке передавал такие картины из жизни как образ целого народа, который страдал от царя. Это  сказочные образы из «Картинок с выстав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был очень наблюдательным и однажды он заглянул «В детскую». Что такое детск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ак называется комнат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 такая есть и ув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31656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Детск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64640"/>
            <a:ext cx="4643280" cy="60930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елый мир игрушек, шкафчиков, короб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игр и забав. Какие игры вы играете в детской? Что любите делать, когда остаетесь в ней оди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абавно наблюдать взрослым за вами... Какие вы милые и интересные, забавные и симпатичные, даже когда шал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Картинки ДЕТИ (100 нарисованных КАРТОЧЕК про детей). | Семейная Кучка"/>
          <p:cNvPicPr/>
          <p:nvPr/>
        </p:nvPicPr>
        <p:blipFill>
          <a:blip r:embed="rId1"/>
          <a:stretch/>
        </p:blipFill>
        <p:spPr>
          <a:xfrm>
            <a:off x="4788000" y="214200"/>
            <a:ext cx="3635280" cy="363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Картинки детские для садика (25 фото) 🔥 Прикольные картинки и юмор"/>
          <p:cNvPicPr/>
          <p:nvPr/>
        </p:nvPicPr>
        <p:blipFill>
          <a:blip r:embed="rId2"/>
          <a:stretch/>
        </p:blipFill>
        <p:spPr>
          <a:xfrm>
            <a:off x="4468680" y="3830760"/>
            <a:ext cx="46674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54280" y="3716280"/>
            <a:ext cx="4397400" cy="1873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зитор как будто заглянул во внутрь дома и наблюдал за жизнью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19160"/>
            <a:ext cx="5689440" cy="32400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и Модесту Петровичу стало интересно, поведение ребенка, его характер в разных жизненных ситуациях. Ведь как и вашей жизни, жизнь ребенка 18 века полна драматизма. Его и наказывали за шалости или не хорошие просту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так же как и вы  интересно играл с игрушками, скакал палочке, слушал сказки перед с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композитору и захотелось передать эти умилительные сценки в песенках. При чем так достоверно рассказывал, что слушая можно увидеть перед собой эти события. И даже узнать себя в некоторых сцен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317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Стоковые векторные изображения Девочка с куклой | Depositphotos®"/>
          <p:cNvPicPr/>
          <p:nvPr/>
        </p:nvPicPr>
        <p:blipFill>
          <a:blip r:embed="rId2"/>
          <a:stretch/>
        </p:blipFill>
        <p:spPr>
          <a:xfrm>
            <a:off x="250920" y="3213000"/>
            <a:ext cx="3816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 вот и сами ис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560" y="1700280"/>
            <a:ext cx="4808520" cy="377352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. С ня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.В уг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.Ж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.С кук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. На сон гряд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.Кот мат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. Поехал на пал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32080" y="1600200"/>
            <a:ext cx="308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2636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«С НЯНЕ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3840" y="1071720"/>
            <a:ext cx="4357800" cy="500040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ой миниатюре композитор отразил свои детские впечатления от сказок когда-то рассказанных ему няней. Содержание пьесы таково: ребёнок поначалу хотел послушать страшную историю про ужасного буку, пожирающего непослушливых детей, но затем всё-таки решил, что весёлая сказка про хромоногого царя и царицу, которая всё время чихала, будет гораздо интерес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 композиции очень выразительна, её мелодическая линия, поддерживаемая красочным аккомпанементом, с обаятельной реалистичностью передаёт речь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с няней.mp3" descr=""/>
          <p:cNvPicPr/>
          <p:nvPr/>
        </p:nvPicPr>
        <p:blipFill>
          <a:blip r:embed="rId1"/>
          <a:stretch/>
        </p:blipFill>
        <p:spPr>
          <a:xfrm>
            <a:off x="7786800" y="5786280"/>
            <a:ext cx="519120" cy="519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Мусоргский «С няней»"/>
          <p:cNvPicPr/>
          <p:nvPr/>
        </p:nvPicPr>
        <p:blipFill>
          <a:blip r:embed="rId2"/>
          <a:stretch/>
        </p:blipFill>
        <p:spPr>
          <a:xfrm>
            <a:off x="4643280" y="1616040"/>
            <a:ext cx="4370400" cy="3541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98000" y="5786280"/>
            <a:ext cx="8891640" cy="811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 ней исполнителей? - Кто главный рассказчик? –Какими вы себе представили героев? А какую сказку бы вы выбра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«В УГЛ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892400" y="1357200"/>
            <a:ext cx="4251240" cy="4525920"/>
          </a:xfrm>
          <a:prstGeom prst="rect">
            <a:avLst/>
          </a:prstGeom>
          <a:solidFill>
            <a:srgbClr val="b6ff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яня, рассерженная проказами своего маленького мальчика, ставит его в угол. А проказник в углу обиженно пеняет на котёночка – это он все натво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яня зря на него наговар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в углу.mp3" descr=""/>
          <p:cNvPicPr/>
          <p:nvPr/>
        </p:nvPicPr>
        <p:blipFill>
          <a:blip r:embed="rId1"/>
          <a:stretch/>
        </p:blipFill>
        <p:spPr>
          <a:xfrm>
            <a:off x="7786800" y="578628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СТАВИТЬ ЛИ РЕБЁНКА В УГОЛ? - Детский сайт ПЧЁЛКА."/>
          <p:cNvPicPr/>
          <p:nvPr/>
        </p:nvPicPr>
        <p:blipFill>
          <a:blip r:embed="rId2"/>
          <a:stretch/>
        </p:blipFill>
        <p:spPr>
          <a:xfrm>
            <a:off x="0" y="1557360"/>
            <a:ext cx="5154480" cy="39909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395280" y="5786280"/>
            <a:ext cx="432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звали мальчика? Что он сделал плохого? Прав ли 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https://ds05.infourok.ru/uploads/ex/0f6d/0002806c-7f656178/img4.jpg"/>
          <p:cNvPicPr/>
          <p:nvPr/>
        </p:nvPicPr>
        <p:blipFill>
          <a:blip r:embed="rId3"/>
          <a:stretch/>
        </p:blipFill>
        <p:spPr>
          <a:xfrm>
            <a:off x="2651040" y="1679400"/>
            <a:ext cx="2460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21:10Z</dcterms:created>
  <dc:creator>Кузьмина ИГ</dc:creator>
  <dc:description/>
  <dc:language>en-US</dc:language>
  <cp:lastModifiedBy>Asus</cp:lastModifiedBy>
  <dcterms:modified xsi:type="dcterms:W3CDTF">2020-08-31T13:31:07Z</dcterms:modified>
  <cp:revision>23</cp:revision>
  <dc:subject/>
  <dc:title>Слайд 1</dc:title>
</cp:coreProperties>
</file>