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087-76CF-46EB-BDBC-6518EA38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ED6-2990-46A4-A70A-14F091B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641-A87A-4A2F-B337-3610F8A8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A9E-9E27-415E-AB7C-DC1CEAEC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5FA-9945-43A7-AB09-70DB153B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7CF-4DD8-402F-9F09-608902B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D50-9CA7-4602-B201-3EE075B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AC62-8064-4266-9FC0-5D678AE8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3D14-D1DC-4AE1-9BDC-B7A41E90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45EB-4078-48DF-85AF-C0D63D4E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EF1-CDA1-4C32-ABC6-2C54C73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EEB-FB31-4493-A671-11AB0AE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43F-C0DA-4B09-AB70-C4538C7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869-A9B4-4814-BA08-52F2248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1DBE-94D9-48C9-B0B8-9114E28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043-D315-40ED-8F58-7C61352B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33A4-E1CD-4888-A89E-70906437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07ED-EC03-4A72-A8B2-892CB2A1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9A37-0DE9-4724-B453-C17B22C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6083-E1C4-472A-B792-53305B94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A488-C5F2-4C61-B28E-9C2689B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3C94-7BB8-4014-ADE5-613B2C86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0FD-1083-4374-AB2D-CB27639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0074-9EDA-4936-A61F-6B39B6C9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AEA1-063C-46A5-AD7F-A549CA0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300B-6E47-4C57-8B9B-94A4646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A2F3-45A4-40B5-A62E-5C828B2E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88F0-ECB9-4B74-9491-8374076B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2792-F1B4-423D-A1E6-91236C3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E830-2F90-444F-AD0E-C595B98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BC5-0C44-43A9-B22A-C1FB5CA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511-3F67-407F-AC32-4BD65D2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1F1-C488-49AB-91B8-7184F38F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D4D-8C7F-4647-BD41-CBA05FC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9E2-36E7-4CAE-B08F-2F76262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F90-91D9-42D2-9878-9A6FA5B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C6F-7398-4922-BFC3-BB604257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176-8B44-413A-9D33-3FE7C4876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2B9F-FB7F-4AA7-BC61-C2510813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65026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«ДЕТСКАЯ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920" y="476280"/>
            <a:ext cx="621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.П. МУСОРГ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5960" y="259920"/>
            <a:ext cx="44668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С кукл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3840" y="642960"/>
            <a:ext cx="42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очка укачивает свою куклу, приговаривая нянину байку про буку и серого волка  и навевает «тяпе» волшебный сон о «чудном острове, где ни жнут, не сеют, где зреют груши наливные, а день и ночь поют птички золоты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 куклой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447840" cy="44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0" y="4797360"/>
            <a:ext cx="4500720" cy="206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куклу в пе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на относится к 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огад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Народный костюм в живописи и графике - Страница 7 • Форум о журнальных  коллекциях Деагостини, Ашет, Eaglemoss, Modimio"/>
          <p:cNvPicPr/>
          <p:nvPr/>
        </p:nvPicPr>
        <p:blipFill>
          <a:blip r:embed="rId2"/>
          <a:stretch/>
        </p:blipFill>
        <p:spPr>
          <a:xfrm>
            <a:off x="4427640" y="1413000"/>
            <a:ext cx="42354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«КОТ МАТ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3280" y="620280"/>
            <a:ext cx="4246560" cy="287964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 о маленьком домашнем происшествии. Хитрый кот подкрался к клетке со снегирем, приготовился уже цапнуть свою жертву, и в ту же минуту был прихлопнут перехитрившей его девочкой. Болят ее пальчики, но она довольна: снегирь спасен, а проказник-кот наказ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User\Рабочий стол\18.jpg"/>
          <p:cNvPicPr/>
          <p:nvPr/>
        </p:nvPicPr>
        <p:blipFill>
          <a:blip r:embed="rId1"/>
          <a:stretch/>
        </p:blipFill>
        <p:spPr>
          <a:xfrm>
            <a:off x="298440" y="1071720"/>
            <a:ext cx="4202280" cy="5357520"/>
          </a:xfrm>
          <a:prstGeom prst="rect">
            <a:avLst/>
          </a:prstGeom>
          <a:ln w="0">
            <a:noFill/>
          </a:ln>
        </p:spPr>
      </p:pic>
      <p:pic>
        <p:nvPicPr>
          <p:cNvPr id="167" name="кот матрос.mp3" descr=""/>
          <p:cNvPicPr/>
          <p:nvPr/>
        </p:nvPicPr>
        <p:blipFill>
          <a:blip r:embed="rId2"/>
          <a:stretch/>
        </p:blipFill>
        <p:spPr>
          <a:xfrm>
            <a:off x="7500960" y="5643720"/>
            <a:ext cx="662040" cy="6616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4932360" y="4149720"/>
            <a:ext cx="32306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ы вы поступили в этой ситуации? Музыка передает чувства девочки или птички? Какая 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692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263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«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Поскакал на палоч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1073160"/>
            <a:ext cx="8020080" cy="17352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шутливая игровая сценка: малыш лихо скачет на палочке возле дачи, воображая, что он «поехал на лошад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ое свойство всех етей иметь богатое воображение. Можете представить себя лихим всадником, взяв палку с головой лошадки. Давайте представим, какие чувства испытывает мальчик? Что он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оехал на палочке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733320" cy="73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Сообщество иллюстраторов | Иллюстрация Игра в лошадки (альбом"/>
          <p:cNvPicPr/>
          <p:nvPr/>
        </p:nvPicPr>
        <p:blipFill>
          <a:blip r:embed="rId2"/>
          <a:stretch/>
        </p:blipFill>
        <p:spPr>
          <a:xfrm>
            <a:off x="1476360" y="2835360"/>
            <a:ext cx="5543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от и закончились музыкальные сценк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600200"/>
            <a:ext cx="7997760" cy="16128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впечатлений оставила каждая из них. А ведь вы только слушали и представляли... И не только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ерняка сравнивали себя и свои поступки, узнали о детях 19 века, о их играх. Какие эпизоды особенно запомнились? Что вы можете рассказать своей маме или друзьям об этой музы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395280" y="3230640"/>
            <a:ext cx="2521080" cy="3663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Игра в лошадки. Чарльз Бертран Антраг» Дети холст/масло купить в Москве  С-Петербурге арт 20060"/>
          <p:cNvPicPr/>
          <p:nvPr/>
        </p:nvPicPr>
        <p:blipFill>
          <a:blip r:embed="rId2"/>
          <a:stretch/>
        </p:blipFill>
        <p:spPr>
          <a:xfrm>
            <a:off x="3203640" y="3230640"/>
            <a:ext cx="5545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ahnschrift Light"/>
              </a:rPr>
              <a:t>Правда они интересные? Кажется история продолжаетс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0" y="1700280"/>
            <a:ext cx="90597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ступление для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413000"/>
            <a:ext cx="8642160" cy="4680000"/>
          </a:xfrm>
          <a:prstGeom prst="rect">
            <a:avLst/>
          </a:prstGeom>
          <a:gradFill rotWithShape="0">
            <a:gsLst>
              <a:gs pos="0">
                <a:srgbClr val="669864"/>
              </a:gs>
              <a:gs pos="100000">
                <a:srgbClr val="b1ffa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ская» — совершенно необычное, не имевшее ранее аналогов произведение. Это не песни, не романсы, а тонкие вокальные сценки, в которых удивительно точно, глубоко и любовно раскрывается мир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имо того что он вокальный, он с яркими, запоминающими образами. Во время прослушивание все внимание уделяется интонации и настроению мелод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равнения с реальной жизнью  современного ребенка и сценкой из «Детской», поможет глубже понять и усилить музыкальное впечатление. Таким образом, проследить музыкальное развитие сценки(кульминационный момент и 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комендации использование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197000"/>
            <a:ext cx="8696160" cy="4896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сформирована для педагога и детей. Весь материал для педагога выделен зеленым цветом, а вопросы для детей желт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кто захочет познакомить детей с циклом «В детской» может легко это сделать. Так как работа содержит всю необходимую информацию о содержании произведения, иллюстрации, вопросы для беседы и диалога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ожет легко импровизировать и подавать материал в совей интерпре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прослушивать одно -два произведения за занятие, и оставлять интригу для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ст Петрович П. МУСОРГ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User\Рабочий стол\m-p-g.jpg"/>
          <p:cNvPicPr/>
          <p:nvPr/>
        </p:nvPicPr>
        <p:blipFill>
          <a:blip r:embed="rId1"/>
          <a:stretch/>
        </p:blipFill>
        <p:spPr>
          <a:xfrm>
            <a:off x="395280" y="1268280"/>
            <a:ext cx="3500280" cy="508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76720" y="1197000"/>
            <a:ext cx="4967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39-1881 русский композ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4211640" y="1844640"/>
            <a:ext cx="4753080" cy="50317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сегодня вы познакомитесь  удивительным русским композитором, который писал исторические оперы, романсы, оркестровые пьесы, произведения для фортепиано. Но больше всего произведений- вокальных. Вокальные произведения-это произведения, которые поют, и главной является мело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узыке передавал такие картины из жизни как образ целого народа, который страдал от царя. Это  сказочные образы из «Картинок с выстав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был очень наблюдательным и однажды он заглянул «В детскую». Что такое детск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ак называется комнат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такая есть и ув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3165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етс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64640"/>
            <a:ext cx="4643280" cy="6093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лый мир игрушек, шкафчиков, короб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игр и забав. Какие игры вы играете в детской? Что любите делать, когда остаетесь в ней од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бавно наблюдать взрослым за вами... Какие вы милые и интересные, забавные и симпатичные, даже когда ша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Картинки ДЕТИ (100 нарисованных КАРТОЧЕК про детей). | Семейная Кучка"/>
          <p:cNvPicPr/>
          <p:nvPr/>
        </p:nvPicPr>
        <p:blipFill>
          <a:blip r:embed="rId1"/>
          <a:stretch/>
        </p:blipFill>
        <p:spPr>
          <a:xfrm>
            <a:off x="4788000" y="214200"/>
            <a:ext cx="3635280" cy="363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артинки детские для садика (25 фото) 🔥 Прикольные картинки и юмор"/>
          <p:cNvPicPr/>
          <p:nvPr/>
        </p:nvPicPr>
        <p:blipFill>
          <a:blip r:embed="rId2"/>
          <a:stretch/>
        </p:blipFill>
        <p:spPr>
          <a:xfrm>
            <a:off x="4468680" y="3830760"/>
            <a:ext cx="46674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54280" y="3716280"/>
            <a:ext cx="4397400" cy="187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как будто заглянул во внутрь дома и наблюдал за жизнью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19160"/>
            <a:ext cx="5689440" cy="3240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и Модесту Петровичу стало интересно, поведение ребенка, его характер в разных жизненных ситуациях. Ведь как и вашей жизни, жизнь ребенка 18 века полна драматизма. Его и наказывали за шалости или не хорошие просту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так же как и вы  интересно играл с игрушками, скакал палочке, слушал сказки перед с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композитору и захотелось передать эти умилительные сценки в песенках. При чем так достоверно рассказывал, что слушая можно увидеть перед собой эти события. И даже узнать себя в некоторых сцен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317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Стоковые векторные изображения Девочка с куклой | Depositphotos®"/>
          <p:cNvPicPr/>
          <p:nvPr/>
        </p:nvPicPr>
        <p:blipFill>
          <a:blip r:embed="rId2"/>
          <a:stretch/>
        </p:blipFill>
        <p:spPr>
          <a:xfrm>
            <a:off x="250920" y="3213000"/>
            <a:ext cx="3816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 вот и сами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1700280"/>
            <a:ext cx="4808520" cy="37735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. С ня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В уг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.Ж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.С кук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. На сон гряд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.Кот мат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. Поехал на пал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32080" y="1600200"/>
            <a:ext cx="30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С НЯН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3840" y="1071720"/>
            <a:ext cx="4357800" cy="50004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миниатюре композитор отразил свои детские впечатления от сказок когда-то рассказанных ему няней. Содержание пьесы таково: ребёнок поначалу хотел послушать страшную историю про ужасного буку, пожирающего непослушливых детей, но затем всё-таки решил, что весёлая сказка про хромоногого царя и царицу, которая всё время чихала, будет гораздо интерес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 композиции очень выразительна, её мелодическая линия, поддерживаемая красочным аккомпанементом, с обаятельной реалистичностью передаёт речь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 няней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519120" cy="51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Мусоргский «С няней»"/>
          <p:cNvPicPr/>
          <p:nvPr/>
        </p:nvPicPr>
        <p:blipFill>
          <a:blip r:embed="rId2"/>
          <a:stretch/>
        </p:blipFill>
        <p:spPr>
          <a:xfrm>
            <a:off x="4643280" y="1616040"/>
            <a:ext cx="4370400" cy="354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98000" y="5786280"/>
            <a:ext cx="8891640" cy="811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ней исполнителей? - Кто главный рассказчик? –Какими вы себе представили героев? А какую сказку бы вы выбр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В УГЛ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92400" y="1357200"/>
            <a:ext cx="4251240" cy="45259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яня, рассерженная проказами своего маленького мальчика, ставит его в угол. А проказник в углу обиженно пеняет на котёночка – это он все натво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яня зря на него наговар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в углу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СТАВИТЬ ЛИ РЕБЁНКА В УГОЛ? - Детский сайт ПЧЁЛКА."/>
          <p:cNvPicPr/>
          <p:nvPr/>
        </p:nvPicPr>
        <p:blipFill>
          <a:blip r:embed="rId2"/>
          <a:stretch/>
        </p:blipFill>
        <p:spPr>
          <a:xfrm>
            <a:off x="0" y="1557360"/>
            <a:ext cx="5154480" cy="3990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395280" y="5786280"/>
            <a:ext cx="432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мальчика? Что он сделал плохого? Прав ли 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https://ds05.infourok.ru/uploads/ex/0f6d/0002806c-7f656178/img4.jpg"/>
          <p:cNvPicPr/>
          <p:nvPr/>
        </p:nvPicPr>
        <p:blipFill>
          <a:blip r:embed="rId3"/>
          <a:stretch/>
        </p:blipFill>
        <p:spPr>
          <a:xfrm>
            <a:off x="2651040" y="1679400"/>
            <a:ext cx="2460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21:10Z</dcterms:created>
  <dc:creator>Кузьмина ИГ</dc:creator>
  <dc:description/>
  <dc:language>en-US</dc:language>
  <cp:lastModifiedBy>Asus</cp:lastModifiedBy>
  <dcterms:modified xsi:type="dcterms:W3CDTF">2020-08-31T13:31:07Z</dcterms:modified>
  <cp:revision>23</cp:revision>
  <dc:subject/>
  <dc:title>Слайд 1</dc:title>
</cp:coreProperties>
</file>