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E19-4D7A-4E74-9A51-2696F0731B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8D8B-6AD0-4B35-A6E6-DD148EEB0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17D6-90F4-4E0C-AB78-1101D63EEC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129-43FF-467F-873D-FF29222DB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1A6E-D6DE-4180-B17E-40794699F6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FF2-5E01-4085-8A0E-6E641B0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0DC-7911-4B40-9351-7CD6B45D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411C-91BF-4FEB-9E4D-AB9CE49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A7565-58FD-4DBB-9803-C350B03A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42346-C80C-41AC-956C-0DE71954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71A41-FB65-4C10-96B1-82DA415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0E036-3F3E-4FA3-92B5-300E6B2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7769-6C8B-49CE-A2A2-03A5979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F4213-3429-4ED1-BAB7-8F469E0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C82C4-C157-4A9D-828A-CEDAF768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DD74A-500D-4E8C-9F26-8EA9277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3503-50C5-4E2F-BD04-8884F21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13F-8680-4DF1-9F06-D37C224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EBEEE-46DE-4966-A030-3DFD29E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3AC03-9326-4F7B-8F8F-A2E92EF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F3BC-9FB8-446C-A763-442EC41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0C1F6-F16C-4A09-BAD1-17C747E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6184-55E6-4BD3-B20E-5418BCE9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C8FB9-0E5E-4DB7-825D-FF95E679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9D654-4043-4B39-8B2E-349FA37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9DE02-B2FC-4D0F-A22F-566FC83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8ADB-8409-4A6B-9D24-D24ED7A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B0517-FE07-4DA5-8D96-A1985D8D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96A-944F-4E97-A3A5-0EF287D4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714BB-1468-41E9-9F21-8CD972B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5CD1D-0BBE-4D74-801E-010C3347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A2D16-8786-4EA2-8ACC-8EEBBCA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CF7AD-4420-48F3-A29D-A05B78A7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192C2-F0E5-494C-9925-B6B3EB4E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C9456-5165-410D-8B0D-AE9BE3E9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36974-8C03-45BC-B89B-05E81CC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81C12-622B-4E84-A94D-7D567263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56AD2-0959-4A5D-8D2A-7AA951AF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73FD-F466-4BBF-8286-0830E91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ECC7-7246-4AFE-BD3E-F11FD1FC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982B-DCCC-4064-8A4E-A16B718E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F3AA0-8E24-41A2-95BA-2A0CF3DC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0AF4-4309-477E-ADFA-01ACF4EC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2A44C-30A0-4808-B35C-6B4C2A70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B3CF0-0D41-4DBA-AB48-321F746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61C91-104D-442C-B69C-48D5313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87A47-57BA-460F-93B1-DB669B7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B768-4365-40D2-BE70-F07A5C8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5112A-5DDA-44F9-A6F2-4B4B82C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666AA-8A58-4D3D-834B-78924B9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9A6B-BD4B-4C52-9654-1EC0BB9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20D7D-0FA9-47B0-8256-6BDD04E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35694-E448-431B-A13F-661059A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FEA6-45F8-4155-997E-896B40E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71070-E41A-4D92-A6D1-16902F75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21AA-9B65-46A3-8B98-BBFA4FF8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75D0-DF68-4135-8282-44CFB95D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24A4-DBEF-4ABF-B961-84A1A51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CAC2-0503-4391-928F-3AF7BAE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279-82CC-4E01-8FE2-9C51F798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C40-92A6-4183-B711-6B00E2F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DDF-5DEB-45F7-9D27-A8EC3A91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D87-AB8D-4A6A-B1C8-1E940B2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00C-DE6E-496F-B459-05E8FA3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1625-07C5-4970-AB7B-B78DF91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CF1-E6E8-4B62-8787-713EB8C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61B-065A-49D9-8B4B-82A04AFE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EFE1-D9F5-4A59-9F59-4938545A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F0A2-E765-4BFF-8BDE-916EE3FE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2FE9-F984-42F1-9376-11644C7F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2E54-67CB-4E4F-8641-307BB68E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756B-7B29-4580-A77A-07A66B5E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236-41A5-4ED2-9F41-DC8BA9B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7E96-AE70-4074-BD1F-4722657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6F8E-39EE-4111-BA6B-B8211A1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E88D-E7CD-4788-8764-46FF5E2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6083-9C4C-4A63-9DD7-D784F32A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D12F-6C29-410B-8B06-818A0622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5958-394C-4167-808D-8280E4BE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9A26-4644-4584-84C2-8DFA01C1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2F64-5D1D-4956-987D-9E50755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995C-1112-4462-B8A3-7C0D40FE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1C35-3ABB-42C8-80A7-37057767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E9C-81F4-46D2-B7AD-C898072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7C2C-EC17-4936-87FA-E090E35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EBB9-DCA8-4234-8130-8350CFFC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FD39-024D-4963-A6F3-5488AF8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0522-9562-43FA-B11C-1E29D10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4E11-90CF-4B49-9E47-6829C45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C578-D34D-4E96-A0E2-2AEA817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41B8-140F-4B40-A4D5-735AD9E5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4E2A-F64F-4ADF-9E79-CD0C2D9C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0D20-7B0C-4DA1-B5DE-298F524B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B18D-68C7-40A3-A68E-D38FCCDA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B40-E7B2-4A33-AAAC-E7DE401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8A5D-B723-43DD-B44F-813B0492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70AF7-4AEF-475F-BA0A-B74186E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2510-5857-4340-812D-2D53BA5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E4B2-3931-4E87-BF6A-4C274231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8D06-85E5-4037-8D23-0A339396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A6920-63F3-4B1B-A23B-486BE17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31ED-B72F-484E-9CE6-4770135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070F-E454-4018-B2C6-0536643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0B80-0880-4F58-B0BB-C40EBF08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B17B-5F30-45CC-B6DD-47776BAB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5A7-CA7E-41D9-B2A3-25AE962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B52E-4F1D-42A2-B7AD-71024C49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D696-7CBF-4993-B686-CFA30016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7FA91-9BD9-45CD-A0F8-6608861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F9C13-F712-456A-B976-E228005C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9A22-95D1-4C60-9CA7-98FE4F7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F786-373E-4A6E-8C40-3D3E1DF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DDEC-CF9C-4461-94B9-52218477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B093-C7D5-4898-80E6-56D1584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15C16-0C48-41AE-81A2-F7AD14D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FA47-1C67-4B95-9AFD-165F3CD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A62-3A5D-41BA-B7EA-73A3AE7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772B-727E-499A-9127-BBC6BA52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530F-6EE8-45FD-A702-7031080A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29605-0B55-4229-A92D-0AB87557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0D349-E6FA-45FA-9A67-EA3E2C96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1662-7294-4CED-9E05-DC125BC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A9F8-A02E-4B49-B6D6-4B7DEAE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D5A9-5DA2-4BA0-845B-53D71AE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3A42-E64A-41CB-81CF-B30F634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34872-0209-464B-921F-F3DF1914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4E4F4-BE2C-4EF1-B65A-A5501900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411-5D98-4D26-B4E4-DA61CF3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1DC25-BE13-427F-B532-FA428F0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4AD1-B240-4EC9-9C2A-71CCF71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75B6-607A-4F09-B7F0-F644F807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98A8-42BC-4F44-B8FC-AA2F958D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DF96-676D-4936-9A14-F46CAAE0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01CDE-CB08-41D4-9B69-1DB2EDEC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C4A7-504A-4DD0-B178-7143972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3447-9080-4FA5-81B1-457DEBA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CA5A-629F-4329-89F0-24D2147D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8180-8CEB-4251-8257-96ECBD4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22D-3F7D-4EB6-A037-C62A388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8B8D-CCE3-4BEF-9E2C-835B821A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4703-3D57-4451-8439-07161C4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10AE1-6D84-40C9-8C96-7BAFD4A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644A-D1D9-4C39-8DFE-E70F597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4630-CCC2-44A5-AC60-289236D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83C5-8333-4A4F-A9C4-69CBFE6A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225E-84F1-4A69-8E1B-CDE6770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6F73D-BF1F-4FFE-B5AD-A29657C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2610F-C273-4F63-BA95-19B19CA1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60460-BD20-438F-A1E3-FD54B55B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484D-364F-4D26-BE14-FB47F0B88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C63-6867-4DC2-B29A-DF4AEE2D1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D56-5E94-4F4A-A971-FA1F43E06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F7DF-A595-4D0F-9C4F-9F0C7564B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DE2B-ED3C-4638-A757-DAC2DFC90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D24-EC99-46D9-9E18-8B26A798F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BAE-388D-419C-84BB-EE46D18D8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7DD-3C35-47C5-98CA-E66C76175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E36-CAAA-400D-92B7-7485D9218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A88-5902-4979-A668-E4A61E6AE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A396-B38E-4BE2-9604-FAE03D871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6A4-AB7F-495A-8859-DDCE91DFD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iizabella@list.ru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0" y="-17316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2"/>
          <p:cNvSpPr/>
          <p:nvPr/>
        </p:nvSpPr>
        <p:spPr>
          <a:xfrm>
            <a:off x="755640" y="5637240"/>
            <a:ext cx="477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4067280" y="580536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3773520" y="4005360"/>
            <a:ext cx="477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1332000" y="1484280"/>
            <a:ext cx="6818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оектная деятельность в вопросах взаимодействия с семьёй в образовательном процессе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182600" y="255600"/>
            <a:ext cx="64008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Муниципальное дошкольное образовательное автономное учреждение «Детский сад №105 общеразвивающего вида с приоритетным осуществлением социально-личностного развития воспитанников «Дюймовочка» г.Орс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4211640" y="487368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сше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шугина О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Новогоднее путешествие по планете</a:t>
            </a:r>
            <a:br>
              <a:rPr sz="3000"/>
            </a:b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                                         Земля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комить детей с традициями празднования Нового года в России и в других странах. Формировать у детей уважительное отношение к другим народам, их культуре. Создавать условия для воспитания патриотических чувств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Рисунок 6" descr="D:\ролик\_MG_3983.JPG"/>
          <p:cNvPicPr/>
          <p:nvPr/>
        </p:nvPicPr>
        <p:blipFill>
          <a:blip r:embed="rId2"/>
          <a:stretch/>
        </p:blipFill>
        <p:spPr>
          <a:xfrm>
            <a:off x="2773440" y="4151160"/>
            <a:ext cx="3236760" cy="23050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9" descr="D:\ролик\_MG_3927.JPG"/>
          <p:cNvPicPr/>
          <p:nvPr/>
        </p:nvPicPr>
        <p:blipFill>
          <a:blip r:embed="rId3"/>
          <a:stretch/>
        </p:blipFill>
        <p:spPr>
          <a:xfrm>
            <a:off x="176040" y="4084560"/>
            <a:ext cx="3030840" cy="2773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0" descr="D:\ролик\_MG_4056.JPG"/>
          <p:cNvPicPr/>
          <p:nvPr/>
        </p:nvPicPr>
        <p:blipFill>
          <a:blip r:embed="rId4"/>
          <a:stretch/>
        </p:blipFill>
        <p:spPr>
          <a:xfrm>
            <a:off x="5578560" y="4237200"/>
            <a:ext cx="340668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Знакомство с русской культурой и  традициями»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здание особой предметно-развивающей среды способствующей формированию у детей второй младшей группы «базиса культуры» на основе ознакомления с бытом и жизнью родного народа, его характером, присущими ему нравственными ценностями, традициями, особенностями культуры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3" descr="C:\Users\АНЯ\Desktop\Фото конкурс\Последние\IMG_20170217_164003.jpg"/>
          <p:cNvPicPr/>
          <p:nvPr/>
        </p:nvPicPr>
        <p:blipFill>
          <a:blip r:embed="rId2"/>
          <a:stretch/>
        </p:blipFill>
        <p:spPr>
          <a:xfrm>
            <a:off x="2987640" y="4508640"/>
            <a:ext cx="2852640" cy="19825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6" descr=""/>
          <p:cNvPicPr/>
          <p:nvPr/>
        </p:nvPicPr>
        <p:blipFill>
          <a:blip r:embed="rId3"/>
          <a:stretch/>
        </p:blipFill>
        <p:spPr>
          <a:xfrm rot="20820000">
            <a:off x="403200" y="4946760"/>
            <a:ext cx="2590920" cy="164124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9" descr="C:\Users\АНЯ\Desktop\Фото конкурс\SAM_4475.JPG"/>
          <p:cNvPicPr/>
          <p:nvPr/>
        </p:nvPicPr>
        <p:blipFill>
          <a:blip r:embed="rId4"/>
          <a:stretch/>
        </p:blipFill>
        <p:spPr>
          <a:xfrm rot="780000">
            <a:off x="5733720" y="4873680"/>
            <a:ext cx="280512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вод: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является уникальным средством обеспечения сотрудничества детей и взрослых, способо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ализации личностно ориентированного подхода к образовани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Благодаря заинтересованности детей и родителей, пониманию с их стороны, отзывчивости, активности и творческим способностям, в детском саду сформировалась благоприятная и дружелюбная атмосфер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   Такие  проекты помогают  сплотить коллектив родителей, дает возможность им осознать необходимость и важность семьи и семейных отношений для ребёнка в дошкольном возрасте. Особое значение имеет совместная деятельность детей и взрослых, в процессе которой удовлетворяются потребности дошкольников в общении со взросл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образовательное автоном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«Детский сад № 105 «Дюймовочк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общеразвивающего вида г. Орск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Адрес: 462428, Оренбургская област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город Орск,улица Васнецова, дом 6 «А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 телефон  (3537)  37 - 67 - 07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 электронный 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mbria"/>
                <a:hlinkClick r:id="rId1"/>
              </a:rPr>
              <a:t>iizabella@list.ru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сайт МДОАУ №105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105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ucoz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.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orq</a:t>
            </a:r>
            <a:br>
              <a:rPr sz="1600"/>
            </a:b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ктуальность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94920" y="1197000"/>
            <a:ext cx="822636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Семья и дошкольное учреждение – д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важных института социализации дете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Их воспитательные функции различны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но для всестороннег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развития личности ребенка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необходимо их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взаимодействи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606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ГОС ДО 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Условия, необходимые для создания социальной ситуации развития детей, соответствующей специфике дошкольного возраста, предполагают взаимодействие ДОУ с родителями по вопросам образования ребёнка, непосредственн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ых инициати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семьи».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ектная  деятель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самостоятельная и совместная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ятельность взрослых и детей по планированию  и организации педагогического процесса в   рамках определенной темы, имеющая   социально значимый результат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метод педагогически организованного освоения ребенком окружающей  среды.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42" descr=""/>
          <p:cNvPicPr/>
          <p:nvPr/>
        </p:nvPicPr>
        <p:blipFill>
          <a:blip r:embed="rId1"/>
          <a:stretch/>
        </p:blipFill>
        <p:spPr>
          <a:xfrm>
            <a:off x="2700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4240" y="620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53880" y="1119240"/>
            <a:ext cx="74581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7" name="AutoShape 2"/>
          <p:cNvCxnSpPr/>
          <p:nvPr/>
        </p:nvCxnSpPr>
        <p:spPr>
          <a:xfrm flipH="1" flipV="1">
            <a:off x="3619080" y="6364080"/>
            <a:ext cx="51840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8" name="AutoShape 3"/>
          <p:cNvCxnSpPr/>
          <p:nvPr/>
        </p:nvCxnSpPr>
        <p:spPr>
          <a:xfrm>
            <a:off x="5700240" y="2190240"/>
            <a:ext cx="1080" cy="21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9" name="AutoShape 5"/>
          <p:cNvCxnSpPr/>
          <p:nvPr/>
        </p:nvCxnSpPr>
        <p:spPr>
          <a:xfrm flipV="1">
            <a:off x="4402080" y="2145960"/>
            <a:ext cx="164160" cy="281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6"/>
          <p:cNvCxnSpPr/>
          <p:nvPr/>
        </p:nvCxnSpPr>
        <p:spPr>
          <a:xfrm>
            <a:off x="6453000" y="2190240"/>
            <a:ext cx="17532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1" name="Text Box 7"/>
          <p:cNvSpPr/>
          <p:nvPr/>
        </p:nvSpPr>
        <p:spPr>
          <a:xfrm>
            <a:off x="5929200" y="2489040"/>
            <a:ext cx="27720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новление партнёрского взаимодействия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2340000" y="692280"/>
            <a:ext cx="600084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совместной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979640" y="4654440"/>
            <a:ext cx="672156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компетентности родителей в вопросах воспитания 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979640" y="2489040"/>
            <a:ext cx="352908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ение личностно ориентированного взаимодействия педагога и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Здравствуй, малыш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Успешная адаптация детей к детскому дошкольному учреждению посредством обеспечения благоприятных условий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Рисунок 3" descr="SAM_4197.JPG"/>
          <p:cNvPicPr/>
          <p:nvPr/>
        </p:nvPicPr>
        <p:blipFill>
          <a:blip r:embed="rId2"/>
          <a:stretch/>
        </p:blipFill>
        <p:spPr>
          <a:xfrm rot="21240000">
            <a:off x="511200" y="3932280"/>
            <a:ext cx="2855880" cy="237492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7" descr="IMG_20151020_100420.jpg"/>
          <p:cNvPicPr/>
          <p:nvPr/>
        </p:nvPicPr>
        <p:blipFill>
          <a:blip r:embed="rId3"/>
          <a:stretch/>
        </p:blipFill>
        <p:spPr>
          <a:xfrm rot="480000">
            <a:off x="5513040" y="39258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8" descr="SAM_3035.JPG"/>
          <p:cNvPicPr/>
          <p:nvPr/>
        </p:nvPicPr>
        <p:blipFill>
          <a:blip r:embed="rId4"/>
          <a:stretch/>
        </p:blipFill>
        <p:spPr>
          <a:xfrm>
            <a:off x="3276720" y="3357720"/>
            <a:ext cx="22669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42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Огонь друг или враг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у детей осознанного и ответственного отношения к выполнению правил пожарной безопасности. Вооружить знаниями, умениями и навыками, необходимыми для действия в экстремальных 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94436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33" name="Picture 5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894040" cy="237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34" name="Picture 6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013200" cy="2260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80643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Я знаю! Я горжусь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уществление комплексного подхода к воспитанию в духе патриотизма, приобщение дошкольников к истории и культуре родного края, местным достопримечательностям, воспитание любви и привязанности к Родине.</a:t>
            </a:r>
            <a:br>
              <a:rPr sz="3200"/>
            </a:br>
            <a:br>
              <a:rPr sz="3200"/>
            </a:b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Рисунок 6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457440" cy="20876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11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836800" cy="181620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9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3767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В гостях у сказки Г. Х. Андерсена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Познакомить детей с творчеством Г.Х. Андерсена. Развивать устойчивый интерес к сказ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1690560" cy="33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43" name="Picture 5" descr=""/>
          <p:cNvPicPr/>
          <p:nvPr/>
        </p:nvPicPr>
        <p:blipFill>
          <a:blip r:embed="rId3"/>
          <a:stretch/>
        </p:blipFill>
        <p:spPr>
          <a:xfrm rot="21060000">
            <a:off x="676080" y="4430880"/>
            <a:ext cx="2840040" cy="197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44" name="Picture 6" descr=""/>
          <p:cNvPicPr/>
          <p:nvPr/>
        </p:nvPicPr>
        <p:blipFill>
          <a:blip r:embed="rId4"/>
          <a:stretch/>
        </p:blipFill>
        <p:spPr>
          <a:xfrm rot="540000">
            <a:off x="5353200" y="4532400"/>
            <a:ext cx="3220920" cy="195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5:03:11Z</dcterms:created>
  <dc:creator>Наташа</dc:creator>
  <dc:description/>
  <dc:language>en-US</dc:language>
  <cp:lastModifiedBy>Acer</cp:lastModifiedBy>
  <dcterms:modified xsi:type="dcterms:W3CDTF">2020-08-31T04:26:18Z</dcterms:modified>
  <cp:revision>175</cp:revision>
  <dc:subject/>
  <dc:title>Слайд 1</dc:title>
</cp:coreProperties>
</file>