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4EDC-0A40-40FE-9C69-9EF8F53AED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5900-1276-4A77-B1F9-BCD9D523B8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544E-F484-47F6-815C-FCCC7B8348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E511-A5FE-4CE3-B000-8CC838C194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DB56-64AD-417F-AC04-4585075DA1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01DE-00B8-4507-87E7-C022D1CD8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DF1D-B517-4E3E-8103-5D6958E6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DE7EBE-7349-4BD1-ADCB-2B1C6A44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1E38D5-8694-4DE7-8E70-792CA33E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9FE327-8DC4-4154-876C-6BCBDF7D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D485CC-AC35-4495-A138-F2A15A5A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FBCB5-C760-46DC-9AF3-188119DB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69D2A7-AFEF-4CA0-9685-CCC17218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B262F7-A0BC-46C9-8586-586AD4C1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AD92D9-082F-4F60-9C0D-0CEC8B605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AE780F-9D32-43B6-8BD9-67096D10A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345E31-2551-4EEF-85B5-D42F1343B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7037-5B4D-46EC-A3D6-B3E29E3F9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409B43-04A1-486D-8B25-909FC8C3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E5C98F-977D-40F6-A02A-F4A2DDA9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42AE2F-5E19-4442-A48F-B48EEB96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570DD3-2BFC-4D52-B76E-B9A88C55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49A345-B41C-4694-8251-55DB631A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71D684-3194-44AC-B880-CD898FA1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98B1E1-CFD5-49CD-B484-DE21E8F1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3DFAE5-EE42-4EB1-B73E-DEBD9E81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968494-44D8-4430-93D8-0656A423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393261-11BB-4A00-89EB-43CB33134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78F6-B782-460B-AEA9-3ADD9F0C7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C65359-94D5-431C-A66C-6E8B600E0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FE512-A664-4CED-8CC6-5EBECC99F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E1744-BE73-49C1-A924-23C044B3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957E4-80D8-475D-B150-5717F070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33C38-7ECC-4565-A8C9-20697EEF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1BB1B-6D0B-42A2-848C-21B2E1DF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A3CE18-D8A0-4DC7-9551-2DD03EEF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AE340-BB40-4CA7-A478-66691F14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9ADB84-2486-42F7-8644-261413DB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677869-CD5F-4C30-8C98-A25B6D9B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87DE-7275-467F-8EB5-C9C4F2400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3637DB-C10B-497E-A864-CB30A367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F16C64-F7DC-4BA6-9E86-DD9CA7483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4A6477-FE87-48B0-A59D-EDAD77776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5E1BD5-FAE0-44B4-8BBC-A3599FA6D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E4468F-29C2-4C2A-8D82-F73F4669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C8035B-3526-42AB-99E3-C74E9BE1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91400D-2291-4182-8453-65E59C34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EC9410-73BD-49A5-A0B5-62138B46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418FF0-599C-4BD0-9B66-F5C2E3D9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637102-0630-4516-8B98-35712D33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51F6D-93E0-4B47-BC17-9D3DE187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A70421-DBA9-4029-9924-9329B2B3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B758D9-48F9-4BCD-9A65-3CDDD3FC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2BAA99-725B-4D1B-BA1A-B7500AA8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A3EAFD-E461-4247-916C-C7B0FBC70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02605B-FC66-42C1-9EFE-E6E64E3AC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D57DF-306D-4619-9BC4-5CCCC843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9968-D42B-4A7A-BD56-DA6CEFF2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B324-839B-4948-A79A-CADF2688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BC7A-3EF2-49D6-A095-9B2D4821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B2F2-037A-4DD5-9FB1-EDBD654B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142D-7566-445C-8D7C-9363D31D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0004-C028-4F98-8A9C-C0766E0A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9020-7CB1-4E62-93C0-754F6B42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3CE3-8338-45D2-AE07-FB2D9856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E2BAD-A16F-4F3E-9C19-ACD369C51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2281-1C1F-4C56-BFB2-6711CEE93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DFDEB-DE97-4EFC-B578-18BC6146D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68E40-15E1-418D-8B9C-BE54C829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DB14C-1C10-419B-8829-4D4163B2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644AE-B2CF-420D-9829-6FE8D8F0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C0DD5-E407-4C25-91E6-EB0BE469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7E98-DB25-437A-A188-8F09AD3C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CE03C-2DA6-43BF-8340-2AA737B3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BAE25-D60B-430D-9B03-01B50951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B513B-AC87-4744-AE1D-09E80211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E9136-DB73-4C9E-97BD-93CC3A65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20A72-B721-463E-A45C-A0A917DD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9B4AE-A1FA-45CF-A026-E796DB6E2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CB3BC-6F34-4C6D-B390-18782038D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D228F-8B01-4F4D-A3B2-AE2F99A7C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DDAA6-7C29-437A-8035-C0A87E6B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58998-9B19-44FE-9E61-1E485995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84FB-D0A9-4115-A1A9-10A0ADF8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0A76F-542E-446D-AE76-2B699D9D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3E710-118A-40D7-B9F4-87E13232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5D7D2-8A6E-4706-89B6-BCFCD896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9A1D1-C66F-4CA3-9488-E3B281A2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F41F1-B70D-4166-9138-6B625169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6375E-FFB7-4EA9-96EE-53357AC1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47845-3774-40DE-937B-531EC53A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C63F7-ADD4-428E-B662-04C02EC55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73070-E135-48F6-8CB6-946E36F4F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13EAC-FA99-4185-8E5F-6F3035293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CA6A-F8F5-4541-88FC-E07ED40D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54BFA-EEFE-4E28-BD27-0FD4D32F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431BB-8519-48EB-AC56-ABFB6EE5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72FC8-70E9-429F-AD95-368BC2F2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7A96B-8EF6-4058-9B2E-3636B0FA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B5EFB-F29F-4267-96E3-6DA8831E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B2699-822B-4739-9D26-F3816AD4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1E5DF-C95F-4B05-B9D5-F76DB21C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28D47-E18D-42A0-A711-34D79DBB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968B8-74C2-4EFA-B810-F39C28EA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38312-4BB5-48D9-923A-6C6AA09BE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F668-57BB-420A-9A53-2617A674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2CC28-E0B0-4268-AF60-68B9BB11C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AC050-A6AC-4BE8-8F22-166984ED5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73A32-7668-43BB-942D-3AF658FB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EC151-C62C-4074-B9A1-B3B7605C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398FE-F8CB-495B-8FAF-2701C73D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6D02E-81BA-4035-9FF7-B6342C77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F581A-456B-4E5C-91D9-50DCED17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CB944-7472-4AB0-9298-8317F863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D6B1C-5811-45C7-BB7B-51352BCE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00FD8-5166-4CD3-9752-9EE99293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6A38-C026-495F-8EF3-C2526C89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3C041-AD96-422E-B60D-3EF99382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B0729-802E-4061-89A3-56B72B707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0CAE0-B5A0-4E5D-B2D9-DCDD69B5B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DE11D-DA55-43E6-B360-3024FF984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E7D14-B8F1-43D3-878B-EF49C5AF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C4B71-34C5-4808-9701-844E5FA7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99972-AF44-4CF2-8EE1-A6F0EE22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ACE7B-7048-41CA-80CA-AE1A2224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F9086-A69E-4221-B6B4-9DDCD0F5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EEFA6-3A7C-4B41-959B-D928F64D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2B4E-C772-4B43-A91B-F393EAE3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030E1-D92D-4245-97A3-64B856E0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A2271-1473-437B-9690-1DF6DA85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EDB18-0E12-4494-9EEB-098654EE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95920-96B1-4DE8-9E69-2D0347C62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2EDFF-AA4A-4771-BBBF-70168374C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3FB24-47E1-4E0F-806E-819848F6B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376A4-F745-4BB6-B1C9-D80FEF9E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B0D7F-4687-40F4-99F7-B54E31E1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A37B5-0B78-4B0D-8C89-56A47119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FA403-60DB-4C3B-8E2D-67A3326C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C282-D2E2-4ACA-BCCE-93ED3427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4F99F-7839-482B-B530-E2F88515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0CA8C-5ACB-4566-89C0-000D3F8D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3DC55-BEC8-4014-90F6-8EE586C5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BD9D1-FA6B-4780-87F0-44BD9CD7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ED926-ACCF-45A7-812E-946D4CA0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4CC2D-E2BE-41EF-A579-593907D03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C6D5E-4442-4F00-A1FB-57251AB27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C90433-84BE-4263-B7C3-66741C697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82FCFD-A877-4160-A08B-8C998E96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B5A361-FA21-40DF-B5DB-6F1F4155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67A1-8413-4744-A007-CA0F774400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FCAC-FAE9-46C6-B3F2-A5706EFC6C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EBD0-15B9-4BBC-A66C-127559C01C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0D7D-6261-4C2C-8110-7E07C56DD9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75EA-EB23-4391-8911-FDA261E53A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F0E8-998F-42D6-8F18-59FB7676B8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63A5-64F5-4672-8243-1360A1B3D1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4EE3-40A6-45B8-AB7A-E164B86D24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6CC8-7FE7-4CBC-8116-E0A9121E3D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16FB-8AC5-440D-9BC1-146739CD87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2EBE-62CF-4504-B33D-38EA40B779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B196-23B0-4993-B720-7CBC850E13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iizabella@list.ru" TargetMode="External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3" descr=""/>
          <p:cNvPicPr/>
          <p:nvPr/>
        </p:nvPicPr>
        <p:blipFill>
          <a:blip r:embed="rId1"/>
          <a:stretch/>
        </p:blipFill>
        <p:spPr>
          <a:xfrm>
            <a:off x="0" y="-173160"/>
            <a:ext cx="9144000" cy="700560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21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Прямоугольник 2"/>
          <p:cNvSpPr/>
          <p:nvPr/>
        </p:nvSpPr>
        <p:spPr>
          <a:xfrm>
            <a:off x="755640" y="5637240"/>
            <a:ext cx="47703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оугольник 3"/>
          <p:cNvSpPr/>
          <p:nvPr/>
        </p:nvSpPr>
        <p:spPr>
          <a:xfrm>
            <a:off x="4067280" y="5805360"/>
            <a:ext cx="14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7  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Прямоугольник 8"/>
          <p:cNvSpPr/>
          <p:nvPr/>
        </p:nvSpPr>
        <p:spPr>
          <a:xfrm>
            <a:off x="3773520" y="4005360"/>
            <a:ext cx="47703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оугольник 9"/>
          <p:cNvSpPr/>
          <p:nvPr/>
        </p:nvSpPr>
        <p:spPr>
          <a:xfrm>
            <a:off x="1332000" y="1484280"/>
            <a:ext cx="68184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Проектная деятельность в вопросах взаимодействия с семьёй в образовательном процессе ДО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182600" y="255600"/>
            <a:ext cx="6400800" cy="108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Муниципальное дошкольное образовательное автономное учреждение «Детский сад №105 общеразвивающего вида с приоритетным осуществлением социально-личностного развития воспитанников «Дюймовочка» г.Орск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4"/>
          <p:cNvSpPr/>
          <p:nvPr/>
        </p:nvSpPr>
        <p:spPr>
          <a:xfrm>
            <a:off x="4211640" y="4873680"/>
            <a:ext cx="468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полнил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спитатель высшей катего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шугина О.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96" descr="C:\Users\АНЯ\Desktop\Буклеты\Новая папка\image0DT07PN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00cc"/>
                </a:solidFill>
                <a:uFillTx/>
                <a:latin typeface="Calibri"/>
              </a:rPr>
              <a:t>Проект </a:t>
            </a:r>
            <a:r>
              <a:rPr b="1" lang="ru-RU" sz="3000" spc="-1" strike="noStrike">
                <a:solidFill>
                  <a:srgbClr val="0000cc"/>
                </a:solidFill>
                <a:latin typeface="Calibri"/>
              </a:rPr>
              <a:t>:«Новогоднее путешествие по планете</a:t>
            </a:r>
            <a:br>
              <a:rPr sz="3000"/>
            </a:br>
            <a:r>
              <a:rPr b="1" lang="ru-RU" sz="3000" spc="-1" strike="noStrike">
                <a:solidFill>
                  <a:srgbClr val="0000cc"/>
                </a:solidFill>
                <a:latin typeface="Calibri"/>
              </a:rPr>
              <a:t>                                         Земля»</a:t>
            </a:r>
            <a:br>
              <a:rPr sz="3000"/>
            </a:b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Цель проекта: </a:t>
            </a:r>
            <a:br>
              <a:rPr sz="30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знакомить детей с традициями празднования Нового года в России и в других странах. Формировать у детей уважительное отношение к другим народам, их культуре. Создавать условия для воспитания патриотических чувств.</a:t>
            </a:r>
            <a:br>
              <a:rPr sz="3000"/>
            </a:b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Рисунок 6" descr="D:\ролик\_MG_3983.JPG"/>
          <p:cNvPicPr/>
          <p:nvPr/>
        </p:nvPicPr>
        <p:blipFill>
          <a:blip r:embed="rId2"/>
          <a:stretch/>
        </p:blipFill>
        <p:spPr>
          <a:xfrm>
            <a:off x="2773440" y="4151160"/>
            <a:ext cx="3236760" cy="2305080"/>
          </a:xfrm>
          <a:prstGeom prst="rect">
            <a:avLst/>
          </a:prstGeom>
          <a:ln w="0">
            <a:noFill/>
          </a:ln>
        </p:spPr>
      </p:pic>
      <p:pic>
        <p:nvPicPr>
          <p:cNvPr id="548" name="Рисунок 9" descr="D:\ролик\_MG_3927.JPG"/>
          <p:cNvPicPr/>
          <p:nvPr/>
        </p:nvPicPr>
        <p:blipFill>
          <a:blip r:embed="rId3"/>
          <a:stretch/>
        </p:blipFill>
        <p:spPr>
          <a:xfrm>
            <a:off x="176040" y="4084560"/>
            <a:ext cx="3030840" cy="2773440"/>
          </a:xfrm>
          <a:prstGeom prst="rect">
            <a:avLst/>
          </a:prstGeom>
          <a:ln w="0">
            <a:noFill/>
          </a:ln>
        </p:spPr>
      </p:pic>
      <p:pic>
        <p:nvPicPr>
          <p:cNvPr id="549" name="Рисунок 10" descr="D:\ролик\_MG_4056.JPG"/>
          <p:cNvPicPr/>
          <p:nvPr/>
        </p:nvPicPr>
        <p:blipFill>
          <a:blip r:embed="rId4"/>
          <a:stretch/>
        </p:blipFill>
        <p:spPr>
          <a:xfrm>
            <a:off x="5578560" y="4237200"/>
            <a:ext cx="3406680" cy="262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96" descr="C:\Users\АНЯ\Desktop\Буклеты\Новая папка\image0DT07PNO.jpg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95280" y="-243360"/>
            <a:ext cx="8424720" cy="547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3000" spc="-1" strike="noStrike" u="sng">
                <a:solidFill>
                  <a:srgbClr val="0000cc"/>
                </a:solidFill>
                <a:uFillTx/>
                <a:latin typeface="Calibri"/>
              </a:rPr>
              <a:t>Проект </a:t>
            </a:r>
            <a:r>
              <a:rPr b="1" lang="ru-RU" sz="3000" spc="-1" strike="noStrike">
                <a:solidFill>
                  <a:srgbClr val="0000cc"/>
                </a:solidFill>
                <a:latin typeface="Calibri"/>
              </a:rPr>
              <a:t>:«Знакомство с русской культурой и  традициями»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Цель проекта: </a:t>
            </a:r>
            <a:br>
              <a:rPr sz="30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оздание особой предметно-развивающей среды способствующей формированию у детей второй младшей группы «базиса культуры» на основе ознакомления с бытом и жизнью родного народа, его характером, присущими ему нравственными ценностями, традициями, особенностями культуры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2" name="Picture 3" descr="C:\Users\АНЯ\Desktop\Фото конкурс\Последние\IMG_20170217_164003.jpg"/>
          <p:cNvPicPr/>
          <p:nvPr/>
        </p:nvPicPr>
        <p:blipFill>
          <a:blip r:embed="rId2"/>
          <a:stretch/>
        </p:blipFill>
        <p:spPr>
          <a:xfrm>
            <a:off x="2987640" y="4508640"/>
            <a:ext cx="2852640" cy="1982520"/>
          </a:xfrm>
          <a:prstGeom prst="rect">
            <a:avLst/>
          </a:prstGeom>
          <a:ln w="0">
            <a:noFill/>
          </a:ln>
        </p:spPr>
      </p:pic>
      <p:pic>
        <p:nvPicPr>
          <p:cNvPr id="553" name="Рисунок 6" descr=""/>
          <p:cNvPicPr/>
          <p:nvPr/>
        </p:nvPicPr>
        <p:blipFill>
          <a:blip r:embed="rId3"/>
          <a:stretch/>
        </p:blipFill>
        <p:spPr>
          <a:xfrm rot="20820000">
            <a:off x="403200" y="4946760"/>
            <a:ext cx="2590920" cy="1641240"/>
          </a:xfrm>
          <a:prstGeom prst="rect">
            <a:avLst/>
          </a:prstGeom>
          <a:ln w="0">
            <a:noFill/>
          </a:ln>
        </p:spPr>
      </p:pic>
      <p:pic>
        <p:nvPicPr>
          <p:cNvPr id="554" name="Рисунок 9" descr="C:\Users\АНЯ\Desktop\Фото конкурс\SAM_4475.JPG"/>
          <p:cNvPicPr/>
          <p:nvPr/>
        </p:nvPicPr>
        <p:blipFill>
          <a:blip r:embed="rId4"/>
          <a:stretch/>
        </p:blipFill>
        <p:spPr>
          <a:xfrm rot="780000">
            <a:off x="5733720" y="4873680"/>
            <a:ext cx="2805120" cy="169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7" descr="C:\Users\АНЯ\Desktop\Буклеты\image2GGC475O.jpg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Вывод: 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ектная деятельность является уникальным средством обеспечения сотрудничества детей и взрослых, способом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ализации личностно ориентированного подхода к образованию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     Благодаря заинтересованности детей и родителей, пониманию с их стороны, отзывчивости, активности и творческим способностям, в детском саду сформировалась благоприятная и дружелюбная атмосфер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      Такие  проекты помогают  сплотить коллектив родителей, дает возможность им осознать необходимость и важность семьи и семейных отношений для ребёнка в дошкольном возрасте. Особое значение имеет совместная деятельность детей и взрослых, в процессе которой удовлетворяются потребности дошкольников в общении со взрослым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b0f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ниципальное дошкольно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образовательное автономное учрежд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«Детский сад № 105 «Дюймовочка»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общеразвивающего вида г. Орска»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mbria"/>
              </a:rPr>
              <a:t>Адрес: 462428, Оренбургская область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mbria"/>
                <a:ea typeface="Cambria"/>
              </a:rPr>
              <a:t>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mbria"/>
              </a:rPr>
              <a:t>город Орск,улица Васнецова, дом 6 «А»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mbria"/>
                <a:ea typeface="Cambria"/>
              </a:rPr>
              <a:t>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mbria"/>
              </a:rPr>
              <a:t>- телефон  (3537)  37 - 67 - 07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mbria"/>
                <a:ea typeface="Cambria"/>
              </a:rPr>
              <a:t>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mbria"/>
              </a:rPr>
              <a:t>- электронный адрес: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Cambria"/>
                <a:hlinkClick r:id="rId1"/>
              </a:rPr>
              <a:t>iizabella@list.ru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mbria"/>
                <a:ea typeface="Cambria"/>
              </a:rPr>
              <a:t>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mbria"/>
              </a:rPr>
              <a:t>-сайт МДОАУ №105: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Cambria"/>
              </a:rPr>
              <a:t>105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Cambria"/>
              </a:rPr>
              <a:t>ucoz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Cambria"/>
              </a:rPr>
              <a:t>.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Cambria"/>
              </a:rPr>
              <a:t>orq</a:t>
            </a:r>
            <a:br>
              <a:rPr sz="1600"/>
            </a:br>
            <a:br>
              <a:rPr sz="1800"/>
            </a:b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Актуальность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94920" y="1197000"/>
            <a:ext cx="822636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cc"/>
                </a:solidFill>
                <a:latin typeface="Calibri"/>
              </a:rPr>
              <a:t>Семья и дошкольное учреждение – два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cc"/>
                </a:solidFill>
                <a:latin typeface="Calibri"/>
              </a:rPr>
              <a:t>важных института социализации детей.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cc"/>
                </a:solidFill>
                <a:latin typeface="Calibri"/>
              </a:rPr>
              <a:t>Их воспитательные функции различны,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cc"/>
                </a:solidFill>
                <a:latin typeface="Calibri"/>
              </a:rPr>
              <a:t>но для всестороннего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cc"/>
                </a:solidFill>
                <a:latin typeface="Calibri"/>
              </a:rPr>
              <a:t>       </a:t>
            </a:r>
            <a:r>
              <a:rPr b="0" lang="ru-RU" sz="3400" spc="-1" strike="noStrike">
                <a:solidFill>
                  <a:srgbClr val="0000cc"/>
                </a:solidFill>
                <a:latin typeface="Calibri"/>
              </a:rPr>
              <a:t>развития личности ребенка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cc"/>
                </a:solidFill>
                <a:latin typeface="Calibri"/>
              </a:rPr>
              <a:t>необходимо их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cc"/>
                </a:solidFill>
                <a:latin typeface="Calibri"/>
              </a:rPr>
              <a:t>взаимодействие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7" descr="C:\Users\АНЯ\Desktop\Буклеты\image2GGC475O.jpg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280360" cy="606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ФГОС ДО :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Условия, необходимые для создания социальной ситуации развития детей, соответствующей специфике дошкольного возраста, предполагают взаимодействие ДОУ с родителями по вопросам образования ребёнка, непосредственно вовлечения их в образовательную деятельность, в том числе посредством создания образовательных проектов совместно с семьёй на основе выявления потребностей и поддержк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разовательных инициатив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семьи».</a:t>
            </a:r>
            <a:br>
              <a:rPr sz="28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7" descr="C:\Users\АНЯ\Desktop\Буклеты\image2GGC475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45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br>
              <a:rPr sz="3200"/>
            </a:br>
            <a:br>
              <a:rPr sz="3200"/>
            </a:b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роектная  деятельность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–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то самостоятельная и совместная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еятельность взрослых и детей по планированию  и организации педагогического процесса в   рамках определенной темы, имеющая   социально значимый результат.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то метод педагогически организованного освоения ребенком окружающей  среды.</a:t>
            </a: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142" descr=""/>
          <p:cNvPicPr/>
          <p:nvPr/>
        </p:nvPicPr>
        <p:blipFill>
          <a:blip r:embed="rId1"/>
          <a:stretch/>
        </p:blipFill>
        <p:spPr>
          <a:xfrm>
            <a:off x="27000" y="-158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14240" y="620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253880" y="1119240"/>
            <a:ext cx="745812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7" name="AutoShape 2"/>
          <p:cNvCxnSpPr/>
          <p:nvPr/>
        </p:nvCxnSpPr>
        <p:spPr>
          <a:xfrm flipH="1" flipV="1">
            <a:off x="3619080" y="6364080"/>
            <a:ext cx="518400" cy="28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18" name="AutoShape 3"/>
          <p:cNvCxnSpPr/>
          <p:nvPr/>
        </p:nvCxnSpPr>
        <p:spPr>
          <a:xfrm>
            <a:off x="5700240" y="2190240"/>
            <a:ext cx="1080" cy="2197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19" name="AutoShape 5"/>
          <p:cNvCxnSpPr/>
          <p:nvPr/>
        </p:nvCxnSpPr>
        <p:spPr>
          <a:xfrm flipV="1">
            <a:off x="4402080" y="2145960"/>
            <a:ext cx="164160" cy="281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20" name="AutoShape 6"/>
          <p:cNvCxnSpPr/>
          <p:nvPr/>
        </p:nvCxnSpPr>
        <p:spPr>
          <a:xfrm>
            <a:off x="6453000" y="2190240"/>
            <a:ext cx="175320" cy="299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1" name="Text Box 7"/>
          <p:cNvSpPr/>
          <p:nvPr/>
        </p:nvSpPr>
        <p:spPr>
          <a:xfrm>
            <a:off x="5929200" y="2489040"/>
            <a:ext cx="2772000" cy="180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становление партнёрского взаимодействия с родите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0"/>
          <p:cNvSpPr/>
          <p:nvPr/>
        </p:nvSpPr>
        <p:spPr>
          <a:xfrm>
            <a:off x="2340000" y="692280"/>
            <a:ext cx="6000840" cy="139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чи совместной проектной деятель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2"/>
          <p:cNvSpPr/>
          <p:nvPr/>
        </p:nvSpPr>
        <p:spPr>
          <a:xfrm>
            <a:off x="1979640" y="4654440"/>
            <a:ext cx="6721560" cy="107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ормирование компетентности родителей в вопросах воспитания их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9"/>
          <p:cNvSpPr/>
          <p:nvPr/>
        </p:nvSpPr>
        <p:spPr>
          <a:xfrm>
            <a:off x="1979640" y="2489040"/>
            <a:ext cx="3529080" cy="180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еспечение личностно ориентированного взаимодействия педагога и ребё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96" descr="C:\Users\АНЯ\Desktop\Буклеты\Новая папка\image0DT07PN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806436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00cc"/>
                </a:solidFill>
                <a:uFillTx/>
                <a:latin typeface="Calibri"/>
              </a:rPr>
              <a:t>Проект </a:t>
            </a:r>
            <a:r>
              <a:rPr b="1" lang="ru-RU" sz="3000" spc="-1" strike="noStrike">
                <a:solidFill>
                  <a:srgbClr val="0000cc"/>
                </a:solidFill>
                <a:latin typeface="Calibri"/>
              </a:rPr>
              <a:t>:«Здравствуй, малыш»</a:t>
            </a:r>
            <a:br>
              <a:rPr sz="3000"/>
            </a:b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Цель проекта: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Успешная адаптация детей к детскому дошкольному учреждению посредством обеспечения благоприятных условий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7" name="Рисунок 3" descr="SAM_4197.JPG"/>
          <p:cNvPicPr/>
          <p:nvPr/>
        </p:nvPicPr>
        <p:blipFill>
          <a:blip r:embed="rId2"/>
          <a:stretch/>
        </p:blipFill>
        <p:spPr>
          <a:xfrm rot="21240000">
            <a:off x="511200" y="3932280"/>
            <a:ext cx="2855880" cy="2374920"/>
          </a:xfrm>
          <a:prstGeom prst="rect">
            <a:avLst/>
          </a:prstGeom>
          <a:ln w="0">
            <a:noFill/>
          </a:ln>
        </p:spPr>
      </p:pic>
      <p:pic>
        <p:nvPicPr>
          <p:cNvPr id="528" name="Рисунок 7" descr="IMG_20151020_100420.jpg"/>
          <p:cNvPicPr/>
          <p:nvPr/>
        </p:nvPicPr>
        <p:blipFill>
          <a:blip r:embed="rId3"/>
          <a:stretch/>
        </p:blipFill>
        <p:spPr>
          <a:xfrm rot="480000">
            <a:off x="5513040" y="3925800"/>
            <a:ext cx="3168720" cy="2376720"/>
          </a:xfrm>
          <a:prstGeom prst="rect">
            <a:avLst/>
          </a:prstGeom>
          <a:ln w="0">
            <a:noFill/>
          </a:ln>
        </p:spPr>
      </p:pic>
      <p:pic>
        <p:nvPicPr>
          <p:cNvPr id="529" name="Рисунок 8" descr="SAM_3035.JPG"/>
          <p:cNvPicPr/>
          <p:nvPr/>
        </p:nvPicPr>
        <p:blipFill>
          <a:blip r:embed="rId4"/>
          <a:stretch/>
        </p:blipFill>
        <p:spPr>
          <a:xfrm>
            <a:off x="3276720" y="3357720"/>
            <a:ext cx="226692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96" descr="C:\Users\АНЯ\Desktop\Буклеты\Новая папка\image0DT07PN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8064360" cy="429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00cc"/>
                </a:solidFill>
                <a:uFillTx/>
                <a:latin typeface="Calibri"/>
              </a:rPr>
              <a:t>Проект </a:t>
            </a:r>
            <a:r>
              <a:rPr b="1" lang="ru-RU" sz="3000" spc="-1" strike="noStrike">
                <a:solidFill>
                  <a:srgbClr val="0000cc"/>
                </a:solidFill>
                <a:latin typeface="Calibri"/>
              </a:rPr>
              <a:t>:«Огонь друг или враг»</a:t>
            </a:r>
            <a:br>
              <a:rPr sz="3000"/>
            </a:b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Цель проекта: </a:t>
            </a:r>
            <a:br>
              <a:rPr sz="30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ормирование у детей осознанного и ответственного отношения к выполнению правил пожарной безопасности. Вооружить знаниями, умениями и навыками, необходимыми для действия в экстремальных ситуация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2" name="Picture 4" descr=""/>
          <p:cNvPicPr/>
          <p:nvPr/>
        </p:nvPicPr>
        <p:blipFill>
          <a:blip r:embed="rId2"/>
          <a:stretch/>
        </p:blipFill>
        <p:spPr>
          <a:xfrm>
            <a:off x="3419640" y="3789360"/>
            <a:ext cx="1944360" cy="25923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</p:pic>
      <p:pic>
        <p:nvPicPr>
          <p:cNvPr id="533" name="Picture 5" descr=""/>
          <p:cNvPicPr/>
          <p:nvPr/>
        </p:nvPicPr>
        <p:blipFill>
          <a:blip r:embed="rId3"/>
          <a:stretch/>
        </p:blipFill>
        <p:spPr>
          <a:xfrm>
            <a:off x="539640" y="4005360"/>
            <a:ext cx="2894040" cy="23763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</p:pic>
      <p:pic>
        <p:nvPicPr>
          <p:cNvPr id="534" name="Picture 6" descr=""/>
          <p:cNvPicPr/>
          <p:nvPr/>
        </p:nvPicPr>
        <p:blipFill>
          <a:blip r:embed="rId4"/>
          <a:stretch/>
        </p:blipFill>
        <p:spPr>
          <a:xfrm>
            <a:off x="5364000" y="4076640"/>
            <a:ext cx="3013200" cy="2260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96" descr="C:\Users\АНЯ\Desktop\Буклеты\Новая папка\image0DT07PN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55280" y="1052640"/>
            <a:ext cx="806436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00cc"/>
                </a:solidFill>
                <a:uFillTx/>
                <a:latin typeface="Calibri"/>
              </a:rPr>
              <a:t>Проект </a:t>
            </a:r>
            <a:r>
              <a:rPr b="1" lang="ru-RU" sz="3000" spc="-1" strike="noStrike">
                <a:solidFill>
                  <a:srgbClr val="0000cc"/>
                </a:solidFill>
                <a:latin typeface="Calibri"/>
              </a:rPr>
              <a:t>:«Я знаю! Я горжусь»</a:t>
            </a:r>
            <a:br>
              <a:rPr sz="3000"/>
            </a:b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Цель проекта: </a:t>
            </a:r>
            <a:br>
              <a:rPr sz="30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существление комплексного подхода к воспитанию в духе патриотизма, приобщение дошкольников к истории и культуре родного края, местным достопримечательностям, воспитание любви и привязанности к Родине.</a:t>
            </a:r>
            <a:br>
              <a:rPr sz="3200"/>
            </a:br>
            <a:br>
              <a:rPr sz="3200"/>
            </a:br>
            <a:br>
              <a:rPr sz="3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7" name="Рисунок 6" descr=""/>
          <p:cNvPicPr/>
          <p:nvPr/>
        </p:nvPicPr>
        <p:blipFill>
          <a:blip r:embed="rId2"/>
          <a:stretch/>
        </p:blipFill>
        <p:spPr>
          <a:xfrm>
            <a:off x="250920" y="4365720"/>
            <a:ext cx="3457440" cy="2087640"/>
          </a:xfrm>
          <a:prstGeom prst="rect">
            <a:avLst/>
          </a:prstGeom>
          <a:ln w="0">
            <a:noFill/>
          </a:ln>
        </p:spPr>
      </p:pic>
      <p:pic>
        <p:nvPicPr>
          <p:cNvPr id="538" name="Рисунок 11" descr=""/>
          <p:cNvPicPr/>
          <p:nvPr/>
        </p:nvPicPr>
        <p:blipFill>
          <a:blip r:embed="rId3"/>
          <a:stretch/>
        </p:blipFill>
        <p:spPr>
          <a:xfrm>
            <a:off x="5940360" y="4581360"/>
            <a:ext cx="2836800" cy="1816200"/>
          </a:xfrm>
          <a:prstGeom prst="rect">
            <a:avLst/>
          </a:prstGeom>
          <a:ln w="0">
            <a:noFill/>
          </a:ln>
        </p:spPr>
      </p:pic>
      <p:pic>
        <p:nvPicPr>
          <p:cNvPr id="539" name="Рисунок 9" descr=""/>
          <p:cNvPicPr/>
          <p:nvPr/>
        </p:nvPicPr>
        <p:blipFill>
          <a:blip r:embed="rId4"/>
          <a:stretch/>
        </p:blipFill>
        <p:spPr>
          <a:xfrm>
            <a:off x="3635280" y="3645000"/>
            <a:ext cx="237672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96" descr="C:\Users\АНЯ\Desktop\Буклеты\Новая папка\image0DT07PN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806436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00cc"/>
                </a:solidFill>
                <a:uFillTx/>
                <a:latin typeface="Calibri"/>
              </a:rPr>
              <a:t>Проект </a:t>
            </a:r>
            <a:r>
              <a:rPr b="1" lang="ru-RU" sz="3000" spc="-1" strike="noStrike">
                <a:solidFill>
                  <a:srgbClr val="0000cc"/>
                </a:solidFill>
                <a:latin typeface="Calibri"/>
              </a:rPr>
              <a:t>:«В гостях у сказки Г. Х. Андерсена»</a:t>
            </a:r>
            <a:br>
              <a:rPr sz="3000"/>
            </a:b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Цель проекта: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Познакомить детей с творчеством Г.Х. Андерсена. Развивать устойчивый интерес к сказк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Picture 4" descr=""/>
          <p:cNvPicPr/>
          <p:nvPr/>
        </p:nvPicPr>
        <p:blipFill>
          <a:blip r:embed="rId2"/>
          <a:stretch/>
        </p:blipFill>
        <p:spPr>
          <a:xfrm>
            <a:off x="3564000" y="3068640"/>
            <a:ext cx="1690560" cy="3357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</p:pic>
      <p:pic>
        <p:nvPicPr>
          <p:cNvPr id="543" name="Picture 5" descr=""/>
          <p:cNvPicPr/>
          <p:nvPr/>
        </p:nvPicPr>
        <p:blipFill>
          <a:blip r:embed="rId3"/>
          <a:stretch/>
        </p:blipFill>
        <p:spPr>
          <a:xfrm rot="21060000">
            <a:off x="676080" y="4430880"/>
            <a:ext cx="2840040" cy="19713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</p:pic>
      <p:pic>
        <p:nvPicPr>
          <p:cNvPr id="544" name="Picture 6" descr=""/>
          <p:cNvPicPr/>
          <p:nvPr/>
        </p:nvPicPr>
        <p:blipFill>
          <a:blip r:embed="rId4"/>
          <a:stretch/>
        </p:blipFill>
        <p:spPr>
          <a:xfrm rot="540000">
            <a:off x="5353200" y="4532400"/>
            <a:ext cx="3220920" cy="19508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7T05:03:11Z</dcterms:created>
  <dc:creator>Наташа</dc:creator>
  <dc:description/>
  <dc:language>en-US</dc:language>
  <cp:lastModifiedBy>Acer</cp:lastModifiedBy>
  <dcterms:modified xsi:type="dcterms:W3CDTF">2020-08-31T04:26:18Z</dcterms:modified>
  <cp:revision>175</cp:revision>
  <dc:subject/>
  <dc:title>Слайд 1</dc:title>
</cp:coreProperties>
</file>