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08D-AB0F-4EDB-839F-32C6EEFF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AE4-AE1F-4308-84D0-B875555C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994-04D7-4B96-86EE-27480361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A17-210B-41AF-8072-DC510023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C3C-EC99-42AC-B319-E866684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637-434C-49FE-B1BE-FBBFF5D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34D-6652-4411-80A3-CE3C6041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613-E8F1-451B-A2D7-270C2B5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495-BFE0-44D7-9D62-1E9B2E7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FD0-DBFE-4B8D-BEA4-A2584277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80C-C3AB-4AE3-82B1-0295AF8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9F7-86BB-4AF0-8370-928B0E5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8AE-575E-4975-86A7-79177F481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le4all.ru/uploads/posts/2011-04/1304146616_in_days_of_war_21457_2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haba.ru/_pics/ywmdz0yahlt6ri51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bm.img.com.ua/img/prikol/images/large/3/1/110113_160824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vsedoma.com.ua/images/2009/84/2/Road_wdB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ms.24open.ru/images/5e5e9b6d06e62d32cf9495d7ea1583a7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cs10072.vkontakte.ru/u4939218/-6/x_e5837365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rigacv.lv/files/u20/1944_salaspils1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3-12649528834365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bigpicture.ru/wp-content/uploads/2011/06/5110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43.radikal.ru/i099/0905/f5/704cff932209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thebestofrussia.ru/site/i/preview/big/b/c/8219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to.istranet.ru/albums/userpics/10530/&#1046;&#1080;&#1090;&#1077;&#1083;&#1080;_&#1074;&#1086;&#1079;&#1074;&#1088;&#1072;&#1097;&#1072;&#1102;&#1090;&#1089;&#1103;_&#1074;_&#1086;&#1089;&#1074;&#1086;&#1073;&#1086;&#1078;&#1076;&#1077;&#1085;&#1085;&#1099;&#1081;_&#1057;&#1084;&#1086;&#1083;&#1077;&#1085;&#1089;&#1082;__&#1057;&#1077;&#1085;&#1090;&#1103;&#1073;&#1088;&#1100;_1943_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ro-podvigi.ru/images/photos/299_7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uskline.ru/images/2010/18917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g11.nnm.ru/8/1/b/7/4/010c195a23bcf0fa9d4c9bdcdfd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m.img.com.ua/img/prikol/images/large/0/5/174350_352360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-fotki.yandex.ru/get/4612/9536349.12/0_6824b_67f5a94d_X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1.nnm.ru/6/f/0/f/0/1e1b10a9e57198c245f17076038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photobucket.com/albums/u182/periskop_su/Stalingrad/stal_1942_10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652/77652371_1725700_vintovka_4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webpark.ru/uploads37/xussr_138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5.nnm.ru/7/d/8/e/0/86235d8389a2a29eb22198d920f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002.radikal.ru/0910/86/2393fd8d6eed.gif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59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1472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-85680" y="-176040"/>
            <a:ext cx="9199440" cy="2528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516560" y="530064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ему все не так? Вроде все как всегд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же небо опять голубо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т же лес, тот же воздух и та же вод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лько он не вернулся из бо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91 из 839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57720"/>
            <a:ext cx="4284720" cy="326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а 114 из 839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357720"/>
            <a:ext cx="2952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028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ворят погибшие. Без точек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 без запятых. Почти без слов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 концлагерей. Из одиночек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 горящих яростно домов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вор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гибшие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. Тетрад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исьма. Завещанья. Дневник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кирпичной на шершавой глади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осчерк торопящейся руки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промозглых нарах железякой,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стене осколками стекла,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Струйкой крови на полу бара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списалась жизнь – пока была…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Картинка 52 из 162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125360"/>
            <a:ext cx="3132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324360" y="0"/>
            <a:ext cx="79059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се переменится вокруг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строится столица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етей разбуженных испуг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веки не прости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станет новый, лучший век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счезнут очевидцы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ученья маленьких калек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 смогут позабыться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а 1 из 92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900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25 из 930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628640"/>
            <a:ext cx="360072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43 из 19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4221000"/>
            <a:ext cx="36720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откуда взялось столько сил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же в самых слабейших из нас?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гадать!— Был и есть у Росс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чной прочности вечный зап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а 29 из 50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21000"/>
            <a:ext cx="40006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Картинка 79 из 508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349360"/>
            <a:ext cx="2543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знаю, никакой моей вин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ом, что другие не пришли с войн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ом, что они — кто старше, кто моложе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тались там, и не о том же реч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я их мог, но не сумел сберечь,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чь не о том, но все же, все же, все ж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Картинка 29 из 2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57720"/>
            <a:ext cx="216072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артинка 34 из 2230"/>
          <p:cNvPicPr/>
          <p:nvPr/>
        </p:nvPicPr>
        <p:blipFill>
          <a:blip r:embed="rId3"/>
          <a:stretch/>
        </p:blipFill>
        <p:spPr>
          <a:xfrm>
            <a:off x="6588000" y="3357720"/>
            <a:ext cx="2338560" cy="33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proza.ru/pics/2011/08/19/218.jpg"/>
          <p:cNvPicPr/>
          <p:nvPr/>
        </p:nvPicPr>
        <p:blipFill>
          <a:blip r:embed="rId4"/>
          <a:stretch/>
        </p:blipFill>
        <p:spPr>
          <a:xfrm>
            <a:off x="2340000" y="3357720"/>
            <a:ext cx="43927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Картинка 3 из 11773"/>
          <p:cNvPicPr/>
          <p:nvPr/>
        </p:nvPicPr>
        <p:blipFill>
          <a:blip r:embed="rId2"/>
          <a:srcRect l="0" t="0" r="0" b="5000"/>
          <a:stretch/>
        </p:blipFill>
        <p:spPr>
          <a:xfrm>
            <a:off x="5076720" y="3274920"/>
            <a:ext cx="3888000" cy="358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мните! Через века, через года,— помнит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 тех, кто уже не придет никогда,— 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 плачьте! В горле сдержите сто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орькие сто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мяти павших будьте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чно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лебом и песней, Мечтой и стих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изнью простор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ждой секундой, кажд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ыханьем  будьте достойн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юди! Покуда сердца стучат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ю ценой завоевано счаст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жалуйста, помни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Картинка 180 из 12667"/>
          <p:cNvPicPr/>
          <p:nvPr/>
        </p:nvPicPr>
        <p:blipFill>
          <a:blip r:embed="rId2"/>
          <a:stretch/>
        </p:blipFill>
        <p:spPr>
          <a:xfrm>
            <a:off x="5003640" y="1700280"/>
            <a:ext cx="3868920" cy="5157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9280" y="-360"/>
            <a:ext cx="83743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есню свою отправляя в полет,— 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 тех, кто уже никогда не споет,— 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Детям своим расскажите о них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чтоб запомнили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Детям детей расскажите о них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чтоб тоже запомнили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Во все времена бессмертной Земл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К мерцающим звездам ведя корабли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 погибших помните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Картинка 223 из 7316"/>
          <p:cNvPicPr/>
          <p:nvPr/>
        </p:nvPicPr>
        <p:blipFill>
          <a:blip r:embed="rId2"/>
          <a:stretch/>
        </p:blipFill>
        <p:spPr>
          <a:xfrm rot="20361600">
            <a:off x="374400" y="684360"/>
            <a:ext cx="4414680" cy="2931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014560" y="234936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Встречайте трепетную весн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люди Зем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Убейте войну, прокляните войну,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люди Земл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Мечту пронесите через год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и жизнью наполните!.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о о тех, кто уже не придет никогда,— заклинаю,— 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10 из 183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т самый длинный день в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его безоблачной пог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м выдал общую бе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всех, на все четыре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cs5261.userapi.com/v5261842/755/JMppsVi5Wm0.jpg"/>
          <p:cNvPicPr/>
          <p:nvPr/>
        </p:nvPicPr>
        <p:blipFill>
          <a:blip r:embed="rId1"/>
          <a:stretch/>
        </p:blipFill>
        <p:spPr>
          <a:xfrm>
            <a:off x="1476360" y="2276640"/>
            <a:ext cx="5753160" cy="3990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1332000" y="6381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хо войны» фотография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89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Россия. Воскресен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вет в объятьях тиши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лось хрупкое мгновень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первых выстрелов войны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рез секунду мир взорвёт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рть поведёт парад-алл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всегда погаснет солнц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миллионов на земл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Россия. Воскресен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ана на грани: быть не быть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это жуткое мгновень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никогда не позабыть…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" descr="Картинка 122 из 1285"/>
          <p:cNvPicPr/>
          <p:nvPr/>
        </p:nvPicPr>
        <p:blipFill>
          <a:blip r:embed="rId1"/>
          <a:stretch/>
        </p:blipFill>
        <p:spPr>
          <a:xfrm>
            <a:off x="4932360" y="26028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Картинка 29 из 5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860640"/>
            <a:ext cx="3889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47628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 июня 1941 года без объявления войны гитлеровская Германия напала на Советский Союз. Началась долгая Великая отечественная вой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а 27 из 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60280"/>
            <a:ext cx="3714840" cy="278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42 из 105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357720"/>
            <a:ext cx="2305080" cy="303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дети в окопе(см в верх)"/>
          <p:cNvPicPr/>
          <p:nvPr/>
        </p:nvPicPr>
        <p:blipFill>
          <a:blip r:embed="rId5">
            <a:lum contrast="24000"/>
          </a:blip>
          <a:srcRect l="0" t="6673" r="0" b="8681"/>
          <a:stretch/>
        </p:blipFill>
        <p:spPr>
          <a:xfrm>
            <a:off x="2050920" y="4508640"/>
            <a:ext cx="309744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86920" y="549000"/>
            <a:ext cx="7417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пахшие порохом тучи несли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лившись свинцом с небосв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"Ни шагу назад... И ни пяди земли..."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Касается каждого взвода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3 из 9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26668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15 из 15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349360"/>
            <a:ext cx="40291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 Киев захвачен, в кольце Ленинград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и – на пороге столиц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сонные ночи, кровавый зака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ровые, скорбные лиц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30 из 42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05000"/>
            <a:ext cx="404496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Картинка 50 из 83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3633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84360" y="549360"/>
            <a:ext cx="694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ы отступлений, как вы нелегк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дь каждый считал – он виновен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только на Волге, у кромки ре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 враг, наконец, остано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2 из 333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500280"/>
            <a:ext cx="4100760" cy="307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а 10 из 333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411360"/>
            <a:ext cx="42195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560" y="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альше – сраженья и ночью, и дне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 каждую русскую хат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был: – на Запад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 шквальным огнем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было под силу солдат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22 из 127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56536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Картинка 33 из 1277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708280"/>
            <a:ext cx="2495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бода тому лишь до гроба верн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 предан идее нар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ященная шла, мировая война, –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йна сорок перво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а 97 из 1277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9228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артинка 124 из 1277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2492280"/>
            <a:ext cx="2867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9:50:09Z</dcterms:created>
  <dc:creator>DNA7 X86</dc:creator>
  <dc:description/>
  <dc:language>en-US</dc:language>
  <cp:lastModifiedBy>7</cp:lastModifiedBy>
  <dcterms:modified xsi:type="dcterms:W3CDTF">2020-08-31T09:44:56Z</dcterms:modified>
  <cp:revision>24</cp:revision>
  <dc:subject/>
  <dc:title>Великая Отечественная война</dc:title>
</cp:coreProperties>
</file>