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7F9-D02B-473A-8F6F-A9C59638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FF8D-689E-4CCD-BB47-0051F441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CFE-7211-42E2-95CB-1FFE37C1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2F2-8E2C-409A-A19E-A9C7543B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27D4-B2C0-46C1-8550-8D6310C9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684-6D9A-4F83-AA91-1347032C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A3A0-81E1-4B7E-AC0E-6CF83D25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16DD-00CE-4367-B703-1EA8DD57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3DF1-8F25-4EA5-94A0-5E11A3EF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63D-018A-4709-9636-CB9A6079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48F8-4450-4472-BA56-4AA811E3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C81-D0B6-4807-99B1-670EEC68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B6F6-2DBE-4D8C-A5A1-58AEAC8F3E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ile4all.ru/uploads/posts/2011-04/1304146616_in_days_of_war_21457_2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haba.ru/_pics/ywmdz0yahlt6ri51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bm.img.com.ua/img/prikol/images/large/3/1/110113_160824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evsedoma.com.ua/images/2009/84/2/Road_wdB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ms.24open.ru/images/5e5e9b6d06e62d32cf9495d7ea1583a7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cs10072.vkontakte.ru/u4939218/-6/x_e5837365.jpg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www.rigacv.lv/files/u20/1944_salaspils1.jpg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aplakal.com/uploads/post-3-12649528834365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bigpicture.ru/wp-content/uploads/2011/06/5110.jpg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43.radikal.ru/i099/0905/f5/704cff932209.jpg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thebestofrussia.ru/site/i/preview/big/b/c/8219.png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oto.istranet.ru/albums/userpics/10530/&#1046;&#1080;&#1090;&#1077;&#1083;&#1080;_&#1074;&#1086;&#1079;&#1074;&#1088;&#1072;&#1097;&#1072;&#1102;&#1090;&#1089;&#1103;_&#1074;_&#1086;&#1089;&#1074;&#1086;&#1073;&#1086;&#1078;&#1076;&#1077;&#1085;&#1085;&#1099;&#1081;_&#1057;&#1084;&#1086;&#1083;&#1077;&#1085;&#1089;&#1082;__&#1057;&#1077;&#1085;&#1090;&#1103;&#1073;&#1088;&#1100;_1943_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pro-podvigi.ru/images/photos/299_7.jpg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uskline.ru/images/2010/18917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g11.nnm.ru/8/1/b/7/4/010c195a23bcf0fa9d4c9bdcdfd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m.img.com.ua/img/prikol/images/large/0/5/174350_352360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g-fotki.yandex.ru/get/4612/9536349.12/0_6824b_67f5a94d_XL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11.nnm.ru/6/f/0/f/0/1e1b10a9e57198c245f17076038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photobucket.com/albums/u182/periskop_su/Stalingrad/stal_1942_10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3/77/652/77652371_1725700_vintovka_4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webpark.ru/uploads37/xussr_138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15.nnm.ru/7/d/8/e/0/86235d8389a2a29eb22198d920f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002.radikal.ru/0910/86/2393fd8d6eed.gif" TargetMode="Externa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1 из 591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14720"/>
            <a:ext cx="9144000" cy="46432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3"/>
          <a:stretch/>
        </p:blipFill>
        <p:spPr>
          <a:xfrm>
            <a:off x="-85680" y="-176040"/>
            <a:ext cx="9199440" cy="2528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4516560" y="5300640"/>
            <a:ext cx="46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1890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чему все не так? Вроде все как всегда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о же небо опять голубое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от же лес, тот же воздух и та же вода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олько он не вернулся из боя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Картинка 91 из 839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57720"/>
            <a:ext cx="4284720" cy="3263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Картинка 114 из 8398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3357720"/>
            <a:ext cx="295272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260280"/>
            <a:ext cx="78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Говорят погибшие. Без точек.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И без запятых. Почти без слов.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Из концлагерей. Из одиночек.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Из горящих яростно домов.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Говор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гибшие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. Тетради.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исьма. Завещанья. Дневники.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На кирпичной на шершавой глади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Росчерк торопящейся руки.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На промозглых нарах железякой,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На стене осколками стекла,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Струйкой крови на полу барака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Расписалась жизнь – пока была…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Картинка 52 из 162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1125360"/>
            <a:ext cx="3132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-324360" y="0"/>
            <a:ext cx="790596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се переменится вокруг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тстроится столица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Детей разбуженных испуг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веки не простит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астанет новый, лучший век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Исчезнут очевидцы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Мученья маленьких калек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е смогут позабыться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Картинка 1 из 921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9000"/>
            <a:ext cx="2505240" cy="3809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Картинка 25 из 930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1628640"/>
            <a:ext cx="3600720" cy="2471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Картинка 43 из 192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32360" y="4221000"/>
            <a:ext cx="367200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откуда взялось столько сил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аже в самых слабейших из нас?.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гадать!— Был и есть у Росси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чной прочности вечный зап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Картинка 29 из 508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421000"/>
            <a:ext cx="4000680" cy="380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Картинка 79 из 5082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35640" y="2349360"/>
            <a:ext cx="2543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964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знаю, никакой моей вин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том, что другие не пришли с войны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том, что они — кто старше, кто моложе -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тались там, и не о том же реч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я их мог, но не сумел сберечь,-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чь не о том, но все же, все же, все же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Картинка 29 из 22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3357720"/>
            <a:ext cx="2160720" cy="328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Картинка 34 из 2230"/>
          <p:cNvPicPr/>
          <p:nvPr/>
        </p:nvPicPr>
        <p:blipFill>
          <a:blip r:embed="rId3"/>
          <a:stretch/>
        </p:blipFill>
        <p:spPr>
          <a:xfrm>
            <a:off x="6588000" y="3357720"/>
            <a:ext cx="2338560" cy="3305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://www.proza.ru/pics/2011/08/19/218.jpg"/>
          <p:cNvPicPr/>
          <p:nvPr/>
        </p:nvPicPr>
        <p:blipFill>
          <a:blip r:embed="rId4"/>
          <a:stretch/>
        </p:blipFill>
        <p:spPr>
          <a:xfrm>
            <a:off x="2340000" y="3357720"/>
            <a:ext cx="439272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Картинка 3 из 11773"/>
          <p:cNvPicPr/>
          <p:nvPr/>
        </p:nvPicPr>
        <p:blipFill>
          <a:blip r:embed="rId2"/>
          <a:srcRect l="0" t="0" r="0" b="5000"/>
          <a:stretch/>
        </p:blipFill>
        <p:spPr>
          <a:xfrm>
            <a:off x="5076720" y="3274920"/>
            <a:ext cx="3888000" cy="3583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мните! Через века, через года,— помнит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 тех, кто уже не придет никогда,— помните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е плачьте! В горле сдержите стон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орькие стон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амяти павших будьте достойны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ечно достойны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Хлебом и песней, Мечтой и стихам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жизнью просторно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аждой секундой, кажды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ыханьем  будьте достойны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Люди! Покуда сердца стучат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—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мните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акою ценой завоевано счасть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—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жалуйста, помните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4" descr="Картинка 180 из 12667"/>
          <p:cNvPicPr/>
          <p:nvPr/>
        </p:nvPicPr>
        <p:blipFill>
          <a:blip r:embed="rId2"/>
          <a:stretch/>
        </p:blipFill>
        <p:spPr>
          <a:xfrm>
            <a:off x="5003640" y="1700280"/>
            <a:ext cx="3868920" cy="5157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79280" y="-360"/>
            <a:ext cx="83743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есню свою отправляя в полет,— помните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О тех, кто уже никогда не споет,— помните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Детям своим расскажите о них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чтоб запомнили!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Детям детей расскажите о них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чтоб тоже запомнили!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Во все времена бессмертной Земли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омните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К мерцающим звездам ведя корабли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— 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о погибших помните!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Картинка 223 из 7316"/>
          <p:cNvPicPr/>
          <p:nvPr/>
        </p:nvPicPr>
        <p:blipFill>
          <a:blip r:embed="rId2"/>
          <a:stretch/>
        </p:blipFill>
        <p:spPr>
          <a:xfrm rot="20361600">
            <a:off x="374400" y="684360"/>
            <a:ext cx="4414680" cy="29318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2"/>
          <p:cNvSpPr/>
          <p:nvPr/>
        </p:nvSpPr>
        <p:spPr>
          <a:xfrm>
            <a:off x="2014560" y="2349360"/>
            <a:ext cx="7129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Встречайте трепетную весну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люди Земл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Убейте войну, прокляните войну,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люди Земли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Мечту пронесите через год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и жизнью наполните!.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о о тех, кто уже не придет никогда,— заклинаю,— помн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Картинка 10 из 1837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от самый длинный день в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 его безоблачной погод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м выдал общую бе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 всех, на все четыре 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http://cs5261.userapi.com/v5261842/755/JMppsVi5Wm0.jpg"/>
          <p:cNvPicPr/>
          <p:nvPr/>
        </p:nvPicPr>
        <p:blipFill>
          <a:blip r:embed="rId1"/>
          <a:stretch/>
        </p:blipFill>
        <p:spPr>
          <a:xfrm>
            <a:off x="1476360" y="2276640"/>
            <a:ext cx="5753160" cy="3990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1332000" y="638172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Эхо войны» фотография 2012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8900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. Россия. Воскресень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свет в объятьях тишин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талось хрупкое мгновень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 первых выстрелов войны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рез секунду мир взорвётс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мерть поведёт парад-алл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навсегда погаснет солнц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миллионов на земл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. Россия. Воскресень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рана на грани: быть не быть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это жуткое мгновень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м никогда не позабыть…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2" descr="Картинка 122 из 1285"/>
          <p:cNvPicPr/>
          <p:nvPr/>
        </p:nvPicPr>
        <p:blipFill>
          <a:blip r:embed="rId1"/>
          <a:stretch/>
        </p:blipFill>
        <p:spPr>
          <a:xfrm>
            <a:off x="4932360" y="260280"/>
            <a:ext cx="3929040" cy="2946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Картинка 29 из 5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3860640"/>
            <a:ext cx="38894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24000" y="476280"/>
            <a:ext cx="403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2 июня 1941 года без объявления войны гитлеровская Германия напала на Советский Союз. Началась долгая Великая отечественная вой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Картинка 27 из 1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260280"/>
            <a:ext cx="3714840" cy="2787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Картинка 42 из 105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3357720"/>
            <a:ext cx="2305080" cy="303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дети в окопе(см в верх)"/>
          <p:cNvPicPr/>
          <p:nvPr/>
        </p:nvPicPr>
        <p:blipFill>
          <a:blip r:embed="rId5">
            <a:lum contrast="24000"/>
          </a:blip>
          <a:srcRect l="0" t="6673" r="0" b="8681"/>
          <a:stretch/>
        </p:blipFill>
        <p:spPr>
          <a:xfrm>
            <a:off x="2050920" y="4508640"/>
            <a:ext cx="309744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186920" y="549000"/>
            <a:ext cx="74170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пахшие порохом тучи неслис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лившись свинцом с небосвода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"Ни шагу назад... И ни пяди земли..."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Касается каждого взвода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Картинка 3 из 98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349360"/>
            <a:ext cx="2666880" cy="381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Картинка 15 из 1556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2349360"/>
            <a:ext cx="40291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920" y="-360"/>
            <a:ext cx="82296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 Киев захвачен, в кольце Ленинград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ои – на пороге столицы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ссонные ночи, кровавый закат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ровые, скорбные лиц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Картинка 30 из 42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205000"/>
            <a:ext cx="4044960" cy="2808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Картинка 50 из 834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3716280"/>
            <a:ext cx="363384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684360" y="549360"/>
            <a:ext cx="6946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асы отступлений, как вы нелегки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дь каждый считал – он виновен..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только на Волге, у кромки реки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ыл враг, наконец, останов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Картинка 2 из 333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3500280"/>
            <a:ext cx="4100760" cy="3070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Картинка 10 из 3338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3411360"/>
            <a:ext cx="421956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50560" y="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дальше – сраженья и ночью, и дне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 каждую русскую хату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каз был: – на Запад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 шквальным огнем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сё было под силу солдату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Картинка 22 из 1277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565360"/>
            <a:ext cx="3228840" cy="38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Картинка 33 из 12777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35640" y="2708280"/>
            <a:ext cx="2495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обода тому лишь до гроба верна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то предан идее народа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ященная шла, мировая война, –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йна сорок первого 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Картинка 97 из 1277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492280"/>
            <a:ext cx="2886120" cy="381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Картинка 124 из 1277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8360" y="2492280"/>
            <a:ext cx="2867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9:50:09Z</dcterms:created>
  <dc:creator>DNA7 X86</dc:creator>
  <dc:description/>
  <dc:language>en-US</dc:language>
  <cp:lastModifiedBy>7</cp:lastModifiedBy>
  <dcterms:modified xsi:type="dcterms:W3CDTF">2020-08-31T09:44:56Z</dcterms:modified>
  <cp:revision>24</cp:revision>
  <dc:subject/>
  <dc:title>Великая Отечественная война</dc:title>
</cp:coreProperties>
</file>