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DBFC-0BA5-4612-B1FF-BCED960B6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16BC-72D6-4AC9-8343-73E79BEA09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3B09-E95F-4CD5-8238-3A940856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7B35-D338-44A5-93FF-32391AFB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FDC9-7223-40E1-A85D-865F3898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F4FA-BCEF-4DAE-B65E-275AE7B1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D8E9-2D09-4108-A8B4-B89EF61E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A62E-6A63-45C7-9F0D-80721158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7553-F4EB-44BA-8ACA-78C4B5EA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D456-81A2-482A-BBDC-EC903B7B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3748-EA2A-4F0C-B24B-497C2A33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7C0E-DDAB-4685-B097-0D8ECC58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2A68-E45F-4B8A-83BC-32A8B59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E9CA-66FF-4C80-9517-B30A2802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2C90-053E-43CA-A61E-F61BD32A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D010-8E56-4FA7-B4F1-90BFA9F3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B9D5-70C0-414E-BCD8-6C034719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6F46-7E1F-48C6-8D80-268010AF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8DFB-A316-4EA6-AC6B-9FFDF02A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FA72-1187-493C-9EBA-B5D9AFFB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DFD4-B488-47D8-B3A8-38D2381C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C37F-D87E-48F3-AECE-6AEA1D34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3759-CAED-4F39-9EC6-F18BD139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ABE1-BFAB-4323-B209-9C5B9D6C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B223-74CF-4152-8B39-CCD947B6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8DFA-3B93-4495-AFFD-F05A9F84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3537-A967-42E3-9FEF-72CEE7837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92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8A51-EFA2-4C99-AAF8-7CA277C456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lverhotel.ru/gallery/image.php?img=gal_imgs/19118183aa27f358921d3eeec3c53e3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9;&#1077;&#1085;&#1090;&#1080;&#1084;&#1077;&#1085;&#1090;&#1072;&#1083;&#1100;&#1085;&#1099;&#1081;%20&#1074;&#1072;&#1083;&#1100;&#1089;.mp3" TargetMode="External"/><Relationship Id="rId2" Type="http://schemas.openxmlformats.org/officeDocument/2006/relationships/hyperlink" Target="file:///&#1089;&#1077;&#1085;&#1090;&#1080;&#1084;&#1077;&#1085;&#1090;&#1072;&#1083;&#1100;&#1085;&#1099;&#1081;%20&#1074;&#1072;&#1083;&#1100;&#1089;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А. А. Блок: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 жизнь и творчество. Темы и образы ранней лирик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6" descr="А.Блок, 1903 г. Портрет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981080"/>
            <a:ext cx="3276720" cy="464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3657600" y="5410080"/>
          <a:ext cx="5181480" cy="118908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 литературы в 11а класс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зентация выполнена учителем русского языка и литературы ГБОУ СОШ №277 Лукиной Д.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524" name="TextBox 4"/>
          <p:cNvSpPr/>
          <p:nvPr/>
        </p:nvSpPr>
        <p:spPr>
          <a:xfrm>
            <a:off x="4970160" y="2666880"/>
            <a:ext cx="37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сли вы любите мои стих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еодолейте их я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чтите в них о будущем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.А Бл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800600" y="380880"/>
            <a:ext cx="41148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fdef6"/>
                </a:solidFill>
                <a:latin typeface="Arial"/>
              </a:rPr>
              <a:t>В цикле «Стихи о Прекрасной Даме» поэт выразил свои чувства к будущей жене Любови Дмитриевне</a:t>
            </a:r>
            <a:br>
              <a:rPr sz="4000"/>
            </a:br>
            <a:r>
              <a:rPr b="0" i="1" lang="ru-RU" sz="4000" spc="-1" strike="noStrike">
                <a:solidFill>
                  <a:srgbClr val="dfdef6"/>
                </a:solidFill>
                <a:latin typeface="Arial"/>
              </a:rPr>
              <a:t>Менделеевой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Picture 6" descr=""/>
          <p:cNvPicPr/>
          <p:nvPr/>
        </p:nvPicPr>
        <p:blipFill>
          <a:blip r:embed="rId1"/>
          <a:stretch/>
        </p:blipFill>
        <p:spPr>
          <a:xfrm>
            <a:off x="533520" y="401760"/>
            <a:ext cx="35607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Прямоугольник 3"/>
          <p:cNvSpPr/>
          <p:nvPr/>
        </p:nvSpPr>
        <p:spPr>
          <a:xfrm>
            <a:off x="449280" y="16765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ы встречались с тобой на закат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ы веслом рассекала зали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Я любил твое белое плать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Утонченность мечты разлюби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Были странны безмолвные встреч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переди — на песчаной кос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агорались вечерние свеч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то-то думал о бледной красе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об этом он и пел – изо дня в день 6 лет: с 1898 по 1904-й, и посвятил этой теме 687 стихотворени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Вхожу я в темные храмы…»</a:t>
            </a:r>
            <a:br>
              <a:rPr sz="60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76212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ва эмоциональная атмосфера стихотворения? Каково настроение этого произведе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им предстает лирический герой стихотворения? Каково его внутреннее состояние? Прорисован ли внешний облик Прекрасной Дамы? Можем ли мы выделить конкретные, земные черты облика герои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лирический герой именует Ту, которой посвящает это стихотвор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азывая Прекрасную Даму такими эпитетами, с каким образом сравнивает герой Прекрасную Да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Я, отрок, зажигаю свечи...”</a:t>
            </a:r>
            <a:br>
              <a:rPr sz="6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91440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1. Какова эмоциональная атмосфера стихотворения? Каково настроение этого произведени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. Каким предстает лирический герой стихотворения? Каково его внутреннее состоя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. Прорисован ли внешний облик Прекрасной Дамы? Появляются ли, земные черты облика героин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ие «человеческие» черты можно найти в стихотворени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едчувствую Тебя. Года проходят мимо...”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то нового появляется в психологическом состоянии лирического героя данного стихотворени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ем, по-вашему, объясняется страх геро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09480" y="22320"/>
          <a:ext cx="7925040" cy="6446880"/>
        </p:xfrm>
        <a:graphic>
          <a:graphicData uri="http://schemas.openxmlformats.org/drawingml/2006/table">
            <a:tbl>
              <a:tblPr/>
              <a:tblGrid>
                <a:gridCol w="1643040"/>
                <a:gridCol w="2225880"/>
                <a:gridCol w="2090520"/>
                <a:gridCol w="1965600"/>
              </a:tblGrid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r" pos="1380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1380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Вхожу я в темные храм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Я, отрок, зажигаю свечи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едчувствую Теб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 напис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конкретных черт в образ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471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риятие Прекрасной Дамы лирическим героем (основной моти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09480" y="22320"/>
          <a:ext cx="7925040" cy="6446880"/>
        </p:xfrm>
        <a:graphic>
          <a:graphicData uri="http://schemas.openxmlformats.org/drawingml/2006/table">
            <a:tbl>
              <a:tblPr/>
              <a:tblGrid>
                <a:gridCol w="1643040"/>
                <a:gridCol w="2225880"/>
                <a:gridCol w="2090520"/>
                <a:gridCol w="1965600"/>
              </a:tblGrid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r" pos="1380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1380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Вхожу я в темные храм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Я, отрок, зажигаю свечи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едчувствую Теб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 напис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4 июня 1901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7 июля 1902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25 октября 1902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конкретных черт в образ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+ 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471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риятие Прекрасной Дамы лирическим героем (основной моти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Мотив оптимистического ожидания Прекрасной Дамы, образ которой сливается с образом Богоматери. Прекрасная Дама – это «сон» мечта, идеал, она недосягаема. Герой очарован и дрожит в ожидании встреч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Прекрасная Дама кажется уже вполне земной, приобретает некоторые черты. И хотя она продолжает оставаться такой же недосягаемой, но поэт искренне верит в возможность её земного воплощ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Мечта героя чиста, ясна и прекрасна, она близка. Герой живет ожиданием, предчувствием появления Её. Появляется мотив тоски, страха, тревоги. Поэт боится, что Её «привычные черты» вдруг изменятся, он не узнает своего идеала, и его мечты окажутся лишь сно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«Стихи о Прекрасной Даме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тихах живое чувство любви укрыто за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истическими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(тайными)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имвол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имвол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– тайный знак неземного м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имвол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- всегда многознач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45720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fdef6"/>
                </a:solidFill>
                <a:latin typeface="Arial"/>
              </a:rPr>
              <a:t>Вопросы  к  теме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кие два мира присутствуют в ранней лирике Блока? Расскажите о 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то существует в высшем неземном ми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каких образах присутствует образ любви в ранней лирике Бл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его ожидает лирический герой в ранних произведениях Бл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то изменится в мире с приходом Высшей Любв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к назывался первый сборник стихотворений Блока? Кому он посвяще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 помощью каких художественных средств поэт передает неземной возвышенный характер любв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то выражено в стихотворениях через образ Прекрасной Дам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fdef6"/>
                </a:solidFill>
                <a:latin typeface="Arial"/>
              </a:rPr>
              <a:t>Александр Александрович Блок – одно из ключевых имен русской литературы.</a:t>
            </a:r>
            <a:br>
              <a:rPr sz="2800"/>
            </a:br>
            <a:r>
              <a:rPr b="1" i="1" lang="ru-RU" sz="2800" spc="-1" strike="noStrike">
                <a:solidFill>
                  <a:srgbClr val="dfdef6"/>
                </a:solidFill>
                <a:latin typeface="Arial"/>
              </a:rPr>
              <a:t>Своим творчеством он завершил поэтические искания всего 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XIX </a:t>
            </a:r>
            <a:r>
              <a:rPr b="1" i="1" lang="ru-RU" sz="2800" spc="-1" strike="noStrike">
                <a:solidFill>
                  <a:srgbClr val="dfdef6"/>
                </a:solidFill>
                <a:latin typeface="Arial"/>
              </a:rPr>
              <a:t>века и открыл поэзию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XX </a:t>
            </a:r>
            <a:r>
              <a:rPr b="1" i="1" lang="ru-RU" sz="2800" spc="-1" strike="noStrike">
                <a:solidFill>
                  <a:srgbClr val="dfdef6"/>
                </a:solidFill>
                <a:latin typeface="Arial"/>
              </a:rPr>
              <a:t>века, соединив русскую классику и новое искусство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м цикле нашли отражение любовь молодого поэта к Л. Д. Менделеевой и увлечение философскими идеями В. С. Соловьёва. Живой отклик у поэта-романтика получила мысль философа о том, что сама любовь к миру открыта через любовь к женщине. Любовь рисуется Блоком как обряд служения чему-то высшему. Вымышленный мир противопоставлен событиям реальной действительности. Вначале Прекрасная Дама является носительницей Божественного Начала, Вечной Женственности. Потом образ этот снижается, становится земным, приобретает реальные чер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ние для самоподготовк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тр. 72-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оставить устный рассказ по вопросам к 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изусть стихотворение из сборника «Стихи о Прекрасной Дам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Представления Блока в раннем периоде творчест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й земной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мир зла и по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зем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сший небесный мир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нем существует образ любви – эт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ировая душ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ечная же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еликая премудр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9"/>
          <p:cNvSpPr/>
          <p:nvPr/>
        </p:nvSpPr>
        <p:spPr>
          <a:xfrm>
            <a:off x="1905120" y="2514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6705720" y="2666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на</a:t>
            </a: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 –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ировая душа</a:t>
            </a: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 - есть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Любовь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094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должна сойти на землю, чтобы сделать  земной мир  счастливы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45720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>
            <a:off x="4572000" y="1600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0" y="0"/>
            <a:ext cx="9144000" cy="683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С. Соловье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Бегут неверные дневные тени.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ысок и внятен колокольный зов.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Озарены церковные ступени,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х камень жив - и ждет твоих шагов.</a:t>
            </a:r>
            <a:br>
              <a:rPr sz="2600"/>
            </a:b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Ты здесь пройдешь, холодный камень тронешь,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Одетый страшной святостью веков,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, может быть, цветок весны уронишь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Здесь, в этой мгле, у строгих образов.</a:t>
            </a:r>
            <a:br>
              <a:rPr sz="2600"/>
            </a:b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Растут невнятно розовые тени,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ысок и внятен колокольный зов,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Ложится мгла на старые ступени....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Я озарен - я жду твоих шаг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4 января 1902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dfdef6"/>
                </a:solidFill>
                <a:uFillTx/>
                <a:latin typeface="Arial"/>
              </a:rPr>
              <a:t>Вывод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юному Блоку была близка мысль о том, что через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ысшую любо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еловечество станет чище, луч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тремление к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й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озволит    изменить земн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страшный ми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3" descr=""/>
          <p:cNvPicPr/>
          <p:nvPr/>
        </p:nvPicPr>
        <p:blipFill>
          <a:blip r:embed="rId1"/>
          <a:stretch/>
        </p:blipFill>
        <p:spPr>
          <a:xfrm>
            <a:off x="452520" y="914400"/>
            <a:ext cx="3504960" cy="472428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2"/>
          <p:cNvSpPr/>
          <p:nvPr/>
        </p:nvSpPr>
        <p:spPr>
          <a:xfrm>
            <a:off x="4397400" y="101448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чему поэт так назвал свой сборник стихотворений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акие ассоциации у вас возникают, когда вы слышите: “Стихи о Прекрасной Даме”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fdef6"/>
                </a:solidFill>
                <a:latin typeface="Arial"/>
              </a:rPr>
              <a:t>Блок вошел в литературу как певец Прекрасной Дамы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рвая книга поэзии Бл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99ff"/>
                </a:solidFill>
                <a:latin typeface="Arial"/>
              </a:rPr>
              <a:t>«Стихи о Прекрасной Даме» (1904 – 1905 гг.)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ее написание повлияли д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наменательных собы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женитьба поэта на Л.Д.Менделее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влечение философскими трудами В.С.Соловь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600" y="289080"/>
            <a:ext cx="41148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Блок увлекся учением Владимира Соловьева о существовании Души Мира, или Вечной Женственности,</a:t>
            </a:r>
            <a:br>
              <a:rPr sz="3200"/>
            </a:b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которая может  примирить «землю» и «небо» и спасти мир через его духовное обновление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4114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админ</cp:lastModifiedBy>
  <dcterms:modified xsi:type="dcterms:W3CDTF">2020-08-28T08:41:26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