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3B63-3527-4890-96A3-4C25C5875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CEDB-93FA-4B35-8084-FDA9FB801C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A1FC-1DD3-4A92-8E9C-F54C231A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F24E-0A44-47A8-8E6A-72997048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1657-93AC-4231-B23C-DA408888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783E-9401-4959-9DAA-3A0979F4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EA77-5DB2-455F-8459-C9EFDB77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D648-E70B-4E0C-A327-CC3281EF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974B-E10F-4408-B1D8-9CA7B9FC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FD72-1F89-4F6B-89CD-292A46FE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47D6-9F21-4AF7-A1CC-E6678E76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8150-5129-4CD7-81A7-BA5CEB49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F2C4-6550-4BB1-83F3-E5C1F4A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0CD2-6AA3-430C-8B3D-25496B8B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1CC7-8085-4DC8-AAD7-B1E304B5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AB4B-F9D2-4BF9-AF6B-A9EAEF05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D5E9-FDD5-49A3-ACDD-7F383EB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7D01-3653-4E38-BA9F-708E86FB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BA0F-EE2D-4675-9A46-F59BCDCB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C1F0-E9F3-4523-B875-BFAAF961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C9E9-C108-4B31-84A0-AF63A7B1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8B76-85ED-49A1-9754-3A7D376C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4110-9FF4-436A-B43F-4EF6941F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5C29-318D-4B5A-8F25-90455227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DC11-38AB-4AC2-8562-7900C9BC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34A7-17A1-4999-A396-577C14C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89FB-4455-4B27-86FE-65E507370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92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AB23-9748-476D-B908-AB6DCB5CBB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lverhotel.ru/gallery/image.php?img=gal_imgs/19118183aa27f358921d3eeec3c53e3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9;&#1077;&#1085;&#1090;&#1080;&#1084;&#1077;&#1085;&#1090;&#1072;&#1083;&#1100;&#1085;&#1099;&#1081;%20&#1074;&#1072;&#1083;&#1100;&#1089;.mp3" TargetMode="External"/><Relationship Id="rId2" Type="http://schemas.openxmlformats.org/officeDocument/2006/relationships/hyperlink" Target="file:///&#1089;&#1077;&#1085;&#1090;&#1080;&#1084;&#1077;&#1085;&#1090;&#1072;&#1083;&#1100;&#1085;&#1099;&#1081;%20&#1074;&#1072;&#1083;&#1100;&#1089;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А. А. Блок: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жизнь и творчество. Темы и образы ранней лирик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6" descr="А.Блок, 1903 г. Портрет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981080"/>
            <a:ext cx="3276720" cy="464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3657600" y="5410080"/>
          <a:ext cx="5181480" cy="118908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 литературы в 11а класс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зентация выполнена учителем русского языка и литературы ГБОУ СОШ №277 Лукиной Д.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524" name="TextBox 4"/>
          <p:cNvSpPr/>
          <p:nvPr/>
        </p:nvSpPr>
        <p:spPr>
          <a:xfrm>
            <a:off x="4970160" y="2666880"/>
            <a:ext cx="37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сли вы любите мои стих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еодолейте их я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чтите в них о будущем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.А Бл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800600" y="380880"/>
            <a:ext cx="41148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fdef6"/>
                </a:solidFill>
                <a:latin typeface="Arial"/>
              </a:rPr>
              <a:t>В цикле «Стихи о Прекрасной Даме» поэт выразил свои чувства к будущей жене Любови Дмитриевне</a:t>
            </a:r>
            <a:br>
              <a:rPr sz="4000"/>
            </a:br>
            <a:r>
              <a:rPr b="0" i="1" lang="ru-RU" sz="4000" spc="-1" strike="noStrike">
                <a:solidFill>
                  <a:srgbClr val="dfdef6"/>
                </a:solidFill>
                <a:latin typeface="Arial"/>
              </a:rPr>
              <a:t>Менделеевой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Picture 6" descr=""/>
          <p:cNvPicPr/>
          <p:nvPr/>
        </p:nvPicPr>
        <p:blipFill>
          <a:blip r:embed="rId1"/>
          <a:stretch/>
        </p:blipFill>
        <p:spPr>
          <a:xfrm>
            <a:off x="533520" y="401760"/>
            <a:ext cx="35607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449280" y="16765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ы встречались с тобой на закат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ы веслом рассекала зали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Я любил твое белое плать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тонченность мечты разлюби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Были странны безмолвные встреч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переди — на песчаной кос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агорались вечерние свеч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то-то думал о бледной красе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об этом он и пел – изо дня в день 6 лет: с 1898 по 1904-й, и посвятил этой теме 687 стихотворени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Вхожу я в темные храмы…»</a:t>
            </a:r>
            <a:br>
              <a:rPr sz="60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76212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ва эмоциональная атмосфера стихотворения? Каково настроение этого произвед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им предстает лирический герой стихотворения? Каково его внутреннее состояние? Прорисован ли внешний облик Прекрасной Дамы? Можем ли мы выделить конкретные, земные черты облика герои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лирический герой именует Ту, которой посвящает это стихотвор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азывая Прекрасную Даму такими эпитетами, с каким образом сравнивает герой Прекрасную Да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Я, отрок, зажигаю свечи...”</a:t>
            </a:r>
            <a:br>
              <a:rPr sz="6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91440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1. Какова эмоциональная атмосфера стихотворения? Каково настроение этого произведени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. Каким предстает лирический герой стихотворения? Каково его внутреннее состоя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 Прорисован ли внешний облик Прекрасной Дамы? Появляются ли, земные черты облика героин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ие «человеческие» черты можно найти в стихотворени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едчувствую Тебя. Года проходят мимо...”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то нового появляется в психологическом состоянии лирического героя данного стихотворени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ем, по-вашему, объясняется страх геро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09480" y="22320"/>
          <a:ext cx="7925040" cy="6446880"/>
        </p:xfrm>
        <a:graphic>
          <a:graphicData uri="http://schemas.openxmlformats.org/drawingml/2006/table">
            <a:tbl>
              <a:tblPr/>
              <a:tblGrid>
                <a:gridCol w="1643040"/>
                <a:gridCol w="2225880"/>
                <a:gridCol w="2090520"/>
                <a:gridCol w="1965600"/>
              </a:tblGrid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r" pos="1380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1380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Вхожу я в темные храм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Я, отрок, зажигаю свеч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едчувствую Теб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напис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конкретных черт в образ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71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иятие Прекрасной Дамы лирическим героем (основной моти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09480" y="22320"/>
          <a:ext cx="7925040" cy="6446880"/>
        </p:xfrm>
        <a:graphic>
          <a:graphicData uri="http://schemas.openxmlformats.org/drawingml/2006/table">
            <a:tbl>
              <a:tblPr/>
              <a:tblGrid>
                <a:gridCol w="1643040"/>
                <a:gridCol w="2225880"/>
                <a:gridCol w="2090520"/>
                <a:gridCol w="1965600"/>
              </a:tblGrid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r" pos="1380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1380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Вхожу я в темные храм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Я, отрок, зажигаю свеч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редчувствую Теб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напис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4 июня 190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7 июля 190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25 октября 190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конкретных черт в образ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+ 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f"/>
                    </a:solidFill>
                  </a:tcPr>
                </a:tc>
              </a:tr>
              <a:tr h="471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иятие Прекрасной Дамы лирическим героем (основной моти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Мотив оптимистического ожидания Прекрасной Дамы, образ которой сливается с образом Богоматери. Прекрасная Дама – это «сон» мечта, идеал, она недосягаема. Герой очарован и дрожит в ожидании встреч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Прекрасная Дама кажется уже вполне земной, приобретает некоторые черты. И хотя она продолжает оставаться такой же недосягаемой, но поэт искренне верит в возможность её земного воплощ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b5b89"/>
                          </a:solidFill>
                          <a:latin typeface="Arial"/>
                        </a:rPr>
                        <a:t>Мечта героя чиста, ясна и прекрасна, она близка. Герой живет ожиданием, предчувствием появления Её. Появляется мотив тоски, страха, тревоги. Поэт боится, что Её «привычные черты» вдруг изменятся, он не узнает своего идеала, и его мечты окажутся лишь сно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«Стихи о Прекрасной Даме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тихах живое чувство любви укрыто за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истическими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(тайными)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имвол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имво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– тайный знак неземного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имво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- всегда многознач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45720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fdef6"/>
                </a:solidFill>
                <a:latin typeface="Arial"/>
              </a:rPr>
              <a:t>Вопросы  к  теме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кие два мира присутствуют в ранней лирике Блока? Расскажите о 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то существует в высшем неземном ми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каких образах присутствует образ любви в ранней лирике Бл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его ожидает лирический герой в ранних произведениях Бл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то изменится в мире с приходом Высшей Любв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к назывался первый сборник стихотворений Блока? Кому он посвяще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помощью каких художественных средств поэт передает неземной возвышенный характер любв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то выражено в стихотворениях через образ Прекрасной Дам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Александр Александрович Блок – одно из ключевых имен русской литературы.</a:t>
            </a:r>
            <a:br>
              <a:rPr sz="2800"/>
            </a:b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Своим творчеством он завершил поэтические искания всего 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XIX </a:t>
            </a: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века и открыл поэзию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XX </a:t>
            </a:r>
            <a:r>
              <a:rPr b="1" i="1" lang="ru-RU" sz="2800" spc="-1" strike="noStrike">
                <a:solidFill>
                  <a:srgbClr val="dfdef6"/>
                </a:solidFill>
                <a:latin typeface="Arial"/>
              </a:rPr>
              <a:t>века, соединив русскую классику и новое искусство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цикле нашли отражение любовь молодого поэта к Л. Д. Менделеевой и увлечение философскими идеями В. С. Соловьёва. Живой отклик у поэта-романтика получила мысль философа о том, что сама любовь к миру открыта через любовь к женщине. Любовь рисуется Блоком как обряд служения чему-то высшему. Вымышленный мир противопоставлен событиям реальной действительности. Вначале Прекрасная Дама является носительницей Божественного Начала, Вечной Женственности. Потом образ этот снижается, становится земным, приобретает реальные чер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ние для самоподготовк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тр. 72-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оставить устный рассказ по вопросам к 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изусть стихотворение из сборника «Стихи о Прекрасной Дам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Представления Блока в раннем периоде творчест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й земной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мир зла и по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зем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сший небесный мир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нем существует образ любви – эт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ировая душ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ечная же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еликая премудр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9"/>
          <p:cNvSpPr/>
          <p:nvPr/>
        </p:nvSpPr>
        <p:spPr>
          <a:xfrm>
            <a:off x="1905120" y="2514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6705720" y="2666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на</a:t>
            </a: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 –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ировая душа</a:t>
            </a: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 - есть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Любовь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094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олжна сойти на землю, чтобы сделать  земной мир  счастливы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45720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4572000" y="16002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0" y="0"/>
            <a:ext cx="9144000" cy="683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С. Соловье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Бегут неверные дневные тени.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ысок и внятен колокольный зов.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Озарены церковные ступени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х камень жив - и ждет твоих шагов.</a:t>
            </a:r>
            <a:br>
              <a:rPr sz="2600"/>
            </a:b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Ты здесь пройдешь, холодный камень тронешь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Одетый страшной святостью веков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, может быть, цветок весны уронишь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Здесь, в этой мгле, у строгих образов.</a:t>
            </a:r>
            <a:br>
              <a:rPr sz="2600"/>
            </a:b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Растут невнятно розовые тени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ысок и внятен колокольный зов,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Ложится мгла на старые ступени....</a:t>
            </a:r>
            <a:br>
              <a:rPr sz="2600"/>
            </a:b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Я озарен - я жду твоих шаг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4 января 1902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dfdef6"/>
                </a:solidFill>
                <a:uFillTx/>
                <a:latin typeface="Arial"/>
              </a:rPr>
              <a:t>Вывод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юному Блоку была близка мысль о том, что через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ысшую любо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еловечество станет чище, луч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тремление к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й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озволит    изменить земн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страшный ми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3" descr=""/>
          <p:cNvPicPr/>
          <p:nvPr/>
        </p:nvPicPr>
        <p:blipFill>
          <a:blip r:embed="rId1"/>
          <a:stretch/>
        </p:blipFill>
        <p:spPr>
          <a:xfrm>
            <a:off x="452520" y="914400"/>
            <a:ext cx="3504960" cy="472428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2"/>
          <p:cNvSpPr/>
          <p:nvPr/>
        </p:nvSpPr>
        <p:spPr>
          <a:xfrm>
            <a:off x="4397400" y="101448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чему поэт так назвал свой сборник стихотворений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акие ассоциации у вас возникают, когда вы слышите: “Стихи о Прекрасной Даме”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fdef6"/>
                </a:solidFill>
                <a:latin typeface="Arial"/>
              </a:rPr>
              <a:t>Блок вошел в литературу как певец Прекрасной Дамы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вая книга поэзии Бл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ff"/>
                </a:solidFill>
                <a:latin typeface="Arial"/>
              </a:rPr>
              <a:t>«Стихи о Прекрасной Даме» (1904 – 1905 гг.)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ее написание повлияли д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наменательных собы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женитьба поэта на Л.Д.Менделее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влечение философскими трудами В.С.Соловь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289080"/>
            <a:ext cx="41148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Блок увлекся учением Владимира Соловьева о существовании Души Мира, или Вечной Женственности,</a:t>
            </a:r>
            <a:br>
              <a:rPr sz="3200"/>
            </a:br>
            <a:r>
              <a:rPr b="0" i="1" lang="ru-RU" sz="3200" spc="-1" strike="noStrike">
                <a:solidFill>
                  <a:srgbClr val="dfdef6"/>
                </a:solidFill>
                <a:latin typeface="Arial"/>
              </a:rPr>
              <a:t>которая может  примирить «землю» и «небо» и спасти мир через его духовное обновле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админ</cp:lastModifiedBy>
  <dcterms:modified xsi:type="dcterms:W3CDTF">2020-08-28T08:41:2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