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729720" y="588600"/>
            <a:ext cx="8604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729720" y="4585680"/>
            <a:ext cx="86043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38640" y="210024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2972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138640" y="4585680"/>
            <a:ext cx="419868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63888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48040" y="210024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72972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63888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48040" y="4585680"/>
            <a:ext cx="27702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496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67840" y="1079280"/>
            <a:ext cx="9543960" cy="63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 rot="21000000">
            <a:off x="9237240" y="7079760"/>
            <a:ext cx="86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05185-1C8A-4035-820E-E19DE7344306}" type="slidenum">
              <a:rPr b="0" lang="ru-RU" sz="16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591840"/>
            <a:ext cx="8602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40880" y="2387520"/>
            <a:ext cx="86029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4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9720" y="588600"/>
            <a:ext cx="860436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29720" y="210024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40880" y="534600"/>
            <a:ext cx="8602920" cy="14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50960" y="1277640"/>
            <a:ext cx="860904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ruthCYR Black"/>
              </a:rPr>
              <a:t>Презентация</a:t>
            </a:r>
            <a:br>
              <a:rPr sz="4700"/>
            </a:br>
            <a:br>
              <a:rPr sz="4700"/>
            </a:br>
            <a:r>
              <a:rPr b="0" lang="ru-RU" sz="4700" spc="-1" strike="noStrike">
                <a:solidFill>
                  <a:srgbClr val="ff0000"/>
                </a:solidFill>
                <a:latin typeface="TruthCYR Black"/>
              </a:rPr>
              <a:t>«Здоровьесберегающие технологии»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5580000" y="6122880"/>
            <a:ext cx="39592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4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  <a:ea typeface="ＭＳ Ｐ明朝"/>
              </a:rPr>
              <a:t>Подготовила: Ильина Аюна Бадма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360360" y="720720"/>
            <a:ext cx="9144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Гимнастика дыхательная проводится в проветриваемом помещении, педагог даёт детям инструкции об обязательной гигиене полости н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900000" y="2700360"/>
            <a:ext cx="8460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539640" y="360360"/>
            <a:ext cx="91440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Гимнастика для глаз</a:t>
            </a:r>
            <a:br>
              <a:rPr sz="3600"/>
            </a:br>
            <a:r>
              <a:rPr b="1" i="1" lang="ru-RU" sz="36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рекомендуется использовать наглядный материал (ориентиры), показ педагога.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1260360" y="2700360"/>
            <a:ext cx="774072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280" y="739440"/>
            <a:ext cx="939636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80"/>
                </a:solidFill>
                <a:latin typeface="TruthCYR Medium"/>
              </a:rPr>
              <a:t>Подвижные и спортивные игры</a:t>
            </a:r>
            <a:br>
              <a:rPr sz="3200"/>
            </a:br>
            <a:r>
              <a:rPr b="1" i="1" lang="ru-RU" sz="3200" spc="-1" strike="noStrike">
                <a:solidFill>
                  <a:srgbClr val="000080"/>
                </a:solidFill>
                <a:latin typeface="TruthCYR Medium"/>
              </a:rPr>
              <a:t> подбираются в соответствии с возрастом ребёнка, местом и временем её проведения.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5" descr="18025056-illustration-of-children-playing-different-sports--Stock-Illustration-cartoon-tennis-sport"/>
          <p:cNvPicPr/>
          <p:nvPr/>
        </p:nvPicPr>
        <p:blipFill>
          <a:blip r:embed="rId1"/>
          <a:stretch/>
        </p:blipFill>
        <p:spPr>
          <a:xfrm>
            <a:off x="2087640" y="3059280"/>
            <a:ext cx="6084720" cy="43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6720" y="539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Verdana"/>
              </a:rPr>
              <a:t>Релаксация -</a:t>
            </a:r>
            <a:br>
              <a:rPr sz="2800"/>
            </a:br>
            <a:r>
              <a:rPr b="1" i="1" lang="ru-RU" sz="2800" spc="-1" strike="noStrike">
                <a:solidFill>
                  <a:srgbClr val="000080"/>
                </a:solidFill>
                <a:latin typeface="Verdana"/>
              </a:rPr>
              <a:t>используется  спокойная  классическая музыка, звуки  прир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6" descr="6de18b17548b81b2c482667107de5bf3"/>
          <p:cNvPicPr/>
          <p:nvPr/>
        </p:nvPicPr>
        <p:blipFill>
          <a:blip r:embed="rId1"/>
          <a:stretch/>
        </p:blipFill>
        <p:spPr>
          <a:xfrm>
            <a:off x="2664000" y="2411280"/>
            <a:ext cx="5222880" cy="41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360360" y="360360"/>
            <a:ext cx="91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Сказкотерапия  используется  для  психо-терапевтической  и  развивающей работы. Сказку  может  рассказывать  взрослый, либо это может быть групповое рассказы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5" descr="%D0%BC%D0%B0%D0%BB%D1%8C%D1%87%D0%B8%D0%BA+%D0%B8+%D0%B4%D0%B5%D0%B2%D0%BE%D1%87%D0%BA%D0%B0+%D1%81+%D0%BA%D0%BD%D0%B8%D0%B3%D0%BE%D0%B9"/>
          <p:cNvPicPr/>
          <p:nvPr/>
        </p:nvPicPr>
        <p:blipFill>
          <a:blip r:embed="rId1"/>
          <a:stretch/>
        </p:blipFill>
        <p:spPr>
          <a:xfrm>
            <a:off x="2303640" y="2266920"/>
            <a:ext cx="5689440" cy="46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360360" y="360360"/>
            <a:ext cx="9539280" cy="70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Comic Sans MS"/>
                <a:ea typeface="ＭＳ Ｐ明朝"/>
              </a:rPr>
              <a:t>Для массажа используются следующие устройст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Comic Sans MS"/>
                <a:ea typeface="ＭＳ Ｐ明朝"/>
              </a:rPr>
              <a:t>Коврики из ткани с нашитыми пуговицами (используется для массажа ног для профилактики начальных форм плоскостопия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Comic Sans MS"/>
                <a:ea typeface="ＭＳ Ｐ明朝"/>
              </a:rPr>
              <a:t>Коврики из ткани с вшитыми поперек палочками (используется также для массажа ног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Comic Sans MS"/>
                <a:ea typeface="ＭＳ Ｐ明朝"/>
              </a:rPr>
              <a:t>Массажеры из капсул от киндер-сюрпризов и крышек от бутылок, нанизанные на веревку, а по бокам прикреплены две ручки от фломастеров (используется для массажа ног, рук, шеи, спины, груди, а также в общеразвивающих упражнениях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Comic Sans MS"/>
                <a:ea typeface="ＭＳ Ｐ明朝"/>
              </a:rPr>
              <a:t>Обычные неразборные игрушки от киндер-сюрпризов (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Comic Sans MS"/>
                <a:ea typeface="ＭＳ Ｐ明朝"/>
              </a:rPr>
              <a:t>для массажа пальцев ног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Comic Sans MS"/>
                <a:ea typeface="ＭＳ Ｐ明朝"/>
              </a:rPr>
              <a:t>Тканевые платочки (для развития ступней и профилактики плоскостопи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"/>
          <p:cNvGrpSpPr/>
          <p:nvPr/>
        </p:nvGrpSpPr>
        <p:grpSpPr>
          <a:xfrm>
            <a:off x="1619280" y="900000"/>
            <a:ext cx="7915320" cy="6475680"/>
            <a:chOff x="1619280" y="900000"/>
            <a:chExt cx="7915320" cy="6475680"/>
          </a:xfrm>
        </p:grpSpPr>
        <p:sp>
          <p:nvSpPr>
            <p:cNvPr id="351" name="Freeform 2"/>
            <p:cNvSpPr/>
            <p:nvPr/>
          </p:nvSpPr>
          <p:spPr>
            <a:xfrm>
              <a:off x="1619280" y="900000"/>
              <a:ext cx="7915320" cy="6475680"/>
            </a:xfrm>
            <a:custGeom>
              <a:avLst/>
              <a:gdLst/>
              <a:ahLst/>
              <a:rect l="l" t="t" r="r" b="b"/>
              <a:pathLst>
                <a:path w="22002" h="18002">
                  <a:moveTo>
                    <a:pt x="11676" y="3616"/>
                  </a:moveTo>
                  <a:lnTo>
                    <a:pt x="9902" y="1572"/>
                  </a:lnTo>
                  <a:lnTo>
                    <a:pt x="8706" y="5319"/>
                  </a:lnTo>
                  <a:lnTo>
                    <a:pt x="4586" y="3021"/>
                  </a:lnTo>
                  <a:lnTo>
                    <a:pt x="5472" y="6513"/>
                  </a:lnTo>
                  <a:lnTo>
                    <a:pt x="1195" y="6892"/>
                  </a:lnTo>
                  <a:lnTo>
                    <a:pt x="4007" y="9660"/>
                  </a:lnTo>
                  <a:lnTo>
                    <a:pt x="0" y="10729"/>
                  </a:lnTo>
                  <a:lnTo>
                    <a:pt x="3390" y="12810"/>
                  </a:lnTo>
                  <a:lnTo>
                    <a:pt x="1306" y="14854"/>
                  </a:lnTo>
                  <a:lnTo>
                    <a:pt x="4893" y="15200"/>
                  </a:lnTo>
                  <a:lnTo>
                    <a:pt x="5009" y="18001"/>
                  </a:lnTo>
                  <a:lnTo>
                    <a:pt x="7664" y="15105"/>
                  </a:lnTo>
                  <a:lnTo>
                    <a:pt x="8859" y="16427"/>
                  </a:lnTo>
                  <a:lnTo>
                    <a:pt x="10054" y="14476"/>
                  </a:lnTo>
                  <a:lnTo>
                    <a:pt x="11829" y="15704"/>
                  </a:lnTo>
                  <a:lnTo>
                    <a:pt x="12404" y="13281"/>
                  </a:lnTo>
                  <a:lnTo>
                    <a:pt x="15220" y="14476"/>
                  </a:lnTo>
                  <a:lnTo>
                    <a:pt x="14911" y="11957"/>
                  </a:lnTo>
                  <a:lnTo>
                    <a:pt x="19228" y="13027"/>
                  </a:lnTo>
                  <a:lnTo>
                    <a:pt x="16686" y="10259"/>
                  </a:lnTo>
                  <a:lnTo>
                    <a:pt x="18609" y="9410"/>
                  </a:lnTo>
                  <a:lnTo>
                    <a:pt x="17301" y="7837"/>
                  </a:lnTo>
                  <a:lnTo>
                    <a:pt x="22001" y="5538"/>
                  </a:lnTo>
                  <a:lnTo>
                    <a:pt x="16686" y="5444"/>
                  </a:lnTo>
                  <a:lnTo>
                    <a:pt x="18339" y="2643"/>
                  </a:lnTo>
                  <a:lnTo>
                    <a:pt x="14793" y="4815"/>
                  </a:lnTo>
                  <a:lnTo>
                    <a:pt x="15063" y="0"/>
                  </a:lnTo>
                  <a:lnTo>
                    <a:pt x="11676" y="3616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Text Box 3"/>
          <p:cNvSpPr/>
          <p:nvPr/>
        </p:nvSpPr>
        <p:spPr>
          <a:xfrm>
            <a:off x="312840" y="539640"/>
            <a:ext cx="9767880" cy="70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Нужно изготовить нестандартные оборудования из подручного материала. Собирается все, что можно было бы выбросить,- пластиковые бутылки, крышки от них, остатки линолеума, поролон, клеенка, пластик, клейкая бумага, киндер-сюрприз, куски коврового покрытия и т. д.- и дарится этим вещам новая жизнь Дети с удовольствием будут заниматься с этим оборудованием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360360" y="900000"/>
            <a:ext cx="9539280" cy="57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ＭＳ Ｐ明朝"/>
              </a:rPr>
              <a:t>При изготовлении нестандартного оборудования широко используются остатки линолеума. Вырезать круги разных размеров основных цветов, с этими кругами дети могут играть в разные игры, можно использовать при проведении утренней гимнастики. Вырезанные из линолеума узкие и широкие дорожки также найдут свое применение в играх и тематических упражнения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ＭＳ Ｐ明朝"/>
              </a:rPr>
              <a:t>Пластиковые бутылки, обклеенные фигурками из клейкой бумаги, корпус от фломастера с прикрепленной к нему ленточкой, раскрашенные шарики от пинг-понга – необходимое оборудование для дыхательной гимнастик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Прямоугольник 1" descr=""/>
          <p:cNvPicPr/>
          <p:nvPr/>
        </p:nvPicPr>
        <p:blipFill>
          <a:blip r:embed="rId1"/>
          <a:stretch/>
        </p:blipFill>
        <p:spPr>
          <a:xfrm>
            <a:off x="774720" y="3078000"/>
            <a:ext cx="85280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00360" y="720360"/>
            <a:ext cx="80676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ff"/>
                </a:solidFill>
                <a:latin typeface="TruthCYR Medium"/>
                <a:ea typeface="Verdana"/>
              </a:rPr>
              <a:t>Здоровье </a:t>
            </a:r>
            <a:r>
              <a:rPr b="1" i="1" lang="ru-RU" sz="3600" spc="-1" strike="noStrike">
                <a:solidFill>
                  <a:srgbClr val="ff00ff"/>
                </a:solidFill>
                <a:latin typeface="Segoe Script"/>
                <a:ea typeface="Verdana"/>
              </a:rPr>
              <a:t>- это состояние </a:t>
            </a:r>
            <a:br>
              <a:rPr sz="3600"/>
            </a:br>
            <a:r>
              <a:rPr b="1" i="1" lang="ru-RU" sz="3600" spc="-1" strike="noStrike">
                <a:solidFill>
                  <a:srgbClr val="ff00ff"/>
                </a:solidFill>
                <a:latin typeface="Segoe Script"/>
                <a:ea typeface="Verdana"/>
              </a:rPr>
              <a:t>полного физического, психического </a:t>
            </a:r>
            <a:br>
              <a:rPr sz="3600"/>
            </a:br>
            <a:r>
              <a:rPr b="1" i="1" lang="ru-RU" sz="3600" spc="-1" strike="noStrike">
                <a:solidFill>
                  <a:srgbClr val="ff00ff"/>
                </a:solidFill>
                <a:latin typeface="Segoe Script"/>
                <a:ea typeface="Verdana"/>
              </a:rPr>
              <a:t>и социального благополучия, а не просто отсутствие болезней или</a:t>
            </a:r>
            <a:br>
              <a:rPr sz="3600"/>
            </a:br>
            <a:r>
              <a:rPr b="1" i="1" lang="ru-RU" sz="3600" spc="-1" strike="noStrike">
                <a:solidFill>
                  <a:srgbClr val="ff00ff"/>
                </a:solidFill>
                <a:latin typeface="Segoe Script"/>
                <a:ea typeface="Verdana"/>
              </a:rPr>
              <a:t> физических дефект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00360" y="712800"/>
            <a:ext cx="8067600" cy="61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3ff23"/>
                </a:solidFill>
                <a:latin typeface="TruthCYR Medium"/>
                <a:ea typeface="Verdana"/>
              </a:rPr>
              <a:t>В. А. Сухомлинский</a:t>
            </a: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404040"/>
                </a:solidFill>
                <a:latin typeface="Segoe Script"/>
                <a:ea typeface="Verdana"/>
              </a:rPr>
              <a:t>«Забота о здоровье — </a:t>
            </a:r>
            <a:br>
              <a:rPr sz="3200"/>
            </a:br>
            <a:r>
              <a:rPr b="1" i="1" lang="ru-RU" sz="3200" spc="-1" strike="noStrike">
                <a:solidFill>
                  <a:srgbClr val="404040"/>
                </a:solidFill>
                <a:latin typeface="Segoe Script"/>
                <a:ea typeface="Verdana"/>
              </a:rPr>
              <a:t>это важнейший труд воспитателя. От жизнерадостности, бодрости детей зависит их духовная жизнь, мировоззрение, умственное развитие, прочность знаний, вера в свои силы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00160" y="539640"/>
            <a:ext cx="8259840" cy="15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Verdana"/>
                <a:ea typeface="Verdana"/>
              </a:rPr>
              <a:t>Здоровьесберегающие технологии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720720" y="2160720"/>
            <a:ext cx="86644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36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  <a:ea typeface="ＭＳ Ｐ明朝"/>
              </a:rPr>
              <a:t>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  <a:ea typeface="Verdana"/>
              </a:rPr>
              <a:t>Задачи здоровьесбережения</a:t>
            </a:r>
            <a:r>
              <a:rPr b="1" i="1" lang="ru-RU" sz="4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539640" y="1979640"/>
            <a:ext cx="91807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36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uthCYR Medium"/>
                <a:ea typeface="ＭＳ Ｐ明朝"/>
              </a:rPr>
              <a:t>1. создание адекватных условий для развития, обучения, оздоровления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uthCYR Medium"/>
                <a:ea typeface="ＭＳ Ｐ明朝"/>
              </a:rPr>
              <a:t>2. сохранение здоровья детей и повышение двигательной активности и умственной работоспособ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uthCYR Medium"/>
                <a:ea typeface="ＭＳ Ｐ明朝"/>
              </a:rPr>
              <a:t>3. создание положительного эмоционального настроя и снятие психоэмоционального напря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539640" y="1619280"/>
            <a:ext cx="9144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80"/>
                </a:solidFill>
                <a:latin typeface="TruthCYR Ultra"/>
                <a:ea typeface="ＭＳ Ｐ明朝"/>
              </a:rPr>
              <a:t>Формы организаци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80"/>
                </a:solidFill>
                <a:latin typeface="TruthCYR Ultra"/>
                <a:ea typeface="ＭＳ Ｐ明朝"/>
              </a:rPr>
              <a:t>здоровьесберегающей рабо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91440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Verdana"/>
              </a:rPr>
              <a:t>Физкультурные занятия</a:t>
            </a:r>
            <a:br>
              <a:rPr sz="2800"/>
            </a:br>
            <a:r>
              <a:rPr b="1" i="1" lang="ru-RU" sz="2800" spc="-1" strike="noStrike">
                <a:solidFill>
                  <a:srgbClr val="000080"/>
                </a:solidFill>
                <a:latin typeface="Verdana"/>
              </a:rPr>
              <a:t>занятия проводятся в соответствии с программой, перед занятием необходимо хорошо проветрить помещ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340000" y="3060720"/>
            <a:ext cx="6300720" cy="3689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576360" y="239760"/>
            <a:ext cx="91440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i="1" lang="ru-RU" sz="32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Гимнастика бодрящая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, </a:t>
            </a:r>
            <a:r>
              <a:rPr b="1" i="1" lang="ru-RU" sz="32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закаливание</a:t>
            </a:r>
            <a:br>
              <a:rPr sz="3200"/>
            </a:br>
            <a:r>
              <a:rPr b="1" i="1" lang="ru-RU" sz="32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форма проведения различн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2"/>
          <p:cNvGrpSpPr/>
          <p:nvPr/>
        </p:nvGrpSpPr>
        <p:grpSpPr>
          <a:xfrm>
            <a:off x="1511280" y="1835280"/>
            <a:ext cx="8094600" cy="3378240"/>
            <a:chOff x="1511280" y="1835280"/>
            <a:chExt cx="8094600" cy="3378240"/>
          </a:xfrm>
        </p:grpSpPr>
        <p:sp>
          <p:nvSpPr>
            <p:cNvPr id="335" name="AutoShape 3"/>
            <p:cNvSpPr/>
            <p:nvPr/>
          </p:nvSpPr>
          <p:spPr>
            <a:xfrm>
              <a:off x="5902200" y="1835280"/>
              <a:ext cx="3703680" cy="3378240"/>
            </a:xfrm>
            <a:prstGeom prst="roundRect">
              <a:avLst>
                <a:gd name="adj" fmla="val 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4"/>
            <p:cNvSpPr/>
            <p:nvPr/>
          </p:nvSpPr>
          <p:spPr>
            <a:xfrm>
              <a:off x="1511280" y="1835280"/>
              <a:ext cx="6941880" cy="33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404040"/>
                  </a:solidFill>
                  <a:latin typeface="Verdana"/>
                  <a:ea typeface="ＭＳ Ｐ明朝"/>
                </a:rPr>
                <a:t>ходьба по дорожкам «здоровья», лёгкий бег из группы в спортзал с разницей температуры в помещениях и другие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7" name="Picture 8" descr="dlja_vali"/>
          <p:cNvPicPr/>
          <p:nvPr/>
        </p:nvPicPr>
        <p:blipFill>
          <a:blip r:embed="rId1"/>
          <a:stretch/>
        </p:blipFill>
        <p:spPr>
          <a:xfrm>
            <a:off x="1959120" y="3549600"/>
            <a:ext cx="637848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576360" y="1260360"/>
            <a:ext cx="914400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Гимнастика пальчиковая</a:t>
            </a:r>
            <a:br>
              <a:rPr sz="5400"/>
            </a:br>
            <a:r>
              <a:rPr b="1" i="1" lang="ru-RU" sz="5400" spc="-1" strike="noStrike">
                <a:solidFill>
                  <a:srgbClr val="000080"/>
                </a:solidFill>
                <a:latin typeface="Comic Sans MS"/>
                <a:ea typeface="ＭＳ Ｐ明朝"/>
              </a:rPr>
              <a:t>рекомендуется всем детям, особенно с речевыми проблемами. Проводится в любой удобный отрезок времен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9T12:57:06Z</dcterms:created>
  <dc:creator/>
  <dc:description/>
  <dc:language>en-US</dc:language>
  <cp:lastModifiedBy>Домашний</cp:lastModifiedBy>
  <dcterms:modified xsi:type="dcterms:W3CDTF">2020-08-31T09:06:07Z</dcterms:modified>
  <cp:revision>6</cp:revision>
  <dc:subject/>
  <dc:title>Презентация  «Здоровьесберегающие технологии»</dc:title>
</cp:coreProperties>
</file>