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B98-DA6C-4577-9CC2-F4BEA383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DC4-0492-44E9-89C9-C177A5D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1BC-B3E0-49C0-BA9E-478020E6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66C-6D20-403B-9E78-CBEFE1FE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BD8-13F9-4069-B75C-29E5AD29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B39-7468-4610-933B-6714122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FE6-9DCD-445D-9CBD-DBA454B3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C2E-9451-400A-AC69-CAACA40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DF8-E8F1-4E6F-901E-28DD3EF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0A4-5B90-4122-9D4A-D68A6A56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0CF-513C-463C-B9D0-8D83275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112-EDEF-4A3D-AC53-A63BA98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D98-F391-4147-9460-E1E94665B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Таганская СОШ им. П.Г. Яц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усевич Татьяны Валентиновны, учителя биолог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ж 2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050920" y="1844640"/>
            <a:ext cx="489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опыта 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териально- техническ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«Учебник Биология 6-11 класс» Н.И. Сонин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И.Семенцова «Технологические карты уроков биологии»,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. Пименов «Уроки биологии», Просвещение 2012г. Д.С. Кротова «Уроки биологии»,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Биология в ш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ая литература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 –популярная литерату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ые средств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муляжи ,коллекции, гербарий, таблицы, сх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4688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ма самообразования: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Проблемное обучение на уроках биологии, как </a:t>
            </a:r>
            <a:br>
              <a:rPr sz="2800"/>
            </a:b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средство активизации познавательной  деятельности учащихся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:развивать познавательный интерес учащихся к предмету биология,  научиться решать стандартные и творческие задачи, дать осознанные, систематические и прочные знания уча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на уроках различные типы заданий, развивающие у учащихся интеллектуальные и практически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ребят активно и самостоятельно мы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дифференцированный подход в обуч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ть активные формы и методы обучения по предмету биология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ЕТОД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чно –поис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ристическая бес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практ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392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сновные этапы из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тап: 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Ы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                                          беседа                             лекция                  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ци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H="1">
            <a:off x="1403280" y="242100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124000" y="249228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140360" y="2421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572000" y="2421000"/>
            <a:ext cx="93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484360" y="4437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635280" y="4869000"/>
            <a:ext cx="289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148360" y="530064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торой этап :усвоение и закрепление изученного материал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я                                         лаборат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         таблица            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пособы промежуточно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й ответ - фронтальный опрос- сравнительный анализ - графический диктант – эксперимент – срезовая -  к /работа- тест- практическая рабо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2916360" y="1341360"/>
            <a:ext cx="2519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 уро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Line 5"/>
          <p:cNvSpPr/>
          <p:nvPr/>
        </p:nvSpPr>
        <p:spPr>
          <a:xfrm flipH="1" flipV="1">
            <a:off x="2410920" y="148392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2410920" y="177336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4859280" y="1341000"/>
            <a:ext cx="1152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176328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205092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284720" y="37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406728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тий этап : 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истематизация и обобщение знаний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я      семинар                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 с дополнительными источн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схем, таблиц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результатов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851280" y="1341360"/>
            <a:ext cx="116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2" name="Line 5"/>
          <p:cNvSpPr/>
          <p:nvPr/>
        </p:nvSpPr>
        <p:spPr>
          <a:xfrm>
            <a:off x="320364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219640" y="19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3492360" y="2349360"/>
            <a:ext cx="1770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ИДЫ РАБО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етвертый этап : контроль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ктан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                                                к./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492360" y="1557360"/>
            <a:ext cx="16560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2700000" y="2492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3563640" y="2565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643280" y="2565360"/>
            <a:ext cx="1008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 flipH="1">
            <a:off x="2124000" y="2565360"/>
            <a:ext cx="165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предметной нед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Я ДЕТЕ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Е ВЕ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ЖКО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ЛЬБОМОВ, СТЕ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 И ОФОРМЛЕНИЕ ГЕРБ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ЩИВАНИЕ КОМНАТНЫХ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Ы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20199000">
            <a:off x="4932360" y="1341000"/>
            <a:ext cx="2376360" cy="280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 rot="756000">
            <a:off x="6435360" y="3066840"/>
            <a:ext cx="223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18:03Z</dcterms:created>
  <dc:creator>User</dc:creator>
  <dc:description/>
  <dc:language>en-US</dc:language>
  <cp:lastModifiedBy>Пользователь</cp:lastModifiedBy>
  <dcterms:modified xsi:type="dcterms:W3CDTF">2020-09-01T14:01:52Z</dcterms:modified>
  <cp:revision>19</cp:revision>
  <dc:subject/>
  <dc:title>Из опыта работы</dc:title>
</cp:coreProperties>
</file>