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B855-5350-4790-BFF9-31B7E68DB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53E9-5823-4109-8D58-0C2B54366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70DF-9052-4C21-91DA-D5DEB2AAF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7F4A-0029-43D4-AF4B-85D1B9FC7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BCF9-6C5C-476D-857B-DDA5E7265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0D04-5F13-4075-8269-890DB6C30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8FA3-7CDC-44A0-A03C-019902CB6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A399-20A1-4C95-A41C-EC3720A4C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2BDE-EC92-4EE0-9C00-3B354C8BE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A4F4-7846-43DA-97E5-90315355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73A3-3FDD-4102-BD0B-A72CF444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FA10-81C1-4707-B780-B840C5DB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CE605-CC88-4CA9-84DA-BE95D82955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55640" y="2130120"/>
            <a:ext cx="4537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УКРАИНСКАЯ НАРОДНАЯ СКАЗ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00360" y="3933360"/>
            <a:ext cx="4362480" cy="9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Arial"/>
              </a:rPr>
              <a:t>«колосок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2"/>
          <a:stretch/>
        </p:blipFill>
        <p:spPr>
          <a:xfrm>
            <a:off x="955800" y="2181240"/>
            <a:ext cx="1600200" cy="2471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"/>
          <p:cNvPicPr/>
          <p:nvPr/>
        </p:nvPicPr>
        <p:blipFill>
          <a:blip r:embed="rId3"/>
          <a:stretch/>
        </p:blipFill>
        <p:spPr>
          <a:xfrm>
            <a:off x="7013520" y="2565360"/>
            <a:ext cx="1506600" cy="2087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"/>
          <p:cNvPicPr/>
          <p:nvPr/>
        </p:nvPicPr>
        <p:blipFill>
          <a:blip r:embed="rId4"/>
          <a:stretch/>
        </p:blipFill>
        <p:spPr>
          <a:xfrm>
            <a:off x="2771640" y="3048120"/>
            <a:ext cx="40863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57840" y="213840"/>
            <a:ext cx="3828960" cy="566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ли-были Петушок и два мышонка Круть и Верть. Петушок рано утром поднимался да за работу принимался, а мышата только и знали, что пели да плясали. Однажды нашел Петушок во дворе колосок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вал Петушок мышат: “Я колосок нашел, нужно его обмолотить. Кто будет молотить?”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Только не мы! – закричали мышата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C:\Users\Наталья\Desktop\печать суббота\20на30с белыми полосами\п1.jpg"/>
          <p:cNvPicPr/>
          <p:nvPr/>
        </p:nvPicPr>
        <p:blipFill>
          <a:blip r:embed="rId1"/>
          <a:stretch/>
        </p:blipFill>
        <p:spPr>
          <a:xfrm>
            <a:off x="0" y="0"/>
            <a:ext cx="456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57840" y="213840"/>
            <a:ext cx="3828960" cy="566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ялся Петушок за работу. А мышата стали играть. Петушок обмолотил колосок и крикнул: “Круть, Верть, смотрите, сколько я зерна намолотил. Нужно его на мельницу нести, муку намолоть. Кто понесет?”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Только не мы! – запищали мышата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C:\Users\Наталья\Desktop\печать суббота\20на30с белыми полосами\п2.jpg"/>
          <p:cNvPicPr/>
          <p:nvPr/>
        </p:nvPicPr>
        <p:blipFill>
          <a:blip r:embed="rId1"/>
          <a:stretch/>
        </p:blipFill>
        <p:spPr>
          <a:xfrm>
            <a:off x="0" y="0"/>
            <a:ext cx="4572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57840" y="213840"/>
            <a:ext cx="3828960" cy="566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звалил Петушок себе на плечи мешок и пошел на мельницу. Вернулся Петушок с мельницы, опять зовет мышат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Я муку принес, теперь нужно тесто замесить и пироги печь. Кто будет месить?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мышата опять свое: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Только не мы!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Users\Наталья\Desktop\печать суббота\20на30с белыми полосами\п3.jpg"/>
          <p:cNvPicPr/>
          <p:nvPr/>
        </p:nvPicPr>
        <p:blipFill>
          <a:blip r:embed="rId1"/>
          <a:stretch/>
        </p:blipFill>
        <p:spPr>
          <a:xfrm>
            <a:off x="0" y="0"/>
            <a:ext cx="456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857840" y="213840"/>
            <a:ext cx="3828960" cy="566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месил Петушок тесто, затопил печь, посадил в нее пироги, а мышата песни поют и пляшут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Users\Наталья\Desktop\печать суббота\20на30с белыми полосами\п4.jpg"/>
          <p:cNvPicPr/>
          <p:nvPr/>
        </p:nvPicPr>
        <p:blipFill>
          <a:blip r:embed="rId1"/>
          <a:stretch/>
        </p:blipFill>
        <p:spPr>
          <a:xfrm>
            <a:off x="-50004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714840" y="-71280"/>
            <a:ext cx="5186160" cy="566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еклись пироги, Петушок их вынул, выложил на стол, а мышата тут как тут, скорее сели за стол. А Петушок у них спрашивает: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Кто нашел колосок?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Ты нашел!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А кто колосок обмолотил?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Ты обмолотил!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А кто муку молол, тесто месил, печь топил, пироги пек?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се ты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А вы что делали?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ыдно стало мышатам, стали они из-за стола вылезать, а Петушок их не удерживает. Не за что лентяев пирогами угоща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Users\Наталья\Desktop\печать суббота\20на30с белыми полосами\п5а.jpg"/>
          <p:cNvPicPr/>
          <p:nvPr/>
        </p:nvPicPr>
        <p:blipFill>
          <a:blip r:embed="rId1"/>
          <a:stretch/>
        </p:blipFill>
        <p:spPr>
          <a:xfrm>
            <a:off x="-71280" y="571680"/>
            <a:ext cx="385128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002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9680" y="1268280"/>
            <a:ext cx="83581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ентацию  подготовила  воспитатель МБДОУ «Одуванчик» с. Каменноозерное – Олейник Наталья Иванов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7T15:26:28Z</dcterms:created>
  <dc:creator>Гузалия</dc:creator>
  <dc:description/>
  <dc:language>en-US</dc:language>
  <cp:lastModifiedBy>Олейник Дмитрий Вячеславович</cp:lastModifiedBy>
  <dcterms:modified xsi:type="dcterms:W3CDTF">2020-09-01T04:04:42Z</dcterms:modified>
  <cp:revision>10</cp:revision>
  <dc:subject/>
  <dc:title>Слайд 1</dc:title>
</cp:coreProperties>
</file>