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CEC4-8742-412A-BE9B-05900659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6E55-B666-47FF-A82F-EACEF7A6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675C-75C5-49D3-810C-F3CCAF56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C3F3-7BC3-44C6-9F3E-666906B7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920-8DB3-4B73-8AD6-5617AD9E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D1D3-8E1F-4CFC-B3BD-29A715BD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347-74D2-4657-B2E0-CB4D60A0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432-8CF9-41ED-9D8B-66B43CAC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D9D-15EA-4496-9F10-0DA56AF3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BE65-7615-40F5-97DB-D489F3A7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2A0E-3878-4483-90B8-22F21312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8F30-B0DB-4553-B125-73E9236B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D3A0-14FC-4204-A8D6-B3B92EE708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5640" y="2130120"/>
            <a:ext cx="4537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УКРАИНСКАЯ НАРОДНАЯ СКАЗ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00360" y="3933360"/>
            <a:ext cx="4362480" cy="9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«колосок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955800" y="2181240"/>
            <a:ext cx="1600200" cy="2471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3"/>
          <a:stretch/>
        </p:blipFill>
        <p:spPr>
          <a:xfrm>
            <a:off x="7013520" y="2565360"/>
            <a:ext cx="1506600" cy="208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4"/>
          <a:stretch/>
        </p:blipFill>
        <p:spPr>
          <a:xfrm>
            <a:off x="2771640" y="3048120"/>
            <a:ext cx="40863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7840" y="213840"/>
            <a:ext cx="3828960" cy="566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ли-были Петушок и два мышонка Круть и Верть. Петушок рано утром поднимался да за работу принимался, а мышата только и знали, что пели да плясали. Однажды нашел Петушок во дворе колосок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ал Петушок мышат: “Я колосок нашел, нужно его обмолотить. Кто будет молотить?”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олько не мы! – закричали мышат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C:\Users\Наталья\Desktop\печать суббота\20на30с белыми полосами\п1.jpg"/>
          <p:cNvPicPr/>
          <p:nvPr/>
        </p:nvPicPr>
        <p:blipFill>
          <a:blip r:embed="rId1"/>
          <a:stretch/>
        </p:blipFill>
        <p:spPr>
          <a:xfrm>
            <a:off x="0" y="0"/>
            <a:ext cx="456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7840" y="213840"/>
            <a:ext cx="3828960" cy="566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ялся Петушок за работу. А мышата стали играть. Петушок обмолотил колосок и крикнул: “Круть, Верть, смотрите, сколько я зерна намолотил. Нужно его на мельницу нести, муку намолоть. Кто понесет?”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олько не мы! – запищали мышат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Наталья\Desktop\печать суббота\20на30с белыми полосами\п2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7840" y="213840"/>
            <a:ext cx="3828960" cy="566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валил Петушок себе на плечи мешок и пошел на мельницу. Вернулся Петушок с мельницы, опять зовет мышат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Я муку принес, теперь нужно тесто замесить и пироги печь. Кто будет месить?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мышата опять свое: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олько не мы!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Наталья\Desktop\печать суббота\20на30с белыми полосами\п3.jpg"/>
          <p:cNvPicPr/>
          <p:nvPr/>
        </p:nvPicPr>
        <p:blipFill>
          <a:blip r:embed="rId1"/>
          <a:stretch/>
        </p:blipFill>
        <p:spPr>
          <a:xfrm>
            <a:off x="0" y="0"/>
            <a:ext cx="456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57840" y="213840"/>
            <a:ext cx="3828960" cy="566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сил Петушок тесто, затопил печь, посадил в нее пироги, а мышата песни поют и пляшут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Наталья\Desktop\печать суббота\20на30с белыми полосами\п4.jpg"/>
          <p:cNvPicPr/>
          <p:nvPr/>
        </p:nvPicPr>
        <p:blipFill>
          <a:blip r:embed="rId1"/>
          <a:stretch/>
        </p:blipFill>
        <p:spPr>
          <a:xfrm>
            <a:off x="-50004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14840" y="-71280"/>
            <a:ext cx="518616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еклись пироги, Петушок их вынул, выложил на стол, а мышата тут как тут, скорее сели за стол. А Петушок у них спрашивает: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то нашел колосок?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ы нашел!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 кто колосок обмолотил?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ы обмолотил!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 кто муку молол, тесто месил, печь топил, пироги пек?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се ты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 вы что делали?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ыдно стало мышатам, стали они из-за стола вылезать, а Петушок их не удерживает. Не за что лентяев пирогами угощ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Наталья\Desktop\печать суббота\20на30с белыми полосами\п5а.jpg"/>
          <p:cNvPicPr/>
          <p:nvPr/>
        </p:nvPicPr>
        <p:blipFill>
          <a:blip r:embed="rId1"/>
          <a:stretch/>
        </p:blipFill>
        <p:spPr>
          <a:xfrm>
            <a:off x="-71280" y="571680"/>
            <a:ext cx="38512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02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26828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 подготовила  воспитатель МБДОУ «Одуванчик» с. Каменноозерное – Олейник Наталья Иванов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15:26:28Z</dcterms:created>
  <dc:creator>Гузалия</dc:creator>
  <dc:description/>
  <dc:language>en-US</dc:language>
  <cp:lastModifiedBy>Олейник Дмитрий Вячеславович</cp:lastModifiedBy>
  <dcterms:modified xsi:type="dcterms:W3CDTF">2020-09-01T04:04:42Z</dcterms:modified>
  <cp:revision>10</cp:revision>
  <dc:subject/>
  <dc:title>Слайд 1</dc:title>
</cp:coreProperties>
</file>