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62.jpeg" ContentType="image/jpeg"/>
  <Override PartName="/ppt/media/image5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152-59B2-4F1D-8A0E-054656DDD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70F7-9424-42BD-8D14-5E6194660F9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7568-1579-415E-89EC-E51E39DC213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38D0-C2EE-465F-9FBC-BB4EAE79012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479D-0029-4F58-87D0-A4BCC7F9A00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C78-126A-491F-9860-54EE86C24F9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5514-729B-4AE8-8923-63C3571CFDC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578-04BC-4C1A-B85B-3AD07D60F2C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17E-A5AD-4D03-BAB5-52E68F3D243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C2D-F6FA-41A7-9DD8-7DA70968285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756-4350-420F-95CA-5EF2BF41423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703E-D480-43D1-84C9-961DC9C80C8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B4E-142B-4CCD-959E-CBA076CF2AA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DD1-7D82-4731-A9C4-342D5C04322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44A-427C-4C0E-B472-CBE929A5BB7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2e6d"/>
                </a:solidFill>
                <a:latin typeface="Times New Roman"/>
                <a:ea typeface="Times New Roman"/>
              </a:rPr>
              <a:t>Министерство образования Республики Мордов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ТФОЛИ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75edf"/>
                </a:solidFill>
                <a:uFillTx/>
                <a:latin typeface="Times New Roman"/>
                <a:ea typeface="Times New Roman"/>
              </a:rPr>
              <a:t>Воеводиной Натальи Евгеньевны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старшего воспитателя МДОУ  «Детский сад №87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  комбинированного вида» 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  г.о. Саранск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Дата рождения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5.07.1977 г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рофессиональное образование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высшее</a:t>
            </a:r>
            <a:r>
              <a:rPr b="1" i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,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 МГПИ им. М.Е. Евсевьева</a:t>
            </a: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о специальности</a:t>
            </a:r>
            <a:r>
              <a:rPr b="1" i="1" lang="ru-RU" sz="1400" spc="-1" strike="noStrike">
                <a:solidFill>
                  <a:srgbClr val="032e6d"/>
                </a:solidFill>
                <a:latin typeface="Times New Roman"/>
              </a:rPr>
              <a:t>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«Педагогика и методика начального образования»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Квалификация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№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диплома: БВС 0450211 № 1949, 20.06.1998 г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рофессиональная переподготовка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ФГБОУ ВО «Мордовский государственный педагогический институт имени М.Е. Евсевьева» , Педагог дошкольного и дополнительного образования, 2017 г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Стаж педагогической работы (по специальности)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9 лет 8 мес  (старший воспитатель 3 года 10 мес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Общий трудовой стаж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9 лет 8 мес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Наличие квалификационной категории:</a:t>
            </a:r>
            <a:r>
              <a:rPr b="1" lang="en-US" sz="1400" spc="-1" strike="noStrike">
                <a:solidFill>
                  <a:srgbClr val="032e6d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высшая категория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Дата последней аттестации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1.11.2015 г. (приказ МО РМ от 19.11.2015 г. №1044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47" name="Picture 5" descr="C:\Users\Пользователь\Desktop\воеводина\IMG_1983.JPG1.JPG"/>
          <p:cNvPicPr/>
          <p:nvPr/>
        </p:nvPicPr>
        <p:blipFill>
          <a:blip r:embed="rId1"/>
          <a:stretch/>
        </p:blipFill>
        <p:spPr>
          <a:xfrm>
            <a:off x="76320" y="3276720"/>
            <a:ext cx="29718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Пользователь\Desktop\Сканы\2020-07-27\029.bmp"/>
          <p:cNvPicPr/>
          <p:nvPr/>
        </p:nvPicPr>
        <p:blipFill>
          <a:blip r:embed="rId1"/>
          <a:stretch/>
        </p:blipFill>
        <p:spPr>
          <a:xfrm>
            <a:off x="609480" y="1295280"/>
            <a:ext cx="37116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Пользователь\Desktop\Сканы\2020-07-27\030.bmp"/>
          <p:cNvPicPr/>
          <p:nvPr/>
        </p:nvPicPr>
        <p:blipFill>
          <a:blip r:embed="rId2"/>
          <a:stretch/>
        </p:blipFill>
        <p:spPr>
          <a:xfrm>
            <a:off x="4572000" y="1295280"/>
            <a:ext cx="3711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3. Организация взаимодействия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с научными, образовательными, социальными институтам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ользователь\Desktop\Сканы\2020-07-27\031.bmp"/>
          <p:cNvPicPr/>
          <p:nvPr/>
        </p:nvPicPr>
        <p:blipFill>
          <a:blip r:embed="rId1"/>
          <a:stretch/>
        </p:blipFill>
        <p:spPr>
          <a:xfrm>
            <a:off x="2743200" y="1143000"/>
            <a:ext cx="38638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Пользователь\Desktop\Сканы\2020-07-27\032.bmp"/>
          <p:cNvPicPr/>
          <p:nvPr/>
        </p:nvPicPr>
        <p:blipFill>
          <a:blip r:embed="rId1"/>
          <a:stretch/>
        </p:blipFill>
        <p:spPr>
          <a:xfrm>
            <a:off x="380880" y="914400"/>
            <a:ext cx="4100760" cy="563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Пользователь\Desktop\Сканы\2020-07-27\033.bmp"/>
          <p:cNvPicPr/>
          <p:nvPr/>
        </p:nvPicPr>
        <p:blipFill>
          <a:blip r:embed="rId2"/>
          <a:stretch/>
        </p:blipFill>
        <p:spPr>
          <a:xfrm>
            <a:off x="4572000" y="9144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Пользователь\Desktop\Сканы\2020-07-27\042.bmp"/>
          <p:cNvPicPr/>
          <p:nvPr/>
        </p:nvPicPr>
        <p:blipFill>
          <a:blip r:embed="rId1"/>
          <a:stretch/>
        </p:blipFill>
        <p:spPr>
          <a:xfrm>
            <a:off x="380880" y="1066680"/>
            <a:ext cx="404496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Пользователь\Desktop\Сканы\2020-07-27\043.bmp"/>
          <p:cNvPicPr/>
          <p:nvPr/>
        </p:nvPicPr>
        <p:blipFill>
          <a:blip r:embed="rId2"/>
          <a:stretch/>
        </p:blipFill>
        <p:spPr>
          <a:xfrm>
            <a:off x="4648320" y="1066680"/>
            <a:ext cx="4209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ользователь\Desktop\Сканы\2020-07-27\034.bmp"/>
          <p:cNvPicPr/>
          <p:nvPr/>
        </p:nvPicPr>
        <p:blipFill>
          <a:blip r:embed="rId1"/>
          <a:stretch/>
        </p:blipFill>
        <p:spPr>
          <a:xfrm>
            <a:off x="152280" y="882720"/>
            <a:ext cx="4267440" cy="586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Пользователь\Desktop\Сканы\2020-07-27\035.bmp"/>
          <p:cNvPicPr/>
          <p:nvPr/>
        </p:nvPicPr>
        <p:blipFill>
          <a:blip r:embed="rId2"/>
          <a:stretch/>
        </p:blipFill>
        <p:spPr>
          <a:xfrm>
            <a:off x="4621320" y="882720"/>
            <a:ext cx="4362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Пользователь\Desktop\Сканы\2020-07-27\041.bmp"/>
          <p:cNvPicPr/>
          <p:nvPr/>
        </p:nvPicPr>
        <p:blipFill>
          <a:blip r:embed="rId1"/>
          <a:stretch/>
        </p:blipFill>
        <p:spPr>
          <a:xfrm>
            <a:off x="3944880" y="3092400"/>
            <a:ext cx="517680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Пользователь\Desktop\Сканы\2020-07-27\040.bmp"/>
          <p:cNvPicPr/>
          <p:nvPr/>
        </p:nvPicPr>
        <p:blipFill>
          <a:blip r:embed="rId2"/>
          <a:stretch/>
        </p:blipFill>
        <p:spPr>
          <a:xfrm>
            <a:off x="3240" y="0"/>
            <a:ext cx="5178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4. Результаты личного участия в инновационной (экспериментальной) деятельност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Пользователь\Desktop\Сканы\2020-07-27\044.bmp"/>
          <p:cNvPicPr/>
          <p:nvPr/>
        </p:nvPicPr>
        <p:blipFill>
          <a:blip r:embed="rId1"/>
          <a:stretch/>
        </p:blipFill>
        <p:spPr>
          <a:xfrm>
            <a:off x="2971800" y="1066680"/>
            <a:ext cx="4092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Пользователь\Desktop\Сканы\2020-07-27\013.bmp"/>
          <p:cNvPicPr/>
          <p:nvPr/>
        </p:nvPicPr>
        <p:blipFill>
          <a:blip r:embed="rId1"/>
          <a:stretch/>
        </p:blipFill>
        <p:spPr>
          <a:xfrm>
            <a:off x="609480" y="1143000"/>
            <a:ext cx="3810240" cy="523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Пользователь\Desktop\Сканы\2019-09 (сен)\сканирование0002.jpg"/>
          <p:cNvPicPr/>
          <p:nvPr/>
        </p:nvPicPr>
        <p:blipFill>
          <a:blip r:embed="rId2"/>
          <a:stretch/>
        </p:blipFill>
        <p:spPr>
          <a:xfrm>
            <a:off x="4876920" y="1143000"/>
            <a:ext cx="3889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МОЯ аттестация 2020\ОПЫТ\Отчет опыт.png"/>
          <p:cNvPicPr/>
          <p:nvPr/>
        </p:nvPicPr>
        <p:blipFill>
          <a:blip r:embed="rId1"/>
          <a:stretch/>
        </p:blipFill>
        <p:spPr>
          <a:xfrm>
            <a:off x="152280" y="1600200"/>
            <a:ext cx="8877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Пользователь\Desktop\инновация\НОВАЯ ИННОВАЦИЯ 2017\004.jpg"/>
          <p:cNvPicPr/>
          <p:nvPr/>
        </p:nvPicPr>
        <p:blipFill>
          <a:blip r:embed="rId1"/>
          <a:stretch/>
        </p:blipFill>
        <p:spPr>
          <a:xfrm>
            <a:off x="1219320" y="1066680"/>
            <a:ext cx="7551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Пользователь\Desktop\Сканы\2020-07-27\046.bmp"/>
          <p:cNvPicPr/>
          <p:nvPr/>
        </p:nvPicPr>
        <p:blipFill>
          <a:blip r:embed="rId1"/>
          <a:stretch/>
        </p:blipFill>
        <p:spPr>
          <a:xfrm>
            <a:off x="2590920" y="809640"/>
            <a:ext cx="4397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Пользователь\Desktop\Сканы\2020-07-27\049.bmp"/>
          <p:cNvPicPr/>
          <p:nvPr/>
        </p:nvPicPr>
        <p:blipFill>
          <a:blip r:embed="rId1"/>
          <a:stretch/>
        </p:blipFill>
        <p:spPr>
          <a:xfrm>
            <a:off x="609480" y="1143000"/>
            <a:ext cx="349092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Пользователь\Desktop\Сканы\2020-07-27\050.bmp"/>
          <p:cNvPicPr/>
          <p:nvPr/>
        </p:nvPicPr>
        <p:blipFill>
          <a:blip r:embed="rId2"/>
          <a:stretch/>
        </p:blipFill>
        <p:spPr>
          <a:xfrm>
            <a:off x="4419720" y="1069920"/>
            <a:ext cx="4016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0" y="2124000"/>
            <a:ext cx="5092560" cy="36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ользователь\Desktop\МОЯ аттестация 2020\Дипломы 2019\Vojvodina_Natalya (1)_page-0001.jpg"/>
          <p:cNvPicPr/>
          <p:nvPr/>
        </p:nvPicPr>
        <p:blipFill>
          <a:blip r:embed="rId2"/>
          <a:stretch/>
        </p:blipFill>
        <p:spPr>
          <a:xfrm>
            <a:off x="5138640" y="1295280"/>
            <a:ext cx="372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5. Обеспечение информационной открытости образовательной организаци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Desktop\Сканы\2020-07-27\047.bmp"/>
          <p:cNvPicPr/>
          <p:nvPr/>
        </p:nvPicPr>
        <p:blipFill>
          <a:blip r:embed="rId1"/>
          <a:stretch/>
        </p:blipFill>
        <p:spPr>
          <a:xfrm>
            <a:off x="228600" y="914400"/>
            <a:ext cx="4154400" cy="571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Пользователь\Desktop\КИНГСТОН\ДИПЛОМЫ\001 (33).jpg"/>
          <p:cNvPicPr/>
          <p:nvPr/>
        </p:nvPicPr>
        <p:blipFill>
          <a:blip r:embed="rId2"/>
          <a:stretch/>
        </p:blipFill>
        <p:spPr>
          <a:xfrm>
            <a:off x="4572000" y="9144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6. Наличие собственных публикац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33520" y="1176480"/>
            <a:ext cx="3968640" cy="56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724280" y="1200240"/>
            <a:ext cx="3951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3" name="Picture 2" descr="C:\Users\Пользователь\Desktop\Сканы\2020-07-27\051.bmp"/>
          <p:cNvPicPr/>
          <p:nvPr/>
        </p:nvPicPr>
        <p:blipFill>
          <a:blip r:embed="rId1"/>
          <a:stretch/>
        </p:blipFill>
        <p:spPr>
          <a:xfrm>
            <a:off x="609480" y="1295280"/>
            <a:ext cx="3878280" cy="533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Пользователь\Desktop\Сканы\2020-07-27\052.bmp"/>
          <p:cNvPicPr/>
          <p:nvPr/>
        </p:nvPicPr>
        <p:blipFill>
          <a:blip r:embed="rId2"/>
          <a:stretch/>
        </p:blipFill>
        <p:spPr>
          <a:xfrm>
            <a:off x="4800600" y="1295280"/>
            <a:ext cx="38862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7. Наличие авторских программ, методических пособий, методических рекомендац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.Методическое сопровождение материалов деятельности образовательной организации или отдельных педагогов на конференциях, семинарах, конкурсах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(межаттестационный период</a:t>
            </a:r>
            <a:r>
              <a:rPr b="1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Пользователь\Desktop\Сканы\2020-07-28\001.bmp"/>
          <p:cNvPicPr/>
          <p:nvPr/>
        </p:nvPicPr>
        <p:blipFill>
          <a:blip r:embed="rId1"/>
          <a:stretch/>
        </p:blipFill>
        <p:spPr>
          <a:xfrm>
            <a:off x="2895480" y="1066680"/>
            <a:ext cx="39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Пользователь\Desktop\Сканы\2020-07-28\002.bmp"/>
          <p:cNvPicPr/>
          <p:nvPr/>
        </p:nvPicPr>
        <p:blipFill>
          <a:blip r:embed="rId1"/>
          <a:stretch/>
        </p:blipFill>
        <p:spPr>
          <a:xfrm>
            <a:off x="457200" y="990720"/>
            <a:ext cx="4044960" cy="556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Пользователь\Desktop\Сканы\2020-07-28\004.bmp"/>
          <p:cNvPicPr/>
          <p:nvPr/>
        </p:nvPicPr>
        <p:blipFill>
          <a:blip r:embed="rId2"/>
          <a:stretch/>
        </p:blipFill>
        <p:spPr>
          <a:xfrm>
            <a:off x="4876920" y="990720"/>
            <a:ext cx="40240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8. Выступления на заседаниях методических советов, научно-практических конференциях, педагогических чтениях, семинарах, секциях, форумах, радиопередачах (очно)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Пользователь\Desktop\Сканы\2020-07-28\007.bmp"/>
          <p:cNvPicPr/>
          <p:nvPr/>
        </p:nvPicPr>
        <p:blipFill>
          <a:blip r:embed="rId1"/>
          <a:stretch/>
        </p:blipFill>
        <p:spPr>
          <a:xfrm>
            <a:off x="2819520" y="914400"/>
            <a:ext cx="3962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Пользователь\Desktop\Сканы\2020-07-28\008.bmp"/>
          <p:cNvPicPr/>
          <p:nvPr/>
        </p:nvPicPr>
        <p:blipFill>
          <a:blip r:embed="rId1"/>
          <a:stretch/>
        </p:blipFill>
        <p:spPr>
          <a:xfrm>
            <a:off x="380880" y="1389240"/>
            <a:ext cx="3810240" cy="524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Пользователь\Desktop\Сканы\2020-07-28\009.bmp"/>
          <p:cNvPicPr/>
          <p:nvPr/>
        </p:nvPicPr>
        <p:blipFill>
          <a:blip r:embed="rId2"/>
          <a:stretch/>
        </p:blipFill>
        <p:spPr>
          <a:xfrm>
            <a:off x="4724280" y="1389240"/>
            <a:ext cx="3921120" cy="5392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БРАЗОВАТЕЛЬНОЙ ОРГАНИЗАЦ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Пользователь\Desktop\Сканы\2020-07-28\005.bmp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343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Пользователь\Desktop\Сканы\2020-07-28\006.bmp"/>
          <p:cNvPicPr/>
          <p:nvPr/>
        </p:nvPicPr>
        <p:blipFill>
          <a:blip r:embed="rId2"/>
          <a:stretch/>
        </p:blipFill>
        <p:spPr>
          <a:xfrm>
            <a:off x="4087800" y="3459240"/>
            <a:ext cx="4675320" cy="3398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44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9. Проведение  старшим воспитателем открытых занятий, мастер-классов, мероприят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Пользователь\Desktop\Сканы\2020-07-28\010.bmp"/>
          <p:cNvPicPr/>
          <p:nvPr/>
        </p:nvPicPr>
        <p:blipFill>
          <a:blip r:embed="rId1"/>
          <a:stretch/>
        </p:blipFill>
        <p:spPr>
          <a:xfrm>
            <a:off x="2590920" y="1434960"/>
            <a:ext cx="3700440" cy="5089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БРАЗОВАТЕЛЬНОЙ ОРГАНИЗАЦ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Пользователь\Desktop\Сканы\2020-07-28\011.bmp"/>
          <p:cNvPicPr/>
          <p:nvPr/>
        </p:nvPicPr>
        <p:blipFill>
          <a:blip r:embed="rId1"/>
          <a:stretch/>
        </p:blipFill>
        <p:spPr>
          <a:xfrm>
            <a:off x="228600" y="533520"/>
            <a:ext cx="432108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Пользователь\Desktop\Сканы\2020-07-28\012.bmp"/>
          <p:cNvPicPr/>
          <p:nvPr/>
        </p:nvPicPr>
        <p:blipFill>
          <a:blip r:embed="rId2"/>
          <a:stretch/>
        </p:blipFill>
        <p:spPr>
          <a:xfrm>
            <a:off x="4657680" y="53352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Пользователь\Desktop\Сканы\2020-07-28\013.bmp"/>
          <p:cNvPicPr/>
          <p:nvPr/>
        </p:nvPicPr>
        <p:blipFill>
          <a:blip r:embed="rId1"/>
          <a:stretch/>
        </p:blipFill>
        <p:spPr>
          <a:xfrm>
            <a:off x="2743200" y="838080"/>
            <a:ext cx="417672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043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505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Пользователь\Desktop\Сканы\2020-07-24\008.bmp"/>
          <p:cNvPicPr/>
          <p:nvPr/>
        </p:nvPicPr>
        <p:blipFill>
          <a:blip r:embed="rId2"/>
          <a:stretch/>
        </p:blipFill>
        <p:spPr>
          <a:xfrm>
            <a:off x="5029200" y="1519200"/>
            <a:ext cx="3460680" cy="476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Users\Пользователь\Desktop\Сканы\2020-07-28\015.bmp"/>
          <p:cNvPicPr/>
          <p:nvPr/>
        </p:nvPicPr>
        <p:blipFill>
          <a:blip r:embed="rId1"/>
          <a:stretch/>
        </p:blipFill>
        <p:spPr>
          <a:xfrm>
            <a:off x="2286000" y="1066680"/>
            <a:ext cx="4191120" cy="57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44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0. Экспертная деятельность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Пользователь\AppData\Local\Temp\7zO43C3C748\Page_00014.jpg"/>
          <p:cNvPicPr/>
          <p:nvPr/>
        </p:nvPicPr>
        <p:blipFill>
          <a:blip r:embed="rId1"/>
          <a:stretch/>
        </p:blipFill>
        <p:spPr>
          <a:xfrm>
            <a:off x="2362320" y="598320"/>
            <a:ext cx="41767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1. Общественно-педагогическая активность: участие в работе педагогических сообществ, комиссиях, жюри конкурсов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Пользователь\Desktop\Сканы\2020-07-28\016.bmp"/>
          <p:cNvPicPr/>
          <p:nvPr/>
        </p:nvPicPr>
        <p:blipFill>
          <a:blip r:embed="rId1"/>
          <a:stretch/>
        </p:blipFill>
        <p:spPr>
          <a:xfrm>
            <a:off x="533520" y="533520"/>
            <a:ext cx="3989160" cy="54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Пользователь\Desktop\Сканы\2020-07-28\017.bmp"/>
          <p:cNvPicPr/>
          <p:nvPr/>
        </p:nvPicPr>
        <p:blipFill>
          <a:blip r:embed="rId2"/>
          <a:stretch/>
        </p:blipFill>
        <p:spPr>
          <a:xfrm>
            <a:off x="4883040" y="533520"/>
            <a:ext cx="39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Пользователь\Desktop\Сканы\2020-07-28\020.bmp"/>
          <p:cNvPicPr/>
          <p:nvPr/>
        </p:nvPicPr>
        <p:blipFill>
          <a:blip r:embed="rId1"/>
          <a:stretch/>
        </p:blipFill>
        <p:spPr>
          <a:xfrm>
            <a:off x="457200" y="457200"/>
            <a:ext cx="41544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Пользователь\Desktop\Сканы\2020-07-28\021.bmp"/>
          <p:cNvPicPr/>
          <p:nvPr/>
        </p:nvPicPr>
        <p:blipFill>
          <a:blip r:embed="rId2"/>
          <a:stretch/>
        </p:blipFill>
        <p:spPr>
          <a:xfrm>
            <a:off x="4648320" y="4572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2. Личное участие в профессиональных конкурс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4" name="Picture 2" descr="C:\Users\Пользователь\Desktop\КИНГСТОН\ДИПЛОМЫ\256847.jpg"/>
          <p:cNvPicPr/>
          <p:nvPr/>
        </p:nvPicPr>
        <p:blipFill>
          <a:blip r:embed="rId1"/>
          <a:stretch/>
        </p:blipFill>
        <p:spPr>
          <a:xfrm>
            <a:off x="533520" y="1260360"/>
            <a:ext cx="3736800" cy="52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Пользователь\Desktop\МОЯ аттестация 2020\Дипломы 2019\5. Диплом Воеводина_page-0001.jpg"/>
          <p:cNvPicPr/>
          <p:nvPr/>
        </p:nvPicPr>
        <p:blipFill>
          <a:blip r:embed="rId2"/>
          <a:stretch/>
        </p:blipFill>
        <p:spPr>
          <a:xfrm>
            <a:off x="4876920" y="1274760"/>
            <a:ext cx="37414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Picture 2" descr="C:\Users\Пользователь\Desktop\Сканы\2020-07-28\022.bmp"/>
          <p:cNvPicPr/>
          <p:nvPr/>
        </p:nvPicPr>
        <p:blipFill>
          <a:blip r:embed="rId1"/>
          <a:stretch/>
        </p:blipFill>
        <p:spPr>
          <a:xfrm>
            <a:off x="2590920" y="1569960"/>
            <a:ext cx="373356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Й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9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1066680" y="1295280"/>
            <a:ext cx="72392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ользователь\Desktop\МОЯ аттестация 2020\Дипломы 2019\Воспитатель года Казакова 2017.jpg"/>
          <p:cNvPicPr/>
          <p:nvPr/>
        </p:nvPicPr>
        <p:blipFill>
          <a:blip r:embed="rId1"/>
          <a:stretch/>
        </p:blipFill>
        <p:spPr>
          <a:xfrm>
            <a:off x="838080" y="1447920"/>
            <a:ext cx="3598920" cy="49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Пользователь\Desktop\МОЯ аттестация 2020\Дипломы 2019\Грант Самарина 2017.jpg"/>
          <p:cNvPicPr/>
          <p:nvPr/>
        </p:nvPicPr>
        <p:blipFill>
          <a:blip r:embed="rId2"/>
          <a:stretch/>
        </p:blipFill>
        <p:spPr>
          <a:xfrm>
            <a:off x="5029200" y="1447920"/>
            <a:ext cx="33955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3. Награды и поощрения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2" name="Picture 2" descr="C:\Users\Пользователь\Desktop\МОЯ аттестация 2020\Дипломы 2019\1. Благодарственное Воеводина (1).jpg"/>
          <p:cNvPicPr/>
          <p:nvPr/>
        </p:nvPicPr>
        <p:blipFill>
          <a:blip r:embed="rId1"/>
          <a:stretch/>
        </p:blipFill>
        <p:spPr>
          <a:xfrm>
            <a:off x="533520" y="1143000"/>
            <a:ext cx="3809880" cy="538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Пользователь\AppData\Local\Temp\7zO8E4A6ADF\Page_00009.jpg"/>
          <p:cNvPicPr/>
          <p:nvPr/>
        </p:nvPicPr>
        <p:blipFill>
          <a:blip r:embed="rId2"/>
          <a:stretch/>
        </p:blipFill>
        <p:spPr>
          <a:xfrm>
            <a:off x="4800600" y="1131840"/>
            <a:ext cx="3816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5" name="Picture 2" descr="C:\Users\Пользователь\Desktop\Сканы\2020-07-28\023.bmp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52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Пользователь\Desktop\Сканы\2020-07-28\024.bmp"/>
          <p:cNvPicPr/>
          <p:nvPr/>
        </p:nvPicPr>
        <p:blipFill>
          <a:blip r:embed="rId2"/>
          <a:stretch/>
        </p:blipFill>
        <p:spPr>
          <a:xfrm>
            <a:off x="4702320" y="1447920"/>
            <a:ext cx="38098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ЗА</a:t>
            </a:r>
            <a:br>
              <a:rPr sz="4400"/>
            </a:b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ользователь\Desktop\МОЯ аттестация 2020\Дипломы 2019\Диплом Снежный городок 2019.bmp"/>
          <p:cNvPicPr/>
          <p:nvPr/>
        </p:nvPicPr>
        <p:blipFill>
          <a:blip r:embed="rId1"/>
          <a:stretch/>
        </p:blipFill>
        <p:spPr>
          <a:xfrm>
            <a:off x="2895480" y="1523880"/>
            <a:ext cx="37116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Picture 3" descr="C:\Users\Пользователь\Desktop\Сканы\2020-07-27\028.bmp"/>
          <p:cNvPicPr/>
          <p:nvPr/>
        </p:nvPicPr>
        <p:blipFill>
          <a:blip r:embed="rId1"/>
          <a:stretch/>
        </p:blipFill>
        <p:spPr>
          <a:xfrm>
            <a:off x="4641840" y="1371600"/>
            <a:ext cx="3767040" cy="5181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2D03ECB3"/>
          <p:cNvPicPr/>
          <p:nvPr/>
        </p:nvPicPr>
        <p:blipFill>
          <a:blip r:embed="rId2"/>
          <a:stretch/>
        </p:blipFill>
        <p:spPr>
          <a:xfrm>
            <a:off x="789120" y="1371600"/>
            <a:ext cx="365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Й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0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0" y="2230560"/>
            <a:ext cx="5373720" cy="379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Пользователь\Desktop\МОЯ аттестация 2020\Дипломы 2019\Сертификат участника. 208. МДОУ ДС 87. Республика Мордовия.jpg"/>
          <p:cNvPicPr/>
          <p:nvPr/>
        </p:nvPicPr>
        <p:blipFill>
          <a:blip r:embed="rId2"/>
          <a:stretch/>
        </p:blipFill>
        <p:spPr>
          <a:xfrm>
            <a:off x="5257800" y="1444680"/>
            <a:ext cx="37958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2. </a:t>
            </a: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Эффективность</a:t>
            </a: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по аттестации педагогов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на квалификационные категори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20-09-01T11:34:26Z</dcterms:modified>
  <cp:revision>38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f0000000000010290110207f7000400038000</vt:lpwstr>
  </property>
</Properties>
</file>