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EC2-6301-4DFF-9941-4453C041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9EE-F2A7-4455-B572-EC95EAC8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2A4-64F4-4FF5-BA16-4B4319A7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FE4-FA13-4287-AD30-945971DD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F64D6-83B7-4A34-B9EF-0D985A8A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0897E-0F09-49ED-9056-812B7B3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4FAC6-800F-4F18-A3B5-AB985DF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8B55D-8C6F-44DB-9599-EE70E6C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09D6-2BA0-456C-81CA-C6F60FF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BF7BC-582A-413B-B19D-05B06724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5EB82-43B6-4054-BCA5-24F4DED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FCD-D067-4751-BF53-BEDC998A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BB0B5-2DFD-4805-9E15-9C2440C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D9E32-4A35-4B0D-BDF1-B912F3AC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8D931-A7B5-4DE0-9EC7-BF11CE3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412D9-0610-4DA8-9742-17164356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06E6D-B904-4074-93B2-FB4C2677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8AE-0340-4A11-9CD0-DAE8EE2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ECC-1151-4A6B-B6CC-E7C21992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AE3-AF78-4B51-A838-533C601A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513-28D1-44D4-9C9F-83529E3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D8E-1FBE-4AB5-9AEB-910ADBA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2CB-A4A7-4BCD-A6EF-3F2462C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2FD-E381-46AF-9E73-719ADD2E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624-45C4-48FF-B035-528F09865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2045-D83D-4CD6-BCD2-504F63C0BE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3857760"/>
            <a:ext cx="8329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ила Терентьева Наталья Виктор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начальных классов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БОУ СОШ №4 г. Егорьев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Рисунок 3" descr="http://rrnews.ru/system/files/styles/body_main_img_720/private/news/03-2015/family.jpg?itok=Q7Z20TDP"/>
          <p:cNvPicPr/>
          <p:nvPr/>
        </p:nvPicPr>
        <p:blipFill>
          <a:blip r:embed="rId1"/>
          <a:stretch/>
        </p:blipFill>
        <p:spPr>
          <a:xfrm>
            <a:off x="1357200" y="214200"/>
            <a:ext cx="59403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семейном кругу мы с вами растем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а основ – родительский дом.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семейном кругу все корни твои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в жизнь ты входил из семьи. 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Семья – это группа живущих      вместе родственников.</a:t>
            </a: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                   (словарь русского языка С.И.Ожегов)    </a:t>
            </a:r>
            <a:br>
              <a:rPr sz="2400"/>
            </a:br>
            <a:br>
              <a:rPr sz="2400"/>
            </a:b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3300"/>
                </a:solidFill>
                <a:latin typeface="Times New Roman"/>
              </a:rPr>
              <a:t>Семья – это родители и дети.</a:t>
            </a:r>
            <a:br>
              <a:rPr sz="48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(современная действительность)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Качества счастливой семь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Diagram 6"/>
          <p:cNvGrpSpPr/>
          <p:nvPr/>
        </p:nvGrpSpPr>
        <p:grpSpPr>
          <a:xfrm>
            <a:off x="2339640" y="1275480"/>
            <a:ext cx="5903280" cy="5530320"/>
            <a:chOff x="2339640" y="1275480"/>
            <a:chExt cx="5903280" cy="5530320"/>
          </a:xfrm>
        </p:grpSpPr>
        <p:sp>
          <p:nvSpPr>
            <p:cNvPr id="88" name="_s1028"/>
            <p:cNvSpPr/>
            <p:nvPr/>
          </p:nvSpPr>
          <p:spPr>
            <a:xfrm flipH="1" flipV="1">
              <a:off x="411372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_s1029"/>
            <p:cNvSpPr/>
            <p:nvPr/>
          </p:nvSpPr>
          <p:spPr>
            <a:xfrm>
              <a:off x="2775960" y="2084400"/>
              <a:ext cx="150480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олг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еред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близким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1030"/>
            <p:cNvSpPr/>
            <p:nvPr/>
          </p:nvSpPr>
          <p:spPr>
            <a:xfrm flipH="1">
              <a:off x="3825360" y="4307400"/>
              <a:ext cx="732240" cy="15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_s1031"/>
            <p:cNvSpPr/>
            <p:nvPr/>
          </p:nvSpPr>
          <p:spPr>
            <a:xfrm>
              <a:off x="2339640" y="3907440"/>
              <a:ext cx="1504800" cy="1436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Взаимо-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поним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1032"/>
            <p:cNvSpPr/>
            <p:nvPr/>
          </p:nvSpPr>
          <p:spPr>
            <a:xfrm flipH="1">
              <a:off x="4638960" y="4794120"/>
              <a:ext cx="32760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33"/>
            <p:cNvSpPr/>
            <p:nvPr/>
          </p:nvSpPr>
          <p:spPr>
            <a:xfrm>
              <a:off x="3560040" y="5369760"/>
              <a:ext cx="1504800" cy="143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Вер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4"/>
            <p:cNvSpPr/>
            <p:nvPr/>
          </p:nvSpPr>
          <p:spPr>
            <a:xfrm>
              <a:off x="5618520" y="4791600"/>
              <a:ext cx="32400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5"/>
            <p:cNvSpPr/>
            <p:nvPr/>
          </p:nvSpPr>
          <p:spPr>
            <a:xfrm>
              <a:off x="5518440" y="5369760"/>
              <a:ext cx="1504080" cy="143604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6"/>
            <p:cNvSpPr/>
            <p:nvPr/>
          </p:nvSpPr>
          <p:spPr>
            <a:xfrm>
              <a:off x="6023160" y="4304880"/>
              <a:ext cx="732960" cy="16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7"/>
            <p:cNvSpPr/>
            <p:nvPr/>
          </p:nvSpPr>
          <p:spPr>
            <a:xfrm>
              <a:off x="6738840" y="3907440"/>
              <a:ext cx="1504080" cy="1436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Терп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 flipV="1">
              <a:off x="5878800" y="3252240"/>
              <a:ext cx="58788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9"/>
            <p:cNvSpPr/>
            <p:nvPr/>
          </p:nvSpPr>
          <p:spPr>
            <a:xfrm>
              <a:off x="6302880" y="2084400"/>
              <a:ext cx="1504080" cy="1436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Уваж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40"/>
            <p:cNvSpPr/>
            <p:nvPr/>
          </p:nvSpPr>
          <p:spPr>
            <a:xfrm flipV="1">
              <a:off x="5290560" y="2711160"/>
              <a:ext cx="0" cy="71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41"/>
            <p:cNvSpPr/>
            <p:nvPr/>
          </p:nvSpPr>
          <p:spPr>
            <a:xfrm>
              <a:off x="4538160" y="1275480"/>
              <a:ext cx="1504080" cy="14360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Любовь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42"/>
            <p:cNvSpPr/>
            <p:nvPr/>
          </p:nvSpPr>
          <p:spPr>
            <a:xfrm>
              <a:off x="4538160" y="3430080"/>
              <a:ext cx="1504080" cy="1436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Семь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e600"/>
                </a:solidFill>
                <a:latin typeface="Times New Roman"/>
              </a:rPr>
              <a:t>Семья будет счастливой есл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7859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ffff"/>
                </a:solidFill>
                <a:latin typeface="Times New Roman"/>
              </a:rPr>
              <a:t>При солнышке тепло, при матери добро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1332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Рисунок 4" descr="http://steshka.ru/wp-content/uploads/2014/11/%D0%A1-%D0%B4%D0%BD%D0%B5%D0%BC-%D0%BC%D0%B0%D1%82%D0%B5%D1%80%D0%B8.png"/>
          <p:cNvPicPr/>
          <p:nvPr/>
        </p:nvPicPr>
        <p:blipFill>
          <a:blip r:embed="rId1"/>
          <a:stretch/>
        </p:blipFill>
        <p:spPr>
          <a:xfrm>
            <a:off x="2786040" y="357120"/>
            <a:ext cx="3171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Объясните 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одители трудолюбивы и дети не ленив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Где любовь да совет там и горя н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то детям потакает, тот потом слезы пролива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етей наказывай стыдом, а не грозою и бич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8" descr="j0292032"/>
          <p:cNvPicPr/>
          <p:nvPr/>
        </p:nvPicPr>
        <p:blipFill>
          <a:blip r:embed="rId1"/>
          <a:stretch/>
        </p:blipFill>
        <p:spPr>
          <a:xfrm>
            <a:off x="7596360" y="189000"/>
            <a:ext cx="1349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есня"Моя семья" на мотив песни "Маленькая страна"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Есть за горами, за лесами маленькая стран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мама, папа, дед и баба, братик или сестр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мне всегда тепло и ясно, любят там все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 солнца лучик поселился и согревает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ahoma"/>
              </a:rPr>
              <a:t>Припев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ленькая страна - это моя семья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ам, где родился я и вырос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де любят все мен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Маленькая Страна.mp3" descr=""/>
          <p:cNvPicPr/>
          <p:nvPr/>
        </p:nvPicPr>
        <p:blipFill>
          <a:blip r:embed="rId1"/>
          <a:stretch/>
        </p:blipFill>
        <p:spPr>
          <a:xfrm>
            <a:off x="752472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5" descr=""/>
          <p:cNvPicPr/>
          <p:nvPr/>
        </p:nvPicPr>
        <p:blipFill>
          <a:blip r:embed="rId2"/>
          <a:stretch/>
        </p:blipFill>
        <p:spPr>
          <a:xfrm>
            <a:off x="6286680" y="5786280"/>
            <a:ext cx="26668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4:10Z</dcterms:created>
  <dc:creator>1</dc:creator>
  <dc:description/>
  <dc:language>en-US</dc:language>
  <cp:lastModifiedBy>artemkatravka@mail.ru</cp:lastModifiedBy>
  <dcterms:modified xsi:type="dcterms:W3CDTF">2020-09-01T20:27:07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390000000000010243100207f6000400038000</vt:lpwstr>
  </property>
</Properties>
</file>