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0A7-247B-404B-A63C-3136EABF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E22-A140-4214-81D2-9F60BA9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54F-ACA5-4626-9E6A-6A7FD3A6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C40-A4F4-4F33-AE78-03603966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C1B72-0406-4966-8701-884A6839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7F8EB-42F7-4F01-867D-87A9D30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75099-988A-43EF-8437-244973A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A1492-A8C9-46E0-B705-4E4B395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E83CB-F479-4AB3-9475-1015ABA7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3F7B-473C-4E8A-B17E-1955E14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98292-D6FA-4121-9408-03FCCE0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7B3-60A6-4495-A600-92D2F19B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2E00-369A-427B-ABF0-9426EDB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9E90-EF75-4774-BB68-33C80E39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0FA6-9425-4C88-9AF2-01593CAF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600B8-70A1-404E-9626-0A7C4D3E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814F0-8CF4-497F-B195-B7068241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63E-2278-4C30-8484-B6E7526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E36-D0BA-4327-BA8E-5DEFC12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236-1763-4E03-B728-1BB183CC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227-66C9-4BED-A81D-E2ADFB4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E0E-45C5-4729-9702-CA6CD65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A98-CBFF-48E2-97A2-267DBA2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FD9-473A-462F-BF03-AC43166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DF4-1A1A-451C-99CD-66388A173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835-C762-456B-8995-9934061F59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3857760"/>
            <a:ext cx="8329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ила Терентьева Наталья Виктор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БОУ СОШ №4 г. Егорьев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Рисунок 3" descr="http://rrnews.ru/system/files/styles/body_main_img_720/private/news/03-2015/family.jpg?itok=Q7Z20TDP"/>
          <p:cNvPicPr/>
          <p:nvPr/>
        </p:nvPicPr>
        <p:blipFill>
          <a:blip r:embed="rId1"/>
          <a:stretch/>
        </p:blipFill>
        <p:spPr>
          <a:xfrm>
            <a:off x="1357200" y="214200"/>
            <a:ext cx="594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семейном кругу мы с вами растем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а основ – родительский дом.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семейном кругу все корни твои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в жизнь ты входил из семьи.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Diagram 6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88" name="_s1028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1029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0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31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2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3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5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6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9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41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42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Рисунок 4" descr="http://steshka.ru/wp-content/uploads/2014/11/%D0%A1-%D0%B4%D0%BD%D0%B5%D0%BC-%D0%BC%D0%B0%D1%82%D0%B5%D1%80%D0%B8.png"/>
          <p:cNvPicPr/>
          <p:nvPr/>
        </p:nvPicPr>
        <p:blipFill>
          <a:blip r:embed="rId1"/>
          <a:stretch/>
        </p:blipFill>
        <p:spPr>
          <a:xfrm>
            <a:off x="2786040" y="357120"/>
            <a:ext cx="3171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8" descr="j0292032"/>
          <p:cNvPicPr/>
          <p:nvPr/>
        </p:nvPicPr>
        <p:blipFill>
          <a:blip r:embed="rId1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есня"Моя семья" на мотив песни "Маленькая страна"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сть за горами, за лесами маленькая стран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ама, папа, дед и баба, братик или сест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не всегда тепло и ясно, любят там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солнца лучик поселился и согревает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ahoma"/>
              </a:rPr>
              <a:t>Припев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ленькая страна - это моя семья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, где родился я и вырос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де любят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Маленькая Страна.mp3" descr=""/>
          <p:cNvPicPr/>
          <p:nvPr/>
        </p:nvPicPr>
        <p:blipFill>
          <a:blip r:embed="rId1"/>
          <a:stretch/>
        </p:blipFill>
        <p:spPr>
          <a:xfrm>
            <a:off x="752472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5" descr=""/>
          <p:cNvPicPr/>
          <p:nvPr/>
        </p:nvPicPr>
        <p:blipFill>
          <a:blip r:embed="rId2"/>
          <a:stretch/>
        </p:blipFill>
        <p:spPr>
          <a:xfrm>
            <a:off x="6286680" y="5786280"/>
            <a:ext cx="26668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artemkatravka@mail.ru</cp:lastModifiedBy>
  <dcterms:modified xsi:type="dcterms:W3CDTF">2020-09-01T20:27:07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390000000000010243100207f6000400038000</vt:lpwstr>
  </property>
</Properties>
</file>