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0FC-360B-4F25-A84D-C823409F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526-FA19-4B84-9AE8-11A173CB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79D-906B-49E6-B75C-0B4C5F7B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C8F-684A-44EE-AE00-101CEFB6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569-6D21-4ED9-8865-7BA5B8B6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E24-FC98-455E-8CA7-92E3AD2C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D84-336A-411F-B845-F7463BD3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A6F-ECCF-4953-A3C7-08F7EA9B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818-B403-4BA5-82FF-55CD3474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56E-F966-40D4-8DC1-D40E6F9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754-D86D-4C88-B5B3-3DA1DA1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570-D4B2-4428-8FAC-07713E9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DA3E-D5AC-4099-858E-DCC91CA5B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4500720" y="5661000"/>
            <a:ext cx="424800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оспитатель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МДОБУ №4 «Лукоморь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еличкова И.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50781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бъект 2"/>
          <p:cNvSpPr/>
          <p:nvPr/>
        </p:nvSpPr>
        <p:spPr>
          <a:xfrm>
            <a:off x="1224000" y="392040"/>
            <a:ext cx="640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щё один немаловажный факт, отмечаемый педагогами ДОУ, это снижение любознательности и воображения у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школьников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их фантазии и творческой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C:\Users\Админ\Documents\i.jpg"/>
          <p:cNvPicPr/>
          <p:nvPr/>
        </p:nvPicPr>
        <p:blipFill>
          <a:blip r:embed="rId2"/>
          <a:stretch/>
        </p:blipFill>
        <p:spPr>
          <a:xfrm>
            <a:off x="3059280" y="3321000"/>
            <a:ext cx="5408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бъект 2"/>
          <p:cNvSpPr/>
          <p:nvPr/>
        </p:nvSpPr>
        <p:spPr>
          <a:xfrm>
            <a:off x="1224000" y="404640"/>
            <a:ext cx="640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вышение тревожности и агрессии у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х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Ещё  одна проблема в воспитании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ого дошкольник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это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игрушки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C:\Users\Админ\Documents\311511901442212674.jpeg"/>
          <p:cNvPicPr/>
          <p:nvPr/>
        </p:nvPicPr>
        <p:blipFill>
          <a:blip r:embed="rId2"/>
          <a:stretch/>
        </p:blipFill>
        <p:spPr>
          <a:xfrm>
            <a:off x="3564000" y="2997360"/>
            <a:ext cx="5070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бъект 2"/>
          <p:cNvSpPr/>
          <p:nvPr/>
        </p:nvSpPr>
        <p:spPr>
          <a:xfrm>
            <a:off x="1224000" y="404640"/>
            <a:ext cx="640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611280" y="26028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почему основной задачей воспитания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х дошкольников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является создание условий, в которых у ребёнка есть возможность играть со сверстниками, решать с ними познавательные задачи, удовлетворять собственное любопытство, развивать воображение, творческие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ност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выстраивать отношения с людьми, сопереживать, чувствовать заботу о себе и заботиться о других. Сегодня как никогда важно обеспечить каждому ребёнку внимание и заботу о его психическом и физическом здоров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68360" y="299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е ресурс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Ашиков В. Ещё раз о воспитании//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школьное воспита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– 2005. - №4 – С. 3-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. Данилина Т. А., Зедгенидзе В. Я., Степина Н. М. В мире детских 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эмоци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соб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для практических работников ДОУ. - М.: Айрис-пресс, 2004. -160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. Лютова Е. К., Монина Г. Б. Шпаргалка для 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взрослых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Психокоррекционная работа с гиперактивными, агрессивными, тревожными и аутичными детьми. - М.: Генезис, 2000. -192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Мухина B.C. Возрастная 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феноменология развития, детство, отрочество. - М.: Академия, 1999.-456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Осипова А. А. Общая Психокоррекция. - М.: ТЦ "Сфера", 2002.-512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6. Широкова Г. А., Жадько Е. Г. Практикум для детского психолога. - Ростов н/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"Феникс", 2004. - 320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Тугушева Г. П., Чистякова А. Е. Педагогические условия реализации нравственного воспитания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школьников в деятельности // Дошкольная педагогик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– 2007. - №8 – С. 9-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8. 1 september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9. maam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0. nsportal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Каков современный ребен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бъект 2"/>
          <p:cNvSpPr/>
          <p:nvPr/>
        </p:nvSpPr>
        <p:spPr>
          <a:xfrm>
            <a:off x="250920" y="1484280"/>
            <a:ext cx="5821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4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дети растут и развиваются в условиях постиндустриального информационного общества. С самого рождения они сталкиваются с современными высокотехнологичными достижениями. Все технические новшества становятся бытием подрастающего поколения. Компьютерные игры, интерактивные игрушки и музейные экспозиции, рекламные ролики и новинки кинематографа. Как влияет технический прогресс на психику ребенка?  Сегодня этим вопросом всерьез озадачены учены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i36.tinypic.com/qz3i1w.png"/>
          <p:cNvPicPr/>
          <p:nvPr/>
        </p:nvPicPr>
        <p:blipFill>
          <a:blip r:embed="rId2"/>
          <a:stretch/>
        </p:blipFill>
        <p:spPr>
          <a:xfrm>
            <a:off x="5797440" y="1214280"/>
            <a:ext cx="2737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611280" y="33336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 данный период предпринимаются попытки комплексного изучения современного дошкольника. Во внимание принимаются и мнения педагогов-практиков. В 2011 г. прошел Круглый стол, на котором педагоги московских дошкольных учреждений «нарисовали» портрет современного ребенка исходя из собственных наблю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3514238_ (557x424, 65Kb)"/>
          <p:cNvPicPr/>
          <p:nvPr/>
        </p:nvPicPr>
        <p:blipFill>
          <a:blip r:embed="rId2"/>
          <a:stretch/>
        </p:blipFill>
        <p:spPr>
          <a:xfrm>
            <a:off x="4788000" y="3500280"/>
            <a:ext cx="3946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611280" y="260280"/>
            <a:ext cx="588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ительных характеристик: развитый, любознательный, умный, эрудированный, раскрепощенный, свобод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рицательных: импульсивный, капризный, плаксивый, драчливый, агрессивный, педагогически запущенный, воспитываемый телевизор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www.mama.mk.ua/files/upload/1617000/1617014/707x409/2076daf0.jpg"/>
          <p:cNvPicPr/>
          <p:nvPr/>
        </p:nvPicPr>
        <p:blipFill>
          <a:blip r:embed="rId2"/>
          <a:stretch/>
        </p:blipFill>
        <p:spPr>
          <a:xfrm>
            <a:off x="3635280" y="3746520"/>
            <a:ext cx="4805280" cy="277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krokha.ru/img/news/nachalnaya_schkola.jpg"/>
          <p:cNvPicPr/>
          <p:nvPr/>
        </p:nvPicPr>
        <p:blipFill>
          <a:blip r:embed="rId3"/>
          <a:stretch/>
        </p:blipFill>
        <p:spPr>
          <a:xfrm>
            <a:off x="5643720" y="142920"/>
            <a:ext cx="335736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0920" y="333360"/>
            <a:ext cx="682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ни у кого не осталось сомнений в том, чт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дети не так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ими были их сверстники несколько десятилетий тому назад. Причины этого – изменения в окружающем мире, как предметном, так и социальном, в методах воспитания в семье, в установках родителей и т. д. Все эти социальные изменения привели к психологическим изменениям. Быстро увеличивается количество детей с ослабленным здоровьем, гиперактивных детей, детей с нарушениями эмоционально – волевой сферы, многие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меют задержку речевого и психическ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мытищи.дети/uploads/posts/2016-03/1457630467_deti-autisty.jpeg"/>
          <p:cNvPicPr/>
          <p:nvPr/>
        </p:nvPicPr>
        <p:blipFill>
          <a:blip r:embed="rId2"/>
          <a:stretch/>
        </p:blipFill>
        <p:spPr>
          <a:xfrm>
            <a:off x="4124160" y="3571920"/>
            <a:ext cx="46958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611280" y="40464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вы же причина таких изменений? Во-первых, разрыв поколений родителей и детей. Повышенная занятость родителей на работе – это одна из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енностей воспитания современных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Наблюдения и опросы родителей показали, что большинство из них плохо представляют, чем можно и нужно заниматься со своим ребёнком, в какие игры играют их дети, о чём они думают, как воспринимают окружающие мир. При этом все родители считают, что своих детей нужно как можно раньше приобщать к достижениям технического прогресса. Лишь немногие родители знают о том, что учеными и многочисленными жизненными фактами доказано, что развитие маленького ребёнка, становление его внутреннего мира происходит только в совместной со взрослыми деятельности. Именно близ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зрослый человек вступает с малышом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алог, именно с ним ребён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крывает и познаёт мир, имен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 поддержке и помощи взросл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лыш начинает себя пробовать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ных видах деятельности и чувств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ать свои интересы и возмож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ни одно техническое сред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и одно СМИ не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соб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менить жив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http://audiofit.ru/wp-content/uploads/2014/10/RuListen-%D0%B4%D0%BB%D1%8F-%D0%B4%D0%B5%D1%82%D0%B5%D0%B9-%D0%9F%D0%A0%D0%A0-%D0%B0%D1%83%D1%82%D0%B8%D0%B7%D0%BC.jpg"/>
          <p:cNvPicPr/>
          <p:nvPr/>
        </p:nvPicPr>
        <p:blipFill>
          <a:blip r:embed="rId2"/>
          <a:stretch/>
        </p:blipFill>
        <p:spPr>
          <a:xfrm>
            <a:off x="4791240" y="3500280"/>
            <a:ext cx="4181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09760" y="793800"/>
            <a:ext cx="69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Следующая проблема 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современного дошкольника – это рост </a:t>
            </a:r>
            <a:r>
              <a:rPr b="0" i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«экранной»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 зависим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1" descr="C:\Users\Админ\Documents\i.jpg"/>
          <p:cNvPicPr/>
          <p:nvPr/>
        </p:nvPicPr>
        <p:blipFill>
          <a:blip r:embed="rId2"/>
          <a:stretch/>
        </p:blipFill>
        <p:spPr>
          <a:xfrm>
            <a:off x="3789360" y="3357720"/>
            <a:ext cx="4722840" cy="31431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3"/>
          <p:cNvSpPr/>
          <p:nvPr/>
        </p:nvSpPr>
        <p:spPr>
          <a:xfrm>
            <a:off x="20484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395280" y="77472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Одна из главных 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особенностей современных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 детей – отставание в развитии реч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" descr="C:\Users\Админ\Documents\i.jpg"/>
          <p:cNvPicPr/>
          <p:nvPr/>
        </p:nvPicPr>
        <p:blipFill>
          <a:blip r:embed="rId2"/>
          <a:stretch/>
        </p:blipFill>
        <p:spPr>
          <a:xfrm>
            <a:off x="3203640" y="2997360"/>
            <a:ext cx="57546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Объект 2"/>
          <p:cNvSpPr/>
          <p:nvPr/>
        </p:nvSpPr>
        <p:spPr>
          <a:xfrm>
            <a:off x="179280" y="404640"/>
            <a:ext cx="7453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Ещё одной 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особенностью современных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 детей является часто отмечающаяся 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неспособность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 их к концентрации на каком-либо занятии, отсутствие заинтересованности делом, что характеризуется гиперактивностью, повышенной рассеян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0" descr="C:\Users\Админ\Documents\i (1).jpg"/>
          <p:cNvPicPr/>
          <p:nvPr/>
        </p:nvPicPr>
        <p:blipFill>
          <a:blip r:embed="rId2"/>
          <a:stretch/>
        </p:blipFill>
        <p:spPr>
          <a:xfrm>
            <a:off x="4859280" y="3795840"/>
            <a:ext cx="3220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2:06:20Z</dcterms:created>
  <dc:creator>Дима</dc:creator>
  <dc:description/>
  <dc:language>en-US</dc:language>
  <cp:lastModifiedBy>perfomance</cp:lastModifiedBy>
  <dcterms:modified xsi:type="dcterms:W3CDTF">2020-01-29T13:41:03Z</dcterms:modified>
  <cp:revision>24</cp:revision>
  <dc:subject/>
  <dc:title>ВСЕМИРНАЯ ПАУТИНА</dc:title>
</cp:coreProperties>
</file>