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5589-203A-47D9-BE01-5821FACE7D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8917-72DC-43B5-9827-51DC9FA4D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36C-015D-4B18-9182-56A07558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700-BA2F-44E7-AEF5-5A3A8811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801-C588-4DFC-9357-B4FF61E3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133-E55B-40E8-941C-228CFF25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E88-08EF-43EB-9FCA-8BA51065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8F4-1492-49C2-BE4F-6163F585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251-ABA1-4943-BF8F-D50ECAF9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83B-D359-4353-A5F6-977EDD37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506-7E82-4DFA-9098-3B47171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841-A805-4D7B-BE2F-BEBB61CF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577-79E7-49D3-9BC4-7EABBC27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39D-E6BB-49EA-BF27-904C2C4C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95CC-840C-465A-9C6C-5E3CA3D33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25560"/>
            <a:ext cx="7572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080" y="5072040"/>
            <a:ext cx="6422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glgffty_2.jpg"/>
          <p:cNvPicPr/>
          <p:nvPr/>
        </p:nvPicPr>
        <p:blipFill>
          <a:blip r:embed="rId1"/>
          <a:stretch/>
        </p:blipFill>
        <p:spPr>
          <a:xfrm>
            <a:off x="468360" y="907920"/>
            <a:ext cx="4159080" cy="496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User\Desktop\ремесло.jpg"/>
          <p:cNvPicPr/>
          <p:nvPr/>
        </p:nvPicPr>
        <p:blipFill>
          <a:blip r:embed="rId2"/>
          <a:stretch/>
        </p:blipFill>
        <p:spPr>
          <a:xfrm>
            <a:off x="4859280" y="1125360"/>
            <a:ext cx="410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664A-D028-4598-B38B-CF0FBC3A8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User\Desktop\getmoney-716x1024.jpg"/>
          <p:cNvPicPr/>
          <p:nvPr/>
        </p:nvPicPr>
        <p:blipFill>
          <a:blip r:embed="rId1"/>
          <a:stretch/>
        </p:blipFill>
        <p:spPr>
          <a:xfrm>
            <a:off x="893880" y="160020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User\Desktop\dc5f520625ffe8f2c6ebe0c36e4ac1d5_XL.jpg"/>
          <p:cNvPicPr/>
          <p:nvPr/>
        </p:nvPicPr>
        <p:blipFill>
          <a:blip r:embed="rId2"/>
          <a:stretch/>
        </p:blipFill>
        <p:spPr>
          <a:xfrm>
            <a:off x="4648320" y="1716120"/>
            <a:ext cx="40384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Какую роль  сыграло купечество в истории России ? Можно ли сказать, что их труд был на благо Отечеств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3D6B-B29C-488F-99F1-FD81D37AD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AG00317_"/>
          <p:cNvPicPr/>
          <p:nvPr/>
        </p:nvPicPr>
        <p:blipFill>
          <a:blip r:embed="rId1"/>
          <a:stretch/>
        </p:blipFill>
        <p:spPr>
          <a:xfrm>
            <a:off x="6300720" y="3578400"/>
            <a:ext cx="241632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Роль куп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ление транспорт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обрабатывающей 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сли значительный вклад в разведку и разработку залежей полезных ископаем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ая  роль в развитии мыловаренного, кожевенного, свечного, стекольного, фаянсового, писчебумажного и канатно-прядиль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поддержка 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B8F8-612A-496A-A449-18D74933F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Роль купечества в истории России (на примере деятельности известных купцов и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4746-8BC5-41C1-BDB2-FD6B37F9C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1240-D36E-4531-8D6E-EEF57193A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«Путешествуя по с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Я объехал уж весь 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Я привез меха, конф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Ткани, шелк и каше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гадайте након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Ремесло мое…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AG00317_"/>
          <p:cNvPicPr/>
          <p:nvPr/>
        </p:nvPicPr>
        <p:blipFill>
          <a:blip r:embed="rId1"/>
          <a:stretch/>
        </p:blipFill>
        <p:spPr>
          <a:xfrm>
            <a:off x="6300720" y="3578400"/>
            <a:ext cx="2416320" cy="258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12540.jpg"/>
          <p:cNvPicPr/>
          <p:nvPr/>
        </p:nvPicPr>
        <p:blipFill>
          <a:blip r:embed="rId1"/>
          <a:stretch/>
        </p:blipFill>
        <p:spPr>
          <a:xfrm>
            <a:off x="382680" y="260280"/>
            <a:ext cx="3944880" cy="31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user\Desktop\20130516155344_010_enl.jpg"/>
          <p:cNvPicPr/>
          <p:nvPr/>
        </p:nvPicPr>
        <p:blipFill>
          <a:blip r:embed="rId2"/>
          <a:stretch/>
        </p:blipFill>
        <p:spPr>
          <a:xfrm>
            <a:off x="4788000" y="3429000"/>
            <a:ext cx="4209840" cy="323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user\Desktop\794733364.jpg"/>
          <p:cNvPicPr/>
          <p:nvPr/>
        </p:nvPicPr>
        <p:blipFill>
          <a:blip r:embed="rId3"/>
          <a:stretch/>
        </p:blipFill>
        <p:spPr>
          <a:xfrm>
            <a:off x="4703760" y="274680"/>
            <a:ext cx="4081320" cy="308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234-340_(242-348)_img_303.jpg"/>
          <p:cNvPicPr/>
          <p:nvPr/>
        </p:nvPicPr>
        <p:blipFill>
          <a:blip r:embed="rId4"/>
          <a:stretch/>
        </p:blipFill>
        <p:spPr>
          <a:xfrm>
            <a:off x="179280" y="3645000"/>
            <a:ext cx="4321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Кто такой купец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Лицо, владеющее торговым предприятием, ведущее торгов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( Толковый словарь  В.И. Да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2 Торговец, коммерсант. (словарь синоним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огатый торговец, владелец торговым предприятием. (Толковый словарь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D279-AB0C-4B0E-BDC0-4A2D1F575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ерс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о, занимающееся торговлей, осуществляющее торговое предприним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4451-1388-44C3-9EF2-8BF612464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Desktop\1-3.jpg"/>
          <p:cNvPicPr/>
          <p:nvPr/>
        </p:nvPicPr>
        <p:blipFill>
          <a:blip r:embed="rId1"/>
          <a:stretch/>
        </p:blipFill>
        <p:spPr>
          <a:xfrm>
            <a:off x="4905360" y="1600200"/>
            <a:ext cx="35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Arial"/>
              </a:rPr>
              <a:t>Купцы и предпринимате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2FAD-99C7-4315-973B-9750E0DC6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Деловой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9EED-7536-49D6-BFAB-C45E7B4A4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AG00317_"/>
          <p:cNvPicPr/>
          <p:nvPr/>
        </p:nvPicPr>
        <p:blipFill>
          <a:blip r:embed="rId1"/>
          <a:stretch/>
        </p:blipFill>
        <p:spPr>
          <a:xfrm>
            <a:off x="6300720" y="3578400"/>
            <a:ext cx="241632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то такие купцы и предпринима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Личные качества делов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История купеческого сосло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значение слов: «гости», «гостьба», </a:t>
            </a: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«Какую роль  сыграло купечество и предпринимательство  в истории России ? Можно ли сказать, что их труд был на благо Отечества?</a:t>
            </a:r>
            <a:br>
              <a:rPr sz="3200"/>
            </a:b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FEF3-D4F7-4515-99C7-B2AECC938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Личные качества делового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Дорожиться - товар залежится» «».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Тот, кто не умеет улыбаться, не должен заниматься торговлей.»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То не купец, у кого деньги дом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Не солгать – так и не прод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Большая торговля-большой рис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13AB-566E-4637-B0B3-2D267322A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7:13:59Z</dcterms:created>
  <dc:creator>www.PHILka.RU</dc:creator>
  <dc:description/>
  <dc:language>en-US</dc:language>
  <cp:lastModifiedBy>Specialist</cp:lastModifiedBy>
  <dcterms:modified xsi:type="dcterms:W3CDTF">2020-09-02T09:30:11Z</dcterms:modified>
  <cp:revision>82</cp:revision>
  <dc:subject/>
  <dc:title>англия</dc:title>
</cp:coreProperties>
</file>