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517E-4A67-490B-932F-81A6F70B3A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FA41-8D9E-4EF1-9006-8E8CA06BDF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EC2-68F5-45F4-9D35-301F9207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579-1FA8-4FDA-9BDE-BAB0462B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47C8-00D2-4ECB-818F-EE2F5447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A17-2546-485C-8520-2E7A6FAB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434-8409-44A5-A786-DCFED97C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9A1-C21C-4B4D-916B-CA795B26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6C4-2FB6-4C73-8006-3222851F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91E-D8A3-40E5-A467-B7694F70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E23-D00C-4AF5-8D45-575C3A66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9E3-61F3-4D32-B777-F2DF7770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173-8605-44C8-A490-4B25DAA3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290-71C3-46A0-89CC-62867B6C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9100-B822-4B49-8E29-4260E65BF0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25560"/>
            <a:ext cx="7572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080" y="5072040"/>
            <a:ext cx="64227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glgffty_2.jpg"/>
          <p:cNvPicPr/>
          <p:nvPr/>
        </p:nvPicPr>
        <p:blipFill>
          <a:blip r:embed="rId1"/>
          <a:stretch/>
        </p:blipFill>
        <p:spPr>
          <a:xfrm>
            <a:off x="468360" y="907920"/>
            <a:ext cx="4159080" cy="496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User\Desktop\ремесло.jpg"/>
          <p:cNvPicPr/>
          <p:nvPr/>
        </p:nvPicPr>
        <p:blipFill>
          <a:blip r:embed="rId2"/>
          <a:stretch/>
        </p:blipFill>
        <p:spPr>
          <a:xfrm>
            <a:off x="4859280" y="1125360"/>
            <a:ext cx="4105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FB33-6C0B-41AF-9A54-88F29ADB2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User\Desktop\getmoney-716x1024.jpg"/>
          <p:cNvPicPr/>
          <p:nvPr/>
        </p:nvPicPr>
        <p:blipFill>
          <a:blip r:embed="rId1"/>
          <a:stretch/>
        </p:blipFill>
        <p:spPr>
          <a:xfrm>
            <a:off x="893880" y="1600200"/>
            <a:ext cx="316548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User\Desktop\dc5f520625ffe8f2c6ebe0c36e4ac1d5_XL.jpg"/>
          <p:cNvPicPr/>
          <p:nvPr/>
        </p:nvPicPr>
        <p:blipFill>
          <a:blip r:embed="rId2"/>
          <a:stretch/>
        </p:blipFill>
        <p:spPr>
          <a:xfrm>
            <a:off x="4648320" y="1716120"/>
            <a:ext cx="40384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Какую роль  сыграло купечество в истории России ? Можно ли сказать, что их труд был на благо Отечеств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5B75-66DB-4A8B-8F22-2AC367976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AG00317_"/>
          <p:cNvPicPr/>
          <p:nvPr/>
        </p:nvPicPr>
        <p:blipFill>
          <a:blip r:embed="rId1"/>
          <a:stretch/>
        </p:blipFill>
        <p:spPr>
          <a:xfrm>
            <a:off x="6300720" y="3578400"/>
            <a:ext cx="2416320" cy="25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Роль куп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овление транспорт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обрабатывающей промыш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сли значительный вклад в разведку и разработку залежей полезных ископаем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ющая  роль в развитии мыловаренного, кожевенного, свечного, стекольного, фаянсового, писчебумажного и канатно-прядильн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поддержка 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A5B8-CCBF-468F-89D9-F0720B044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Роль купечества в истории России (на примере деятельности известных купцов и предприним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D5C1-047E-4AED-A04F-0304AAC80D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DB9F-CEFB-4031-A48E-9029A7250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«Путешествуя по св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Я объехал уж весь м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Я привез меха, конфе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Ткани, шелк и кашем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Угадайте након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Ремесло мое…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AG00317_"/>
          <p:cNvPicPr/>
          <p:nvPr/>
        </p:nvPicPr>
        <p:blipFill>
          <a:blip r:embed="rId1"/>
          <a:stretch/>
        </p:blipFill>
        <p:spPr>
          <a:xfrm>
            <a:off x="6300720" y="3578400"/>
            <a:ext cx="2416320" cy="2587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user\Desktop\12540.jpg"/>
          <p:cNvPicPr/>
          <p:nvPr/>
        </p:nvPicPr>
        <p:blipFill>
          <a:blip r:embed="rId1"/>
          <a:stretch/>
        </p:blipFill>
        <p:spPr>
          <a:xfrm>
            <a:off x="382680" y="260280"/>
            <a:ext cx="3944880" cy="3157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user\Desktop\20130516155344_010_enl.jpg"/>
          <p:cNvPicPr/>
          <p:nvPr/>
        </p:nvPicPr>
        <p:blipFill>
          <a:blip r:embed="rId2"/>
          <a:stretch/>
        </p:blipFill>
        <p:spPr>
          <a:xfrm>
            <a:off x="4788000" y="3429000"/>
            <a:ext cx="4209840" cy="323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user\Desktop\794733364.jpg"/>
          <p:cNvPicPr/>
          <p:nvPr/>
        </p:nvPicPr>
        <p:blipFill>
          <a:blip r:embed="rId3"/>
          <a:stretch/>
        </p:blipFill>
        <p:spPr>
          <a:xfrm>
            <a:off x="4703760" y="274680"/>
            <a:ext cx="4081320" cy="308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User\Desktop\234-340_(242-348)_img_303.jpg"/>
          <p:cNvPicPr/>
          <p:nvPr/>
        </p:nvPicPr>
        <p:blipFill>
          <a:blip r:embed="rId4"/>
          <a:stretch/>
        </p:blipFill>
        <p:spPr>
          <a:xfrm>
            <a:off x="179280" y="3645000"/>
            <a:ext cx="4321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Кто такой купец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1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Лицо, владеющее торговым предприятием, ведущее торгов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( Толковый словарь  В.И. Да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2 Торговец, коммерсант. (словарь синоним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Богатый торговец, владелец торговым предприятием. (Толковый словарь Ожег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7F6E-C6F1-473B-ACFB-F9B94654B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ммерс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о, занимающееся торговлей, осуществляющее торговое предприним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32E8-D066-4FA3-AEC8-820FC8C53E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User\Desktop\1-3.jpg"/>
          <p:cNvPicPr/>
          <p:nvPr/>
        </p:nvPicPr>
        <p:blipFill>
          <a:blip r:embed="rId1"/>
          <a:stretch/>
        </p:blipFill>
        <p:spPr>
          <a:xfrm>
            <a:off x="4905360" y="1600200"/>
            <a:ext cx="352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Arial"/>
              </a:rPr>
              <a:t>Купцы и предпринимате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10BC-400B-4910-91EA-8B2FF5DB50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Деловой челов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B4FA-F8D3-49C4-A47C-1EF688F311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AG00317_"/>
          <p:cNvPicPr/>
          <p:nvPr/>
        </p:nvPicPr>
        <p:blipFill>
          <a:blip r:embed="rId1"/>
          <a:stretch/>
        </p:blipFill>
        <p:spPr>
          <a:xfrm>
            <a:off x="6300720" y="3578400"/>
            <a:ext cx="2416320" cy="25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Кто такие купцы и предпринимат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Личные качества делов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История купеческого сосло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значение слов: «гости», «гостьба», </a:t>
            </a: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«Какую роль  сыграло купечество и предпринимательство  в истории России ? Можно ли сказать, что их труд был на благо Отечества?</a:t>
            </a:r>
            <a:br>
              <a:rPr sz="3200"/>
            </a:b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91DC-C2D9-4703-968E-23BEE0FA4B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575d1"/>
                </a:solidFill>
                <a:latin typeface="Arial"/>
              </a:rPr>
              <a:t>Личные качества делового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«Дорожиться - товар залежится» «».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«Тот, кто не умеет улыбаться, не должен заниматься торговлей.» 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«То не купец, у кого деньги дом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«Не солгать – так и не прода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«Большая торговля-большой рис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6B2E-CDB0-4A64-92C7-0C7406CC7C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7:13:59Z</dcterms:created>
  <dc:creator>www.PHILka.RU</dc:creator>
  <dc:description/>
  <dc:language>en-US</dc:language>
  <cp:lastModifiedBy>Specialist</cp:lastModifiedBy>
  <dcterms:modified xsi:type="dcterms:W3CDTF">2020-09-02T09:30:11Z</dcterms:modified>
  <cp:revision>82</cp:revision>
  <dc:subject/>
  <dc:title>англия</dc:title>
</cp:coreProperties>
</file>