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9D16-9E9B-41FD-AF00-4361080F7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381-215F-4A74-A2A2-8A51DE11C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36BD-A931-4504-B1AF-57C43C2D0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F76D-BA19-4A4D-AC40-41B1B7C8E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родительским собранием детям предлагается опросник «Чувства в школе», а на собрании родителям предлагается «рейтинг» чувств, которые дети преимущественно испытывают в школе.  Преобладающие чувства (отмечающиеся более чем у  45-50% детей класса) выделяются в списке другим цветом, например, красным. Осуществляется краткий 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466-E018-441E-BB75-720633548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341-D4E8-4EDC-9447-6020FC93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153-0004-40D6-A090-9F24D7BF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E80-DDCA-43A2-AF7C-E4661282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55C-86D1-48CF-9A38-AFF06F1F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CED-FAC7-4641-A94B-A4F8DDAD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C8A-673A-4B1B-9072-D8F08E5C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907-7C28-47DA-B6FE-0DB099F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D23-2967-4D87-89AC-E503690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974-A679-4247-9771-0C8DD1FC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1DA-0932-4B82-BE9C-953B64F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CC0-C596-4B6C-8DF0-2835E68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ED6-3B62-43C7-83C3-C7C3E25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2659-C673-4EBB-B757-1F118AD442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"Адаптация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пятиклассников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к новым условиям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учёб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подготовили :Попова Полина, Гусейнова Светла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м для многих из нас становится не учёба (45%), а возможность общаться с друзьями (55%). В 4 классе для большинства учащихся нашего класса главным было- получать хорошие отмет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иливается влияние сверстников . Предпочтение ребята  отдают той группе, в которой, относятся к ним с уважением. Это и спортивные  секции , и кружки. Большинство из нас посещают спортивные секции. Это 5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253120" y="1628640"/>
            <a:ext cx="335736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254560" y="4094280"/>
            <a:ext cx="32050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 подготовили: Попова Полина, Гусейнова Светл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 поведение большей части учащихся нашего класса  значительное влияние оказывает мнение товарищей (40%)и родителей (60%). По сравнению с прошлым учебным годом влияние родителей было большим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бодное от уроков время мы  любим 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проводить с друзьями на улице –40 %, проводить время с родителями 52  %, 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заниматься в спортивных секциях и кружках — 8 %. В 4 классе мы тоже  больше времени проводили с родител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 подготовили: Попова Полина, Гусейнова Светл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шими любимыми уроками в этом учебном году стали русский язык (25%), литература(10 ), история (25 %), математика(10), физкультура(30) В прошлом  учебном году -_русский язык, математ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певаемость в нашем классе в этой четверти значительно снизилась. В прошлом году отличников было 7. Хорошистов-5. В этом учебном году, у нас только 7 хорошис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«Социальный портрет нашего класс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 подготовили: Попова Полина, Гусейнова Светл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ы в которые мы любим играть: компьютерные- 30% подвижные-50% настольные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J0233964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9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42" descr="SCALES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чень много разных учителей  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ривычное расписание-  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ного новых кабинетов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ые дети в классе-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ый классный руководитель-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ы со старшеклассниками -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росший темп работы-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росший объем работ в классе и д/з;-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лабление или отсутствие контроля-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пу, особенностям речи учителей-12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самостоятельность в работе с текстами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зкий уровень развития речи-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бое развитие навыков самостоятельной работы-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PE02288_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people1840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езные со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тельно узнайте о программе обучения в 5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адьте контакт со школьным психоло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е три месяца следует тщательно контролировать, как дети собираются в школу. Ребята кладут в ранец совсем не то, что нужно, потому что только учатся следить за расписанием и его изменением. Поэтому, уважаемые родители, не поленитесь заглянуть в расписание уроков и проверить содержимое ранц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амое главное - никогда не бойтесь спрашивать учителей о том, что Вам непонятно. Не стесняйтесь, когда хотите что-то уточн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осник «Чувства в школ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251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числе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 выбер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торые 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иболее час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пытываешь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школ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24360" y="1600200"/>
          <a:ext cx="4464000" cy="4032360"/>
        </p:xfrm>
        <a:graphic>
          <a:graphicData uri="http://schemas.openxmlformats.org/drawingml/2006/table">
            <a:tbl>
              <a:tblPr/>
              <a:tblGrid>
                <a:gridCol w="2087640"/>
                <a:gridCol w="2376360"/>
              </a:tblGrid>
              <a:tr h="46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-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нение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лость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да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ку-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-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унижения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 в себе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вогу за будущее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койство-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дарность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енность собой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атию к учителям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ражение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приходить сюда-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358" descr=""/>
          <p:cNvPicPr/>
          <p:nvPr/>
        </p:nvPicPr>
        <p:blipFill>
          <a:blip r:embed="rId1"/>
          <a:stretch/>
        </p:blipFill>
        <p:spPr>
          <a:xfrm>
            <a:off x="1403280" y="5372280"/>
            <a:ext cx="2514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Методика изучения удовлетворенностью учащихся школьной жизнью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чащимся предлагалось оценить степень их согласия с предложенными утверждения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следующей шка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 – нет; 1 – не всегда; 2 – 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Я иду в школу с радост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 школе у меня обычно хорошее настро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 нас хороший классный руководи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У меня есть любимые школьные предме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Я привык к новым учителя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В начальной школе было лучш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На летних каникулах я скучал по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Продолжи предложение: мне не нрав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ли нравится) в школе (что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http://www.psy.5igorsk.ru</dc:creator>
  <dc:description/>
  <dc:language>en-US</dc:language>
  <cp:lastModifiedBy>Specialist</cp:lastModifiedBy>
  <dcterms:modified xsi:type="dcterms:W3CDTF">2020-09-02T07:09:00Z</dcterms:modified>
  <cp:revision>153</cp:revision>
  <dc:subject/>
  <dc:title>Родительское собрание в 5 классе</dc:title>
</cp:coreProperties>
</file>