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997C-5C70-4EE0-A07F-9A6DEB860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340-036D-4F0D-97C2-B937E3A1C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539-9925-4183-9D7B-18727D0A9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FAE4-81E3-467D-9398-656054381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родительским собранием детям предлагается опросник «Чувства в школе», а на собрании родителям предлагается «рейтинг» чувств, которые дети преимущественно испытывают в школе.  Преобладающие чувства (отмечающиеся более чем у  45-50% детей класса) выделяются в списке другим цветом, например, красным. Осуществляется краткий 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5F17-C264-4250-9611-800320054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A06-ADAB-439D-87A7-6ECF7B6E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DA8-5BEB-43C2-B9FA-FA7885B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C0F-5EAD-4633-8D2D-1427CCE0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922-DD67-491F-BAB6-F4E72CFC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CD9-386B-46CB-BAF4-27339D2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9A3-ED0E-437F-BA10-1B91B8A7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27C-B3E1-430D-81D1-CB3D809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A8A-F7F4-4ABB-89D3-8205647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BEE-4E0C-4E5B-B728-B10AA209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620-CD8F-4B04-A06A-891F3D7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51A-6812-4CE8-924E-B2DD78E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F2E-0EFD-486E-AB58-D0117EB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3A31-B4F1-42D8-8E13-59A30854F7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"Адаптац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ятиклассников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 новым условиям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учёб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подготовили :Попова Полина, Гусейнова Светл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м для многих из нас становится не учёба (45%), а возможность общаться с друзьями (55%). В 4 классе для большинства учащихся нашего класса главным было- получать хорошие отмет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ивается влияние сверстников . Предпочтение ребята  отдают той группе, в которой, относятся к ним с уважением. Это и спортивные  секции , и кружки. Большинство из нас посещают спортивные секции. Это 5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253120" y="1628640"/>
            <a:ext cx="335736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254560" y="409428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 поведение большей части учащихся нашего класса  значительное влияние оказывает мнение товарищей (40%)и родителей (60%). По сравнению с прошлым учебным годом влияние родителей было большим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бодное от уроков время мы  любим 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проводить с друзьями на улице –40 %, проводить время с родителями 52  %, 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заниматься в спортивных секциях и кружках — 8 %. В 4 классе мы тоже  больше времени проводили с роди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шими любимыми уроками в этом учебном году стали русский язык (25%), литература(10 ), история (25 %), математика(10), физкультура(30) В прошлом  учебном году -_русский язык, математ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певаемость в нашем классе в этой четверти значительно снизилась. В прошлом году отличников было 7. Хорошистов-5. В этом учебном году, у нас только 7 хорош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ы в которые мы любим играть: компьютерные- 30% подвижные-50% настольные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нь много разных учителей  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ривычное расписание- 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ного новых кабинетов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е дети в классе-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й классный руководитель-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ы со старшеклассниками -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росший темп работы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росший объем работ в классе и д/з;-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лабление или отсутствие контроля-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пу, особенностям речи учителей-12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самостоятельность в работе с текстами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ий уровень развития речи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бое развитие навыков самостоятельной работы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со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тельно узнайте о программе обучения в 5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дьте контакт со школьным психоло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три месяца следует тщательно контролировать, как дети собираются в школу. Ребята кладут в ранец совсем не то, что нужно, потому что только учатся следить за расписанием и его изменением. Поэтому, уважаемые родители, не поленитесь заглянуть в расписание уроков и проверить содержимое ранц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амое главное - никогда не бойтесь спрашивать учителей о том, что Вам непонятно. Не стесняйтесь, когда хотите что-то уточн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осник «Чувства в школ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числе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 выбе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торые 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иболее час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пытываешь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школ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24360" y="1600200"/>
          <a:ext cx="4464000" cy="403236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</a:tblGrid>
              <a:tr h="4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-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е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лость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да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ку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унижения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 в себе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вогу за будущее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йство-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ь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енность собой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атию к учителям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ажение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приходить сюда-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58" descr=""/>
          <p:cNvPicPr/>
          <p:nvPr/>
        </p:nvPicPr>
        <p:blipFill>
          <a:blip r:embed="rId1"/>
          <a:stretch/>
        </p:blipFill>
        <p:spPr>
          <a:xfrm>
            <a:off x="1403280" y="5372280"/>
            <a:ext cx="2514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ащимся предлагалось оценить степень их согласия с предложенными утверждения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следующей шка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Я иду в школу с радост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 школе у меня обычно хорошее настро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 нас хороший классн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У меня есть любимые школьные предм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Я привык к новым учителя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В начальной школе было луч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На летних каникулах я скучал по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Specialist</cp:lastModifiedBy>
  <dcterms:modified xsi:type="dcterms:W3CDTF">2020-09-02T07:09:00Z</dcterms:modified>
  <cp:revision>153</cp:revision>
  <dc:subject/>
  <dc:title>Родительское собрание в 5 классе</dc:title>
</cp:coreProperties>
</file>