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C9E-D698-4124-80EF-737941F5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BA6-BA76-4C20-B18B-9416E3F3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2B7-D98C-4A12-8F86-8B63DE51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96F-1C98-44D7-A1E0-F1EADFE8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CDD0-839E-4C25-B72B-8508BCE0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8A71-4251-440C-B4CC-3819250E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D651-9CE1-438A-98F7-1FC53250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C2EF-274D-4BBD-AD06-7EB6ABCD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AAD8-8DA1-4311-9EAD-7DE717B9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7D80-65A3-4AC7-BE33-1C8FA55D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9724-B09D-451C-9704-564C5533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5D5-59DA-4260-9065-6584944F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C5B0-4C4A-4232-B560-9A555D47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8D3E-208F-40E8-A11E-8A58E8F6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941B-3283-43EF-8637-D46E2BD2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ABCF-2F84-4648-BDCD-15E10046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84BF-945E-48CD-B43B-C80C4DE8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B89-662C-42A1-9BDC-F642974C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F94-8476-41F0-B9CE-0364FCCF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7EC-9406-464D-9CAD-DF983C74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226-B696-467F-8D42-DE62706E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482-A329-4CF1-99FF-C234C0F5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E30-5250-4D56-8DC2-6A679BC3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BDB-7E10-4152-8366-F5691BD3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332C-AEA7-4906-A346-7FDCE08F4DC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5F90-40FB-4C8D-BB14-B6512071D9F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132000" y="3933720"/>
            <a:ext cx="34131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День Побе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24000" y="1353960"/>
            <a:ext cx="3600360" cy="27115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140360" y="2662200"/>
            <a:ext cx="4464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941- 1945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гг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Arial Black"/>
              </a:rPr>
              <a:t>Июнь… Клонится  к вечеру закат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Arial Black"/>
              </a:rPr>
              <a:t>И белой ночи разливалось море,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Arial Black"/>
              </a:rPr>
              <a:t>И раздавался звонкий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3000" spc="-1" strike="noStrike">
                <a:solidFill>
                  <a:srgbClr val="ffcc00"/>
                </a:solidFill>
                <a:latin typeface="Arial Black"/>
              </a:rPr>
              <a:t>смех ребят,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Arial Black"/>
              </a:rPr>
              <a:t>Не знающих, не ведающих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3000" spc="-1" strike="noStrike">
                <a:solidFill>
                  <a:srgbClr val="ffcc00"/>
                </a:solidFill>
                <a:latin typeface="Arial Black"/>
              </a:rPr>
              <a:t>горя.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4847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Женщины в годы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968400" y="2006640"/>
            <a:ext cx="3060720" cy="19573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5076720" y="1622520"/>
            <a:ext cx="3240360" cy="21016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282840" y="3860640"/>
            <a:ext cx="2640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Дети в годы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706320" y="2057400"/>
            <a:ext cx="3407040" cy="22654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003640" y="1814400"/>
            <a:ext cx="3097440" cy="2347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774960" y="4221000"/>
            <a:ext cx="1654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Лёня Голиков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3902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арат Казей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743200" y="1557360"/>
            <a:ext cx="3770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аля Коти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2670120" y="1484280"/>
            <a:ext cx="3629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ина Портнов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846520" y="1341360"/>
            <a:ext cx="33512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Помните, через века, через года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Помните о тех, кто уже не придет никогд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Пожалуйста, помните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Не плачьте, в горле сдержите стоны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Горькие стоны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Памяти павших будьте достойны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Вечно достойны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0:13:46Z</dcterms:created>
  <dc:creator>Admin</dc:creator>
  <dc:description/>
  <dc:language>en-US</dc:language>
  <cp:lastModifiedBy>Admin</cp:lastModifiedBy>
  <dcterms:modified xsi:type="dcterms:W3CDTF">2013-02-06T10:29:19Z</dcterms:modified>
  <cp:revision>4</cp:revision>
  <dc:subject/>
  <dc:title>Слайд 1</dc:title>
</cp:coreProperties>
</file>