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F3F-DC59-4986-8E82-5988F62C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54B-4744-4A49-9515-F34CE58B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AA5-1819-44EB-B2C3-BC019F70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BCA-6BFC-49AB-94A7-2303A2B4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9EBE-11BD-4D4E-A8F9-D0A0CAB3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C682-938E-409E-83D8-AA6DB8DE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D77E-ABAA-4022-8998-86B4D27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55B-5756-4E9E-8F11-BCB292C1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1C43-6E1E-41E4-B5B0-069BEC6D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70EC-52D5-4D7D-8876-A5469E0C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932-985C-46E3-8864-7E4CD94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40A-32FF-43AA-B787-A4A523B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0AA0-804B-4202-A76C-BB2E46B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C683-F5B1-4BED-AA30-3565EBF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A39E-5C69-40B1-ABDE-979FC3B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602A-56EC-469E-BC00-87FF47D8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36F8-7007-42C2-A81B-7362D69A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BA2-5FD4-478A-806D-11D87C22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444-8CD5-4B56-8655-822AA710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973-B12F-42B1-AB2A-02AB32BE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E2D-EA03-4FF6-9FEB-2D54186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387-625F-4AA1-A0AC-B095AEA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A84-6419-43DF-892B-8F7F67D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89F-0EAE-4890-BC4A-4652665F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83C0-9DAD-43B6-A517-D3CF83D6F0B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4C0-BAB5-4B17-BB16-0D6530076FA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34131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ень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4000" y="1353960"/>
            <a:ext cx="3600360" cy="2711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140360" y="2662200"/>
            <a:ext cx="4464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941- 1945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г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Июнь… Клонится  к вечеру закат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И белой ночи разливалось море,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И раздавался звонкий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смех ребят,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Не знающих, не ведающих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горя.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484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Женщины в годы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968400" y="2006640"/>
            <a:ext cx="3060720" cy="1957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076720" y="1622520"/>
            <a:ext cx="3240360" cy="2101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282840" y="3860640"/>
            <a:ext cx="2640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ети в годы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06320" y="2057400"/>
            <a:ext cx="3407040" cy="2265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003640" y="1814400"/>
            <a:ext cx="3097440" cy="2347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774960" y="4221000"/>
            <a:ext cx="1654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ёня Голик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902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арат Казе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743200" y="1557360"/>
            <a:ext cx="3770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аля Коти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670120" y="1484280"/>
            <a:ext cx="3629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846520" y="1341360"/>
            <a:ext cx="3351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омните, через века, через года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омните о тех, кто уже не придет никогд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ожалуйста, помните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Не плачьте, в горле сдержите стоны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Горькие стон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амяти павших будьте достойны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Вечно достойны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0:13:46Z</dcterms:created>
  <dc:creator>Admin</dc:creator>
  <dc:description/>
  <dc:language>en-US</dc:language>
  <cp:lastModifiedBy>Admin</cp:lastModifiedBy>
  <dcterms:modified xsi:type="dcterms:W3CDTF">2013-02-06T10:29:19Z</dcterms:modified>
  <cp:revision>4</cp:revision>
  <dc:subject/>
  <dc:title>Слайд 1</dc:title>
</cp:coreProperties>
</file>