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9E1-1EAF-43BF-8B1B-7238AD34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4FB-4B2D-44A1-80F4-D0A0AFD0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7EC-388D-40FE-9B09-52D3538C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582-80AF-4299-A019-B7A7AD23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407-338F-4754-8831-D3C15B4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FBE-6E74-490B-9095-D8D4C48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297-768F-4DEB-96D0-A84A1C4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74C-BF24-4FD5-BF14-64EA559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EF8-F2D9-4439-A0D9-F104D03A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D39-3C16-4B69-9C77-DA030AE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ED7-C17F-464E-8BB2-AE0AE18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15E-D702-49B5-924F-B35F5C9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A67-3B8F-4284-898F-07D386D2E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igin-museum.do.am/Image00104.jpg_&#1089;&#1083;&#1072;&#1081;&#1076;_1_&#1087;&#1086;&#1088;&#1090;&#1088;&#1077;&#1090;" TargetMode="External"/><Relationship Id="rId2" Type="http://schemas.openxmlformats.org/officeDocument/2006/relationships/hyperlink" Target="http://nigin-museum.do.am/Image00104.jpg_&#1089;&#1083;&#1072;&#1081;&#1076;_1_&#1087;&#1086;&#1088;&#1090;&#1088;&#1077;&#1090;" TargetMode="External"/><Relationship Id="rId3" Type="http://schemas.openxmlformats.org/officeDocument/2006/relationships/hyperlink" Target="http://nigin-museum.do.am/Image00104.jpg_&#1089;&#1083;&#1072;&#1081;&#1076;_1_&#1087;&#1086;&#1088;&#1090;&#1088;&#1077;&#1090;" TargetMode="External"/><Relationship Id="rId4" Type="http://schemas.openxmlformats.org/officeDocument/2006/relationships/hyperlink" Target="http://www.school422.ru/sites/default/files/imagecache/800x800/apostol.jpg_" TargetMode="External"/><Relationship Id="rId5" Type="http://schemas.openxmlformats.org/officeDocument/2006/relationships/hyperlink" Target="http://www.school422.ru/sites/default/files/imagecache/800x800/apostol.jpg_" TargetMode="External"/><Relationship Id="rId6" Type="http://schemas.openxmlformats.org/officeDocument/2006/relationships/hyperlink" Target="http://www.rsuh.ru/images/object_97.1255604270.70243.jpg_&#1089;&#1083;&#1072;&#1081;&#1076;_2" TargetMode="External"/><Relationship Id="rId7" Type="http://schemas.openxmlformats.org/officeDocument/2006/relationships/hyperlink" Target="http://www.rsuh.ru/images/object_97.1255604270.70243.jpg_&#1089;&#1083;&#1072;&#1081;&#1076;_2" TargetMode="External"/><Relationship Id="rId8" Type="http://schemas.openxmlformats.org/officeDocument/2006/relationships/hyperlink" Target="http://www.rsuh.ru/images/object_97.1255604270.70243.jpg_&#1089;&#1083;&#1072;&#1081;&#1076;_2" TargetMode="External"/><Relationship Id="rId9" Type="http://schemas.openxmlformats.org/officeDocument/2006/relationships/hyperlink" Target="http://img-fotki.yandex.ru/get/4607/nashenasledie2008.8c/0_584b6_aa7df281_XL_&#1089;&#1083;_2" TargetMode="External"/><Relationship Id="rId10" Type="http://schemas.openxmlformats.org/officeDocument/2006/relationships/hyperlink" Target="http://img-fotki.yandex.ru/get/4607/nashenasledie2008.8c/0_584b6_aa7df281_XL_&#1089;&#1083;_2" TargetMode="External"/><Relationship Id="rId11" Type="http://schemas.openxmlformats.org/officeDocument/2006/relationships/hyperlink" Target="http://img-fotki.yandex.ru/get/4607/nashenasledie2008.8c/0_584b6_aa7df281_XL_&#1089;&#1083;_2" TargetMode="External"/><Relationship Id="rId12" Type="http://schemas.openxmlformats.org/officeDocument/2006/relationships/hyperlink" Target="http://liveinmsk.ru/up/photos/album/kigorod/8235.jpg_&#1089;&#1083;&#1072;&#1081;&#1076;_3" TargetMode="External"/><Relationship Id="rId13" Type="http://schemas.openxmlformats.org/officeDocument/2006/relationships/hyperlink" Target="http://liveinmsk.ru/up/photos/album/kigorod/8235.jpg_&#1089;&#1083;&#1072;&#1081;&#1076;_3" TargetMode="External"/><Relationship Id="rId14" Type="http://schemas.openxmlformats.org/officeDocument/2006/relationships/hyperlink" Target="http://liveinmsk.ru/up/photos/album/kigorod/8235.jpg_&#1089;&#1083;&#1072;&#1081;&#1076;_3" TargetMode="External"/><Relationship Id="rId15" Type="http://schemas.openxmlformats.org/officeDocument/2006/relationships/hyperlink" Target="http://vsiknygy.net.ua/wp-content/uploads/2011/06/0092-2301.jpg_&#1089;&#1083;&#1072;&#1081;&#1076;_5" TargetMode="External"/><Relationship Id="rId16" Type="http://schemas.openxmlformats.org/officeDocument/2006/relationships/hyperlink" Target="http://vsiknygy.net.ua/wp-content/uploads/2011/06/0092-2301.jpg_&#1089;&#1083;&#1072;&#1081;&#1076;_5" TargetMode="External"/><Relationship Id="rId17" Type="http://schemas.openxmlformats.org/officeDocument/2006/relationships/hyperlink" Target="http://vsiknygy.net.ua/wp-content/uploads/2011/06/0092-2301.jpg_&#1089;&#1083;&#1072;&#1081;&#1076;_5" TargetMode="External"/><Relationship Id="rId18" Type="http://schemas.openxmlformats.org/officeDocument/2006/relationships/hyperlink" Target="http://900igr.net/datai/istorija/Mastera-pechatnykh-del/0006-005-Eto-byl-dovolno-pukhlyj-tom-tserkovnogo-soderzhanija.png_&#1089;&#1083;&#1072;&#1081;&#1076;_6" TargetMode="External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datai/literatura/Ivan-Fjodorov/0018-018-Oformlenie-pervoj-bukvy.jpg_&#1089;&#1083;&#1072;&#1081;&#1076;_7_1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0920" y="1125360"/>
            <a:ext cx="8569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литератур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3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рис Горбаче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ервопечатник Иван Фёдо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Школы № 47 г.о. Сам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баева Юлия Ива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В 1574 Иван Фёдоров выпустил первую славянскую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«Азбуку»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первый печатный русский учебник. В 1580-1581 годах  издал первую полную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славянскую Библию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lib.1september.ru/2004/14/16_3.jpg"/>
          <p:cNvPicPr/>
          <p:nvPr/>
        </p:nvPicPr>
        <p:blipFill>
          <a:blip r:embed="rId1"/>
          <a:stretch/>
        </p:blipFill>
        <p:spPr>
          <a:xfrm>
            <a:off x="3000240" y="2143080"/>
            <a:ext cx="2881440" cy="40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028.radikal.ru/0711/87/971dbcf60d69.jpg"/>
          <p:cNvPicPr/>
          <p:nvPr/>
        </p:nvPicPr>
        <p:blipFill>
          <a:blip r:embed="rId2"/>
          <a:stretch/>
        </p:blipFill>
        <p:spPr>
          <a:xfrm>
            <a:off x="6300720" y="2349360"/>
            <a:ext cx="2641680" cy="37767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0072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Биб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0" y="623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Страницы из «Азбу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&quot;Букварь&quot; - Фото 13307/12"/>
          <p:cNvPicPr/>
          <p:nvPr/>
        </p:nvPicPr>
        <p:blipFill>
          <a:blip r:embed="rId3"/>
          <a:stretch/>
        </p:blipFill>
        <p:spPr>
          <a:xfrm>
            <a:off x="214200" y="2143080"/>
            <a:ext cx="2508480" cy="400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img0.liveinternet.ru/images/attach/c/1/49/239/49239536_Moskva_pamyatnik_Ivanu_Fedorovu5.jpg"/>
          <p:cNvPicPr/>
          <p:nvPr/>
        </p:nvPicPr>
        <p:blipFill>
          <a:blip r:embed="rId1"/>
          <a:stretch/>
        </p:blipFill>
        <p:spPr>
          <a:xfrm>
            <a:off x="250920" y="476280"/>
            <a:ext cx="4214880" cy="5624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4572000" y="333360"/>
            <a:ext cx="457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В центре Москвы в Театральном проезде стоит памятник: человек средних лет, одетый в длинный старорусский кафтан, держит в руках только что отпечатанный лист будущей книги. Это памятник </a:t>
            </a:r>
            <a:r>
              <a:rPr b="1" lang="ru-RU" sz="3000" spc="-1" strike="noStrike">
                <a:solidFill>
                  <a:srgbClr val="953735"/>
                </a:solidFill>
                <a:latin typeface="Arial"/>
                <a:ea typeface="Arial"/>
              </a:rPr>
              <a:t>первопечатнику Ивану Фёдорову</a:t>
            </a: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Georgia"/>
              </a:rPr>
              <a:t>Источники иллюстра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7855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nigin-museum.do.am/Image00104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_слайд_1_портр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school422.ru/sites/default/files/imagecache/800x800/apostol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_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слайд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rsuh.ru/images/object_97.1255604270.70243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_слайд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img-fotki.yandex.ru/get/4607/nashenasledie2008.8c/0_584b6_aa7df281_X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_сл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osstreets.ru/wp-content/uploads/2013/09/%D0%9F%D0%B5%D1%87%D0%B0%D1%82%D0%BD%D1%8B%D0%B9%20%D0%B4%D0%B2%D0%BE%D1%80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 _слайд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liveinmsk.ru/up/photos/album/kigorod/0260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3_таб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vsiknygy.net.ua/wp-content/uploads/2011/06/0092-2301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_слайд_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home-edu.ru/user/uatml/00000646/book/pictures/book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слайд_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900igr.net/datai/literatura/Ivan-Fjodorov/0018-018-Oformlenie-pervoj-bukvy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7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sapr.ru/Archive/CA/2007/6/13/pic06_02.pn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7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drevo-info.ru/images/001/000866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900igr.net/datai/istorija/Rukopisnye-knigi-Drevnej-Rusi/0035-032-Tak-vygljadit-drevnjaja-rukopisnaja-russkaja-kniga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8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aksakal.info/uploads/posts/2011-07/1309796879_bibliya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9_Библ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900igr.net/datai/literatura/Pervaja-pechatnaja-kniga/0007-012-Bukvar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_слайд_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dlm6.meta.ua/pic/0/46/109/Qf535vking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9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img0.liveinternet.ru/images/attach/c/1/49/768/49768516_Moskva_pamyatnik_Ivanu_Fedorovu_L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vmtest.vmdaily.ru/photo/vecherka/2013/08/doc6bglsixi9q0zhcudhtj_800_480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аз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сточники текстовой информац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лиманова Л.Ф., Горецкий В.Г.  Литературное чтение. 3класс. Москва: Просвещение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утявина С.В. Поурочные разработки по литературному чтению. К учебнику Л.Ф. Климановой. Москва: ВАКО, 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53735"/>
                </a:solidFill>
                <a:latin typeface="Monotype Corsiva"/>
              </a:rPr>
              <a:t>Первопечатник  </a:t>
            </a:r>
            <a:br>
              <a:rPr sz="6600"/>
            </a:br>
            <a:r>
              <a:rPr b="1" lang="ru-RU" sz="6600" spc="-1" strike="noStrike">
                <a:solidFill>
                  <a:srgbClr val="953735"/>
                </a:solidFill>
                <a:latin typeface="Monotype Corsiva"/>
              </a:rPr>
              <a:t>Иван Фёдоров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 &amp;Icy;&amp;vcy;&amp;acy;&amp;ncy; &amp;Fcy;&amp;iecy;&amp;dcy;&amp;ocy;&amp;rcy;&amp;ocy;&amp;vcy;"/>
          <p:cNvPicPr/>
          <p:nvPr/>
        </p:nvPicPr>
        <p:blipFill>
          <a:blip r:embed="rId1"/>
          <a:stretch/>
        </p:blipFill>
        <p:spPr>
          <a:xfrm>
            <a:off x="642960" y="3328920"/>
            <a:ext cx="3071880" cy="352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Благовест-Инфо. Выставка старинных книг и рукописей открылась в Государственном литературном музее. Агентство религиозной информ"/>
          <p:cNvPicPr/>
          <p:nvPr/>
        </p:nvPicPr>
        <p:blipFill>
          <a:blip r:embed="rId2"/>
          <a:stretch/>
        </p:blipFill>
        <p:spPr>
          <a:xfrm>
            <a:off x="4714920" y="3857760"/>
            <a:ext cx="3757680" cy="2820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Границы России расширялись. Книг требовалось больше, переписчики не успевали их писать. Тогда царь Иван Грозный, который правил тогда, решил построить в Москве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Печатный двор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 Его руководителем стал церковный дьякон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Иван Фёдоров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http://www.rsuh.ru/images/object_97.1255604270.70243.jpg"/>
          <p:cNvPicPr/>
          <p:nvPr/>
        </p:nvPicPr>
        <p:blipFill>
          <a:blip r:embed="rId1"/>
          <a:stretch/>
        </p:blipFill>
        <p:spPr>
          <a:xfrm>
            <a:off x="0" y="3789360"/>
            <a:ext cx="4581360" cy="306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Техника 1948 - - Люди русской науки. Том 2"/>
          <p:cNvPicPr/>
          <p:nvPr/>
        </p:nvPicPr>
        <p:blipFill>
          <a:blip r:embed="rId2"/>
          <a:stretch/>
        </p:blipFill>
        <p:spPr>
          <a:xfrm>
            <a:off x="6429240" y="3046320"/>
            <a:ext cx="271476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  <a:ea typeface="Arial"/>
              </a:rPr>
              <a:t>Печатный д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2" descr="http://cnsk.ru/images/board/medium/ab9422556759e82722696dd48ee02fe3.jpg"/>
          <p:cNvPicPr/>
          <p:nvPr/>
        </p:nvPicPr>
        <p:blipFill>
          <a:blip r:embed="rId1"/>
          <a:stretch/>
        </p:blipFill>
        <p:spPr>
          <a:xfrm>
            <a:off x="1571760" y="0"/>
            <a:ext cx="6221160" cy="17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liveinmsk.ru/up/photos/album/kigorod/0260.jpg"/>
          <p:cNvPicPr/>
          <p:nvPr/>
        </p:nvPicPr>
        <p:blipFill>
          <a:blip r:embed="rId2"/>
          <a:srcRect l="38576" t="30646" r="35744" b="33387"/>
          <a:stretch/>
        </p:blipFill>
        <p:spPr>
          <a:xfrm>
            <a:off x="0" y="1928880"/>
            <a:ext cx="2847960" cy="492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mosstreets.ru/wp-content/uploads/2013/09/%D0%9F%D0%B5%D1%87%D0%B0%D1%82%D0%BD%D1%8B%D0%B9%20%D0%B4%D0%B2%D0%BE%D1%80.jpg"/>
          <p:cNvPicPr/>
          <p:nvPr/>
        </p:nvPicPr>
        <p:blipFill>
          <a:blip r:embed="rId3"/>
          <a:srcRect l="2880" t="5556" r="3428" b="0"/>
          <a:stretch/>
        </p:blipFill>
        <p:spPr>
          <a:xfrm>
            <a:off x="3000240" y="3214800"/>
            <a:ext cx="585792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-360"/>
            <a:ext cx="882000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Иван Фёдоров родился около 1510 года и долгое время  жил в Москве, гд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был дьяконом церкви Николы Гостунского в Московском Кремле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Сам писал о себ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Georgia"/>
                <a:ea typeface="Arial"/>
              </a:rPr>
              <a:t>«</a:t>
            </a:r>
            <a:r>
              <a:rPr b="1" i="1" lang="ru-RU" sz="4000" spc="-1" strike="noStrike">
                <a:solidFill>
                  <a:srgbClr val="953735"/>
                </a:solidFill>
                <a:latin typeface="Monotype Corsiva"/>
                <a:ea typeface="Arial"/>
              </a:rPr>
              <a:t>Иван Фёдоров, печатник из Москвы</a:t>
            </a:r>
            <a:r>
              <a:rPr b="1" i="1" lang="ru-RU" sz="2800" spc="-1" strike="noStrike">
                <a:solidFill>
                  <a:srgbClr val="953735"/>
                </a:solidFill>
                <a:latin typeface="Georgia"/>
                <a:ea typeface="Arial"/>
              </a:rPr>
              <a:t>»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  <a:ea typeface="Arial"/>
              </a:rPr>
              <a:t>.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aversev.by/pics/card.dp.2010.jpg"/>
          <p:cNvPicPr/>
          <p:nvPr/>
        </p:nvPicPr>
        <p:blipFill>
          <a:blip r:embed="rId1"/>
          <a:stretch/>
        </p:blipFill>
        <p:spPr>
          <a:xfrm>
            <a:off x="2000160" y="2928960"/>
            <a:ext cx="5619960" cy="3684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57760" y="0"/>
            <a:ext cx="5286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Был Иван хорошим писцом, мог любую букву нарисовать. Умел искусно резать по дереву. Научился и литейному делу. От живущих в Москве немцев узнал о печатном станке и буквах-литерах. И загорелся Фёдоров желанием самому научиться книгопечатанию. По ночам при лучине принялся он делать свои первые буквы. И добился успехов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sh-orthodox.org.ua/ST/15.02.12/1.jpg"/>
          <p:cNvPicPr/>
          <p:nvPr/>
        </p:nvPicPr>
        <p:blipFill>
          <a:blip r:embed="rId1"/>
          <a:stretch/>
        </p:blipFill>
        <p:spPr>
          <a:xfrm>
            <a:off x="0" y="981000"/>
            <a:ext cx="3852720" cy="5292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Georgia"/>
                <a:ea typeface="Arial"/>
              </a:rPr>
              <a:t>«Апост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вой датирова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чатной книгой стал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  <a:ea typeface="Arial"/>
              </a:rPr>
              <a:t>«Апостол»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(1 марта 1564 г.), на создание которой  ушёл целый год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Это богослужебная книга и предназначена для чтения в церкви во время богослу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Разворот из книги «Апосто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Первая книга Московского печатного двора - Апостол 1564, цен…"/>
          <p:cNvPicPr/>
          <p:nvPr/>
        </p:nvPicPr>
        <p:blipFill>
          <a:blip r:embed="rId1"/>
          <a:stretch/>
        </p:blipFill>
        <p:spPr>
          <a:xfrm>
            <a:off x="1785960" y="3143160"/>
            <a:ext cx="5937120" cy="324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Шрифт книги воспроизводил рукописное письмо, первая буква каждой главы была выделена красной краской. Начало каждой главы было украшено узором, на котором переплетались виноградные лозы с кедровыми шиш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Оформление первой буквы. - Картинка 36 - Иван Фёдоров - Исто…"/>
          <p:cNvPicPr/>
          <p:nvPr/>
        </p:nvPicPr>
        <p:blipFill>
          <a:blip r:embed="rId1"/>
          <a:srcRect l="43066" t="18504" r="31373" b="36870"/>
          <a:stretch/>
        </p:blipFill>
        <p:spPr>
          <a:xfrm>
            <a:off x="500040" y="2357280"/>
            <a:ext cx="3000240" cy="392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Решение"/>
          <p:cNvPicPr/>
          <p:nvPr/>
        </p:nvPicPr>
        <p:blipFill>
          <a:blip r:embed="rId2"/>
          <a:srcRect l="0" t="0" r="0" b="41385"/>
          <a:stretch/>
        </p:blipFill>
        <p:spPr>
          <a:xfrm>
            <a:off x="4572000" y="2214720"/>
            <a:ext cx="4103640" cy="40003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9720" y="639612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Оформление перво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В 1565  издана вторая книга –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«Часовник»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(она содержала молитвы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- основная учебная книга на Руси. Книга была подготовлена за два месяца. По ней долгое время люди учились чита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asovnik_b.jpg (194772 bytes)"/>
          <p:cNvPicPr/>
          <p:nvPr/>
        </p:nvPicPr>
        <p:blipFill>
          <a:blip r:embed="rId1"/>
          <a:stretch/>
        </p:blipFill>
        <p:spPr>
          <a:xfrm>
            <a:off x="5643720" y="2714760"/>
            <a:ext cx="2520720" cy="353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0" y="639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Страницы «Часовника»</a:t>
            </a:r>
            <a:r>
              <a:rPr b="0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Книга кириллической печати: &quot;Часовник&quot; - Медвежьегорский рай…"/>
          <p:cNvPicPr/>
          <p:nvPr/>
        </p:nvPicPr>
        <p:blipFill>
          <a:blip r:embed="rId2"/>
          <a:stretch/>
        </p:blipFill>
        <p:spPr>
          <a:xfrm>
            <a:off x="785880" y="2500200"/>
            <a:ext cx="45720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23:19:57Z</dcterms:created>
  <dc:creator>Лена</dc:creator>
  <dc:description/>
  <dc:language>en-US</dc:language>
  <cp:lastModifiedBy>User</cp:lastModifiedBy>
  <dcterms:modified xsi:type="dcterms:W3CDTF">2020-09-02T14:31:14Z</dcterms:modified>
  <cp:revision>52</cp:revision>
  <dc:subject/>
  <dc:title>Первопечатник  Иван Фёдоров</dc:title>
</cp:coreProperties>
</file>