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93D-C8EB-4788-8768-5492ED1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4BC-4808-445D-83FD-23E902F2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3E4-2A15-42CB-AE34-3D37B00F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600-086B-4E9C-92BA-2EA11705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68E-188B-4662-AD6E-084C890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0E0-8089-4E07-9F2F-4126B75D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8BF-E9B6-4233-A9FF-A5FB92D2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B22-541A-478A-A5F7-87FA978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557-0F34-43AD-971A-B855D0CD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BD2-CFF9-4B88-BF35-7BBE944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791-9BDD-4831-A87B-999CA8E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D14-5B6F-44BF-87B2-C82CBF47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630-3FFB-4192-BB99-A563CFCB9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к уроку русског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а во 2 клас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члены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ых классов МБОУ Школы №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о. Сам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аева Ю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то?)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Соловей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(что делает?) 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оё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97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6324480" y="320040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5867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867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58672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990720" y="5105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(что?) Травка (что делает?) зелен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5867280" y="563868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5" descr="https://warbler.ru/wp-content/uploads/2015/06/Luscinia-megarhynchos-picture-5.jpg"/>
          <p:cNvPicPr/>
          <p:nvPr/>
        </p:nvPicPr>
        <p:blipFill>
          <a:blip r:embed="rId1"/>
          <a:stretch/>
        </p:blipFill>
        <p:spPr>
          <a:xfrm>
            <a:off x="4800600" y="569880"/>
            <a:ext cx="241308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6" descr="http://www.fonstola.ru/download.php?file=201111/2560x1600/fonstola.ru-60710.jpg"/>
          <p:cNvPicPr/>
          <p:nvPr/>
        </p:nvPicPr>
        <p:blipFill>
          <a:blip r:embed="rId2"/>
          <a:stretch/>
        </p:blipFill>
        <p:spPr>
          <a:xfrm>
            <a:off x="1004760" y="3144960"/>
            <a:ext cx="5940720" cy="1807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2"/>
          <p:cNvSpPr/>
          <p:nvPr/>
        </p:nvSpPr>
        <p:spPr>
          <a:xfrm>
            <a:off x="2209680" y="562464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0"/>
          <p:cNvSpPr/>
          <p:nvPr/>
        </p:nvSpPr>
        <p:spPr>
          <a:xfrm>
            <a:off x="5878440" y="578808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00440" y="569880"/>
            <a:ext cx="38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ые члены пред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длежащее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дчёркивается одной чер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казуемое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дчёркивается двумя чер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(что?)  </a:t>
            </a: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Дерево</a:t>
            </a: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(что делает?)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858000" y="36576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2"/>
          <p:cNvSpPr/>
          <p:nvPr/>
        </p:nvSpPr>
        <p:spPr>
          <a:xfrm>
            <a:off x="6858000" y="35053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0" descr="https://d3jh33bzyw1wep.cloudfront.net/s3/W1siZiIsIjIwMTkvMDUvMTQvMTcvMTcvMzgvMTU0L0F2ZXJhZ2UgdG8gYW1hemluZyAtIG9hayB0cmVlLmpwZyJdLFsicCIsInRodW1iIiwiMjAwMHg5MDBcdTAwM2MiXV0"/>
          <p:cNvPicPr/>
          <p:nvPr/>
        </p:nvPicPr>
        <p:blipFill>
          <a:blip r:embed="rId1"/>
          <a:stretch/>
        </p:blipFill>
        <p:spPr>
          <a:xfrm>
            <a:off x="2362320" y="3581280"/>
            <a:ext cx="3352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657600" y="38088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аже по железной кры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Ходит тихо, тише мы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 охоту ночью выйд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 как днём она всё ви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Часто спит, а после 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мывается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k_004i"/>
          <p:cNvPicPr/>
          <p:nvPr/>
        </p:nvPicPr>
        <p:blipFill>
          <a:blip r:embed="rId1"/>
          <a:stretch/>
        </p:blipFill>
        <p:spPr>
          <a:xfrm>
            <a:off x="762120" y="380880"/>
            <a:ext cx="2601720" cy="28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87760" y="391176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шка охот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914400" y="44197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362320" y="44197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362320" y="45720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904320" y="4892760"/>
            <a:ext cx="71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Хитрая кошка охотится на м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2552760" y="543384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3949560" y="5410080"/>
            <a:ext cx="163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949560" y="5562720"/>
            <a:ext cx="163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14040" y="533160"/>
            <a:ext cx="8001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предложении, кроме главных членов предложения, могут быть и другие слова,называются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второстепенные члены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ама купила золотую ры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z00033i"/>
          <p:cNvPicPr/>
          <p:nvPr/>
        </p:nvPicPr>
        <p:blipFill>
          <a:blip r:embed="rId1"/>
          <a:stretch/>
        </p:blipFill>
        <p:spPr>
          <a:xfrm>
            <a:off x="1219320" y="2895480"/>
            <a:ext cx="186048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>
            <a:off x="220968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429000" y="6019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342900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                                            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Жители острова подарили лётчику медв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жонка. В Москву белый медвежонок полет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на самолёте. Экипаж самолёта сколотил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Фомки я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72800" y="341280"/>
            <a:ext cx="56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пиши. Подчеркни главные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_513i"/>
          <p:cNvPicPr/>
          <p:nvPr/>
        </p:nvPicPr>
        <p:blipFill>
          <a:blip r:embed="rId1"/>
          <a:stretch/>
        </p:blipFill>
        <p:spPr>
          <a:xfrm>
            <a:off x="6324480" y="914400"/>
            <a:ext cx="232740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>
            <a:off x="9907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0384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403848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876920" y="4876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7238880" y="4876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7238880" y="4952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297180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6248520" y="5334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24852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624852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777280" y="43038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7605720" y="4303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3414960" y="476100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539040" y="4761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 rot="20589000">
            <a:off x="1135080" y="2692080"/>
            <a:ext cx="7696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30"/>
          <p:cNvSpPr/>
          <p:nvPr/>
        </p:nvSpPr>
        <p:spPr>
          <a:xfrm>
            <a:off x="1523880" y="20239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Глав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члены предлож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 горизонт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. Шкаф, кровать, стол –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Платье, пальто, брюки –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Обувь для дождливой по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305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4. Спортивный инвентарь для  ка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на 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456840"/>
            <a:ext cx="7848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5. Крупная зимующая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6. Место, где изготовляю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  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родают лекар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4568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1. Словар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 вертик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Столица нашей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1397160"/>
          <a:ext cx="3657600" cy="31082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9-02T14:58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