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6EFB-AB56-4696-A5EE-F3F01DA70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F23A-68F3-4E8B-9CFB-55E7C749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DA07-E1B5-4972-AA31-FDE76C828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2594-6DA5-45E6-9AF0-E204F24D5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4A99-F2A2-4D8E-828E-90E00192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F4B6-0F56-407C-BF2B-537ABD17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C9AA-79A5-48C1-906E-0A3E7E0E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9870-6CED-4DCE-9546-9DFB0832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DE0A-3024-4185-8FF5-CF3146E4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9A2C-109B-4D11-84E1-3A382A1B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5456-B669-4C12-ADC8-1E23805C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709A-D177-4748-A762-89C1794F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8B10-C806-4DCC-9E90-A9301638D4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зентация к уроку русского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зыка во 2 класс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вные члены предло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а учит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альных классов МБОУ Школы № 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.о. Сам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баева Ю.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кто?) </a:t>
            </a:r>
            <a:r>
              <a:rPr b="0" lang="ru-RU" sz="2800" spc="-1" strike="noStrike" u="sng">
                <a:solidFill>
                  <a:srgbClr val="003300"/>
                </a:solidFill>
                <a:uFillTx/>
                <a:latin typeface="Arial"/>
              </a:rPr>
              <a:t>Соловей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 (что делает?)  </a:t>
            </a:r>
            <a:r>
              <a:rPr b="0" lang="ru-RU" sz="2800" spc="-1" strike="noStrike" u="sng">
                <a:solidFill>
                  <a:srgbClr val="003300"/>
                </a:solidFill>
                <a:uFillTx/>
                <a:latin typeface="Arial"/>
              </a:rPr>
              <a:t>поё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2286000" y="297180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8"/>
          <p:cNvSpPr/>
          <p:nvPr/>
        </p:nvSpPr>
        <p:spPr>
          <a:xfrm>
            <a:off x="6324480" y="3200400"/>
            <a:ext cx="838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0"/>
          <p:cNvSpPr/>
          <p:nvPr/>
        </p:nvSpPr>
        <p:spPr>
          <a:xfrm>
            <a:off x="5867280" y="5791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2"/>
          <p:cNvSpPr/>
          <p:nvPr/>
        </p:nvSpPr>
        <p:spPr>
          <a:xfrm>
            <a:off x="5867280" y="5791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5867280" y="5791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7"/>
          <p:cNvSpPr/>
          <p:nvPr/>
        </p:nvSpPr>
        <p:spPr>
          <a:xfrm>
            <a:off x="990720" y="51055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(что?) Травка (что делает?) зелене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8"/>
          <p:cNvSpPr/>
          <p:nvPr/>
        </p:nvSpPr>
        <p:spPr>
          <a:xfrm>
            <a:off x="5867280" y="5638680"/>
            <a:ext cx="129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15" descr="https://warbler.ru/wp-content/uploads/2015/06/Luscinia-megarhynchos-picture-5.jpg"/>
          <p:cNvPicPr/>
          <p:nvPr/>
        </p:nvPicPr>
        <p:blipFill>
          <a:blip r:embed="rId1"/>
          <a:stretch/>
        </p:blipFill>
        <p:spPr>
          <a:xfrm>
            <a:off x="4800600" y="569880"/>
            <a:ext cx="2413080" cy="19447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6" descr="http://www.fonstola.ru/download.php?file=201111/2560x1600/fonstola.ru-60710.jpg"/>
          <p:cNvPicPr/>
          <p:nvPr/>
        </p:nvPicPr>
        <p:blipFill>
          <a:blip r:embed="rId2"/>
          <a:stretch/>
        </p:blipFill>
        <p:spPr>
          <a:xfrm>
            <a:off x="1004760" y="3144960"/>
            <a:ext cx="5940720" cy="1807920"/>
          </a:xfrm>
          <a:prstGeom prst="rect">
            <a:avLst/>
          </a:prstGeom>
          <a:ln w="0">
            <a:noFill/>
          </a:ln>
        </p:spPr>
      </p:pic>
      <p:sp>
        <p:nvSpPr>
          <p:cNvPr id="68" name="Прямая соединительная линия 2"/>
          <p:cNvSpPr/>
          <p:nvPr/>
        </p:nvSpPr>
        <p:spPr>
          <a:xfrm>
            <a:off x="2209680" y="5624640"/>
            <a:ext cx="1067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20"/>
          <p:cNvSpPr/>
          <p:nvPr/>
        </p:nvSpPr>
        <p:spPr>
          <a:xfrm>
            <a:off x="5878440" y="5788080"/>
            <a:ext cx="1284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1000440" y="569880"/>
            <a:ext cx="38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Главные члены пред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61760" y="685800"/>
            <a:ext cx="79246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Подлежащее 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подчёркивается одной чер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Сказуемое 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подчёркивается двумя чер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00"/>
                </a:solidFill>
                <a:latin typeface="Arial"/>
              </a:rPr>
              <a:t>(что?)  </a:t>
            </a:r>
            <a:r>
              <a:rPr b="0" i="1" lang="ru-RU" sz="3200" spc="-1" strike="noStrike" u="sng">
                <a:solidFill>
                  <a:srgbClr val="003300"/>
                </a:solidFill>
                <a:uFillTx/>
                <a:latin typeface="Arial"/>
              </a:rPr>
              <a:t>Дерево</a:t>
            </a:r>
            <a:r>
              <a:rPr b="0" i="1" lang="ru-RU" sz="3200" spc="-1" strike="noStrike">
                <a:solidFill>
                  <a:srgbClr val="003300"/>
                </a:solidFill>
                <a:latin typeface="Arial"/>
              </a:rPr>
              <a:t> (что делает?) раст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"/>
          <p:cNvSpPr/>
          <p:nvPr/>
        </p:nvSpPr>
        <p:spPr>
          <a:xfrm>
            <a:off x="6858000" y="3657600"/>
            <a:ext cx="144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2"/>
          <p:cNvSpPr/>
          <p:nvPr/>
        </p:nvSpPr>
        <p:spPr>
          <a:xfrm>
            <a:off x="6858000" y="3505320"/>
            <a:ext cx="144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10" descr="https://d3jh33bzyw1wep.cloudfront.net/s3/W1siZiIsIjIwMTkvMDUvMTQvMTcvMTcvMzgvMTU0L0F2ZXJhZ2UgdG8gYW1hemluZyAtIG9hayB0cmVlLmpwZyJdLFsicCIsInRodW1iIiwiMjAwMHg5MDBcdTAwM2MiXV0"/>
          <p:cNvPicPr/>
          <p:nvPr/>
        </p:nvPicPr>
        <p:blipFill>
          <a:blip r:embed="rId1"/>
          <a:stretch/>
        </p:blipFill>
        <p:spPr>
          <a:xfrm>
            <a:off x="2362320" y="3581280"/>
            <a:ext cx="33526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657600" y="380880"/>
            <a:ext cx="5029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Даже по железной кры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Ходит тихо, тише мыш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На охоту ночью выйд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И как днём она всё види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Часто спит, а после с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Умывается 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k_004i"/>
          <p:cNvPicPr/>
          <p:nvPr/>
        </p:nvPicPr>
        <p:blipFill>
          <a:blip r:embed="rId1"/>
          <a:stretch/>
        </p:blipFill>
        <p:spPr>
          <a:xfrm>
            <a:off x="762120" y="380880"/>
            <a:ext cx="2601720" cy="28958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887760" y="3911760"/>
            <a:ext cx="350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Кошка охоти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8"/>
          <p:cNvSpPr/>
          <p:nvPr/>
        </p:nvSpPr>
        <p:spPr>
          <a:xfrm>
            <a:off x="914400" y="4419720"/>
            <a:ext cx="1219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9"/>
          <p:cNvSpPr/>
          <p:nvPr/>
        </p:nvSpPr>
        <p:spPr>
          <a:xfrm>
            <a:off x="2362320" y="441972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0"/>
          <p:cNvSpPr/>
          <p:nvPr/>
        </p:nvSpPr>
        <p:spPr>
          <a:xfrm>
            <a:off x="2362320" y="457200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904320" y="4892760"/>
            <a:ext cx="71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Хитрая кошка охотится на мыш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2"/>
          <p:cNvSpPr/>
          <p:nvPr/>
        </p:nvSpPr>
        <p:spPr>
          <a:xfrm>
            <a:off x="2552760" y="543384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>
            <a:off x="3949560" y="5410080"/>
            <a:ext cx="1632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3949560" y="5562720"/>
            <a:ext cx="1632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914040" y="533160"/>
            <a:ext cx="80010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В предложении, кроме главных членов предложения, могут быть и другие слова,называются о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второстепенные члены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Мама купила золотую рыб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z00033i"/>
          <p:cNvPicPr/>
          <p:nvPr/>
        </p:nvPicPr>
        <p:blipFill>
          <a:blip r:embed="rId1"/>
          <a:stretch/>
        </p:blipFill>
        <p:spPr>
          <a:xfrm>
            <a:off x="1219320" y="2895480"/>
            <a:ext cx="1860480" cy="2210040"/>
          </a:xfrm>
          <a:prstGeom prst="rect">
            <a:avLst/>
          </a:prstGeom>
          <a:ln w="0">
            <a:noFill/>
          </a:ln>
        </p:spPr>
      </p:pic>
      <p:sp>
        <p:nvSpPr>
          <p:cNvPr id="87" name="Line 5"/>
          <p:cNvSpPr/>
          <p:nvPr/>
        </p:nvSpPr>
        <p:spPr>
          <a:xfrm>
            <a:off x="2209680" y="6019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3429000" y="6019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7"/>
          <p:cNvSpPr/>
          <p:nvPr/>
        </p:nvSpPr>
        <p:spPr>
          <a:xfrm>
            <a:off x="342900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щ.                                            г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Жители острова подарили лётчику медве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жонка. В Москву белый медвежонок полете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на самолёте. Экипаж самолёта сколотил д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Фомки ящ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072800" y="341280"/>
            <a:ext cx="568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Спиши. Подчеркни главные члены предл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m_513i"/>
          <p:cNvPicPr/>
          <p:nvPr/>
        </p:nvPicPr>
        <p:blipFill>
          <a:blip r:embed="rId1"/>
          <a:stretch/>
        </p:blipFill>
        <p:spPr>
          <a:xfrm>
            <a:off x="6324480" y="914400"/>
            <a:ext cx="2327400" cy="2590920"/>
          </a:xfrm>
          <a:prstGeom prst="rect">
            <a:avLst/>
          </a:prstGeom>
          <a:ln w="0">
            <a:noFill/>
          </a:ln>
        </p:spPr>
      </p:pic>
      <p:sp>
        <p:nvSpPr>
          <p:cNvPr id="93" name="Line 8"/>
          <p:cNvSpPr/>
          <p:nvPr/>
        </p:nvSpPr>
        <p:spPr>
          <a:xfrm>
            <a:off x="990720" y="4419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0"/>
          <p:cNvSpPr/>
          <p:nvPr/>
        </p:nvSpPr>
        <p:spPr>
          <a:xfrm>
            <a:off x="4038480" y="4419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1"/>
          <p:cNvSpPr/>
          <p:nvPr/>
        </p:nvSpPr>
        <p:spPr>
          <a:xfrm>
            <a:off x="4038480" y="4495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"/>
          <p:cNvSpPr/>
          <p:nvPr/>
        </p:nvSpPr>
        <p:spPr>
          <a:xfrm>
            <a:off x="4876920" y="487692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3"/>
          <p:cNvSpPr/>
          <p:nvPr/>
        </p:nvSpPr>
        <p:spPr>
          <a:xfrm>
            <a:off x="7238880" y="48769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4"/>
          <p:cNvSpPr/>
          <p:nvPr/>
        </p:nvSpPr>
        <p:spPr>
          <a:xfrm>
            <a:off x="7238880" y="49528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5"/>
          <p:cNvSpPr/>
          <p:nvPr/>
        </p:nvSpPr>
        <p:spPr>
          <a:xfrm>
            <a:off x="2971800" y="5334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6"/>
          <p:cNvSpPr/>
          <p:nvPr/>
        </p:nvSpPr>
        <p:spPr>
          <a:xfrm>
            <a:off x="6248520" y="53341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7"/>
          <p:cNvSpPr/>
          <p:nvPr/>
        </p:nvSpPr>
        <p:spPr>
          <a:xfrm>
            <a:off x="6248520" y="5486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8"/>
          <p:cNvSpPr/>
          <p:nvPr/>
        </p:nvSpPr>
        <p:spPr>
          <a:xfrm>
            <a:off x="6248520" y="5410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1"/>
          <p:cNvSpPr/>
          <p:nvPr/>
        </p:nvSpPr>
        <p:spPr>
          <a:xfrm>
            <a:off x="5777280" y="430380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щ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2"/>
          <p:cNvSpPr/>
          <p:nvPr/>
        </p:nvSpPr>
        <p:spPr>
          <a:xfrm>
            <a:off x="7605720" y="43038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3"/>
          <p:cNvSpPr/>
          <p:nvPr/>
        </p:nvSpPr>
        <p:spPr>
          <a:xfrm>
            <a:off x="3414960" y="476100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щ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4"/>
          <p:cNvSpPr/>
          <p:nvPr/>
        </p:nvSpPr>
        <p:spPr>
          <a:xfrm>
            <a:off x="6539040" y="47610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792468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5"/>
          <p:cNvSpPr txBox="1"/>
          <p:nvPr/>
        </p:nvSpPr>
        <p:spPr>
          <a:xfrm rot="20589000">
            <a:off x="1135080" y="2692080"/>
            <a:ext cx="769608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30"/>
          <p:cNvSpPr/>
          <p:nvPr/>
        </p:nvSpPr>
        <p:spPr>
          <a:xfrm>
            <a:off x="1523880" y="20239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Главны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члены предложен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838080" y="456840"/>
            <a:ext cx="784872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1. Словарная раб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По горизонта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1. Шкаф, кровать, стол – одним сло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762120" y="1397160"/>
          <a:ext cx="3657600" cy="310824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81532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1. Словарная раб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2. Платье, пальто, брюки – одним сло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762120" y="1397160"/>
          <a:ext cx="3657600" cy="310824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38080" y="456840"/>
            <a:ext cx="784872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1. Словарная раб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3. Обувь для дождливой пог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62120" y="1397160"/>
          <a:ext cx="3657600" cy="310824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3160" y="456840"/>
            <a:ext cx="830556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1. Словарная раб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4. Спортивный инвентарь для  ка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на  ль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62120" y="1397160"/>
          <a:ext cx="3657600" cy="310824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14400" y="456840"/>
            <a:ext cx="784872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1. Словарная раб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5. Крупная зимующая пт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762120" y="1397160"/>
          <a:ext cx="3657600" cy="310824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0880" y="456840"/>
            <a:ext cx="876312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1. Словарная раб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6. Место, где изготовляют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                                      </a:t>
            </a: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продают лекарств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762120" y="1397160"/>
          <a:ext cx="3657600" cy="310824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09120" y="456840"/>
            <a:ext cx="853452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1. Словарная раб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По вертика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Столица нашей Род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62120" y="1397160"/>
          <a:ext cx="3657600" cy="310824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0-09-02T14:58:01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