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0F4C-F3A3-4BB3-8A75-0E78AC4B59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1B32-7C71-443E-BF24-E7027237B4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866C-633E-4DCB-A2FA-164337A514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5DD3-B103-4935-9FDE-8132C64CA3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02E0-0F8A-460E-82C0-6C1ECCCBFD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8150-E218-4A22-B682-75EF19B479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9496-34B2-437B-B793-23964616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C629-1B40-41C6-8707-205FE80E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4CC1-9342-471F-9807-4D22A6E1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8F9E-AB92-4842-BB82-6925E42E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149-5B82-4C98-BA43-F13B887C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9AF-97C6-4EE1-AFFD-D4DE7925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4850-0A38-4A30-AFC6-78AE13A7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F13F-A4BD-41A1-8448-8689DA8D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478A-9FC5-4032-A847-7D23A4A9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3C1F-A020-465F-ADA0-5E52D779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532-2228-4C86-AC0C-CE2E9961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F113-9E43-4DB2-9F42-19DC8A90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6307-77DA-4AD4-AAE8-D436E9590BC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зентация к уроку русского языка во 2 класс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едлог и приставк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ыполнила учитель начальных классо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МБОУ Школы № 47 г.о. Самар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Любаева Юлия Ивановн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2"/>
          <p:cNvSpPr/>
          <p:nvPr/>
        </p:nvSpPr>
        <p:spPr>
          <a:xfrm>
            <a:off x="1542960" y="82548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читайте  предложения. Вставьте пропущенные    пред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10119240" y="595008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266120" y="2411280"/>
            <a:ext cx="285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е светит солнышко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5035680" y="238284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ыш домов капает 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1560600" y="39765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тку села пти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4434120" y="402732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        неё гнезд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833040" y="238284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4520880" y="238284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748440" y="388476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5297400" y="39765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__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3159000" y="2664000"/>
            <a:ext cx="77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1547640" y="56520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читайте  предложения. Вставьте  пропущ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1071720" y="2155680"/>
            <a:ext cx="7842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небе   светит солнышко. 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крыш свисают сосульки.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дома лужицы. 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деревьях  чирикают вороб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1153800" y="201312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1891080" y="2014560"/>
            <a:ext cx="66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>
            <a:off x="7199640" y="2033640"/>
            <a:ext cx="6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4917600" y="2101680"/>
            <a:ext cx="6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4502880" y="274788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>
            <a:off x="6472080" y="202392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7866720" y="2755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2"/>
          <p:cNvSpPr/>
          <p:nvPr/>
        </p:nvSpPr>
        <p:spPr>
          <a:xfrm>
            <a:off x="4993920" y="3429000"/>
            <a:ext cx="7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3"/>
          <p:cNvSpPr/>
          <p:nvPr/>
        </p:nvSpPr>
        <p:spPr>
          <a:xfrm>
            <a:off x="1715760" y="3429000"/>
            <a:ext cx="7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306480" y="2755800"/>
            <a:ext cx="7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5"/>
          <p:cNvSpPr/>
          <p:nvPr/>
        </p:nvSpPr>
        <p:spPr>
          <a:xfrm>
            <a:off x="5072400" y="2747880"/>
            <a:ext cx="7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6"/>
          <p:cNvSpPr/>
          <p:nvPr/>
        </p:nvSpPr>
        <p:spPr>
          <a:xfrm>
            <a:off x="3317040" y="34290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7"/>
          <p:cNvSpPr/>
          <p:nvPr/>
        </p:nvSpPr>
        <p:spPr>
          <a:xfrm>
            <a:off x="1555560" y="28018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8"/>
          <p:cNvSpPr/>
          <p:nvPr/>
        </p:nvSpPr>
        <p:spPr>
          <a:xfrm>
            <a:off x="3317040" y="20430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47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75" nodeType="afterEffect" fill="hold" presetClass="entr" presetID="4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81" nodeType="afterEffect" fill="hold" presetClass="entr" presetID="4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4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4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4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4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4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4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47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2340000" y="83664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ЗАПОМНИ 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1763640" y="1844640"/>
            <a:ext cx="5688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3"/>
          <p:cNvSpPr/>
          <p:nvPr/>
        </p:nvSpPr>
        <p:spPr>
          <a:xfrm>
            <a:off x="1116000" y="1739880"/>
            <a:ext cx="7704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ог -  это  слово ,  и  он  пиш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ТДЕЛЬ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 других  слов  !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 словом и предлогом можно вставить другое слово или вопро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3597120" y="41497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еревь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3173400" y="5438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чём?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ревь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3147840" y="489276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и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еревь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2268360" y="981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шите текст, раскройте скоб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1187280" y="2133720"/>
            <a:ext cx="7848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шла весна (в) лес. (На) бухли почки (на) деревьях. Оживает (под) снегом молодая тра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268360" y="981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шите текст, раскройте скоб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1187280" y="2133720"/>
            <a:ext cx="7848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шла весн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ес. Набухли почк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еревьях. Оживает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негом молодая тра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116000" y="1589040"/>
            <a:ext cx="76327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Б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ёзовая, р . бята, пошли, рощ . , су . . 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-684360" y="692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628640" y="1062000"/>
            <a:ext cx="49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читай, вставь пропущенные бук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амо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86920" y="1604880"/>
            <a:ext cx="74962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i="1" lang="ru-RU" sz="4400" spc="-1" strike="noStrike">
                <a:solidFill>
                  <a:srgbClr val="009973"/>
                </a:solidFill>
                <a:latin typeface="Arial"/>
              </a:rPr>
              <a:t>е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ёзовая, р</a:t>
            </a:r>
            <a:r>
              <a:rPr b="0" i="1" lang="ru-RU" sz="4400" spc="-1" strike="noStrike">
                <a:solidFill>
                  <a:srgbClr val="009973"/>
                </a:solidFill>
                <a:latin typeface="Arial"/>
              </a:rPr>
              <a:t>е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бята, п</a:t>
            </a:r>
            <a:r>
              <a:rPr b="0" i="1" lang="ru-RU" sz="4400" spc="-1" strike="noStrike">
                <a:solidFill>
                  <a:srgbClr val="009973"/>
                </a:solidFill>
                <a:latin typeface="Arial"/>
              </a:rPr>
              <a:t>о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шли, рощ</a:t>
            </a:r>
            <a:r>
              <a:rPr b="0" i="1" lang="ru-RU" sz="4400" spc="-1" strike="noStrike">
                <a:solidFill>
                  <a:srgbClr val="009973"/>
                </a:solidFill>
                <a:latin typeface="Arial"/>
              </a:rPr>
              <a:t>а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, су</a:t>
            </a:r>
            <a:r>
              <a:rPr b="0" i="1" lang="ru-RU" sz="4400" spc="-1" strike="noStrike">
                <a:solidFill>
                  <a:srgbClr val="009973"/>
                </a:solidFill>
                <a:latin typeface="Arial"/>
              </a:rPr>
              <a:t>бб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4"/>
          <p:cNvSpPr/>
          <p:nvPr/>
        </p:nvSpPr>
        <p:spPr>
          <a:xfrm>
            <a:off x="1775520" y="22446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600" spc="-1" strike="noStrike">
                <a:solidFill>
                  <a:srgbClr val="009973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1848960" y="305100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щ</a:t>
            </a:r>
            <a:r>
              <a:rPr b="0" lang="ru-RU" sz="3600" spc="-1" strike="noStrike">
                <a:solidFill>
                  <a:srgbClr val="009973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1542240" y="3992400"/>
            <a:ext cx="24991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ru-RU" sz="3600" spc="-1" strike="noStrike">
                <a:solidFill>
                  <a:srgbClr val="009973"/>
                </a:solidFill>
                <a:latin typeface="Arial"/>
              </a:rPr>
              <a:t>б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3859560" y="223668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600" spc="-1" strike="noStrike">
                <a:solidFill>
                  <a:srgbClr val="009973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5753160" y="2236680"/>
            <a:ext cx="31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3600" spc="-1" strike="noStrike">
                <a:solidFill>
                  <a:srgbClr val="009973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ёз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0"/>
          <p:cNvSpPr/>
          <p:nvPr/>
        </p:nvSpPr>
        <p:spPr>
          <a:xfrm>
            <a:off x="2048760" y="1633680"/>
            <a:ext cx="13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ущ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1"/>
          <p:cNvSpPr/>
          <p:nvPr/>
        </p:nvSpPr>
        <p:spPr>
          <a:xfrm>
            <a:off x="4118040" y="159084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2"/>
          <p:cNvSpPr/>
          <p:nvPr/>
        </p:nvSpPr>
        <p:spPr>
          <a:xfrm>
            <a:off x="6453360" y="1633680"/>
            <a:ext cx="1599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1785240" y="5229360"/>
            <a:ext cx="44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ь из этих слов пред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042920" y="62064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убботу  ребята пошли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берёзовую рощ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403280" y="3068640"/>
            <a:ext cx="34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вы использовали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1116000" y="1413000"/>
            <a:ext cx="763272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годня мы познакомимся с новой частью речи- предлог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раемся на уроке ответить на следующие вопрос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предлог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 Как пишутся предлог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чего нужны предлоги в реч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1116000" y="2205000"/>
            <a:ext cx="77770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«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едло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на латинском языке означает «стоящий перед словом»:  «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е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– перед, «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ого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– сло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481560" y="1063800"/>
            <a:ext cx="23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л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1116000" y="184464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убботу  ребята пошли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рёзовую рощ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924920" y="620640"/>
            <a:ext cx="31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ая допущена ошиб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332000" y="2492280"/>
            <a:ext cx="71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_субботу  ребята пошли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_ берёзовую рощ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1568880" y="981000"/>
            <a:ext cx="508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логи со словами пишутся разд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фограмма – пробел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пишите пред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9T14:23:52Z</dcterms:created>
  <dc:creator>Ивочкина</dc:creator>
  <dc:description/>
  <dc:language>en-US</dc:language>
  <cp:lastModifiedBy>User</cp:lastModifiedBy>
  <dcterms:modified xsi:type="dcterms:W3CDTF">2020-09-02T14:51:05Z</dcterms:modified>
  <cp:revision>58</cp:revision>
  <dc:subject/>
  <dc:title>Презентация PowerPoint</dc:title>
</cp:coreProperties>
</file>