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1B3-E225-45B3-B984-F8ECB3534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19C-D792-4657-ACDA-362AC1B2D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FC0-90D5-4250-A585-8C1BAF0CD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89D-C909-4B75-9131-B8C3460002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D102-9557-4B31-83A6-B386463EC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52F-8131-4A90-B461-E1E89F181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744-363D-49CF-9891-519D4468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966-A76A-4105-A104-90C9E34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188-F189-43F7-A2A2-296BD552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9ED-C6FA-4610-9260-523DA63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255-D911-4ADD-8A20-63FCB223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617-68DA-4CED-9B93-BD64C805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D14-03E4-4B98-BE87-854752E1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417-C8DA-41D0-9DA9-5179A02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25A-6EE0-4C97-9647-0B6755B5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C4D-1300-4D6D-B5B4-FDC3C30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5F5-3237-4F60-B912-E7DDD4A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5CF-132A-4A77-BCB9-16307372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2F5-E4B2-4B18-94C0-12699DE350E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русского языка во 2 класс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лог и пристав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БОУ Школы № 47 г.о. Самар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юбаева Юлия Иванов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1542960" y="825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 предложения. Вставьте пропущенные    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0119240" y="5950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266120" y="2411280"/>
            <a:ext cx="285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 светит солнышко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035680" y="23828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 домов капает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60600" y="39765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ку села пт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434120" y="40273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        неё гнезд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833040" y="23828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520880" y="23828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48440" y="38847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5297400" y="39765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__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159000" y="2664000"/>
            <a:ext cx="77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547640" y="5652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 предложения. Вставьте  пропущ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071720" y="2155680"/>
            <a:ext cx="7842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небе   светит солнышко.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крыш свисают сосульки.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дома лужицы.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деревьях  чирикают вороб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53800" y="20131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891080" y="201456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7199640" y="203364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4917600" y="21016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502880" y="27478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6472080" y="20239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7866720" y="2755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4993920" y="34290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1715760" y="34290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306480" y="27558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5072400" y="27478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6"/>
          <p:cNvSpPr/>
          <p:nvPr/>
        </p:nvSpPr>
        <p:spPr>
          <a:xfrm>
            <a:off x="3317040" y="3429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7"/>
          <p:cNvSpPr/>
          <p:nvPr/>
        </p:nvSpPr>
        <p:spPr>
          <a:xfrm>
            <a:off x="1555560" y="2801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8"/>
          <p:cNvSpPr/>
          <p:nvPr/>
        </p:nvSpPr>
        <p:spPr>
          <a:xfrm>
            <a:off x="3317040" y="2043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7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75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1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340000" y="836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ПОМНИ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763640" y="1844640"/>
            <a:ext cx="568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1116000" y="1739880"/>
            <a:ext cx="770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 -  это  слово ,  и  он  пиш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ТДЕЛЬ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других  слов  !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словом и предлогом можно вставить другое слово или во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597120" y="4149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173400" y="5438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чём?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147840" y="48927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26836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текст, раскройте скоб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187280" y="213372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ла весна (в) лес. (На) бухли почки (на) деревьях. Оживает (под) снегом молодая т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26836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текст, раскройте скоб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187280" y="213372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ла вес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с. Набухли почк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ревьях. Оживае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ом молодая т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116000" y="1589040"/>
            <a:ext cx="7632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ёзовая, р . бята, пошли, рощ . , су . . 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-684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628640" y="10620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читай, вставь пропущенные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6920" y="1604880"/>
            <a:ext cx="7496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ёзовая, р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ята, п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шли, рощ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, су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бб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1775520" y="22446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848960" y="305100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щ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542240" y="3992400"/>
            <a:ext cx="24991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б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859560" y="22366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753160" y="2236680"/>
            <a:ext cx="31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ёз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2048760" y="163368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4118040" y="159084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6453360" y="1633680"/>
            <a:ext cx="1599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5240" y="522936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ь из этих слов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4292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03280" y="306864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вы использов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1116000" y="1413000"/>
            <a:ext cx="7632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ы познакомимся с новой частью речи- пред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емся на уроке ответить на следующие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предл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Как пишутся предл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чего нужны предлоги в ре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116000" y="2205000"/>
            <a:ext cx="7777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на латинском языке означает «стоящий перед словом»: 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перед,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ог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481560" y="106380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116000" y="1844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924920" y="62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ая допущена ошиб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332000" y="249228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_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_ 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568880" y="981000"/>
            <a:ext cx="50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логи со словами пишутся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фограмма – пробел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шит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14:23:52Z</dcterms:created>
  <dc:creator>Ивочкина</dc:creator>
  <dc:description/>
  <dc:language>en-US</dc:language>
  <cp:lastModifiedBy>User</cp:lastModifiedBy>
  <dcterms:modified xsi:type="dcterms:W3CDTF">2020-09-02T14:51:05Z</dcterms:modified>
  <cp:revision>58</cp:revision>
  <dc:subject/>
  <dc:title>Презентация PowerPoint</dc:title>
</cp:coreProperties>
</file>