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03B-78EE-44BC-AD3B-9FAFAE61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C04-2182-4370-9F67-73DBBFA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D45-1AE4-40DF-9E5D-D380D515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B27-58A0-4127-ADFF-4D41A542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F7C-F892-467D-BF9A-9FBC84C1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FBDE-5022-449B-BCFD-7E30291D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39C-69B8-42AE-AA4F-D3D6553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DD5A-A787-4AD2-9923-D71D24A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ECB-7EFC-4705-A570-0843BCC9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105-8732-4F71-B883-E2182C64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EBFA-C1D1-483B-9FC8-605DFCC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CDE-5FBD-415F-B251-7930A25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C35-2A25-4EDD-9F63-319234B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D15-5DD5-42E6-9663-1E0A7F6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3E3-AE43-4C9D-9210-DB8952F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8828-1181-48E2-A49C-39974B6D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162-8481-4DC9-8C4C-DA8E09D1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32CE-C99D-4D32-A9C8-4B9BDCEE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6C96-5DF1-4A63-9A90-8CA315DC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DCD5-AD68-4638-989E-9447049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4F7C-9814-4B00-9AD8-E4312DE2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3CCC-0E0A-44EE-A531-2AEF6603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3AD-7630-4803-8E68-B97C61E5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01F1-8CB6-49D6-BE12-6FEC58F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6D0A-4753-4694-8220-0D6E919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A5AC-C04F-478D-B7A5-CFC4549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AC93-AE95-499A-85E2-A2266F7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2625-EBA0-46AB-8B84-C43A166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38E4-4001-4F68-978B-352C74BC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4B9F-4522-4C6B-B80F-FBBDF5E3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22CE-1EC2-4F0D-8EA6-801F3A1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7518-0FBB-4EC5-BC08-4CE3DBC1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A262-4920-4D8F-8C8F-AB039CFC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0A2-2B2B-4839-998C-C6E46514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7F6F9-F96B-471D-829B-30FBA408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AAF3-C319-441D-BEBB-E91020A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0925-8E28-4A5B-A055-96A32D5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F197-DD67-4E09-A46A-CDD026B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5283-6B03-46FC-836A-CB4916B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B7B1-3D6F-440D-8502-CC809E0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4BC9-6C3A-4772-9B18-F938B34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2B7A-CA4E-4A6A-9982-8216962C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64DB-BCE5-42D4-9C8A-E730947F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A15-B0D0-44AA-A8E2-38BAF02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4B6-FF2B-4AFE-A6B6-1CE724F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8EC-2FD9-44AE-861C-0414299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4DB-99DB-4C5E-96D4-55725ED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D28-1D45-4B64-8B22-A393D84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F770-AC22-4FB0-86A4-4485E4317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FA0-9BE9-4CC6-BC6E-ABB96827C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8775-7576-437D-8C59-703ACE1E2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C1A-D5F2-46CA-87EE-F2BE9FC67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rvinat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игрушк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МБДОУ «Детский сад №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оспитатель: Хроменкова Екатерина Алекс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Антон\Downloads\images (2).jpg"/>
          <p:cNvPicPr/>
          <p:nvPr/>
        </p:nvPicPr>
        <p:blipFill>
          <a:blip r:embed="rId1"/>
          <a:stretch/>
        </p:blipFill>
        <p:spPr>
          <a:xfrm>
            <a:off x="0" y="0"/>
            <a:ext cx="556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соседя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Антон\Downloads\images (6).jpg"/>
          <p:cNvPicPr/>
          <p:nvPr/>
        </p:nvPicPr>
        <p:blipFill>
          <a:blip r:embed="rId1"/>
          <a:stretch/>
        </p:blipFill>
        <p:spPr>
          <a:xfrm>
            <a:off x="4356000" y="1989000"/>
            <a:ext cx="4103640" cy="4503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003d"/>
                </a:solidFill>
                <a:latin typeface="arial cyr"/>
                <a:ea typeface="Times New Roman"/>
              </a:rPr>
              <a:t>Тили-бом, тили-бом! Загорелся Кошкин до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468360" y="3157920"/>
            <a:ext cx="82072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Не секрет, что пожары чаще всего происходят от беспечного отношения к огню самих людей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начительная часть пожаров происходит в жилье. Здесь гибель и травматизм людей от дыма и огня составляет 9 случаев из 10. По данным Центра пожарной статистики в России при пожарах среди 1 миллиона потерпевших погибает более 100 человек. Это в 6 раз больше, чем в США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сновными причинами пожаров в быту являются: неосторожное обращение с огнем при курении и приготовлении пищи, использование электробытовых приборов, теле-, видео- и аудиотехники, не адаптированной к отечественной электросети или неисправных, проведение электросварочных работ при ремонтных работах в квартирах, детские шалости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 огн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кварт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684360" y="314172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и в коем случае не зажигай фейерверки, свечи или бенгальские огни дома без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дерев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395280" y="3645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 деревне или на даче без взрослых не подходи к печи и не открывай печную дверцу. Оттуда могут выскочить раскаленный уголек или искра и стать причиной пожа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икогда не прикасайся голыми руками к металлическим частям печки. Ты можешь получить серьезный ожо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трогай без разрешения взрослых печную заслонку. Если ее закрыть раньше времени, в доме скопится угарный газ, и можно задох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539640" y="386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сли начался пожар, а взрослых дома нет, поступай та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е поддавайтесь панике и не теряйте самообладания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6562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забудь выключить утюг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 спичками играть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Антон\Downloads\images.jpg"/>
          <p:cNvPicPr/>
          <p:nvPr/>
        </p:nvPicPr>
        <p:blipFill>
          <a:blip r:embed="rId1"/>
          <a:stretch/>
        </p:blipFill>
        <p:spPr>
          <a:xfrm>
            <a:off x="0" y="0"/>
            <a:ext cx="432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ери от газовой плиты всё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http://www.1408.ru/Image/image013(1).jpg"/>
          <p:cNvPicPr/>
          <p:nvPr/>
        </p:nvPicPr>
        <p:blipFill>
          <a:blip r:embed="rId1"/>
          <a:stretch/>
        </p:blipFill>
        <p:spPr>
          <a:xfrm>
            <a:off x="4932360" y="1341360"/>
            <a:ext cx="3456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01.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96440" y="3479040"/>
            <a:ext cx="8233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  <a:ea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  <a:ea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А ВЫЗОВА ЭКСТРЕННЫХ СЛУЖБ ПО ТЕЛЕФ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468360" y="4005360"/>
            <a:ext cx="813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ар — самое распространенное бедствие. Подсчитано, что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что просмотрели эту презентацию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C:\Users\Антон\Downloads\images (8).jpg"/>
          <p:cNvPicPr/>
          <p:nvPr/>
        </p:nvPicPr>
        <p:blipFill>
          <a:blip r:embed="rId1"/>
          <a:stretch/>
        </p:blipFill>
        <p:spPr>
          <a:xfrm>
            <a:off x="4500720" y="22050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900igr.net/datas/obg/Pri-pozhare/0016-016-Pomn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 чему это приводи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Антон\Downloads\images (1).jpg"/>
          <p:cNvPicPr/>
          <p:nvPr/>
        </p:nvPicPr>
        <p:blipFill>
          <a:blip r:embed="rId1"/>
          <a:stretch/>
        </p:blipFill>
        <p:spPr>
          <a:xfrm>
            <a:off x="4716360" y="1628640"/>
            <a:ext cx="3808440" cy="43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24000" y="3860640"/>
            <a:ext cx="410364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ша гладила штани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весёлого, для миш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 забыла про утюг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т мишки остались одни лишь углиш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 должен быть в каждой школ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авка рисунков детей начальных клас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4284720" y="476280"/>
            <a:ext cx="457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ыл затушить костёр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survinat.ru/wp-content/uploads/HLIC/7c3cce8c0dac07668a8359afb0675a6e.jpg"/>
          <p:cNvPicPr/>
          <p:nvPr/>
        </p:nvPicPr>
        <p:blipFill>
          <a:blip r:embed="rId1"/>
          <a:stretch/>
        </p:blipFill>
        <p:spPr>
          <a:xfrm>
            <a:off x="4067280" y="285264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беречься от лесного пожа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539640" y="292428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сные пожары происходят в основном в летнее время, и их причиной зачастую являются плохо затушенные походные костры, брошенные сигареты, спички и самовоспламеняющиеся предметы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охо затушенные костры могут очень долгое время не разгораться, а всего лишь тихо тлеть. Но малейшее дуновение ветра способно превратить эти тлеющие угольки в огромный костер, который очень быстро перебросится на находящиеся недалеко от него сухие ветки и травы и в считанные минуты охватит огромную терри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учается, что пожар разгорается от смолистых пней и корней или же на местах утечки природного газа или нефти. Чаще всего лесные пожары начинаются в самых сухих участках леса, где для этого созданы идеальные условия. Это старые сосняки и ельники, выгоревшие на солнце поляны или же заброшенные стога сена, которые были накошены очень давно, но до сих пор не убраны. От дождя эти стога начинают тлеть и быстро становятся причиной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Сергей</cp:lastModifiedBy>
  <dcterms:modified xsi:type="dcterms:W3CDTF">2020-09-02T10:40:52Z</dcterms:modified>
  <cp:revision>22</cp:revision>
  <dc:subject/>
  <dc:title>Слайд 1</dc:title>
</cp:coreProperties>
</file>