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F466-DFEC-4855-AC5F-69F74BA38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025A-D366-43A5-A25C-6C075CB3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0B5E-731F-4897-B223-26DFA37D3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EC37-0DC1-45A3-9F5D-499F51DAF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6450-D2C0-4B5E-9548-769259233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08A8-25BE-4755-A8CD-2C66C396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9E7B-FA4A-4F78-A706-BB458C24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EE62-E81E-44E9-A945-C8BD3427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8AA3-A817-48B8-889F-CD7BE6AD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87A0-1C73-46B3-A3BD-5E0E6D9C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52BF-8417-4679-BA55-EEA54B06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2A06-D170-4BF7-843F-1A2ABA0A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2C20-0249-4CD9-B93A-F9B252FD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5F9A-8E66-4E8B-B50B-B77AAB22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FCFB-4F17-4799-852C-BE2B9109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E39B-8B22-41D8-B970-D424463AD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F8F3-B0F5-48B8-8A4C-E0F70CAE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0C893-BD6F-43DE-8EE7-65C32A0A4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192DE-DC8A-4E1D-A9FE-AE5011B3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317CE-64F4-42FD-B2E1-819F3445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35449-0CCD-478A-91FA-31F55312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49532-D161-4B2F-ACB2-D9C573AB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6A8B-40B1-481E-84B7-A7A952C6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34549-B7B5-4B23-B59F-EFB709AE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BA7F9-9F1C-4B80-ACAF-E41D7965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DA0AE-0A0F-4D9D-B52A-03C632BC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9C332-16A9-424C-860F-652A88ED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D0618-E813-40D4-8D81-E224DAC3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E1C0B-6830-4715-9C33-5B1B72C08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BB423-515D-4D31-9E6C-97913188A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6BAD7-4469-43D9-8E8E-085D0BE23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F017E-3C58-4A30-96D8-57024095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C4C29-E380-4C6A-96F7-B816C601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AF08-F5BF-4251-90E1-A237AD88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3332B-23DB-4DE1-AA6E-F4BE5764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BC270-3775-4CCE-87D3-2413F7DA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AF49B-7E51-4144-8065-754FE749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56451-7BCA-4C18-80D6-116D1608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42249-6955-43CE-BD78-42DD2DE4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4BBE9-4136-44A4-846F-76498027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5117D-7627-4B30-B9CD-02A4C530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C7EAD-8A24-4104-9D89-CC22C073E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5942D-7B37-4D88-96FB-18569EFA3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40B5-58BF-4043-B079-B800BD7D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27B8-BC6A-4BDD-A6CC-0A5825EE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30C1-5907-453C-A0E7-D16CC45B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43D4-3E99-4B9A-A80B-3249AD8D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B1C4-B370-492C-B8FE-83350370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7ED3-0A71-48C5-AF46-3E4972369D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B99C-5CD6-405A-9C23-EAC768362B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F97C-F5BF-44CC-BFFB-B48F516531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3398-EDF5-469F-893A-803F2556DF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urvinat.ru/" TargetMode="External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3644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ички детям не игрушк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395280" y="4653000"/>
            <a:ext cx="8137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alibri"/>
              </a:rPr>
              <a:t>МБДОУ «Детский сад №33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alibri"/>
              </a:rPr>
              <a:t>Воспитатель: Хроменкова Екатерина Алексее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C:\Users\Антон\Downloads\images (2).jpg"/>
          <p:cNvPicPr/>
          <p:nvPr/>
        </p:nvPicPr>
        <p:blipFill>
          <a:blip r:embed="rId1"/>
          <a:stretch/>
        </p:blipFill>
        <p:spPr>
          <a:xfrm>
            <a:off x="0" y="0"/>
            <a:ext cx="556416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моги соседям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2" descr="C:\Users\Антон\Downloads\images (6).jpg"/>
          <p:cNvPicPr/>
          <p:nvPr/>
        </p:nvPicPr>
        <p:blipFill>
          <a:blip r:embed="rId1"/>
          <a:stretch/>
        </p:blipFill>
        <p:spPr>
          <a:xfrm>
            <a:off x="4356000" y="1989000"/>
            <a:ext cx="4103640" cy="4503960"/>
          </a:xfrm>
          <a:prstGeom prst="rect">
            <a:avLst/>
          </a:prstGeom>
          <a:ln w="0">
            <a:noFill/>
          </a:ln>
        </p:spPr>
      </p:pic>
      <p:sp>
        <p:nvSpPr>
          <p:cNvPr id="190" name="WordArt 4"/>
          <p:cNvSpPr txBox="1"/>
          <p:nvPr/>
        </p:nvSpPr>
        <p:spPr>
          <a:xfrm>
            <a:off x="826920" y="3860640"/>
            <a:ext cx="3024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ички детям не игрушк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естно скажем вам, друзь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сли спичка загорится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ожет в дом прийти бед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жарная машина придёт на помощ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http://dob.1september.ru/2002/15/12.jpg"/>
          <p:cNvPicPr/>
          <p:nvPr/>
        </p:nvPicPr>
        <p:blipFill>
          <a:blip r:embed="rId1"/>
          <a:stretch/>
        </p:blipFill>
        <p:spPr>
          <a:xfrm>
            <a:off x="3851280" y="2637000"/>
            <a:ext cx="4896000" cy="3671640"/>
          </a:xfrm>
          <a:prstGeom prst="rect">
            <a:avLst/>
          </a:prstGeom>
          <a:ln w="0">
            <a:noFill/>
          </a:ln>
        </p:spPr>
      </p:pic>
      <p:sp>
        <p:nvSpPr>
          <p:cNvPr id="193" name="WordArt 4"/>
          <p:cNvSpPr txBox="1"/>
          <p:nvPr/>
        </p:nvSpPr>
        <p:spPr>
          <a:xfrm>
            <a:off x="395280" y="3573360"/>
            <a:ext cx="34196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ы пожарников отря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ски весело горят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локольчики звенят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опустить скорей веля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003d"/>
                </a:solidFill>
                <a:latin typeface="arial cyr"/>
                <a:ea typeface="Times New Roman"/>
              </a:rPr>
              <a:t>Тили-бом, тили-бом! Загорелся Кошкин дом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1"/>
          <p:cNvSpPr/>
          <p:nvPr/>
        </p:nvSpPr>
        <p:spPr>
          <a:xfrm>
            <a:off x="468360" y="3157920"/>
            <a:ext cx="8207280" cy="33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 cyr"/>
                <a:ea typeface="Times New Roman"/>
              </a:rPr>
              <a:t>Не секрет, что пожары чаще всего происходят от беспечного отношения к огню самих людей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 cyr"/>
                <a:ea typeface="Times New Roman"/>
              </a:rPr>
              <a:t>Значительная часть пожаров происходит в жилье. Здесь гибель и травматизм людей от дыма и огня составляет 9 случаев из 10. По данным Центра пожарной статистики в России при пожарах среди 1 миллиона потерпевших погибает более 100 человек. Это в 6 раз больше, чем в США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 cyr"/>
                <a:ea typeface="Times New Roman"/>
              </a:rPr>
              <a:t>Основными причинами пожаров в быту являются: неосторожное обращение с огнем при курении и приготовлении пищи, использование электробытовых приборов, теле-, видео- и аудиотехники, не адаптированной к отечественной электросети или неисправных, проведение электросварочных работ при ремонтных работах в квартирах, детские шалости 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 cyr"/>
                <a:ea typeface="Times New Roman"/>
              </a:rPr>
              <a:t>с огнем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жарная безопасность в квартир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оугольник 2"/>
          <p:cNvSpPr/>
          <p:nvPr/>
        </p:nvSpPr>
        <p:spPr>
          <a:xfrm>
            <a:off x="684360" y="3141720"/>
            <a:ext cx="7920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1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Не балуйся дома со спичками и зажигалками. Это одна из причин пожаро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2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Не оставляй без присмотра включенные электроприборы, особенно утюги, обогреватели, телевизор, светильники и др. Уходя из дома, не забудь их выключит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3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Не суши белье над плитой. Оно может загоретьс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4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Не забывай выключить газовую плиту. Если почувствовал запах газа, не зажигай спичек и не включай свет. Срочно проветри квартир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5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Ни в коем случае не зажигай фейерверки, свечи или бенгальские огни дома без взросл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жарная безопасность в деревн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оугольник 2"/>
          <p:cNvSpPr/>
          <p:nvPr/>
        </p:nvSpPr>
        <p:spPr>
          <a:xfrm>
            <a:off x="395280" y="364500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—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1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В деревне или на даче без взрослых не подходи к печи и не открывай печную дверцу. Оттуда могут выскочить раскаленный уголек или искра и стать причиной пожар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2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Никогда не прикасайся голыми руками к металлическим частям печки. Ты можешь получить серьезный ожог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3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Не трогай без разрешения взрослых печную заслонку. Если ее закрыть раньше времени, в доме скопится угарный газ, и можно задохну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жарная безопасность в лес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Прямоугольник 2"/>
          <p:cNvSpPr/>
          <p:nvPr/>
        </p:nvSpPr>
        <p:spPr>
          <a:xfrm>
            <a:off x="539640" y="386064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1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Пожар — самая большая опасность в лесу. Поэтому не разводи костер без взрослых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2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Не балуйся с огнем. В сухую жаркую погоду достаточно одной спички или искры от фейерверка, чтобы лес загорелс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3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Если пожар все-таки начался, немедленно выбегай из леса. Старайся бежать в ту сторону, откуда дует ветер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4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Выйдя из леса, обязательно сообщи о пожаре взросл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Если начался пожар, а взрослых дома нет, поступай так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Прямоугольник 2"/>
          <p:cNvSpPr/>
          <p:nvPr/>
        </p:nvSpPr>
        <p:spPr>
          <a:xfrm>
            <a:off x="324000" y="3213000"/>
            <a:ext cx="8208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1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Если огонь небольшой, можно попробовать сразу же затушить его, набросив на него плотную ткань или одеяло, заливая водой или засыпая пес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2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Если огонь сразу не погас, немедленно убегай из дома в безопасное место. И только после этого позвони в пожарную охрану по телефону «01» или попроси об этом сосе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3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Если не можешь убежать из горящей квартиры, сразу же позвони по телефону «01» и сообщи пожарным точный адрес и номер своей квартиры. После этого зови из окна на помощь соседей и прохож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4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При пожаре дым гораздо опаснее огня. Большинство людей при пожаре гибнут от дыма. Если чувствуешь, что задыхаешься, опустись на корточки или продвигайся к выходу ползком — внизу дыма мен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Прямоугольник 2"/>
          <p:cNvSpPr/>
          <p:nvPr/>
        </p:nvSpPr>
        <p:spPr>
          <a:xfrm>
            <a:off x="324000" y="3284640"/>
            <a:ext cx="84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5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Если в помещение проник дым, надо смочить водой одежду, покрыть голову мокрой салфеткой и выходить пригнувшись или полз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6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Обязательно закрой форточку и дверь в комнате, где начался пожар. Закрытая дверь может не только задержать проникновение дыма, но иногда и погасить ого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7.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полни водой ванну, ведра, тазы. Можешь облить водой двери и п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8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При пожаре в подъезде никогда не садись в лифт. Он может отключиться и ты задохнеш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№ 9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Когда приедут пожарные, во всем их слушайся и не бойся. Они лучше знают, как тебя сп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5280" y="429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«Не поддавайтесь панике и не теряйте самообладания!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24000" y="691920"/>
            <a:ext cx="65628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удь внимателен!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 забудь выключить утюг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2" descr="C:\Users\Антон\Downloads\images (7).jpg"/>
          <p:cNvPicPr/>
          <p:nvPr/>
        </p:nvPicPr>
        <p:blipFill>
          <a:blip r:embed="rId1"/>
          <a:stretch/>
        </p:blipFill>
        <p:spPr>
          <a:xfrm>
            <a:off x="4211640" y="3141720"/>
            <a:ext cx="390384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920" y="49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 спичками играть опасно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C:\Users\Антон\Downloads\images.jpg"/>
          <p:cNvPicPr/>
          <p:nvPr/>
        </p:nvPicPr>
        <p:blipFill>
          <a:blip r:embed="rId1"/>
          <a:stretch/>
        </p:blipFill>
        <p:spPr>
          <a:xfrm>
            <a:off x="0" y="0"/>
            <a:ext cx="4321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ички детям не давать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http://sch91nov.narod.ru/images/im002.jpg"/>
          <p:cNvPicPr/>
          <p:nvPr/>
        </p:nvPicPr>
        <p:blipFill>
          <a:blip r:embed="rId1"/>
          <a:stretch/>
        </p:blipFill>
        <p:spPr>
          <a:xfrm>
            <a:off x="3851280" y="1628640"/>
            <a:ext cx="4416480" cy="3456000"/>
          </a:xfrm>
          <a:prstGeom prst="rect">
            <a:avLst/>
          </a:prstGeom>
          <a:ln w="0">
            <a:noFill/>
          </a:ln>
        </p:spPr>
      </p:pic>
      <p:sp>
        <p:nvSpPr>
          <p:cNvPr id="211" name="WordArt 4"/>
          <p:cNvSpPr txBox="1"/>
          <p:nvPr/>
        </p:nvSpPr>
        <p:spPr>
          <a:xfrm>
            <a:off x="755640" y="4292640"/>
            <a:ext cx="349236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етям спички не дават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доме долго проживат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равило: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Не оставляй в лесу, горящий огонь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2" descr="http://sch91nov.narod.ru/images/im006.jpg"/>
          <p:cNvPicPr/>
          <p:nvPr/>
        </p:nvPicPr>
        <p:blipFill>
          <a:blip r:embed="rId1"/>
          <a:stretch/>
        </p:blipFill>
        <p:spPr>
          <a:xfrm>
            <a:off x="4284720" y="2637000"/>
            <a:ext cx="4227480" cy="3456000"/>
          </a:xfrm>
          <a:prstGeom prst="rect">
            <a:avLst/>
          </a:prstGeom>
          <a:ln w="0">
            <a:noFill/>
          </a:ln>
        </p:spPr>
      </p:pic>
      <p:sp>
        <p:nvSpPr>
          <p:cNvPr id="214" name="WordArt 4"/>
          <p:cNvSpPr txBox="1"/>
          <p:nvPr/>
        </p:nvSpPr>
        <p:spPr>
          <a:xfrm>
            <a:off x="179280" y="3789360"/>
            <a:ext cx="399600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 лугу траву сожгли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 букашки, таракашки не ушл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гибали от огн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 простят они мен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равило: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Нельзя пользоваться газом детям дошкольного возрас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2" descr="http://sch91nov.narod.ru/images/im008.jpg"/>
          <p:cNvPicPr/>
          <p:nvPr/>
        </p:nvPicPr>
        <p:blipFill>
          <a:blip r:embed="rId1"/>
          <a:stretch/>
        </p:blipFill>
        <p:spPr>
          <a:xfrm>
            <a:off x="4140360" y="2492280"/>
            <a:ext cx="47005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бери от газовой плиты всё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2" descr="http://www.1408.ru/Image/image013(1).jpg"/>
          <p:cNvPicPr/>
          <p:nvPr/>
        </p:nvPicPr>
        <p:blipFill>
          <a:blip r:embed="rId1"/>
          <a:stretch/>
        </p:blipFill>
        <p:spPr>
          <a:xfrm>
            <a:off x="4932360" y="1341360"/>
            <a:ext cx="345600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4365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равило: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ри возникновении пожара нельзя прятаться! Если в квартире есть телефон, то набирай 01. Если телефона нет – убегай из квартиры к соседям. Если огонь не даёт выйти – кричи из окна, зови на помощь.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2" descr="http://sch91nov.narod.ru/images/ima012.jpg"/>
          <p:cNvPicPr/>
          <p:nvPr/>
        </p:nvPicPr>
        <p:blipFill>
          <a:blip r:embed="rId1"/>
          <a:stretch/>
        </p:blipFill>
        <p:spPr>
          <a:xfrm>
            <a:off x="5076720" y="476280"/>
            <a:ext cx="347688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ПРИЧИНЫ ПОЖАРОВ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1"/>
          <p:cNvSpPr/>
          <p:nvPr/>
        </p:nvSpPr>
        <p:spPr>
          <a:xfrm>
            <a:off x="496440" y="3479040"/>
            <a:ext cx="823320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cc"/>
                </a:solidFill>
                <a:latin typeface="Arial"/>
                <a:ea typeface="Arial"/>
              </a:rPr>
              <a:t>игры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ку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66"/>
                </a:solidFill>
                <a:latin typeface="Arial"/>
                <a:ea typeface="Arial"/>
              </a:rPr>
              <a:t>короткое замык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  <a:ea typeface="Arial"/>
              </a:rPr>
              <a:t>неосторожное обращение со спич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РАВИЛА ВЫЗОВА ЭКСТРЕННЫХ СЛУЖБ ПО ТЕЛЕФОН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Прямоугольник 2"/>
          <p:cNvSpPr/>
          <p:nvPr/>
        </p:nvSpPr>
        <p:spPr>
          <a:xfrm>
            <a:off x="468360" y="4005360"/>
            <a:ext cx="813600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Сообщите кратко следующе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причину вызова (пожа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точный адрес (улица, номер дома и    квартиры, этаж, подъезд, ко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вашу фамилию и номер телефона, откуда передается сообщ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обязательно запишите фамилию дежурного, принявшего ваш выз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ерегись огн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Прямоугольник 2"/>
          <p:cNvSpPr/>
          <p:nvPr/>
        </p:nvSpPr>
        <p:spPr>
          <a:xfrm>
            <a:off x="250920" y="386064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жар — самое распространенное бедствие. Подсчитано, что в нашей стране в среднем один пожар происходит раз в две минуты. И каждый час в огне погибают два или три человека и еще один или двое получают травмы.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ольшинство пожаров происходят в квартирах. Причина многих их них — детская шалость с огнем. Отсюда главное правило, которое нужно соблюдать всегда и везде: никогда не играй с огнем, не позволяй играть с ним другим ребятам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, что просмотрели эту презентацию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3" descr="C:\Users\Антон\Downloads\images (8).jpg"/>
          <p:cNvPicPr/>
          <p:nvPr/>
        </p:nvPicPr>
        <p:blipFill>
          <a:blip r:embed="rId1"/>
          <a:stretch/>
        </p:blipFill>
        <p:spPr>
          <a:xfrm>
            <a:off x="4500720" y="22050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http://900igr.net/datas/obg/Pri-pozhare/0016-016-Pomn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т к чему это приводит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C:\Users\Антон\Downloads\images (1).jpg"/>
          <p:cNvPicPr/>
          <p:nvPr/>
        </p:nvPicPr>
        <p:blipFill>
          <a:blip r:embed="rId1"/>
          <a:stretch/>
        </p:blipFill>
        <p:spPr>
          <a:xfrm>
            <a:off x="4716360" y="1628640"/>
            <a:ext cx="3808440" cy="4392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324000" y="3860640"/>
            <a:ext cx="4103640" cy="241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аша гладила штаниш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ля весёлого, для мишк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о забыла про утюг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от мишки остались одни лишь углишк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голок противопожарной безопасности должен быть в каждой школ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C:\Users\Антон\Downloads\images (3).jpg"/>
          <p:cNvPicPr/>
          <p:nvPr/>
        </p:nvPicPr>
        <p:blipFill>
          <a:blip r:embed="rId1"/>
          <a:stretch/>
        </p:blipFill>
        <p:spPr>
          <a:xfrm>
            <a:off x="4572000" y="1700280"/>
            <a:ext cx="4325760" cy="3240000"/>
          </a:xfrm>
          <a:prstGeom prst="rect">
            <a:avLst/>
          </a:prstGeom>
          <a:ln w="0">
            <a:noFill/>
          </a:ln>
        </p:spPr>
      </p:pic>
      <p:sp>
        <p:nvSpPr>
          <p:cNvPr id="177" name="WordArt 4"/>
          <p:cNvSpPr txBox="1"/>
          <p:nvPr/>
        </p:nvSpPr>
        <p:spPr>
          <a:xfrm>
            <a:off x="179280" y="4005360"/>
            <a:ext cx="475308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Инструменты на щит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ам всегда помогу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Дать отпор большой бед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Огонь потушить помогу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ставка рисунков детей начальных классо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2" descr="C:\Users\Антон\Downloads\images (4).jpg"/>
          <p:cNvPicPr/>
          <p:nvPr/>
        </p:nvPicPr>
        <p:blipFill>
          <a:blip r:embed="rId1"/>
          <a:stretch/>
        </p:blipFill>
        <p:spPr>
          <a:xfrm>
            <a:off x="4284720" y="476280"/>
            <a:ext cx="45781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был затушить костёр?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http://survinat.ru/wp-content/uploads/HLIC/7c3cce8c0dac07668a8359afb0675a6e.jpg"/>
          <p:cNvPicPr/>
          <p:nvPr/>
        </p:nvPicPr>
        <p:blipFill>
          <a:blip r:embed="rId1"/>
          <a:stretch/>
        </p:blipFill>
        <p:spPr>
          <a:xfrm>
            <a:off x="4067280" y="2852640"/>
            <a:ext cx="4608360" cy="3456000"/>
          </a:xfrm>
          <a:prstGeom prst="rect">
            <a:avLst/>
          </a:prstGeom>
          <a:ln w="0">
            <a:noFill/>
          </a:ln>
        </p:spPr>
      </p:pic>
      <p:sp>
        <p:nvSpPr>
          <p:cNvPr id="182" name="WordArt 4"/>
          <p:cNvSpPr txBox="1"/>
          <p:nvPr/>
        </p:nvSpPr>
        <p:spPr>
          <a:xfrm>
            <a:off x="539640" y="3716280"/>
            <a:ext cx="3240360" cy="287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ва туриста: Саша с Яш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зожгли костёр в лесу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стех пор в тех края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 поют птицы на ветвях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Если в доме случилась беда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2" descr="http://shibakova.ucoz.ru/_nw/0/05749643.jpg"/>
          <p:cNvPicPr/>
          <p:nvPr/>
        </p:nvPicPr>
        <p:blipFill>
          <a:blip r:embed="rId1"/>
          <a:stretch/>
        </p:blipFill>
        <p:spPr>
          <a:xfrm>
            <a:off x="4572000" y="1363680"/>
            <a:ext cx="3887640" cy="5494320"/>
          </a:xfrm>
          <a:prstGeom prst="rect">
            <a:avLst/>
          </a:prstGeom>
          <a:ln w="0">
            <a:noFill/>
          </a:ln>
        </p:spPr>
      </p:pic>
      <p:sp>
        <p:nvSpPr>
          <p:cNvPr id="185" name="WordArt 4"/>
          <p:cNvSpPr txBox="1"/>
          <p:nvPr/>
        </p:nvSpPr>
        <p:spPr>
          <a:xfrm>
            <a:off x="900000" y="3500280"/>
            <a:ext cx="2951280" cy="29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нают все и стар и мал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тоб с огнём не балова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 не то беда придёт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с собой всё унесё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уберечься от лесного пожар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Прямоугольник 2"/>
          <p:cNvSpPr/>
          <p:nvPr/>
        </p:nvSpPr>
        <p:spPr>
          <a:xfrm>
            <a:off x="539640" y="2924280"/>
            <a:ext cx="828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Лесные пожары происходят в основном в летнее время, и их причиной зачастую являются плохо затушенные походные костры, брошенные сигареты, спички и самовоспламеняющиеся предметы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лохо затушенные костры могут очень долгое время не разгораться, а всего лишь тихо тлеть. Но малейшее дуновение ветра способно превратить эти тлеющие угольки в огромный костер, который очень быстро перебросится на находящиеся недалеко от него сухие ветки и травы и в считанные минуты охватит огромную территор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лучается, что пожар разгорается от смолистых пней и корней или же на местах утечки природного газа или нефти. Чаще всего лесные пожары начинаются в самых сухих участках леса, где для этого созданы идеальные условия. Это старые сосняки и ельники, выгоревшие на солнце поляны или же заброшенные стога сена, которые были накошены очень давно, но до сих пор не убраны. От дождя эти стога начинают тлеть и быстро становятся причиной пожа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тон</dc:creator>
  <dc:description/>
  <dc:language>en-US</dc:language>
  <cp:lastModifiedBy>Сергей</cp:lastModifiedBy>
  <dcterms:modified xsi:type="dcterms:W3CDTF">2020-09-02T10:40:52Z</dcterms:modified>
  <cp:revision>22</cp:revision>
  <dc:subject/>
  <dc:title>Слайд 1</dc:title>
</cp:coreProperties>
</file>