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7B3DE-1303-468B-90F7-8BAE0FD2F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278BD-0C6A-4DD2-91ED-B7CD79B90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68EF6-A79F-4972-93D0-994F82288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959B4-1B79-4C50-B95E-E033880BA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AD8E0-89DA-4262-8F77-369844C4F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78D14-8A4A-458D-9138-98CAE8D8E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60968-0928-4331-B499-A85832268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0D687-EEC9-4D58-A0B6-2B49EF8C4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05EC2-083A-4C47-9602-7AB2DD368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DBCDC-9CC1-4A8F-BAFD-1FC314E05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C371C-533A-4702-A004-C3AAAC4CD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F0D73-FD9E-4E05-A73B-75925E254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ff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F6B24-DF56-4CC3-8DA3-E7A8A6E4E25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473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Arial"/>
              </a:rPr>
              <a:t>Москва- столица нашей Родины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ut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495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Arial"/>
              </a:rPr>
              <a:t>Собор- собрание всех русских земель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ut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Облик столиц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Москва  – «собор всей Земли Русской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собенные черты столицы.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ut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Arial"/>
              </a:rPr>
              <a:t>Успенский собо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оск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" descr="C:\Users\User\Desktop\успенский собор в москве.jpg"/>
          <p:cNvPicPr/>
          <p:nvPr/>
        </p:nvPicPr>
        <p:blipFill>
          <a:blip r:embed="rId1"/>
          <a:stretch/>
        </p:blipFill>
        <p:spPr>
          <a:xfrm>
            <a:off x="457200" y="2205000"/>
            <a:ext cx="4040280" cy="439272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ладими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3" descr="C:\Users\User\Desktop\sobo владимире.jpg"/>
          <p:cNvPicPr/>
          <p:nvPr/>
        </p:nvPicPr>
        <p:blipFill>
          <a:blip r:embed="rId2"/>
          <a:stretch/>
        </p:blipFill>
        <p:spPr>
          <a:xfrm>
            <a:off x="4645080" y="2205000"/>
            <a:ext cx="4041720" cy="4392720"/>
          </a:xfrm>
          <a:prstGeom prst="rect">
            <a:avLst/>
          </a:prstGeom>
          <a:ln w="0">
            <a:noFill/>
          </a:ln>
        </p:spPr>
      </p:pic>
    </p:spTree>
  </p:cSld>
  <p:transition>
    <p:cut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Arial"/>
              </a:rPr>
              <a:t>Лубянка и Лубяниц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268280"/>
            <a:ext cx="4040280" cy="906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лощадь Лубянка в Москв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0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лица Лубяница в Новгород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2" descr="C:\Users\User\Desktop\square_lubianskaya_4.jpg"/>
          <p:cNvPicPr/>
          <p:nvPr/>
        </p:nvPicPr>
        <p:blipFill>
          <a:blip r:embed="rId1"/>
          <a:stretch/>
        </p:blipFill>
        <p:spPr>
          <a:xfrm>
            <a:off x="457200" y="2135160"/>
            <a:ext cx="3538440" cy="24098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" descr="C:\Users\User\Desktop\современная лубянка.jpg"/>
          <p:cNvPicPr/>
          <p:nvPr/>
        </p:nvPicPr>
        <p:blipFill>
          <a:blip r:embed="rId2"/>
          <a:stretch/>
        </p:blipFill>
        <p:spPr>
          <a:xfrm>
            <a:off x="395280" y="4581360"/>
            <a:ext cx="4032360" cy="21067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4" descr="C:\Users\User\Desktop\Лубяница.jpg"/>
          <p:cNvPicPr/>
          <p:nvPr/>
        </p:nvPicPr>
        <p:blipFill>
          <a:blip r:embed="rId3"/>
          <a:stretch/>
        </p:blipFill>
        <p:spPr>
          <a:xfrm>
            <a:off x="5430960" y="3222720"/>
            <a:ext cx="3462120" cy="3014640"/>
          </a:xfrm>
          <a:prstGeom prst="rect">
            <a:avLst/>
          </a:prstGeom>
          <a:ln w="0">
            <a:noFill/>
          </a:ln>
        </p:spPr>
      </p:pic>
    </p:spTree>
  </p:cSld>
  <p:transition>
    <p:cut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Arial"/>
              </a:rPr>
              <a:t>Казанский собо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3" descr="C:\Users\User\Desktop\Казанский собор.jpg"/>
          <p:cNvPicPr/>
          <p:nvPr/>
        </p:nvPicPr>
        <p:blipFill>
          <a:blip r:embed="rId1"/>
          <a:stretch/>
        </p:blipFill>
        <p:spPr>
          <a:xfrm>
            <a:off x="1187280" y="1916280"/>
            <a:ext cx="6518520" cy="4346280"/>
          </a:xfrm>
          <a:prstGeom prst="rect">
            <a:avLst/>
          </a:prstGeom>
          <a:ln w="0">
            <a:noFill/>
          </a:ln>
        </p:spPr>
      </p:pic>
    </p:spTree>
  </p:cSld>
  <p:transition>
    <p:cut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Arial"/>
              </a:rPr>
              <a:t>Тихвинская церков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2" descr="C:\Users\User\Desktop\тихвинская церковь.jpg"/>
          <p:cNvPicPr/>
          <p:nvPr/>
        </p:nvPicPr>
        <p:blipFill>
          <a:blip r:embed="rId1"/>
          <a:stretch/>
        </p:blipFill>
        <p:spPr>
          <a:xfrm>
            <a:off x="395280" y="1700280"/>
            <a:ext cx="7129440" cy="4968720"/>
          </a:xfrm>
          <a:prstGeom prst="rect">
            <a:avLst/>
          </a:prstGeom>
          <a:ln w="0">
            <a:noFill/>
          </a:ln>
        </p:spPr>
      </p:pic>
    </p:spTree>
  </p:cSld>
  <p:transition>
    <p:cut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Особый облик  столицы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олица вбирала в себя черты столиц бывших самостоятельных княжест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московских названиях слышны любимые цвета нашего наро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йоны столицы располагались особым образом вокруг Кремля и Красной площад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ut thruBlk="true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0000ff"/>
                </a:solidFill>
                <a:latin typeface="Arial"/>
              </a:rPr>
              <a:t>«Наш городок - Москвы уголок»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ut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00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Столица - стольный град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2" descr="C:\Users\User\Desktop\12271340.jpg"/>
          <p:cNvPicPr/>
          <p:nvPr/>
        </p:nvPicPr>
        <p:blipFill>
          <a:blip r:embed="rId1"/>
          <a:stretch/>
        </p:blipFill>
        <p:spPr>
          <a:xfrm>
            <a:off x="324000" y="2266920"/>
            <a:ext cx="8135640" cy="4591080"/>
          </a:xfrm>
          <a:prstGeom prst="rect">
            <a:avLst/>
          </a:prstGeom>
          <a:ln w="0">
            <a:noFill/>
          </a:ln>
        </p:spPr>
      </p:pic>
    </p:spTree>
  </p:cSld>
  <p:transition>
    <p:cut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3300"/>
                </a:solidFill>
                <a:latin typeface="Arial"/>
              </a:rPr>
              <a:t>Мы узнаем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14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чему главный город Отечества именуется именно столицей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й облик придавали столице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чему Москва ознаменовала собой - «Собор земли Русской?»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накомимся со значением слов « столица», «стольный град», «престол», «первопрестольный», «собор»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им на вопрос «Правильно ли утверждать, что в образе Отечества и образе столицы есть много общего?»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ut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C:\Users\User\Desktop\истоки столица\knyaz-1-1024x68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cut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2" descr="C:\Users\User\Desktop\москва.jpg"/>
          <p:cNvPicPr/>
          <p:nvPr/>
        </p:nvPicPr>
        <p:blipFill>
          <a:blip r:embed="rId1"/>
          <a:stretch/>
        </p:blipFill>
        <p:spPr>
          <a:xfrm>
            <a:off x="324000" y="549360"/>
            <a:ext cx="8424720" cy="5975280"/>
          </a:xfrm>
          <a:prstGeom prst="rect">
            <a:avLst/>
          </a:prstGeom>
          <a:ln w="0">
            <a:noFill/>
          </a:ln>
        </p:spPr>
      </p:pic>
    </p:spTree>
  </p:cSld>
  <p:transition>
    <p:cut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C:\Users\User\Desktop\7c5bb89abda9e0adef3849ea6e42df4e.jpg"/>
          <p:cNvPicPr/>
          <p:nvPr/>
        </p:nvPicPr>
        <p:blipFill>
          <a:blip r:embed="rId1"/>
          <a:stretch/>
        </p:blipFill>
        <p:spPr>
          <a:xfrm>
            <a:off x="971640" y="333360"/>
            <a:ext cx="4752720" cy="5111640"/>
          </a:xfrm>
          <a:prstGeom prst="rect">
            <a:avLst/>
          </a:prstGeom>
          <a:ln w="0">
            <a:noFill/>
          </a:ln>
        </p:spPr>
      </p:pic>
    </p:spTree>
  </p:cSld>
  <p:transition>
    <p:cut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C:\Users\User\Desktop\zwalls.ru-13003.jpg"/>
          <p:cNvPicPr/>
          <p:nvPr/>
        </p:nvPicPr>
        <p:blipFill>
          <a:blip r:embed="rId1"/>
          <a:stretch/>
        </p:blipFill>
        <p:spPr>
          <a:xfrm>
            <a:off x="468360" y="476280"/>
            <a:ext cx="8397720" cy="5875200"/>
          </a:xfrm>
          <a:prstGeom prst="rect">
            <a:avLst/>
          </a:prstGeom>
          <a:ln w="0">
            <a:noFill/>
          </a:ln>
        </p:spPr>
      </p:pic>
    </p:spTree>
  </p:cSld>
  <p:transition>
    <p:cut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Стол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место, где сидел княз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Стольный град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город, в котором находился княжеский сто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Престол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государев сто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Первопрестольный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название главного город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ut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Москва  – «собор всей Земли Русской»</a:t>
            </a:r>
            <a:br>
              <a:rPr sz="36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5" descr="C:\Users\User\Desktop\moskva-belokamennaya.jpg"/>
          <p:cNvPicPr/>
          <p:nvPr/>
        </p:nvPicPr>
        <p:blipFill>
          <a:blip r:embed="rId1"/>
          <a:stretch/>
        </p:blipFill>
        <p:spPr>
          <a:xfrm>
            <a:off x="468360" y="1268280"/>
            <a:ext cx="7775640" cy="5054760"/>
          </a:xfrm>
          <a:prstGeom prst="rect">
            <a:avLst/>
          </a:prstGeom>
          <a:ln w="0">
            <a:noFill/>
          </a:ln>
        </p:spPr>
      </p:pic>
    </p:spTree>
  </p:cSld>
  <p:transition>
    <p:cut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7T20:56:06Z</dcterms:created>
  <dc:creator>а</dc:creator>
  <dc:description/>
  <dc:language>en-US</dc:language>
  <cp:lastModifiedBy>Specialist</cp:lastModifiedBy>
  <dcterms:modified xsi:type="dcterms:W3CDTF">2020-09-02T09:16:30Z</dcterms:modified>
  <cp:revision>37</cp:revision>
  <dc:subject/>
  <dc:title>Военные походы фараонов</dc:title>
</cp:coreProperties>
</file>