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FEF-3C3D-4BA0-9303-9932336E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5B4-F21E-4E83-AC49-532ECEC2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733-C147-4551-9B76-A700AEAC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EED-3C53-4A43-8BA4-8F5AEA00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5C9-ACB8-446D-8F98-1DFD72D7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573-48F4-4FB2-8BB1-F0EE9A77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8B6-EFE7-48D6-8DFC-3775FA2A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7CF-7EBD-45E7-A0D9-4EBF3974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B2F-7C43-4350-B9AF-0F1A455F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9D9-CEDD-4907-A8D8-62C993EC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A90-7733-4966-A1BF-DC9DF8E1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5D1-F919-45AD-82F2-8A90773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FE47-4BF2-4D1B-86D7-7E5E0CD44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осква- столица нашей Родин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обор- собрание всех русских зем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лик стол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сква  – «собор всей Земли Русск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ые черты столицы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пен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ser\Desktop\успенский собор в москве.jpg"/>
          <p:cNvPicPr/>
          <p:nvPr/>
        </p:nvPicPr>
        <p:blipFill>
          <a:blip r:embed="rId1"/>
          <a:stretch/>
        </p:blipFill>
        <p:spPr>
          <a:xfrm>
            <a:off x="457200" y="2205000"/>
            <a:ext cx="4040280" cy="4392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User\Desktop\sobo владимире.jpg"/>
          <p:cNvPicPr/>
          <p:nvPr/>
        </p:nvPicPr>
        <p:blipFill>
          <a:blip r:embed="rId2"/>
          <a:stretch/>
        </p:blipFill>
        <p:spPr>
          <a:xfrm>
            <a:off x="4645080" y="2205000"/>
            <a:ext cx="4041720" cy="4392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убянка и Лубя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Лубянка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ица Лубяница в Нов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ser\Desktop\square_lubianskaya_4.jpg"/>
          <p:cNvPicPr/>
          <p:nvPr/>
        </p:nvPicPr>
        <p:blipFill>
          <a:blip r:embed="rId1"/>
          <a:stretch/>
        </p:blipFill>
        <p:spPr>
          <a:xfrm>
            <a:off x="457200" y="2135160"/>
            <a:ext cx="3538440" cy="24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User\Desktop\современная лубянка.jpg"/>
          <p:cNvPicPr/>
          <p:nvPr/>
        </p:nvPicPr>
        <p:blipFill>
          <a:blip r:embed="rId2"/>
          <a:stretch/>
        </p:blipFill>
        <p:spPr>
          <a:xfrm>
            <a:off x="395280" y="4581360"/>
            <a:ext cx="4032360" cy="21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User\Desktop\Лубяница.jpg"/>
          <p:cNvPicPr/>
          <p:nvPr/>
        </p:nvPicPr>
        <p:blipFill>
          <a:blip r:embed="rId3"/>
          <a:stretch/>
        </p:blipFill>
        <p:spPr>
          <a:xfrm>
            <a:off x="5430960" y="3222720"/>
            <a:ext cx="3462120" cy="3014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зан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User\Desktop\Казанский собор.jpg"/>
          <p:cNvPicPr/>
          <p:nvPr/>
        </p:nvPicPr>
        <p:blipFill>
          <a:blip r:embed="rId1"/>
          <a:stretch/>
        </p:blipFill>
        <p:spPr>
          <a:xfrm>
            <a:off x="1187280" y="1916280"/>
            <a:ext cx="6518520" cy="4346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ихвинская церко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User\Desktop\тихвинская церковь.jpg"/>
          <p:cNvPicPr/>
          <p:nvPr/>
        </p:nvPicPr>
        <p:blipFill>
          <a:blip r:embed="rId1"/>
          <a:stretch/>
        </p:blipFill>
        <p:spPr>
          <a:xfrm>
            <a:off x="395280" y="1700280"/>
            <a:ext cx="7129440" cy="4968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собый облик  стол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ица вбирала в себя черты столиц бывших самостоятельных княж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сковских названиях слышны любимые цвета нашего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йоны столицы располагались особым образом вокруг Кремля и Красной площ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аш городок - Москвы уголок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олица - стольный гра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Desktop\12271340.jpg"/>
          <p:cNvPicPr/>
          <p:nvPr/>
        </p:nvPicPr>
        <p:blipFill>
          <a:blip r:embed="rId1"/>
          <a:stretch/>
        </p:blipFill>
        <p:spPr>
          <a:xfrm>
            <a:off x="324000" y="2266920"/>
            <a:ext cx="8135640" cy="4591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Мы узна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главный город Отечества именуется именно столицей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облик придавали столиц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осква ознаменовала собой - «Собор земли Русской?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мся со значением слов « столица», «стольный град», «престол», «первопрестольный», «собор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м на вопрос «Правильно ли утверждать, что в образе Отечества и образе столицы есть много общего?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User\Desktop\истоки столица\knyaz-1-1024x6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User\Desktop\москва.jpg"/>
          <p:cNvPicPr/>
          <p:nvPr/>
        </p:nvPicPr>
        <p:blipFill>
          <a:blip r:embed="rId1"/>
          <a:stretch/>
        </p:blipFill>
        <p:spPr>
          <a:xfrm>
            <a:off x="324000" y="549360"/>
            <a:ext cx="8424720" cy="5975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7c5bb89abda9e0adef3849ea6e42df4e.jpg"/>
          <p:cNvPicPr/>
          <p:nvPr/>
        </p:nvPicPr>
        <p:blipFill>
          <a:blip r:embed="rId1"/>
          <a:stretch/>
        </p:blipFill>
        <p:spPr>
          <a:xfrm>
            <a:off x="971640" y="333360"/>
            <a:ext cx="4752720" cy="5111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zwalls.ru-13003.jpg"/>
          <p:cNvPicPr/>
          <p:nvPr/>
        </p:nvPicPr>
        <p:blipFill>
          <a:blip r:embed="rId1"/>
          <a:stretch/>
        </p:blipFill>
        <p:spPr>
          <a:xfrm>
            <a:off x="468360" y="476280"/>
            <a:ext cx="8397720" cy="58752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о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есто, где сидел княз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ольный гра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ород, в котором находился княжеский 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сто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осударев 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ервопрестоль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вание главного г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сква  – «собор всей Земли Русской»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User\Desktop\moskva-belokamennaya.jpg"/>
          <p:cNvPicPr/>
          <p:nvPr/>
        </p:nvPicPr>
        <p:blipFill>
          <a:blip r:embed="rId1"/>
          <a:stretch/>
        </p:blipFill>
        <p:spPr>
          <a:xfrm>
            <a:off x="468360" y="1268280"/>
            <a:ext cx="7775640" cy="5054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20:56:06Z</dcterms:created>
  <dc:creator>а</dc:creator>
  <dc:description/>
  <dc:language>en-US</dc:language>
  <cp:lastModifiedBy>Specialist</cp:lastModifiedBy>
  <dcterms:modified xsi:type="dcterms:W3CDTF">2020-09-02T09:16:30Z</dcterms:modified>
  <cp:revision>37</cp:revision>
  <dc:subject/>
  <dc:title>Военные походы фараонов</dc:title>
</cp:coreProperties>
</file>