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9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1.png" ContentType="image/png"/>
  <Override PartName="/ppt/media/image16.png" ContentType="image/png"/>
  <Override PartName="/ppt/media/chimes.wav" ContentType="audio/x-wav"/>
  <Override PartName="/ppt/media/image8.png" ContentType="image/png"/>
  <Override PartName="/ppt/media/image10.png" ContentType="image/png"/>
  <Override PartName="/ppt/media/explode.wav" ContentType="audio/x-wav"/>
  <Override PartName="/ppt/media/image5.jpeg" ContentType="image/jpeg"/>
  <Override PartName="/ppt/media/image26.jpeg" ContentType="image/jpeg"/>
  <Override PartName="/ppt/media/image27.png" ContentType="image/png"/>
  <Override PartName="/ppt/media/image29.gif" ContentType="image/gif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camera.wav" ContentType="audio/x-wav"/>
  <Override PartName="/ppt/media/image12.png" ContentType="image/png"/>
  <Override PartName="/ppt/media/image20.jpeg" ContentType="image/jpeg"/>
  <Override PartName="/ppt/media/image13.png" ContentType="image/png"/>
  <Override PartName="/ppt/media/image14.png" ContentType="image/pn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CF1-AB77-4D85-8B01-AFF5362F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351-9F89-452C-861E-114C9700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7B9-F52B-4436-84F4-56BBCA54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1AB-41EA-480F-863B-617535BF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E49C-F352-406B-8538-CBF8A83B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953-753C-4FB9-87EA-991A6EE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353A-AC4B-4D11-B951-1C517FB3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4806-7D22-45C5-B39A-2DF1867A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3642-44AF-4DFD-A51B-282CF05D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BCAD-F514-4FAC-8225-56A2CDE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B9C-F291-4DB7-BF5B-FB28633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1E0-92B7-49D3-BDF3-67C51889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5B83-3A7A-47C8-AB01-199925E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211C-4C14-4C16-B619-38F5F92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6B1-D50A-48C3-A478-5DBFA4B1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CB7-F01F-447C-8654-F049E8AC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779C-FCE1-4C7A-8B5C-F343AB23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3926-9B02-42A7-982D-E0B82567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3851-00FA-4994-9D57-B2D19C4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2BD4-03DB-4BF1-9245-A07F7CD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E0F5-86C9-49E4-A209-EA0EC39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9AFF-EE27-4EF9-A123-FB6CE1AD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E2D-2E24-4466-8B49-12B32BF9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F6AC-8086-4E00-871D-66E5045D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5629-371F-4DFA-BCD8-112D1186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305F-8C3A-4985-837B-ED3E698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1E62-016C-4206-9137-2B1E644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6C04-9FE6-45C8-8E7D-5353A27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D647-4B89-466F-80F8-FAF1A706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8551-255D-4726-99AA-7BD41FBE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E9CEA-F198-402B-B327-E46B1BD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95E0-4F41-4924-B8D6-287CD9E1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C3A9-6971-456F-8F27-6E145B72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A7C-24CC-42C9-A0AC-5D2B80B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51621-00B0-4A69-97BA-3B4D6F21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F6300-4CF2-4A2D-A4E3-2906261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9675-D456-4878-8B6A-73C1778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617F-0C60-420B-8372-E1A9C91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77E5-8DD2-4445-AD36-EDC93628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8CB4-DB53-4929-88A6-71D2672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E0D5-340D-4460-940D-20FD1273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F877-01F8-4A1B-AECF-76635881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01A47-E032-4B44-8B1A-1E951470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971F-B1FB-4168-B278-02A4A013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A46-E99C-4FD5-9BDF-4F6F73D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8119-D10A-41C8-8491-5C41259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E188-6069-4C7F-A953-A727F4D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DEC3-A1AE-43BC-807F-A81E7A1A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11F0-0A8B-4E56-A692-8FA3BFA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EBE9-A764-41CC-B98A-27930C14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6478-0DF3-45A9-800F-AC6DA56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C95C-356F-4F8B-BCA3-2C2B4B1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9C13-4B0A-427A-9B41-69490D3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003C-9A8A-475F-B33B-90BFCB67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564C-C48D-4973-847D-BD09F0F7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1EC-22CA-4975-88BF-1A0FF317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F99B-E5FA-4EF6-B462-39E13100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A5B-DCE8-4670-8007-DD9691F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4E3-1D38-4540-9352-64A55D5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CAC-8FDC-4EA7-8E72-CF547F7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FFB4-2360-441B-84BB-496F295FC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2E9-808E-4431-8CEC-0E9C6BAD5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18B-7A16-486C-9E05-BFF653AF6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8559-B00A-4D29-A632-DF510B00E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5FE6-FEA6-4463-9694-2D79873C7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image" Target="../media/image20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0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комство с клетками раст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Дольки это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692360" y="1052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С ядрам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мп клеток кожицы лука фото"/>
          <p:cNvPicPr/>
          <p:nvPr/>
        </p:nvPicPr>
        <p:blipFill>
          <a:blip r:embed="rId1"/>
          <a:stretch/>
        </p:blipFill>
        <p:spPr>
          <a:xfrm>
            <a:off x="1042920" y="1413000"/>
            <a:ext cx="7051680" cy="52876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"/>
          <p:cNvSpPr/>
          <p:nvPr/>
        </p:nvSpPr>
        <p:spPr>
          <a:xfrm>
            <a:off x="1258920" y="663480"/>
            <a:ext cx="6057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икропрепарат клеток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жицы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8893080" cy="6742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8120" y="307800"/>
            <a:ext cx="3384720" cy="6126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54" name="TextBox 1"/>
          <p:cNvSpPr/>
          <p:nvPr/>
        </p:nvSpPr>
        <p:spPr>
          <a:xfrm>
            <a:off x="3419640" y="620640"/>
            <a:ext cx="532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ебята ,  подумайте ,а какие органоиды растительной   клетки мы не смогли увидеть? И почему ?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608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 веселые ребя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вет мы клетке придаем, Можем быть и мы полезны, ей  в питании дневном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жем быть мы белыми,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зелены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 желты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иними  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сны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конечно  разными!!! .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56000" y="4149720"/>
            <a:ext cx="47880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ласти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f7f7f"/>
                </a:solidFill>
                <a:latin typeface="Calibri"/>
              </a:rPr>
              <a:t>Лейкопласты -…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f7f7f"/>
                </a:solidFill>
                <a:latin typeface="Calibri"/>
              </a:rPr>
              <a:t>Хромопласты -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f7f7f"/>
                </a:solidFill>
                <a:latin typeface="Calibri"/>
              </a:rPr>
              <a:t>Хлоропласты 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5508720" y="4292640"/>
            <a:ext cx="2217600" cy="601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6334200" y="3505320"/>
            <a:ext cx="44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3959280" cy="634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6173640" y="4340160"/>
            <a:ext cx="4446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кожица_лука7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1324080" y="300816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Impact"/>
              </a:rPr>
              <a:t>ВАКУ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733840" cy="3645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2"/>
          <p:cNvSpPr/>
          <p:nvPr/>
        </p:nvSpPr>
        <p:spPr>
          <a:xfrm>
            <a:off x="2395440" y="3978360"/>
            <a:ext cx="6748560" cy="3018600"/>
          </a:xfrm>
          <a:prstGeom prst="rect">
            <a:avLst/>
          </a:prstGeom>
          <a:solidFill>
            <a:srgbClr val="ffcccc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alibri"/>
              </a:rPr>
              <a:t>Ребята ,проверьте себя: все ли мы  нашли органоиды  в растительной клет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780000" y="2196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Получили первые навыки  работы  с микроскопом (умеем и знаем как настраивать его и рассматривать в него изучаемые объекты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Научились готовить влажные микропрепараты натуральных  изучаемых объектов 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ли строение растительной клетки и выяснили , что она состоит :из клеточной  оболочки, цитоплазмы , ядра, вакуоли с клеточным со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0" y="501336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 забудьте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сле работы  уберите  у себя на столе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5" descr=""/>
          <p:cNvPicPr/>
          <p:nvPr/>
        </p:nvPicPr>
        <p:blipFill>
          <a:blip r:embed="rId1"/>
          <a:srcRect l="19513" t="0" r="0" b="0"/>
          <a:stretch/>
        </p:blipFill>
        <p:spPr>
          <a:xfrm>
            <a:off x="0" y="836640"/>
            <a:ext cx="3780000" cy="410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71720" y="2000160"/>
            <a:ext cx="6400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сем:  повторить параграф №5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а) составить кроссворд по теме «Клетка»( 5 с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б) выполнить объёмную модель клетки из пластилина, теста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Calibri"/>
              </a:rPr>
              <a:t>Зелёный – поня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Жёлтый – затрудняюс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ac090"/>
                </a:solidFill>
                <a:latin typeface="Calibri"/>
              </a:rPr>
              <a:t>Розовый – не поня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5796000" y="1841400"/>
            <a:ext cx="2601720" cy="3467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435280" y="6091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блемный вопрос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27000" y="4508640"/>
            <a:ext cx="9117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 для чего же мы изучаем клетку? Почему нам это важно при изучении биолог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-12600" y="0"/>
            <a:ext cx="5664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6" descr="кожица_лука5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0" y="4292640"/>
            <a:ext cx="914400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олувязка, не прозрачна , полужидка я слегка . Заполняю клетку разом  и средой зовусь ей я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Я участвую в обмене всех веществ, что нужно ей. Накоплю и сохраню- органоидам раздаю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Что не нужно- вывожу. Честно ей всегда служу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108000" y="0"/>
            <a:ext cx="5759280" cy="2924280"/>
          </a:xfrm>
          <a:custGeom>
            <a:avLst/>
            <a:gdLst>
              <a:gd name="textAreaLeft" fmla="*/ 843120 w 5759280"/>
              <a:gd name="textAreaRight" fmla="*/ 4916160 w 5759280"/>
              <a:gd name="textAreaTop" fmla="*/ 428040 h 2924280"/>
              <a:gd name="textAreaBottom" fmla="*/ 2496240 h 292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23" y="10800"/>
                </a:moveTo>
                <a:cubicBezTo>
                  <a:pt x="3123" y="15040"/>
                  <a:pt x="6560" y="18477"/>
                  <a:pt x="10800" y="18477"/>
                </a:cubicBezTo>
                <a:cubicBezTo>
                  <a:pt x="15040" y="18477"/>
                  <a:pt x="18477" y="15040"/>
                  <a:pt x="18477" y="10800"/>
                </a:cubicBezTo>
                <a:cubicBezTo>
                  <a:pt x="18477" y="6560"/>
                  <a:pt x="15040" y="3123"/>
                  <a:pt x="10800" y="3123"/>
                </a:cubicBezTo>
                <a:cubicBezTo>
                  <a:pt x="6560" y="3123"/>
                  <a:pt x="3123" y="6560"/>
                  <a:pt x="3123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лица"/>
          <p:cNvPicPr/>
          <p:nvPr/>
        </p:nvPicPr>
        <p:blipFill>
          <a:blip r:embed="rId2"/>
          <a:stretch/>
        </p:blipFill>
        <p:spPr>
          <a:xfrm>
            <a:off x="7093080" y="2536920"/>
            <a:ext cx="1822320" cy="1755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2124000" y="404640"/>
            <a:ext cx="2879640" cy="9655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>
            <a:off x="1584000" y="1143000"/>
            <a:ext cx="539640" cy="5400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3"/>
          <a:stretch/>
        </p:blipFill>
        <p:spPr>
          <a:xfrm>
            <a:off x="3278160" y="466560"/>
            <a:ext cx="57312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0"/>
            <a:ext cx="808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летке без меня не жить</a:t>
            </a: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Я за все в ней отвеча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Что делить, что пропуст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Я об отдыхе мечта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Без меня же все мер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Вы напишите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7" descr="лица"/>
          <p:cNvPicPr/>
          <p:nvPr/>
        </p:nvPicPr>
        <p:blipFill>
          <a:blip r:embed="rId1"/>
          <a:stretch/>
        </p:blipFill>
        <p:spPr>
          <a:xfrm>
            <a:off x="6227640" y="4221000"/>
            <a:ext cx="2697120" cy="2416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лист1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0" y="5221440"/>
            <a:ext cx="9144000" cy="1556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 за признаки наследства отвечаю в клетке я. Ну а если я разрушусь клетка гибнет без меня . Все вы поняли давно, что зовусь я в ней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1332000" y="925560"/>
            <a:ext cx="6100560" cy="4313160"/>
          </a:xfrm>
          <a:custGeom>
            <a:avLst/>
            <a:gdLst>
              <a:gd name="textAreaLeft" fmla="*/ 893160 w 6100560"/>
              <a:gd name="textAreaRight" fmla="*/ 5207400 w 6100560"/>
              <a:gd name="textAreaTop" fmla="*/ 631440 h 4313160"/>
              <a:gd name="textAreaBottom" fmla="*/ 3681720 h 431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405" y="10800"/>
                </a:moveTo>
                <a:cubicBezTo>
                  <a:pt x="1405" y="15989"/>
                  <a:pt x="5611" y="20195"/>
                  <a:pt x="10800" y="20195"/>
                </a:cubicBezTo>
                <a:cubicBezTo>
                  <a:pt x="15989" y="20195"/>
                  <a:pt x="20195" y="15989"/>
                  <a:pt x="20195" y="10800"/>
                </a:cubicBezTo>
                <a:cubicBezTo>
                  <a:pt x="20195" y="5611"/>
                  <a:pt x="15989" y="1405"/>
                  <a:pt x="10800" y="1405"/>
                </a:cubicBezTo>
                <a:cubicBezTo>
                  <a:pt x="5611" y="1405"/>
                  <a:pt x="1405" y="5611"/>
                  <a:pt x="1405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лица"/>
          <p:cNvPicPr/>
          <p:nvPr/>
        </p:nvPicPr>
        <p:blipFill>
          <a:blip r:embed="rId3"/>
          <a:stretch/>
        </p:blipFill>
        <p:spPr>
          <a:xfrm>
            <a:off x="5316480" y="549360"/>
            <a:ext cx="3503520" cy="33764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2730600" y="2133720"/>
            <a:ext cx="2590560" cy="9475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281480" y="3067200"/>
            <a:ext cx="0" cy="72540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4"/>
          <a:stretch/>
        </p:blipFill>
        <p:spPr>
          <a:xfrm>
            <a:off x="3743280" y="2111400"/>
            <a:ext cx="63828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Администратор\Мои документы\Мои рисунки\дддддххх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5905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0" y="5805360"/>
            <a:ext cx="903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Клеточный сок я содержу, токсины и яды ,а так же и воду при случае нужном- я вывожу , ты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меня изволь, и зовусь я 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826920" y="1700280"/>
            <a:ext cx="244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АКУ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0" y="907920"/>
            <a:ext cx="6877080" cy="3961080"/>
          </a:xfrm>
          <a:custGeom>
            <a:avLst/>
            <a:gdLst>
              <a:gd name="textAreaLeft" fmla="*/ 1006920 w 6877080"/>
              <a:gd name="textAreaRight" fmla="*/ 5870160 w 6877080"/>
              <a:gd name="textAreaTop" fmla="*/ 579960 h 3961080"/>
              <a:gd name="textAreaBottom" fmla="*/ 33811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405" y="10800"/>
                </a:moveTo>
                <a:cubicBezTo>
                  <a:pt x="1405" y="15989"/>
                  <a:pt x="5611" y="20195"/>
                  <a:pt x="10800" y="20195"/>
                </a:cubicBezTo>
                <a:cubicBezTo>
                  <a:pt x="15989" y="20195"/>
                  <a:pt x="20195" y="15989"/>
                  <a:pt x="20195" y="10800"/>
                </a:cubicBezTo>
                <a:cubicBezTo>
                  <a:pt x="20195" y="5611"/>
                  <a:pt x="15989" y="1405"/>
                  <a:pt x="10800" y="1405"/>
                </a:cubicBezTo>
                <a:cubicBezTo>
                  <a:pt x="5611" y="1405"/>
                  <a:pt x="1405" y="5611"/>
                  <a:pt x="1405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2092320" y="2270160"/>
            <a:ext cx="820800" cy="144612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лица"/>
          <p:cNvPicPr/>
          <p:nvPr/>
        </p:nvPicPr>
        <p:blipFill>
          <a:blip r:embed="rId2"/>
          <a:stretch/>
        </p:blipFill>
        <p:spPr>
          <a:xfrm>
            <a:off x="6575400" y="3573360"/>
            <a:ext cx="2495520" cy="2232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755640" y="1484280"/>
            <a:ext cx="2590920" cy="901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3"/>
          <a:stretch/>
        </p:blipFill>
        <p:spPr>
          <a:xfrm>
            <a:off x="1792440" y="1484280"/>
            <a:ext cx="5191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кожица_лука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5"/>
          <p:cNvSpPr/>
          <p:nvPr/>
        </p:nvSpPr>
        <p:spPr>
          <a:xfrm>
            <a:off x="539640" y="-100080"/>
            <a:ext cx="5761080" cy="1944720"/>
          </a:xfrm>
          <a:custGeom>
            <a:avLst/>
            <a:gdLst>
              <a:gd name="textAreaLeft" fmla="*/ 843480 w 5761080"/>
              <a:gd name="textAreaRight" fmla="*/ 4917600 w 5761080"/>
              <a:gd name="textAreaTop" fmla="*/ 284760 h 1944720"/>
              <a:gd name="textAreaBottom" fmla="*/ 165996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23" y="10800"/>
                </a:moveTo>
                <a:cubicBezTo>
                  <a:pt x="3123" y="15040"/>
                  <a:pt x="6560" y="18477"/>
                  <a:pt x="10800" y="18477"/>
                </a:cubicBezTo>
                <a:cubicBezTo>
                  <a:pt x="15040" y="18477"/>
                  <a:pt x="18477" y="15040"/>
                  <a:pt x="18477" y="10800"/>
                </a:cubicBezTo>
                <a:cubicBezTo>
                  <a:pt x="18477" y="6560"/>
                  <a:pt x="15040" y="3123"/>
                  <a:pt x="10800" y="3123"/>
                </a:cubicBezTo>
                <a:cubicBezTo>
                  <a:pt x="6560" y="3123"/>
                  <a:pt x="3123" y="6560"/>
                  <a:pt x="3123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4797360"/>
            <a:ext cx="9144000" cy="2102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Я прозрачна и прочна,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и тонка, ни широка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т микробов, ран, грибочков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защищае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лица"/>
          <p:cNvPicPr/>
          <p:nvPr/>
        </p:nvPicPr>
        <p:blipFill>
          <a:blip r:embed="rId2"/>
          <a:stretch/>
        </p:blipFill>
        <p:spPr>
          <a:xfrm>
            <a:off x="7236000" y="4508640"/>
            <a:ext cx="1822320" cy="1757160"/>
          </a:xfrm>
          <a:prstGeom prst="rect">
            <a:avLst/>
          </a:prstGeom>
          <a:ln w="0">
            <a:noFill/>
          </a:ln>
        </p:spPr>
      </p:pic>
      <p:sp>
        <p:nvSpPr>
          <p:cNvPr id="305" name="Line 8"/>
          <p:cNvSpPr/>
          <p:nvPr/>
        </p:nvSpPr>
        <p:spPr>
          <a:xfrm flipH="1">
            <a:off x="2124000" y="506520"/>
            <a:ext cx="595440" cy="3664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643120" y="85680"/>
            <a:ext cx="2590920" cy="650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3"/>
          <a:stretch/>
        </p:blipFill>
        <p:spPr>
          <a:xfrm>
            <a:off x="3376440" y="166680"/>
            <a:ext cx="4446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55450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з клеток- состоят все растения и живые организм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Клетка – основная структурная единица любого  живого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летка -обладает  всеми признаками живого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ганизма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(Питание, дыхание, рост, развитие , размножение, выделение, обмен веществ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Микроскоп Электронный"/>
          <p:cNvPicPr/>
          <p:nvPr/>
        </p:nvPicPr>
        <p:blipFill>
          <a:blip r:embed="rId1"/>
          <a:stretch/>
        </p:blipFill>
        <p:spPr>
          <a:xfrm>
            <a:off x="5776920" y="-291960"/>
            <a:ext cx="3024360" cy="3576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традесканция"/>
          <p:cNvPicPr/>
          <p:nvPr/>
        </p:nvPicPr>
        <p:blipFill>
          <a:blip r:embed="rId2"/>
          <a:stretch/>
        </p:blipFill>
        <p:spPr>
          <a:xfrm>
            <a:off x="5580000" y="3284640"/>
            <a:ext cx="3338640" cy="345744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5"/>
          <p:cNvGrpSpPr/>
          <p:nvPr/>
        </p:nvGrpSpPr>
        <p:grpSpPr>
          <a:xfrm>
            <a:off x="6140520" y="4076640"/>
            <a:ext cx="1887480" cy="1513080"/>
            <a:chOff x="6140520" y="4076640"/>
            <a:chExt cx="1887480" cy="1513080"/>
          </a:xfrm>
        </p:grpSpPr>
        <p:pic>
          <p:nvPicPr>
            <p:cNvPr id="312" name="Picture 6" descr="Движение-цмтоплазмы"/>
            <p:cNvPicPr/>
            <p:nvPr/>
          </p:nvPicPr>
          <p:blipFill>
            <a:blip r:embed="rId3"/>
            <a:stretch/>
          </p:blipFill>
          <p:spPr>
            <a:xfrm>
              <a:off x="6267600" y="4076640"/>
              <a:ext cx="16279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AutoShape 7"/>
            <p:cNvSpPr/>
            <p:nvPr/>
          </p:nvSpPr>
          <p:spPr>
            <a:xfrm>
              <a:off x="6140520" y="4076640"/>
              <a:ext cx="1887480" cy="1513080"/>
            </a:xfrm>
            <a:custGeom>
              <a:avLst/>
              <a:gdLst>
                <a:gd name="textAreaLeft" fmla="*/ 276480 w 1887480"/>
                <a:gd name="textAreaRight" fmla="*/ 1611000 w 1887480"/>
                <a:gd name="textAreaTop" fmla="*/ 221760 h 1513080"/>
                <a:gd name="textAreaBottom" fmla="*/ 129132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Calibri"/>
              </a:rPr>
              <a:t>Определите порядок сло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br>
              <a:rPr sz="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Calibri"/>
              </a:rPr>
              <a:t>Живое, все, из, состоит, клето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Правильный ответ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Все живое состоит из клет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.             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.             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.            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.             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.            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F:\МОИ ДОКУМЕНТЫ-2\картинки биология\растения\морфоллогия и внутреннее строение растений\клетка , увеличительные приборы, гербарии\современный микроскоп.jpg"/>
          <p:cNvPicPr/>
          <p:nvPr/>
        </p:nvPicPr>
        <p:blipFill>
          <a:blip r:embed="rId1"/>
          <a:stretch/>
        </p:blipFill>
        <p:spPr>
          <a:xfrm>
            <a:off x="285840" y="428760"/>
            <a:ext cx="4500360" cy="6448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://im0-tub-ru.yandex.net/i?id=71eb7e7f045190345fed39f103ff6a29&amp;n=24"/>
          <p:cNvPicPr/>
          <p:nvPr/>
        </p:nvPicPr>
        <p:blipFill>
          <a:blip r:embed="rId2"/>
          <a:stretch/>
        </p:blipFill>
        <p:spPr>
          <a:xfrm>
            <a:off x="4714920" y="1346040"/>
            <a:ext cx="4214880" cy="44402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3857760" y="2858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личительные приборы –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8281800" cy="838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Ход рабо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08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Подготовить микроскоп к раб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Готовим микропрепарат клеток  кожицы лу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6" descr="уковица"/>
          <p:cNvPicPr/>
          <p:nvPr/>
        </p:nvPicPr>
        <p:blipFill>
          <a:blip r:embed="rId1"/>
          <a:stretch/>
        </p:blipFill>
        <p:spPr>
          <a:xfrm>
            <a:off x="611280" y="2670120"/>
            <a:ext cx="1949400" cy="3195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5634000" cy="36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3300"/>
                </a:solidFill>
                <a:latin typeface="Calibri"/>
              </a:rPr>
              <a:t>«Изготовление препарата клеток кожицы чешуи луковицы лук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 Подготовьте предме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кло, тщательно протер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 мар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 Пипеткой нанесите 1–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ли воды на предме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к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При помощи иглы осторожно снимите маленький кусочек прозрачной кожицы с внутренней поверхности чешуи 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окройте кожицу покровным стек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31920" y="6093000"/>
            <a:ext cx="8785080" cy="765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аш влажный препарат- готов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C:\Documents and Settings\Администратор\Мои документы\Мои рисунки\Копия ххх.jpg"/>
          <p:cNvPicPr/>
          <p:nvPr/>
        </p:nvPicPr>
        <p:blipFill>
          <a:blip r:embed="rId1"/>
          <a:stretch/>
        </p:blipFill>
        <p:spPr>
          <a:xfrm>
            <a:off x="4140360" y="981000"/>
            <a:ext cx="4952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58920" y="333360"/>
            <a:ext cx="554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Georgia"/>
              </a:rPr>
              <a:t>Микроскоп поставил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37040" cy="5486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 rot="18922800">
            <a:off x="2268360" y="3860280"/>
            <a:ext cx="201636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5"/>
          <a:stretch/>
        </p:blipFill>
        <p:spPr>
          <a:xfrm>
            <a:off x="5076720" y="2997360"/>
            <a:ext cx="3311640" cy="3311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3348000" y="105264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Препарат - на сто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492360" y="1700280"/>
            <a:ext cx="56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Объектив направ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Глядь, а лук – из дол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3T08:25:54Z</dcterms:created>
  <dc:creator>User</dc:creator>
  <dc:description/>
  <dc:language>en-US</dc:language>
  <cp:lastModifiedBy>Administrator</cp:lastModifiedBy>
  <dcterms:modified xsi:type="dcterms:W3CDTF">2019-10-14T07:55:26Z</dcterms:modified>
  <cp:revision>11</cp:revision>
  <dc:subject/>
  <dc:title>Слайд 1</dc:title>
</cp:coreProperties>
</file>