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9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1.png" ContentType="image/png"/>
  <Override PartName="/ppt/media/image16.png" ContentType="image/png"/>
  <Override PartName="/ppt/media/chimes.wav" ContentType="audio/x-wav"/>
  <Override PartName="/ppt/media/image8.png" ContentType="image/png"/>
  <Override PartName="/ppt/media/image10.png" ContentType="image/png"/>
  <Override PartName="/ppt/media/explode.wav" ContentType="audio/x-wav"/>
  <Override PartName="/ppt/media/image5.jpeg" ContentType="image/jpeg"/>
  <Override PartName="/ppt/media/image26.jpeg" ContentType="image/jpeg"/>
  <Override PartName="/ppt/media/image27.png" ContentType="image/png"/>
  <Override PartName="/ppt/media/image29.gif" ContentType="image/gif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camera.wav" ContentType="audio/x-wav"/>
  <Override PartName="/ppt/media/image12.png" ContentType="image/png"/>
  <Override PartName="/ppt/media/image20.jpeg" ContentType="image/jpeg"/>
  <Override PartName="/ppt/media/image13.png" ContentType="image/png"/>
  <Override PartName="/ppt/media/image14.png" ContentType="image/pn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B73-BA1C-488E-89DA-5657712F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FBB-8595-411C-A935-57EB8F8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5BD-60D6-41AB-8934-AD6942E9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AE0-6357-4717-ADD9-D25B9CC4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9E17-5E86-413D-A7A6-BA51061A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D180-CE96-4E61-BD38-7095981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5C3-3E32-43FE-A68D-FE1B9F51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2ED1-B22C-4880-A27D-86B4AD35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CF20-4E45-463A-AC99-69F2D38C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A7B3-94BA-4D5A-8FFB-DDE6D0C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B4F6-B2F7-47EE-B5E3-2A3432E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396-07EF-467D-B281-E4E074D6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7BB-876A-428D-975C-CD2CE25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D5C2-74AF-4EC9-94E7-99080F3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7408-E687-4C5C-88B7-795C488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29BB-00A5-4302-830D-FF8CB0C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4361-4F24-4873-9A7C-D93E11C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10F9-C6C2-40EB-B1C3-23F31F80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C2B6-BF46-454C-A1DB-602D703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2058-5DF9-4798-9536-2029ADCF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9CBC-2405-4E03-9609-B9B35787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9B94-9FD3-4A7C-AD33-A5125F87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53F-0C91-4985-89D7-111A5C6F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F753-5192-4DD2-B2A0-FFDF41A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9CBA-C726-455E-AAF6-758B7C1C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2A7C-1AC1-4BCE-BF89-4E45A4B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291A-0574-43EB-AA28-92FDF6B8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EEFA-399B-4FF0-9D0A-B5C20AE1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49A1-B7C0-4F5D-AFF2-61B59D81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8216-D926-466C-8576-09A5FC06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FA3E-D398-4CC8-803F-75D41634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3C96-758D-4D84-BCF1-47FF49A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2EAB-FE84-4BE7-9E46-80F29872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B35-367F-4163-962D-682683C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1CCD-C510-4354-9012-BBAF9CB3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D421-45CC-4536-8FD0-463C954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769E-4B8D-426F-85F6-047166D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EC7F-8821-4BCC-A709-FCB8971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3451-DCBD-4429-B885-E721643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06D3-409C-46A3-AB53-BE60CDE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2DF7-3484-4A8D-98EB-4A0489F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A5A2-3F26-4446-9FF0-D882CFCD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7602-8DA2-4689-BF51-C881A309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9962-8812-48E9-90CA-C53CB8B8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0F0-64F2-4D66-A157-B8B48B17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DA72-F8B8-432C-9850-2600E7C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B01F-015C-4A18-89A0-C4B0CDA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712D-935A-4B1E-95F1-3FD802D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BD0E-A26A-4CB6-9330-205D1CB0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3531-EB2A-4B54-A966-2617816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EAD1-1F00-4CC4-8042-0503ACF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07D2-DF8F-4123-ACE7-6A4A18F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6759-9C32-49F5-B124-8173368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FFC4C-4259-440B-B4CC-D10D9CAA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953F-F617-4801-8E84-0D95FD9A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468-9661-4882-94CB-3A6B10B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7412-EFCD-4BFF-A14B-DB2D7E83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8AB-C2F4-4DA0-8AF8-8D1E077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847-F61A-4CE9-80DE-E99AE3E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682-9AE8-49C4-A26E-3D72B67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CF1-9C4F-46EC-964D-49772B792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71A-D24D-4904-A871-A449F8750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D5F-9270-40DD-BAA4-4A5D14404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849-EC6F-454C-AA8D-E16F776EC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039-5CBA-451F-92B8-66E7C64B9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image" Target="../media/image20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0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комство с клетками раст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Дольки это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692360" y="1052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С ядрам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мп клеток кожицы лука фото"/>
          <p:cNvPicPr/>
          <p:nvPr/>
        </p:nvPicPr>
        <p:blipFill>
          <a:blip r:embed="rId1"/>
          <a:stretch/>
        </p:blipFill>
        <p:spPr>
          <a:xfrm>
            <a:off x="1042920" y="1413000"/>
            <a:ext cx="7051680" cy="52876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"/>
          <p:cNvSpPr/>
          <p:nvPr/>
        </p:nvSpPr>
        <p:spPr>
          <a:xfrm>
            <a:off x="1258920" y="663480"/>
            <a:ext cx="6057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икропрепарат клеток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жицы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8893080" cy="6742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8120" y="307800"/>
            <a:ext cx="3384720" cy="6126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54" name="TextBox 1"/>
          <p:cNvSpPr/>
          <p:nvPr/>
        </p:nvSpPr>
        <p:spPr>
          <a:xfrm>
            <a:off x="3419640" y="620640"/>
            <a:ext cx="532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бята ,  подумайте ,а какие органоиды растительной   клетки мы не смогли увидеть? И почему ?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608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веселые ребя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вет мы клетке придаем, Можем быть и мы полезны, ей  в питании дневном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ем быть мы белыми,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зелен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 желт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иними  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ы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и конечно  разными!!! .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56000" y="4149720"/>
            <a:ext cx="47880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ласти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Лейкопласты -…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Хромопласты -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f7f7f"/>
                </a:solidFill>
                <a:latin typeface="Calibri"/>
              </a:rPr>
              <a:t>Хлоропласты 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5508720" y="4292640"/>
            <a:ext cx="2217600" cy="601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6334200" y="3505320"/>
            <a:ext cx="44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3959280" cy="634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6173640" y="4340160"/>
            <a:ext cx="444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кожица_лука7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1324080" y="300816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Impact"/>
              </a:rPr>
              <a:t>ВАКУ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733840" cy="3645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2"/>
          <p:cNvSpPr/>
          <p:nvPr/>
        </p:nvSpPr>
        <p:spPr>
          <a:xfrm>
            <a:off x="2395440" y="3978360"/>
            <a:ext cx="6748560" cy="3018600"/>
          </a:xfrm>
          <a:prstGeom prst="rect">
            <a:avLst/>
          </a:prstGeom>
          <a:solidFill>
            <a:srgbClr val="ffcccc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alibri"/>
              </a:rPr>
              <a:t>Ребята ,проверьте себя: все ли мы  нашли органоиды  в растительной клет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780000" y="2196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олучили первые навыки  работы  с микроскопом (умеем и знаем как настраивать его и рассматривать в него изучаемые объекты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Научились готовить влажные микропрепараты натуральных  изучаемых объектов 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ли строение растительной клетки и выяснили , что она состоит :из клеточной  оболочки, цитоплазмы , ядра, вакуоли с клеточным с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0" y="501336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 забудьте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сле работы  уберите  у себя на столе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5" descr=""/>
          <p:cNvPicPr/>
          <p:nvPr/>
        </p:nvPicPr>
        <p:blipFill>
          <a:blip r:embed="rId1"/>
          <a:srcRect l="19513" t="0" r="0" b="0"/>
          <a:stretch/>
        </p:blipFill>
        <p:spPr>
          <a:xfrm>
            <a:off x="0" y="836640"/>
            <a:ext cx="3780000" cy="41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71720" y="2000160"/>
            <a:ext cx="6400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сем:  повторить параграф №5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а) составить кроссворд по теме «Клетка»( 5 с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б) выполнить объёмную модель клетки из пластилина, теста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Calibri"/>
              </a:rPr>
              <a:t>Зелёный – поня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ёлтый – затрудняюс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ac090"/>
                </a:solidFill>
                <a:latin typeface="Calibri"/>
              </a:rPr>
              <a:t>Розовый – не поня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796000" y="1841400"/>
            <a:ext cx="2601720" cy="3467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435280" y="6091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блемный вопрос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27000" y="4508640"/>
            <a:ext cx="9117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 для чего же мы изучаем клетку? Почему нам это важно при изучении биолог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12600" y="0"/>
            <a:ext cx="5664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6" descr="кожица_лука5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олувязка, не прозрачна , полужидка я слегка . Заполняю клетку разом  и средой зовусь ей 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Я участвую в обмене всех веществ, что нужно ей. Накоплю и сохраню- органоидам раздаю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Что не нужно- вывожу. Честно ей всегда служу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108000" y="0"/>
            <a:ext cx="5759280" cy="2924280"/>
          </a:xfrm>
          <a:custGeom>
            <a:avLst/>
            <a:gdLst>
              <a:gd name="textAreaLeft" fmla="*/ 843120 w 5759280"/>
              <a:gd name="textAreaRight" fmla="*/ 4916160 w 5759280"/>
              <a:gd name="textAreaTop" fmla="*/ 428040 h 2924280"/>
              <a:gd name="textAreaBottom" fmla="*/ 2496240 h 292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3" y="10800"/>
                </a:moveTo>
                <a:cubicBezTo>
                  <a:pt x="3123" y="15040"/>
                  <a:pt x="6560" y="18477"/>
                  <a:pt x="10800" y="18477"/>
                </a:cubicBezTo>
                <a:cubicBezTo>
                  <a:pt x="15040" y="18477"/>
                  <a:pt x="18477" y="15040"/>
                  <a:pt x="18477" y="10800"/>
                </a:cubicBezTo>
                <a:cubicBezTo>
                  <a:pt x="18477" y="6560"/>
                  <a:pt x="15040" y="3123"/>
                  <a:pt x="10800" y="3123"/>
                </a:cubicBezTo>
                <a:cubicBezTo>
                  <a:pt x="6560" y="3123"/>
                  <a:pt x="3123" y="6560"/>
                  <a:pt x="3123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лица"/>
          <p:cNvPicPr/>
          <p:nvPr/>
        </p:nvPicPr>
        <p:blipFill>
          <a:blip r:embed="rId2"/>
          <a:stretch/>
        </p:blipFill>
        <p:spPr>
          <a:xfrm>
            <a:off x="7093080" y="2536920"/>
            <a:ext cx="1822320" cy="1755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2124000" y="404640"/>
            <a:ext cx="2879640" cy="9655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>
            <a:off x="1584000" y="1143000"/>
            <a:ext cx="539640" cy="5400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3"/>
          <a:stretch/>
        </p:blipFill>
        <p:spPr>
          <a:xfrm>
            <a:off x="3278160" y="466560"/>
            <a:ext cx="57312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0"/>
            <a:ext cx="808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летке без меня не жить</a:t>
            </a:r>
            <a:r>
              <a:rPr b="1" lang="en-US" sz="3600" spc="-1" strike="noStrike">
                <a:solidFill>
                  <a:srgbClr val="663300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Я за все в ней отвеча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Что делить, что пропуст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Я об отдыхе мечта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Без меня же все мер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Вы напишите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7" descr="лица"/>
          <p:cNvPicPr/>
          <p:nvPr/>
        </p:nvPicPr>
        <p:blipFill>
          <a:blip r:embed="rId1"/>
          <a:stretch/>
        </p:blipFill>
        <p:spPr>
          <a:xfrm>
            <a:off x="6227640" y="4221000"/>
            <a:ext cx="2697120" cy="2416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лист1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0" y="5221440"/>
            <a:ext cx="9144000" cy="15562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 за признаки наследства отвечаю в клетке я. Ну а если я разрушусь клетка гибнет без меня . Все вы поняли давно, что зовусь я в ней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1332000" y="925560"/>
            <a:ext cx="6100560" cy="4313160"/>
          </a:xfrm>
          <a:custGeom>
            <a:avLst/>
            <a:gdLst>
              <a:gd name="textAreaLeft" fmla="*/ 893160 w 6100560"/>
              <a:gd name="textAreaRight" fmla="*/ 5207400 w 6100560"/>
              <a:gd name="textAreaTop" fmla="*/ 631440 h 4313160"/>
              <a:gd name="textAreaBottom" fmla="*/ 3681720 h 43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05" y="10800"/>
                </a:moveTo>
                <a:cubicBezTo>
                  <a:pt x="1405" y="15989"/>
                  <a:pt x="5611" y="20195"/>
                  <a:pt x="10800" y="20195"/>
                </a:cubicBezTo>
                <a:cubicBezTo>
                  <a:pt x="15989" y="20195"/>
                  <a:pt x="20195" y="15989"/>
                  <a:pt x="20195" y="10800"/>
                </a:cubicBezTo>
                <a:cubicBezTo>
                  <a:pt x="20195" y="5611"/>
                  <a:pt x="15989" y="1405"/>
                  <a:pt x="10800" y="1405"/>
                </a:cubicBezTo>
                <a:cubicBezTo>
                  <a:pt x="5611" y="1405"/>
                  <a:pt x="1405" y="5611"/>
                  <a:pt x="1405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лица"/>
          <p:cNvPicPr/>
          <p:nvPr/>
        </p:nvPicPr>
        <p:blipFill>
          <a:blip r:embed="rId3"/>
          <a:stretch/>
        </p:blipFill>
        <p:spPr>
          <a:xfrm>
            <a:off x="5316480" y="549360"/>
            <a:ext cx="3503520" cy="33764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2730600" y="2133720"/>
            <a:ext cx="2590560" cy="9475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281480" y="3067200"/>
            <a:ext cx="0" cy="72540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4"/>
          <a:stretch/>
        </p:blipFill>
        <p:spPr>
          <a:xfrm>
            <a:off x="3743280" y="2111400"/>
            <a:ext cx="63828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Администратор\Мои документы\Мои рисунки\дддддххх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5905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0" y="5805360"/>
            <a:ext cx="9036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леточный сок я содержу, токсины и яды ,а так же и воду при случае нужном- я вывожу , ты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меня изволь, и зовусь я 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826920" y="1700280"/>
            <a:ext cx="244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АКУ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0" y="907920"/>
            <a:ext cx="6877080" cy="3961080"/>
          </a:xfrm>
          <a:custGeom>
            <a:avLst/>
            <a:gdLst>
              <a:gd name="textAreaLeft" fmla="*/ 1006920 w 6877080"/>
              <a:gd name="textAreaRight" fmla="*/ 5870160 w 6877080"/>
              <a:gd name="textAreaTop" fmla="*/ 579960 h 3961080"/>
              <a:gd name="textAreaBottom" fmla="*/ 33811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405" y="10800"/>
                </a:moveTo>
                <a:cubicBezTo>
                  <a:pt x="1405" y="15989"/>
                  <a:pt x="5611" y="20195"/>
                  <a:pt x="10800" y="20195"/>
                </a:cubicBezTo>
                <a:cubicBezTo>
                  <a:pt x="15989" y="20195"/>
                  <a:pt x="20195" y="15989"/>
                  <a:pt x="20195" y="10800"/>
                </a:cubicBezTo>
                <a:cubicBezTo>
                  <a:pt x="20195" y="5611"/>
                  <a:pt x="15989" y="1405"/>
                  <a:pt x="10800" y="1405"/>
                </a:cubicBezTo>
                <a:cubicBezTo>
                  <a:pt x="5611" y="1405"/>
                  <a:pt x="1405" y="5611"/>
                  <a:pt x="1405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2092320" y="2270160"/>
            <a:ext cx="820800" cy="144612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лица"/>
          <p:cNvPicPr/>
          <p:nvPr/>
        </p:nvPicPr>
        <p:blipFill>
          <a:blip r:embed="rId2"/>
          <a:stretch/>
        </p:blipFill>
        <p:spPr>
          <a:xfrm>
            <a:off x="6575400" y="3573360"/>
            <a:ext cx="2495520" cy="2232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755640" y="1484280"/>
            <a:ext cx="2590920" cy="901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3"/>
          <a:stretch/>
        </p:blipFill>
        <p:spPr>
          <a:xfrm>
            <a:off x="1792440" y="1484280"/>
            <a:ext cx="5191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кожица_лука3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5"/>
          <p:cNvSpPr/>
          <p:nvPr/>
        </p:nvSpPr>
        <p:spPr>
          <a:xfrm>
            <a:off x="539640" y="-100080"/>
            <a:ext cx="5761080" cy="1944720"/>
          </a:xfrm>
          <a:custGeom>
            <a:avLst/>
            <a:gdLst>
              <a:gd name="textAreaLeft" fmla="*/ 843480 w 5761080"/>
              <a:gd name="textAreaRight" fmla="*/ 4917600 w 5761080"/>
              <a:gd name="textAreaTop" fmla="*/ 284760 h 1944720"/>
              <a:gd name="textAreaBottom" fmla="*/ 16599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23" y="10800"/>
                </a:moveTo>
                <a:cubicBezTo>
                  <a:pt x="3123" y="15040"/>
                  <a:pt x="6560" y="18477"/>
                  <a:pt x="10800" y="18477"/>
                </a:cubicBezTo>
                <a:cubicBezTo>
                  <a:pt x="15040" y="18477"/>
                  <a:pt x="18477" y="15040"/>
                  <a:pt x="18477" y="10800"/>
                </a:cubicBezTo>
                <a:cubicBezTo>
                  <a:pt x="18477" y="6560"/>
                  <a:pt x="15040" y="3123"/>
                  <a:pt x="10800" y="3123"/>
                </a:cubicBezTo>
                <a:cubicBezTo>
                  <a:pt x="6560" y="3123"/>
                  <a:pt x="3123" y="6560"/>
                  <a:pt x="3123" y="10800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4797360"/>
            <a:ext cx="9144000" cy="2102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Я прозрачна и прочна,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и тонка, ни широка.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т микробов, ран, грибочков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защищае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лица"/>
          <p:cNvPicPr/>
          <p:nvPr/>
        </p:nvPicPr>
        <p:blipFill>
          <a:blip r:embed="rId2"/>
          <a:stretch/>
        </p:blipFill>
        <p:spPr>
          <a:xfrm>
            <a:off x="7236000" y="4508640"/>
            <a:ext cx="1822320" cy="1757160"/>
          </a:xfrm>
          <a:prstGeom prst="rect">
            <a:avLst/>
          </a:prstGeom>
          <a:ln w="0">
            <a:noFill/>
          </a:ln>
        </p:spPr>
      </p:pic>
      <p:sp>
        <p:nvSpPr>
          <p:cNvPr id="305" name="Line 8"/>
          <p:cNvSpPr/>
          <p:nvPr/>
        </p:nvSpPr>
        <p:spPr>
          <a:xfrm flipH="1">
            <a:off x="2124000" y="506520"/>
            <a:ext cx="595440" cy="3664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643120" y="85680"/>
            <a:ext cx="2590920" cy="650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eeda4"/>
              </a:gs>
              <a:gs pos="100000">
                <a:srgbClr val="663300"/>
              </a:gs>
            </a:gsLst>
            <a:lin ang="5400000"/>
          </a:grad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3"/>
          <a:stretch/>
        </p:blipFill>
        <p:spPr>
          <a:xfrm>
            <a:off x="3376440" y="166680"/>
            <a:ext cx="4446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55450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з клеток- состоят все растения и живые организм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Клетка – основная структурная единица любого  живого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летка -обладает  всеми признаками живого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ганизма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(Питание, дыхание, рост, развитие , размножение, выделение, обмен веществ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Микроскоп Электронный"/>
          <p:cNvPicPr/>
          <p:nvPr/>
        </p:nvPicPr>
        <p:blipFill>
          <a:blip r:embed="rId1"/>
          <a:stretch/>
        </p:blipFill>
        <p:spPr>
          <a:xfrm>
            <a:off x="5776920" y="-291960"/>
            <a:ext cx="3024360" cy="357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традесканция"/>
          <p:cNvPicPr/>
          <p:nvPr/>
        </p:nvPicPr>
        <p:blipFill>
          <a:blip r:embed="rId2"/>
          <a:stretch/>
        </p:blipFill>
        <p:spPr>
          <a:xfrm>
            <a:off x="5580000" y="3284640"/>
            <a:ext cx="3338640" cy="345744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5"/>
          <p:cNvGrpSpPr/>
          <p:nvPr/>
        </p:nvGrpSpPr>
        <p:grpSpPr>
          <a:xfrm>
            <a:off x="6140520" y="4076640"/>
            <a:ext cx="1887480" cy="1513080"/>
            <a:chOff x="6140520" y="4076640"/>
            <a:chExt cx="1887480" cy="1513080"/>
          </a:xfrm>
        </p:grpSpPr>
        <p:pic>
          <p:nvPicPr>
            <p:cNvPr id="312" name="Picture 6" descr="Движение-цмтоплазмы"/>
            <p:cNvPicPr/>
            <p:nvPr/>
          </p:nvPicPr>
          <p:blipFill>
            <a:blip r:embed="rId3"/>
            <a:stretch/>
          </p:blipFill>
          <p:spPr>
            <a:xfrm>
              <a:off x="6267600" y="4076640"/>
              <a:ext cx="16279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AutoShape 7"/>
            <p:cNvSpPr/>
            <p:nvPr/>
          </p:nvSpPr>
          <p:spPr>
            <a:xfrm>
              <a:off x="6140520" y="4076640"/>
              <a:ext cx="1887480" cy="1513080"/>
            </a:xfrm>
            <a:custGeom>
              <a:avLst/>
              <a:gdLst>
                <a:gd name="textAreaLeft" fmla="*/ 276480 w 1887480"/>
                <a:gd name="textAreaRight" fmla="*/ 1611000 w 1887480"/>
                <a:gd name="textAreaTop" fmla="*/ 221760 h 1513080"/>
                <a:gd name="textAreaBottom" fmla="*/ 129132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Calibri"/>
              </a:rPr>
              <a:t>Определите порядок сло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br>
              <a:rPr sz="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Calibri"/>
              </a:rPr>
              <a:t>Живое, все, из, состоит, клето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Правильный ответ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Все живое состоит из клет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.            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.             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.            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F:\МОИ ДОКУМЕНТЫ-2\картинки биология\растения\морфоллогия и внутреннее строение растений\клетка , увеличительные приборы, гербарии\современный микроскоп.jpg"/>
          <p:cNvPicPr/>
          <p:nvPr/>
        </p:nvPicPr>
        <p:blipFill>
          <a:blip r:embed="rId1"/>
          <a:stretch/>
        </p:blipFill>
        <p:spPr>
          <a:xfrm>
            <a:off x="285840" y="428760"/>
            <a:ext cx="4500360" cy="6448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http://im0-tub-ru.yandex.net/i?id=71eb7e7f045190345fed39f103ff6a29&amp;n=24"/>
          <p:cNvPicPr/>
          <p:nvPr/>
        </p:nvPicPr>
        <p:blipFill>
          <a:blip r:embed="rId2"/>
          <a:stretch/>
        </p:blipFill>
        <p:spPr>
          <a:xfrm>
            <a:off x="4714920" y="1346040"/>
            <a:ext cx="4214880" cy="44402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3857760" y="2858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личительные приборы –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281800" cy="838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Ход рабо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08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Подготовить микроскоп к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Готовим микропрепарат клеток  кожицы л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6" descr="уковица"/>
          <p:cNvPicPr/>
          <p:nvPr/>
        </p:nvPicPr>
        <p:blipFill>
          <a:blip r:embed="rId1"/>
          <a:stretch/>
        </p:blipFill>
        <p:spPr>
          <a:xfrm>
            <a:off x="611280" y="2670120"/>
            <a:ext cx="1949400" cy="3195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5634000" cy="36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3300"/>
                </a:solidFill>
                <a:latin typeface="Calibri"/>
              </a:rPr>
              <a:t>«Изготовление препарата клеток кожицы чешуи луковицы лук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 Подготовьте предме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кло, тщательно протер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мар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 Пипеткой нанесите 1–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ли воды на предме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к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При помощи иглы осторожно снимите маленький кусочек прозрачной кожицы с внутренней поверхности чешуи 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окройте кожицу покровным стек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31920" y="6093000"/>
            <a:ext cx="8785080" cy="765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аш влажный препарат- готов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C:\Documents and Settings\Администратор\Мои документы\Мои рисунки\Копия ххх.jpg"/>
          <p:cNvPicPr/>
          <p:nvPr/>
        </p:nvPicPr>
        <p:blipFill>
          <a:blip r:embed="rId1"/>
          <a:stretch/>
        </p:blipFill>
        <p:spPr>
          <a:xfrm>
            <a:off x="4140360" y="981000"/>
            <a:ext cx="4952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58920" y="333360"/>
            <a:ext cx="554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Микроскоп поставил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37040" cy="5486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 rot="18922800">
            <a:off x="2268360" y="3860280"/>
            <a:ext cx="201636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5"/>
          <a:stretch/>
        </p:blipFill>
        <p:spPr>
          <a:xfrm>
            <a:off x="5076720" y="299736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348000" y="105264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Препарат - на сто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492360" y="1700280"/>
            <a:ext cx="56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Объектив напра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Глядь, а лук – из дол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3T08:25:54Z</dcterms:created>
  <dc:creator>User</dc:creator>
  <dc:description/>
  <dc:language>en-US</dc:language>
  <cp:lastModifiedBy>Administrator</cp:lastModifiedBy>
  <dcterms:modified xsi:type="dcterms:W3CDTF">2019-10-14T07:55:26Z</dcterms:modified>
  <cp:revision>11</cp:revision>
  <dc:subject/>
  <dc:title>Слайд 1</dc:title>
</cp:coreProperties>
</file>