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9D6-793E-4FD6-B6E0-17C945FA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04-A838-4B6E-8387-42F90C2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074-A1DD-4E87-882C-4008B6AB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D03-73B5-4D91-9A0A-FDC33DF6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426-E180-4974-8441-E876B3C1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82E-5A0F-4BCD-993F-22F29FED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268-AECD-4B51-89E2-356BB323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CCC-1B96-44E1-A162-87632BC4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389-383C-4768-A0BC-771B8E9F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FAD-CCE8-4B3A-AC99-6905DE2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759-3426-448C-9BA2-EE62546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73F-2ADB-4FA6-9B2E-950D450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27F-F2D3-4FA8-BC38-DCC5FA732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тям о Великой Отечественной вой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://static.wixstatic.com/media/e60c7e_d86dd25975754c1f86b9801574e6b442~mv2.jpg"/>
          <p:cNvPicPr/>
          <p:nvPr/>
        </p:nvPicPr>
        <p:blipFill>
          <a:blip r:embed="rId1"/>
          <a:stretch/>
        </p:blipFill>
        <p:spPr>
          <a:xfrm>
            <a:off x="1403280" y="2708280"/>
            <a:ext cx="65534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-5835240"/>
            <a:ext cx="100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1\Desktop\1_sentyabrya.jpg"/>
          <p:cNvPicPr/>
          <p:nvPr/>
        </p:nvPicPr>
        <p:blipFill>
          <a:blip r:embed="rId1"/>
          <a:stretch/>
        </p:blipFill>
        <p:spPr>
          <a:xfrm>
            <a:off x="500040" y="357120"/>
            <a:ext cx="81676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22 июня 1941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ссвете 22 июня 1941 года началась Великая Отечественная война. Долгие 4 года до 9 мая 1945 года наши деды и прадеды боролись за освобождение родины от фашизма. Они делали это ради будущих поколений, ради нас. Давайте рассказывать об этой справедливой войне нашим детям и внукам, чтобы помн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5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24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 фронт уходили и старые, и молоды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12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84464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мужчин уходили на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нщины и дети часто воевали рядом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тар, и млад, все, кто мог держать в руках лопату, строили укрепления, копали окопы. Солдатам на фронте нужны мины, пушки, снаряды, пулемёты. Кто же будет их делать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на заводы пришли женщины и подростк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35"/>
          <p:cNvPicPr/>
          <p:nvPr/>
        </p:nvPicPr>
        <p:blipFill>
          <a:blip r:embed="rId1"/>
          <a:stretch/>
        </p:blipFill>
        <p:spPr>
          <a:xfrm>
            <a:off x="4643280" y="2781360"/>
            <a:ext cx="4038840" cy="3168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1" name="Picture 8" descr="p53"/>
          <p:cNvPicPr/>
          <p:nvPr/>
        </p:nvPicPr>
        <p:blipFill>
          <a:blip r:embed="rId2"/>
          <a:stretch/>
        </p:blipFill>
        <p:spPr>
          <a:xfrm>
            <a:off x="539640" y="2781360"/>
            <a:ext cx="3886200" cy="3240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йна- это 900 дней и ночей блокадного Ленинграда. Это 125 граммов хлеба в сутки. Это тонны бомб и снарядов, падающих на мир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images.jpeg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го дня люди ждали 1418 дней. Более 27 млн. советских людей погибли в этой страшной вой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s://avatars.mds.yandex.net/get-pdb/1209255/ab9b3973-a253-4602-a1fc-5ed421ae1099/orig"/>
          <p:cNvPicPr/>
          <p:nvPr/>
        </p:nvPicPr>
        <p:blipFill>
          <a:blip r:embed="rId1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s://avatars.mds.yandex.net/get-pdb/906476/b940f298-de46-427b-b031-80877498e677/orig"/>
          <p:cNvPicPr/>
          <p:nvPr/>
        </p:nvPicPr>
        <p:blipFill>
          <a:blip r:embed="rId2"/>
          <a:stretch/>
        </p:blipFill>
        <p:spPr>
          <a:xfrm>
            <a:off x="5473800" y="4078440"/>
            <a:ext cx="23778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тера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 велик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 год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 сла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андирам и бойц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аршалам ст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рядо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твым, и ж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м тем,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бывать нельз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клонимся, поклонимся,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003-01.jpg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123345"/>
          <p:cNvPicPr/>
          <p:nvPr/>
        </p:nvPicPr>
        <p:blipFill>
          <a:blip r:embed="rId2"/>
          <a:stretch/>
        </p:blipFill>
        <p:spPr>
          <a:xfrm>
            <a:off x="4643280" y="4078440"/>
            <a:ext cx="40388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9 мая мы празднуем День поб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images.jpg"/>
          <p:cNvPicPr/>
          <p:nvPr/>
        </p:nvPicPr>
        <p:blipFill>
          <a:blip r:embed="rId1"/>
          <a:stretch/>
        </p:blipFill>
        <p:spPr>
          <a:xfrm>
            <a:off x="539640" y="184464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не будет войны никогда!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спокойные спят города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сирены пронзительный вой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е звучит над моей головой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и один пусть не рвется снаряд,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Ни один не строчит автомат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оглашают наши леса 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Только птиц и детей голоса.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И пусть мирно проходят года, </a:t>
            </a:r>
            <a:br>
              <a:rPr sz="2400"/>
            </a:br>
            <a:r>
              <a:rPr b="0" i="1" lang="ru-RU" sz="2400" spc="-1" strike="noStrike">
                <a:solidFill>
                  <a:srgbClr val="95b3d7"/>
                </a:solidFill>
                <a:latin typeface="Arial"/>
              </a:rPr>
              <a:t>Пусть не будет войны нико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images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3T10:57:49Z</dcterms:created>
  <dc:creator>User</dc:creator>
  <dc:description/>
  <dc:language>en-US</dc:language>
  <cp:lastModifiedBy>1</cp:lastModifiedBy>
  <dcterms:modified xsi:type="dcterms:W3CDTF">2020-08-29T05:55:46Z</dcterms:modified>
  <cp:revision>7</cp:revision>
  <dc:subject/>
  <dc:title>Детям о Великой Отечественной войне</dc:title>
</cp:coreProperties>
</file>