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D3B6-3F23-43BB-9A9F-BFB521A61A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9A7C-FE6E-499D-B20D-1DF4C0E581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E2EC-1686-431B-9819-C428ED5D03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85C-C3A9-4B8E-8179-7F33B0A4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A29-2713-4426-8364-8669133E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54B-1A2D-4169-BCD2-6A048B4E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BB3-1FB9-4573-93C4-9588A9E7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51E-C27A-4B2A-87D0-BD9BCC82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017-828A-493C-A913-CF56B0F5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CAF-A5CF-44C0-ADC5-EADBAA67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DF7-46E1-47E9-900E-B811B58F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813-E77A-4C1F-AD1C-AE07189A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B20-4E0D-4710-90F3-344A40BD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61E-4C87-4FBE-8F1E-2005983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7B5-28F8-4789-A26C-52D93AD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AA52-C528-4EF4-9FFC-83C4B4A0FB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F1A9-88DF-46A3-A910-7794A73C5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5.jpeg"/><Relationship Id="rId4" Type="http://schemas.openxmlformats.org/officeDocument/2006/relationships/image" Target="../media/image22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0" y="0"/>
            <a:ext cx="9331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1\Desktop\проект 1\проект шуба деда мороза\дед1.jpg"/>
          <p:cNvPicPr/>
          <p:nvPr/>
        </p:nvPicPr>
        <p:blipFill>
          <a:blip r:embed="rId2"/>
          <a:stretch/>
        </p:blipFill>
        <p:spPr>
          <a:xfrm>
            <a:off x="609480" y="835200"/>
            <a:ext cx="3243240" cy="496872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5" descr=""/>
          <p:cNvPicPr/>
          <p:nvPr/>
        </p:nvPicPr>
        <p:blipFill>
          <a:blip r:embed="rId3"/>
          <a:stretch/>
        </p:blipFill>
        <p:spPr>
          <a:xfrm>
            <a:off x="2938320" y="878040"/>
            <a:ext cx="6261120" cy="4833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635280" y="1536840"/>
            <a:ext cx="489744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следовательски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Почему Дед Мороз ни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 снимает шубу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Участники проекта: дети группы компенсирую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Возраст:                   6-7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Кураторы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воспитатели:           Борская Елен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Елисеева Елен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униципальное автоном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«Детский сад комбинированной направленности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г.Сосновоборс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715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9BA9-1637-4524-970D-7C516DBFB1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4D5F-25ED-49B6-B2D4-DEE506662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285840" y="1000080"/>
            <a:ext cx="8715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4.Творческая работа по итогам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альчики придумывают правила встречи Деда Мо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0" descr="C:\Users\1\Desktop\DSCN1327.JPG"/>
          <p:cNvPicPr/>
          <p:nvPr/>
        </p:nvPicPr>
        <p:blipFill>
          <a:blip r:embed="rId1"/>
          <a:stretch/>
        </p:blipFill>
        <p:spPr>
          <a:xfrm>
            <a:off x="2287440" y="2262240"/>
            <a:ext cx="4711680" cy="30747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TextBox 2"/>
          <p:cNvSpPr/>
          <p:nvPr/>
        </p:nvSpPr>
        <p:spPr>
          <a:xfrm>
            <a:off x="225360" y="504684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 любит летнего солнц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 предлагать раздеваться в тёплом помещени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 усаживать возле отопительных прибор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 предлагать горячие напитки и ед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503360"/>
            <a:ext cx="509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368280"/>
            <a:ext cx="8642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95ED-0C9D-41B5-9391-45874E85DA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A82A-54ED-4641-8A85-B2F4E0258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250920" y="981000"/>
            <a:ext cx="87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Девочки разрабатывают новые модели одежды Деда М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250920" y="5477040"/>
            <a:ext cx="86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езультат: 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Развитие творческого мышления. Формирование желания делать приятное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2266920" y="2205000"/>
            <a:ext cx="5216400" cy="298152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86439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8920" y="999720"/>
            <a:ext cx="8750520" cy="7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3 этап -  рефлекс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ыбор содержания и наглядного сопровождения презен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EC71-C30D-4788-9D3C-3F4913473B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D74A-E9A6-4848-A25C-819182023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6" descr="C:\Users\1\Desktop\DSCN1293.JPG"/>
          <p:cNvPicPr/>
          <p:nvPr/>
        </p:nvPicPr>
        <p:blipFill>
          <a:blip r:embed="rId1"/>
          <a:stretch/>
        </p:blipFill>
        <p:spPr>
          <a:xfrm>
            <a:off x="142920" y="2500200"/>
            <a:ext cx="3798720" cy="26496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5" name="Рисунок 7" descr="C:\Users\1\Desktop\DSCN1291.JPG"/>
          <p:cNvPicPr/>
          <p:nvPr/>
        </p:nvPicPr>
        <p:blipFill>
          <a:blip r:embed="rId2"/>
          <a:stretch/>
        </p:blipFill>
        <p:spPr>
          <a:xfrm>
            <a:off x="6072120" y="3000240"/>
            <a:ext cx="2928960" cy="23767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Рисунок 8" descr="C:\Users\1\Desktop\DSCN1288.JPG"/>
          <p:cNvPicPr/>
          <p:nvPr/>
        </p:nvPicPr>
        <p:blipFill>
          <a:blip r:embed="rId3"/>
          <a:stretch/>
        </p:blipFill>
        <p:spPr>
          <a:xfrm>
            <a:off x="3357720" y="2071800"/>
            <a:ext cx="2852640" cy="2214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Прямоугольник 9"/>
          <p:cNvSpPr/>
          <p:nvPr/>
        </p:nvSpPr>
        <p:spPr>
          <a:xfrm>
            <a:off x="142920" y="5214960"/>
            <a:ext cx="378612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ыставка кн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«Добрый Дедушка Моро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0"/>
          <p:cNvSpPr/>
          <p:nvPr/>
        </p:nvSpPr>
        <p:spPr>
          <a:xfrm>
            <a:off x="6072120" y="5429160"/>
            <a:ext cx="294480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Коллекция новогодних откр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1"/>
          <p:cNvSpPr/>
          <p:nvPr/>
        </p:nvSpPr>
        <p:spPr>
          <a:xfrm>
            <a:off x="3357720" y="4357800"/>
            <a:ext cx="2857320" cy="42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Мастерская «Кудес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179280" y="5815080"/>
            <a:ext cx="88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езультат: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Решили рассказать ребятам из средней группы о сво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открытии « Почему Дед Мороз не снимает шубу в помещ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8572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5480" y="1071360"/>
            <a:ext cx="871524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4 этап - Делимся опытом с детьми из средне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ворческое рассказывание «К нам пришёл Дед Мороз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6337-9F9A-42B6-8F4F-7281467D00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9FD4-FE28-407D-83F0-F0A312690B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5" descr="C:\Users\1\Desktop\гости выбор\DSCN1433.JPG"/>
          <p:cNvPicPr/>
          <p:nvPr/>
        </p:nvPicPr>
        <p:blipFill>
          <a:blip r:embed="rId1"/>
          <a:stretch/>
        </p:blipFill>
        <p:spPr>
          <a:xfrm>
            <a:off x="1332000" y="2046240"/>
            <a:ext cx="5857920" cy="37148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В результате наших  исследований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мы узнал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07136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ед Мороз не снимает в помещении шубу именно для т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бы не растаять! Шуба удерживает не только тепло, но и холод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8D59-BC39-4999-8958-C015DF0DDB6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6481-FF5F-499A-8E33-0C4204546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5" descr="C:\Users\1\Desktop\20.JPG"/>
          <p:cNvPicPr/>
          <p:nvPr/>
        </p:nvPicPr>
        <p:blipFill>
          <a:blip r:embed="rId1"/>
          <a:stretch/>
        </p:blipFill>
        <p:spPr>
          <a:xfrm>
            <a:off x="2143080" y="1989000"/>
            <a:ext cx="4857840" cy="44658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125360"/>
            <a:ext cx="8901000" cy="537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Тема: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«Почему Дед Мороз в помещении не снимает шубу?»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боснование: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Наряжая ёлку в своей группе и мечтая о встрече с Дедом Морозом, дети задумались: почему Дед Мороз, приходя на праздник к ним, никогда не снимает шубу? Ведь в отапливаемом зале, да в тёплой шубе ему должно быть очень жарко. Он может даже  растаять! Почему это не происходит? После обсуждения проблемы дети решили побольше узнать об одежде Деда Мороза, а также  о свойствах тел с низкими температурами.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Выяснение, почему Дед Мороз на утреннике не снимает шубу?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br>
              <a:rPr sz="24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познакомить детей с традицией изображения Деда Мороза;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учить собирать информацию,  изучать источники;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уточнить знания о свойствах снега;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- развивать творческое мышление.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522B-6372-43B7-9362-13D41B95DE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675480"/>
            <a:ext cx="2133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169F-8E38-431D-9E43-0E11314B2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715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92160" y="950760"/>
            <a:ext cx="8912160" cy="5621400"/>
          </a:xfrm>
          <a:prstGeom prst="rect">
            <a:avLst/>
          </a:prstGeom>
          <a:ln w="0">
            <a:noFill/>
          </a:ln>
        </p:spPr>
      </p:pic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6D2-23D1-4DBA-9CBE-BC9558362A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7571-CEEA-4ACB-B12F-430DE8E72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Users\1\Desktop\гости выбор\DSCN1423.JPG"/>
          <p:cNvPicPr/>
          <p:nvPr/>
        </p:nvPicPr>
        <p:blipFill>
          <a:blip r:embed="rId2"/>
          <a:stretch/>
        </p:blipFill>
        <p:spPr>
          <a:xfrm>
            <a:off x="2484360" y="2781360"/>
            <a:ext cx="3929040" cy="278604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6439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 Изучение традиционной одежды Деда Мо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езультат: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зучили характер Деда Мороза, как он живёт, чем занимается. Выяснили, что везде появляется в шубе, шапке и валенках, практически не снимает рукав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2E3F-A44A-4D0F-865E-59F6E76BC5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73A7-6754-430C-9234-646277F0E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C:\Users\DS002\Desktop\проект шуба деда мороза\DSCN1101.JPG"/>
          <p:cNvPicPr/>
          <p:nvPr/>
        </p:nvPicPr>
        <p:blipFill>
          <a:blip r:embed="rId1"/>
          <a:stretch/>
        </p:blipFill>
        <p:spPr>
          <a:xfrm>
            <a:off x="176040" y="2143080"/>
            <a:ext cx="2610000" cy="221472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7" descr="C:\Users\1\Desktop\DSCN1121.JPG"/>
          <p:cNvPicPr/>
          <p:nvPr/>
        </p:nvPicPr>
        <p:blipFill>
          <a:blip r:embed="rId2"/>
          <a:stretch/>
        </p:blipFill>
        <p:spPr>
          <a:xfrm>
            <a:off x="2786040" y="1928880"/>
            <a:ext cx="3476520" cy="230652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Прямоугольник 9"/>
          <p:cNvSpPr/>
          <p:nvPr/>
        </p:nvSpPr>
        <p:spPr>
          <a:xfrm>
            <a:off x="285840" y="4429080"/>
            <a:ext cx="23572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Чтение сказок про Деда Мор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3059280" y="4281480"/>
            <a:ext cx="294156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росмотр  новых мультфильмов с участием Деда Мо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6108840" y="4357800"/>
            <a:ext cx="2892240" cy="115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Рассматривание собранной колл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таринных и сов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новогодних откр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C:\Users\DS002\Desktop\проект шуба деда мороза\DSCN1111.JPG"/>
          <p:cNvPicPr/>
          <p:nvPr/>
        </p:nvPicPr>
        <p:blipFill>
          <a:blip r:embed="rId3"/>
          <a:stretch/>
        </p:blipFill>
        <p:spPr>
          <a:xfrm>
            <a:off x="6323040" y="2143080"/>
            <a:ext cx="2751120" cy="214308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 Приглашение Деда Мороза в гост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езультат: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ыяснили название предметов одежды, из какой ткани она сшита. Одежда помогает Деду Морозу не  растаять в помещении.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трогали Деда Мороза под шубой – он холодный!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A5E6-32FF-48DD-97A0-959D8EFD4E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FE86-E8E9-45AD-920C-435AAE825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C:\Users\DS002\Desktop\проект шуба деда мороза\DSCN1090.JPG"/>
          <p:cNvPicPr/>
          <p:nvPr/>
        </p:nvPicPr>
        <p:blipFill>
          <a:blip r:embed="rId1"/>
          <a:stretch/>
        </p:blipFill>
        <p:spPr>
          <a:xfrm>
            <a:off x="3059280" y="1951200"/>
            <a:ext cx="2786040" cy="271440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Рисунок 6" descr="C:\Users\DS002\Desktop\проект шуба деда мороза\DSCN1092.JPG"/>
          <p:cNvPicPr/>
          <p:nvPr/>
        </p:nvPicPr>
        <p:blipFill>
          <a:blip r:embed="rId2"/>
          <a:stretch/>
        </p:blipFill>
        <p:spPr>
          <a:xfrm>
            <a:off x="6000840" y="2071800"/>
            <a:ext cx="2925720" cy="242892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Рисунок 7" descr="C:\Users\1\Desktop\11.JPG"/>
          <p:cNvPicPr/>
          <p:nvPr/>
        </p:nvPicPr>
        <p:blipFill>
          <a:blip r:embed="rId3"/>
          <a:stretch/>
        </p:blipFill>
        <p:spPr>
          <a:xfrm>
            <a:off x="270000" y="2093760"/>
            <a:ext cx="2652480" cy="2428920"/>
          </a:xfrm>
          <a:prstGeom prst="rect">
            <a:avLst/>
          </a:prstGeom>
          <a:ln w="936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Прямоугольник 8"/>
          <p:cNvSpPr/>
          <p:nvPr/>
        </p:nvSpPr>
        <p:spPr>
          <a:xfrm>
            <a:off x="571680" y="4572000"/>
            <a:ext cx="2214360" cy="46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Взяли интервь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3143160" y="4572000"/>
            <a:ext cx="257184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отрогали дедуш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од шу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6072120" y="4572000"/>
            <a:ext cx="2714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Рассмотрели одеж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8572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61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1212-3F22-4A9B-B8F3-51ED6587B8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E2A9-DDF0-40FC-BB6B-D16F81990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5" descr="C:\Users\1\Desktop\DSCN1227.JPG"/>
          <p:cNvPicPr/>
          <p:nvPr/>
        </p:nvPicPr>
        <p:blipFill>
          <a:blip r:embed="rId1"/>
          <a:stretch/>
        </p:blipFill>
        <p:spPr>
          <a:xfrm>
            <a:off x="285840" y="2500200"/>
            <a:ext cx="3214440" cy="2071800"/>
          </a:xfrm>
          <a:prstGeom prst="rect">
            <a:avLst/>
          </a:prstGeom>
          <a:ln w="12600">
            <a:solidFill>
              <a:srgbClr val="00b05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Рисунок 6" descr="C:\Users\1\Desktop\DSCN1236.JPG"/>
          <p:cNvPicPr/>
          <p:nvPr/>
        </p:nvPicPr>
        <p:blipFill>
          <a:blip r:embed="rId2"/>
          <a:stretch/>
        </p:blipFill>
        <p:spPr>
          <a:xfrm>
            <a:off x="5572080" y="2500200"/>
            <a:ext cx="3214800" cy="2060640"/>
          </a:xfrm>
          <a:prstGeom prst="rect">
            <a:avLst/>
          </a:prstGeom>
          <a:ln w="12600">
            <a:solidFill>
              <a:srgbClr val="00b05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Прямоугольник 9"/>
          <p:cNvSpPr/>
          <p:nvPr/>
        </p:nvSpPr>
        <p:spPr>
          <a:xfrm>
            <a:off x="285840" y="95868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. Проведение опытов со снегом, обозначение результатов с помощью пикт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пыт со снегом при комнатной 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10"/>
          <p:cNvSpPr/>
          <p:nvPr/>
        </p:nvSpPr>
        <p:spPr>
          <a:xfrm>
            <a:off x="4005360" y="3373560"/>
            <a:ext cx="1285920" cy="78552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285840" y="4643280"/>
            <a:ext cx="8501040" cy="1928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8" descr="C:\Users\1\Desktop\пиктограммы\дети 2011-2012г..jpg"/>
          <p:cNvPicPr/>
          <p:nvPr/>
        </p:nvPicPr>
        <p:blipFill>
          <a:blip r:embed="rId3"/>
          <a:stretch/>
        </p:blipFill>
        <p:spPr>
          <a:xfrm>
            <a:off x="500040" y="4714920"/>
            <a:ext cx="185724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0" name="Рисунок 19" descr="C:\Users\1\Desktop\пиктограммы\дети 2011-2012г. 003.jpg"/>
          <p:cNvPicPr/>
          <p:nvPr/>
        </p:nvPicPr>
        <p:blipFill>
          <a:blip r:embed="rId4"/>
          <a:stretch/>
        </p:blipFill>
        <p:spPr>
          <a:xfrm>
            <a:off x="6715080" y="4714920"/>
            <a:ext cx="1857600" cy="1000080"/>
          </a:xfrm>
          <a:prstGeom prst="rect">
            <a:avLst/>
          </a:prstGeom>
          <a:ln w="6480">
            <a:solidFill>
              <a:srgbClr val="0070c0"/>
            </a:solidFill>
            <a:miter/>
          </a:ln>
        </p:spPr>
      </p:pic>
      <p:pic>
        <p:nvPicPr>
          <p:cNvPr id="91" name="Рисунок 20" descr="C:\Users\1\Desktop\пиктограммы\дети 2011-2012г. 001.jpg"/>
          <p:cNvPicPr/>
          <p:nvPr/>
        </p:nvPicPr>
        <p:blipFill>
          <a:blip r:embed="rId5"/>
          <a:stretch/>
        </p:blipFill>
        <p:spPr>
          <a:xfrm>
            <a:off x="2571840" y="4714920"/>
            <a:ext cx="185724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2" name="Рисунок 21" descr="C:\Users\1\Desktop\пиктограммы\дети 2011-2012г. 002.jpg"/>
          <p:cNvPicPr/>
          <p:nvPr/>
        </p:nvPicPr>
        <p:blipFill>
          <a:blip r:embed="rId6"/>
          <a:stretch/>
        </p:blipFill>
        <p:spPr>
          <a:xfrm>
            <a:off x="4643280" y="4714920"/>
            <a:ext cx="185760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93" name="TextBox 22"/>
          <p:cNvSpPr/>
          <p:nvPr/>
        </p:nvSpPr>
        <p:spPr>
          <a:xfrm>
            <a:off x="571680" y="571500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Ком сн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3"/>
          <p:cNvSpPr/>
          <p:nvPr/>
        </p:nvSpPr>
        <p:spPr>
          <a:xfrm>
            <a:off x="2143080" y="5715000"/>
            <a:ext cx="264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Остав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при комнат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темпера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4"/>
          <p:cNvSpPr/>
          <p:nvPr/>
        </p:nvSpPr>
        <p:spPr>
          <a:xfrm>
            <a:off x="4500720" y="5715000"/>
            <a:ext cx="207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Снежный 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растая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6572160" y="5715000"/>
            <a:ext cx="20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При комна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темпера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снег т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5726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6776-05E1-46C9-8962-6FFDD3E798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0007-2E54-427D-A467-7D6714C10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2920" y="1071360"/>
            <a:ext cx="8786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пыт со снегом и лёгкой ткан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5" descr="C:\Users\1\Desktop\DSCN1234.JPG"/>
          <p:cNvPicPr/>
          <p:nvPr/>
        </p:nvPicPr>
        <p:blipFill>
          <a:blip r:embed="rId1"/>
          <a:stretch/>
        </p:blipFill>
        <p:spPr>
          <a:xfrm>
            <a:off x="5715000" y="2214720"/>
            <a:ext cx="3214800" cy="2071440"/>
          </a:xfrm>
          <a:prstGeom prst="rect">
            <a:avLst/>
          </a:prstGeom>
          <a:ln w="1908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Стрелка вправо 8"/>
          <p:cNvSpPr/>
          <p:nvPr/>
        </p:nvSpPr>
        <p:spPr>
          <a:xfrm>
            <a:off x="4071960" y="2928960"/>
            <a:ext cx="1285920" cy="785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285840" y="4500720"/>
            <a:ext cx="8643960" cy="207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2678040" y="4648320"/>
            <a:ext cx="185760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5" name="Рисунок 7" descr=""/>
          <p:cNvPicPr/>
          <p:nvPr/>
        </p:nvPicPr>
        <p:blipFill>
          <a:blip r:embed="rId3"/>
          <a:stretch/>
        </p:blipFill>
        <p:spPr>
          <a:xfrm>
            <a:off x="4929120" y="4643280"/>
            <a:ext cx="1643040" cy="10051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6" name="Рисунок 13" descr="C:\Users\1\Desktop\пиктограммы\дети 2011-2012г..jpg"/>
          <p:cNvPicPr/>
          <p:nvPr/>
        </p:nvPicPr>
        <p:blipFill>
          <a:blip r:embed="rId4"/>
          <a:stretch/>
        </p:blipFill>
        <p:spPr>
          <a:xfrm>
            <a:off x="642960" y="4643280"/>
            <a:ext cx="1857240" cy="10004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07" name="Рисунок 14" descr="C:\Users\1\Desktop\пиктограммы\дети 2011-2012г. 003.jpg"/>
          <p:cNvPicPr/>
          <p:nvPr/>
        </p:nvPicPr>
        <p:blipFill>
          <a:blip r:embed="rId5"/>
          <a:stretch/>
        </p:blipFill>
        <p:spPr>
          <a:xfrm>
            <a:off x="6858000" y="4643280"/>
            <a:ext cx="1714680" cy="1000440"/>
          </a:xfrm>
          <a:prstGeom prst="rect">
            <a:avLst/>
          </a:prstGeom>
          <a:ln w="6480">
            <a:solidFill>
              <a:srgbClr val="0070c0"/>
            </a:solidFill>
            <a:miter/>
          </a:ln>
        </p:spPr>
      </p:pic>
      <p:sp>
        <p:nvSpPr>
          <p:cNvPr id="108" name="TextBox 15"/>
          <p:cNvSpPr/>
          <p:nvPr/>
        </p:nvSpPr>
        <p:spPr>
          <a:xfrm>
            <a:off x="428760" y="5643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Ком сн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2500200" y="564372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Заверн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лёг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6715080" y="56437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 тонкой тка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нег 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медле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4786200" y="564372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нежный ком раста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аст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20" descr="C:\Users\1\Desktop\DSCN1229.JPG"/>
          <p:cNvPicPr/>
          <p:nvPr/>
        </p:nvPicPr>
        <p:blipFill>
          <a:blip r:embed="rId6"/>
          <a:stretch/>
        </p:blipFill>
        <p:spPr>
          <a:xfrm>
            <a:off x="357120" y="2214720"/>
            <a:ext cx="3214800" cy="2071440"/>
          </a:xfrm>
          <a:prstGeom prst="rect">
            <a:avLst/>
          </a:prstGeom>
          <a:ln w="19080">
            <a:solidFill>
              <a:srgbClr val="00b0f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3"/>
          <p:cNvSpPr/>
          <p:nvPr/>
        </p:nvSpPr>
        <p:spPr>
          <a:xfrm>
            <a:off x="285840" y="4357800"/>
            <a:ext cx="8572320" cy="207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5840" y="107136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пыт со снегом и меховой ткан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DA99-2EDE-4FB9-9FF6-82EF83EDF2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86F9-289C-4C70-8BDA-9DE212549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C:\Users\1\Desktop\DSCN1228.JPG"/>
          <p:cNvPicPr/>
          <p:nvPr/>
        </p:nvPicPr>
        <p:blipFill>
          <a:blip r:embed="rId1"/>
          <a:stretch/>
        </p:blipFill>
        <p:spPr>
          <a:xfrm>
            <a:off x="285840" y="2143080"/>
            <a:ext cx="3214440" cy="20718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Рисунок 6" descr="C:\Users\1\Desktop\DSCN1232.JPG"/>
          <p:cNvPicPr/>
          <p:nvPr/>
        </p:nvPicPr>
        <p:blipFill>
          <a:blip r:embed="rId2"/>
          <a:stretch/>
        </p:blipFill>
        <p:spPr>
          <a:xfrm>
            <a:off x="5643720" y="2143080"/>
            <a:ext cx="3214440" cy="2071800"/>
          </a:xfrm>
          <a:prstGeom prst="rect">
            <a:avLst/>
          </a:prstGeom>
          <a:ln w="1260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Стрелка вправо 8"/>
          <p:cNvSpPr/>
          <p:nvPr/>
        </p:nvSpPr>
        <p:spPr>
          <a:xfrm>
            <a:off x="4000680" y="2786040"/>
            <a:ext cx="1285560" cy="7858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2" descr="C:\Users\1\Desktop\пиктограммы\дети 2011-2012г..jpg"/>
          <p:cNvPicPr/>
          <p:nvPr/>
        </p:nvPicPr>
        <p:blipFill>
          <a:blip r:embed="rId3"/>
          <a:stretch/>
        </p:blipFill>
        <p:spPr>
          <a:xfrm>
            <a:off x="571680" y="4429080"/>
            <a:ext cx="185724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22" name="Рисунок 13" descr="C:\Users\1\Desktop\пиктограммы\дети 2011-2012г. 003.jpg"/>
          <p:cNvPicPr/>
          <p:nvPr/>
        </p:nvPicPr>
        <p:blipFill>
          <a:blip r:embed="rId4"/>
          <a:stretch/>
        </p:blipFill>
        <p:spPr>
          <a:xfrm>
            <a:off x="6858000" y="4429080"/>
            <a:ext cx="171468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23" name="Рисунок 14" descr="C:\Users\1\Desktop\пиктограммы\дети 2011-2012г. 006.jpg"/>
          <p:cNvPicPr/>
          <p:nvPr/>
        </p:nvPicPr>
        <p:blipFill>
          <a:blip r:embed="rId5"/>
          <a:stretch/>
        </p:blipFill>
        <p:spPr>
          <a:xfrm>
            <a:off x="2714760" y="4427640"/>
            <a:ext cx="178596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24" name="Рисунок 15" descr="C:\Users\1\Desktop\пиктограммы\дети 2011-2012г. 005.jpg"/>
          <p:cNvPicPr/>
          <p:nvPr/>
        </p:nvPicPr>
        <p:blipFill>
          <a:blip r:embed="rId6"/>
          <a:stretch/>
        </p:blipFill>
        <p:spPr>
          <a:xfrm>
            <a:off x="4857840" y="4429080"/>
            <a:ext cx="171432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25" name="Прямоугольник 16"/>
          <p:cNvSpPr/>
          <p:nvPr/>
        </p:nvSpPr>
        <p:spPr>
          <a:xfrm>
            <a:off x="428760" y="5786280"/>
            <a:ext cx="2000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6715080" y="5429160"/>
            <a:ext cx="20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Шу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удержи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642960" y="542916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Ком сн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2428920" y="542916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Заверну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шуб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4643280" y="5429160"/>
            <a:ext cx="214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Снеж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не растая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Этап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480" y="1071360"/>
            <a:ext cx="87152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 этап – реализация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ведение опытов со снег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езультат всех опытов: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еховая ткань, из которой сшита шуба удерживает не только тепло, но и холод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. Поэтому Дед Мороз не снимает шубу в помещении, чтобы не растая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5DF1-15C3-4921-8CC0-AA093D7690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0B76-DF41-4A7C-A63D-12C0452DA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C:\Users\1\Desktop\DSCN1230.JPG"/>
          <p:cNvPicPr/>
          <p:nvPr/>
        </p:nvPicPr>
        <p:blipFill>
          <a:blip r:embed="rId1"/>
          <a:stretch/>
        </p:blipFill>
        <p:spPr>
          <a:xfrm>
            <a:off x="334800" y="2066760"/>
            <a:ext cx="3286440" cy="25718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Рисунок 6" descr="C:\Users\1\Desktop\DSCN1237.JPG"/>
          <p:cNvPicPr/>
          <p:nvPr/>
        </p:nvPicPr>
        <p:blipFill>
          <a:blip r:embed="rId2"/>
          <a:stretch/>
        </p:blipFill>
        <p:spPr>
          <a:xfrm>
            <a:off x="5214960" y="2066760"/>
            <a:ext cx="3471840" cy="25718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Стрелка вправо 8"/>
          <p:cNvSpPr/>
          <p:nvPr/>
        </p:nvSpPr>
        <p:spPr>
          <a:xfrm>
            <a:off x="3780000" y="2924280"/>
            <a:ext cx="1285560" cy="7858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04:48:35Z</dcterms:created>
  <dc:creator>1</dc:creator>
  <dc:description>http://aida.ucoz.ru</dc:description>
  <dc:language>en-US</dc:language>
  <cp:lastModifiedBy>NewMy</cp:lastModifiedBy>
  <dcterms:modified xsi:type="dcterms:W3CDTF">2020-09-03T16:44:35Z</dcterms:modified>
  <cp:revision>131</cp:revision>
  <dc:subject/>
  <dc:title>Слайд 1</dc:title>
</cp:coreProperties>
</file>