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7547-8D5E-4DA2-BE0E-45B7ED6706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86EC-5D2A-4760-8F73-F4766A3C75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8443-D3BD-449E-826E-7DF7772024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B1E-9414-4520-A75A-35D1D086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368-D83B-4736-8E41-FC5335C4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8F7-24B9-4C0E-BF5A-E978E935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046-48CB-48A1-A4AF-3593A4D3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DD4-1C4B-4651-ACAC-40465E0D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404-B09A-4F4C-8607-E7392895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744-DC6E-487D-B0BA-6B896344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339-C955-4A81-90F2-433C6EBC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B43-6C62-4184-BEF7-4902A949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140-6C2F-452A-9F06-25A5939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5B5-AFB9-4CA5-AFDD-1478CF10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9CA-8E39-446F-9F36-9A1DF25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3B34-0127-4B49-A270-E84F2FCC5F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9222-D0A6-4D3F-9F50-A5A4B4643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5.jpeg"/><Relationship Id="rId4" Type="http://schemas.openxmlformats.org/officeDocument/2006/relationships/image" Target="../media/image22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331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1\Desktop\проект 1\проект шуба деда мороза\дед1.jpg"/>
          <p:cNvPicPr/>
          <p:nvPr/>
        </p:nvPicPr>
        <p:blipFill>
          <a:blip r:embed="rId2"/>
          <a:stretch/>
        </p:blipFill>
        <p:spPr>
          <a:xfrm>
            <a:off x="609480" y="835200"/>
            <a:ext cx="3243240" cy="496872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5" descr=""/>
          <p:cNvPicPr/>
          <p:nvPr/>
        </p:nvPicPr>
        <p:blipFill>
          <a:blip r:embed="rId3"/>
          <a:stretch/>
        </p:blipFill>
        <p:spPr>
          <a:xfrm>
            <a:off x="2938320" y="878040"/>
            <a:ext cx="6261120" cy="4833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635280" y="1536840"/>
            <a:ext cx="489744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следовательски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Почему Дед Мороз ни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 снимает шубу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Участники проекта: дети группы компенсирую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Возраст:                   6-7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Кураторы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воспитатели:           Борская Елен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Елисеева Елен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униципальное автоном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«Детский сад комбинированной направленности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г.Сосновоборс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715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AD0-5546-42FE-B7EC-418C701ED2C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1212-5516-4641-A8BE-4588208FBB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285840" y="1000080"/>
            <a:ext cx="8715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4.Творческая работа по итогам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альчики придумывают правила встречи Деда Мо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0" descr="C:\Users\1\Desktop\DSCN1327.JPG"/>
          <p:cNvPicPr/>
          <p:nvPr/>
        </p:nvPicPr>
        <p:blipFill>
          <a:blip r:embed="rId1"/>
          <a:stretch/>
        </p:blipFill>
        <p:spPr>
          <a:xfrm>
            <a:off x="2287440" y="2262240"/>
            <a:ext cx="4711680" cy="30747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TextBox 2"/>
          <p:cNvSpPr/>
          <p:nvPr/>
        </p:nvSpPr>
        <p:spPr>
          <a:xfrm>
            <a:off x="225360" y="504684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 любит летнего солнц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 предлагать раздеваться в тёплом помещени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 усаживать возле отопительных прибор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 предлагать горячие напитки и ед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503360"/>
            <a:ext cx="509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368280"/>
            <a:ext cx="8642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A16C-5900-4F3D-8F50-157C52BAB8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60B4-B83E-4C86-AD5E-CCDD631404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250920" y="981000"/>
            <a:ext cx="87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Девочки разрабатывают новые модели одежды Деда М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250920" y="5477040"/>
            <a:ext cx="86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езультат: 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Развитие творческого мышления. Формирование желания делать приятное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2266920" y="2205000"/>
            <a:ext cx="5216400" cy="298152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86439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8920" y="999720"/>
            <a:ext cx="8750520" cy="7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3 этап -  рефлекс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ыбор содержания и наглядного сопровождения презен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F8B-39E6-4E3D-82D6-0F1BB55BEE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6635-1FB9-4545-8BC9-F7B33A762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6" descr="C:\Users\1\Desktop\DSCN1293.JPG"/>
          <p:cNvPicPr/>
          <p:nvPr/>
        </p:nvPicPr>
        <p:blipFill>
          <a:blip r:embed="rId1"/>
          <a:stretch/>
        </p:blipFill>
        <p:spPr>
          <a:xfrm>
            <a:off x="142920" y="2500200"/>
            <a:ext cx="3798720" cy="26496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5" name="Рисунок 7" descr="C:\Users\1\Desktop\DSCN1291.JPG"/>
          <p:cNvPicPr/>
          <p:nvPr/>
        </p:nvPicPr>
        <p:blipFill>
          <a:blip r:embed="rId2"/>
          <a:stretch/>
        </p:blipFill>
        <p:spPr>
          <a:xfrm>
            <a:off x="6072120" y="3000240"/>
            <a:ext cx="2928960" cy="23767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Рисунок 8" descr="C:\Users\1\Desktop\DSCN1288.JPG"/>
          <p:cNvPicPr/>
          <p:nvPr/>
        </p:nvPicPr>
        <p:blipFill>
          <a:blip r:embed="rId3"/>
          <a:stretch/>
        </p:blipFill>
        <p:spPr>
          <a:xfrm>
            <a:off x="3357720" y="2071800"/>
            <a:ext cx="2852640" cy="2214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Прямоугольник 9"/>
          <p:cNvSpPr/>
          <p:nvPr/>
        </p:nvSpPr>
        <p:spPr>
          <a:xfrm>
            <a:off x="142920" y="5214960"/>
            <a:ext cx="378612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ыставка кн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«Добрый Дедушка Моро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0"/>
          <p:cNvSpPr/>
          <p:nvPr/>
        </p:nvSpPr>
        <p:spPr>
          <a:xfrm>
            <a:off x="6072120" y="5429160"/>
            <a:ext cx="294480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Коллекция новогодних откр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1"/>
          <p:cNvSpPr/>
          <p:nvPr/>
        </p:nvSpPr>
        <p:spPr>
          <a:xfrm>
            <a:off x="3357720" y="4357800"/>
            <a:ext cx="2857320" cy="42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Мастерская «Кудес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179280" y="5815080"/>
            <a:ext cx="88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езультат: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Решили рассказать ребятам из средней группы о сво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открытии « Почему Дед Мороз не снимает шубу в помещ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8572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5480" y="1071360"/>
            <a:ext cx="871524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4 этап - Делимся опытом с детьми из средне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ворческое рассказывание «К нам пришёл Дед Мороз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4930-2853-40C7-BFFC-437B303385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87E2-7C62-4BDE-9712-5C60F3B28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5" descr="C:\Users\1\Desktop\гости выбор\DSCN1433.JPG"/>
          <p:cNvPicPr/>
          <p:nvPr/>
        </p:nvPicPr>
        <p:blipFill>
          <a:blip r:embed="rId1"/>
          <a:stretch/>
        </p:blipFill>
        <p:spPr>
          <a:xfrm>
            <a:off x="1332000" y="2046240"/>
            <a:ext cx="5857920" cy="37148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В результате наших  исследований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мы узнал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07136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ед Мороз не снимает в помещении шубу именно для т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бы не растаять! Шуба удерживает не только тепло, но и холод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675-4EC5-4B4F-ABFC-C33B759219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2716-3D73-4FED-B9D3-E70223979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5" descr="C:\Users\1\Desktop\20.JPG"/>
          <p:cNvPicPr/>
          <p:nvPr/>
        </p:nvPicPr>
        <p:blipFill>
          <a:blip r:embed="rId1"/>
          <a:stretch/>
        </p:blipFill>
        <p:spPr>
          <a:xfrm>
            <a:off x="2143080" y="1989000"/>
            <a:ext cx="4857840" cy="44658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125360"/>
            <a:ext cx="8901000" cy="537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Тема: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«Почему Дед Мороз в помещении не снимает шубу?»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боснование: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Наряжая ёлку в своей группе и мечтая о встрече с Дедом Морозом, дети задумались: почему Дед Мороз, приходя на праздник к ним, никогда не снимает шубу? Ведь в отапливаемом зале, да в тёплой шубе ему должно быть очень жарко. Он может даже  растаять! Почему это не происходит? После обсуждения проблемы дети решили побольше узнать об одежде Деда Мороза, а также  о свойствах тел с низкими температурами.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яснение, почему Дед Мороз на утреннике не снимает шубу?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br>
              <a:rPr sz="24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познакомить детей с традицией изображения Деда Мороза;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учить собирать информацию,  изучать источники;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уточнить знания о свойствах снега;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развивать творческое мышление.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996F-113F-4647-BF04-0D0D160EF5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675480"/>
            <a:ext cx="2133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F34D-2DC9-479E-9272-1D4E56735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715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92160" y="950760"/>
            <a:ext cx="8912160" cy="5621400"/>
          </a:xfrm>
          <a:prstGeom prst="rect">
            <a:avLst/>
          </a:prstGeom>
          <a:ln w="0">
            <a:noFill/>
          </a:ln>
        </p:spPr>
      </p:pic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BBD-6B1A-4AF3-A65B-48B04170C7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C90D-4BB6-4F55-A47E-E42CE805E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Users\1\Desktop\гости выбор\DSCN1423.JPG"/>
          <p:cNvPicPr/>
          <p:nvPr/>
        </p:nvPicPr>
        <p:blipFill>
          <a:blip r:embed="rId2"/>
          <a:stretch/>
        </p:blipFill>
        <p:spPr>
          <a:xfrm>
            <a:off x="2484360" y="2781360"/>
            <a:ext cx="3929040" cy="278604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6439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 Изучение традиционной одежды Деда Мо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езультат: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зучили характер Деда Мороза, как он живёт, чем занимается. Выяснили, что везде появляется в шубе, шапке и валенках, практически не снимает рукав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FC9B-85D6-4FD6-AC72-480CCCD548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02EF-1090-4701-8E77-A58B5F3E2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C:\Users\DS002\Desktop\проект шуба деда мороза\DSCN1101.JPG"/>
          <p:cNvPicPr/>
          <p:nvPr/>
        </p:nvPicPr>
        <p:blipFill>
          <a:blip r:embed="rId1"/>
          <a:stretch/>
        </p:blipFill>
        <p:spPr>
          <a:xfrm>
            <a:off x="176040" y="2143080"/>
            <a:ext cx="2610000" cy="221472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7" descr="C:\Users\1\Desktop\DSCN1121.JPG"/>
          <p:cNvPicPr/>
          <p:nvPr/>
        </p:nvPicPr>
        <p:blipFill>
          <a:blip r:embed="rId2"/>
          <a:stretch/>
        </p:blipFill>
        <p:spPr>
          <a:xfrm>
            <a:off x="2786040" y="1928880"/>
            <a:ext cx="3476520" cy="230652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Прямоугольник 9"/>
          <p:cNvSpPr/>
          <p:nvPr/>
        </p:nvSpPr>
        <p:spPr>
          <a:xfrm>
            <a:off x="285840" y="4429080"/>
            <a:ext cx="23572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Чтение сказок про Деда Мор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3059280" y="4281480"/>
            <a:ext cx="294156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росмотр  новых мультфильмов с участием Деда Мо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6108840" y="4357800"/>
            <a:ext cx="2892240" cy="115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Рассматривание собранной колл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таринных и сов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новогодних откр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C:\Users\DS002\Desktop\проект шуба деда мороза\DSCN1111.JPG"/>
          <p:cNvPicPr/>
          <p:nvPr/>
        </p:nvPicPr>
        <p:blipFill>
          <a:blip r:embed="rId3"/>
          <a:stretch/>
        </p:blipFill>
        <p:spPr>
          <a:xfrm>
            <a:off x="6323040" y="2143080"/>
            <a:ext cx="2751120" cy="214308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 Приглашение Деда Мороза в гост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езультат: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ыяснили название предметов одежды, из какой ткани она сшита. Одежда помогает Деду Морозу не  растаять в помещении.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трогали Деда Мороза под шубой – он холодный!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9C13-37A9-465B-B3CD-CF4A780B5B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857F-4615-4405-AE38-E50A5C3A1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C:\Users\DS002\Desktop\проект шуба деда мороза\DSCN1090.JPG"/>
          <p:cNvPicPr/>
          <p:nvPr/>
        </p:nvPicPr>
        <p:blipFill>
          <a:blip r:embed="rId1"/>
          <a:stretch/>
        </p:blipFill>
        <p:spPr>
          <a:xfrm>
            <a:off x="3059280" y="1951200"/>
            <a:ext cx="2786040" cy="271440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Рисунок 6" descr="C:\Users\DS002\Desktop\проект шуба деда мороза\DSCN1092.JPG"/>
          <p:cNvPicPr/>
          <p:nvPr/>
        </p:nvPicPr>
        <p:blipFill>
          <a:blip r:embed="rId2"/>
          <a:stretch/>
        </p:blipFill>
        <p:spPr>
          <a:xfrm>
            <a:off x="6000840" y="2071800"/>
            <a:ext cx="2925720" cy="242892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Рисунок 7" descr="C:\Users\1\Desktop\11.JPG"/>
          <p:cNvPicPr/>
          <p:nvPr/>
        </p:nvPicPr>
        <p:blipFill>
          <a:blip r:embed="rId3"/>
          <a:stretch/>
        </p:blipFill>
        <p:spPr>
          <a:xfrm>
            <a:off x="270000" y="2093760"/>
            <a:ext cx="2652480" cy="242892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Прямоугольник 8"/>
          <p:cNvSpPr/>
          <p:nvPr/>
        </p:nvSpPr>
        <p:spPr>
          <a:xfrm>
            <a:off x="571680" y="4572000"/>
            <a:ext cx="2214360" cy="46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Взяли интервь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3143160" y="4572000"/>
            <a:ext cx="257184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отрогали дедуш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од шу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6072120" y="4572000"/>
            <a:ext cx="2714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Рассмотрели одеж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8572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61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1AD9-9E57-4C01-90FB-7C6DE8C256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C5C5-6DBC-496F-9A5A-0601100BA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5" descr="C:\Users\1\Desktop\DSCN1227.JPG"/>
          <p:cNvPicPr/>
          <p:nvPr/>
        </p:nvPicPr>
        <p:blipFill>
          <a:blip r:embed="rId1"/>
          <a:stretch/>
        </p:blipFill>
        <p:spPr>
          <a:xfrm>
            <a:off x="285840" y="2500200"/>
            <a:ext cx="3214440" cy="2071800"/>
          </a:xfrm>
          <a:prstGeom prst="rect">
            <a:avLst/>
          </a:prstGeom>
          <a:ln w="12600">
            <a:solidFill>
              <a:srgbClr val="00b05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Рисунок 6" descr="C:\Users\1\Desktop\DSCN1236.JPG"/>
          <p:cNvPicPr/>
          <p:nvPr/>
        </p:nvPicPr>
        <p:blipFill>
          <a:blip r:embed="rId2"/>
          <a:stretch/>
        </p:blipFill>
        <p:spPr>
          <a:xfrm>
            <a:off x="5572080" y="2500200"/>
            <a:ext cx="3214800" cy="2060640"/>
          </a:xfrm>
          <a:prstGeom prst="rect">
            <a:avLst/>
          </a:prstGeom>
          <a:ln w="12600">
            <a:solidFill>
              <a:srgbClr val="00b05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Прямоугольник 9"/>
          <p:cNvSpPr/>
          <p:nvPr/>
        </p:nvSpPr>
        <p:spPr>
          <a:xfrm>
            <a:off x="285840" y="95868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. Проведение опытов со снегом, обозначение результатов с помощью пикт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пыт со снегом при комнатной 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10"/>
          <p:cNvSpPr/>
          <p:nvPr/>
        </p:nvSpPr>
        <p:spPr>
          <a:xfrm>
            <a:off x="4005360" y="3373560"/>
            <a:ext cx="1285920" cy="78552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285840" y="4643280"/>
            <a:ext cx="8501040" cy="1928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8" descr="C:\Users\1\Desktop\пиктограммы\дети 2011-2012г..jpg"/>
          <p:cNvPicPr/>
          <p:nvPr/>
        </p:nvPicPr>
        <p:blipFill>
          <a:blip r:embed="rId3"/>
          <a:stretch/>
        </p:blipFill>
        <p:spPr>
          <a:xfrm>
            <a:off x="500040" y="4714920"/>
            <a:ext cx="185724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0" name="Рисунок 19" descr="C:\Users\1\Desktop\пиктограммы\дети 2011-2012г. 003.jpg"/>
          <p:cNvPicPr/>
          <p:nvPr/>
        </p:nvPicPr>
        <p:blipFill>
          <a:blip r:embed="rId4"/>
          <a:stretch/>
        </p:blipFill>
        <p:spPr>
          <a:xfrm>
            <a:off x="6715080" y="4714920"/>
            <a:ext cx="1857600" cy="1000080"/>
          </a:xfrm>
          <a:prstGeom prst="rect">
            <a:avLst/>
          </a:prstGeom>
          <a:ln w="6480">
            <a:solidFill>
              <a:srgbClr val="0070c0"/>
            </a:solidFill>
            <a:miter/>
          </a:ln>
        </p:spPr>
      </p:pic>
      <p:pic>
        <p:nvPicPr>
          <p:cNvPr id="91" name="Рисунок 20" descr="C:\Users\1\Desktop\пиктограммы\дети 2011-2012г. 001.jpg"/>
          <p:cNvPicPr/>
          <p:nvPr/>
        </p:nvPicPr>
        <p:blipFill>
          <a:blip r:embed="rId5"/>
          <a:stretch/>
        </p:blipFill>
        <p:spPr>
          <a:xfrm>
            <a:off x="2571840" y="4714920"/>
            <a:ext cx="185724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2" name="Рисунок 21" descr="C:\Users\1\Desktop\пиктограммы\дети 2011-2012г. 002.jpg"/>
          <p:cNvPicPr/>
          <p:nvPr/>
        </p:nvPicPr>
        <p:blipFill>
          <a:blip r:embed="rId6"/>
          <a:stretch/>
        </p:blipFill>
        <p:spPr>
          <a:xfrm>
            <a:off x="4643280" y="4714920"/>
            <a:ext cx="185760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93" name="TextBox 22"/>
          <p:cNvSpPr/>
          <p:nvPr/>
        </p:nvSpPr>
        <p:spPr>
          <a:xfrm>
            <a:off x="571680" y="571500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Ком сн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3"/>
          <p:cNvSpPr/>
          <p:nvPr/>
        </p:nvSpPr>
        <p:spPr>
          <a:xfrm>
            <a:off x="2143080" y="5715000"/>
            <a:ext cx="264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Остав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при комнат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темпера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4"/>
          <p:cNvSpPr/>
          <p:nvPr/>
        </p:nvSpPr>
        <p:spPr>
          <a:xfrm>
            <a:off x="4500720" y="5715000"/>
            <a:ext cx="207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Снежный 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растая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6572160" y="5715000"/>
            <a:ext cx="20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При комна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темпера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снег т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5726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DB43-4158-43C8-8D25-B1EB360F4D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E5A9-B221-449A-8A8D-8150A09FFB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2920" y="1071360"/>
            <a:ext cx="8786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пыт со снегом и лёгкой ткан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5" descr="C:\Users\1\Desktop\DSCN1234.JPG"/>
          <p:cNvPicPr/>
          <p:nvPr/>
        </p:nvPicPr>
        <p:blipFill>
          <a:blip r:embed="rId1"/>
          <a:stretch/>
        </p:blipFill>
        <p:spPr>
          <a:xfrm>
            <a:off x="5715000" y="2214720"/>
            <a:ext cx="3214800" cy="2071440"/>
          </a:xfrm>
          <a:prstGeom prst="rect">
            <a:avLst/>
          </a:prstGeom>
          <a:ln w="1908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Стрелка вправо 8"/>
          <p:cNvSpPr/>
          <p:nvPr/>
        </p:nvSpPr>
        <p:spPr>
          <a:xfrm>
            <a:off x="4071960" y="2928960"/>
            <a:ext cx="1285920" cy="785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285840" y="4500720"/>
            <a:ext cx="8643960" cy="207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2678040" y="4648320"/>
            <a:ext cx="185760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5" name="Рисунок 7" descr=""/>
          <p:cNvPicPr/>
          <p:nvPr/>
        </p:nvPicPr>
        <p:blipFill>
          <a:blip r:embed="rId3"/>
          <a:stretch/>
        </p:blipFill>
        <p:spPr>
          <a:xfrm>
            <a:off x="4929120" y="4643280"/>
            <a:ext cx="1643040" cy="10051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6" name="Рисунок 13" descr="C:\Users\1\Desktop\пиктограммы\дети 2011-2012г..jpg"/>
          <p:cNvPicPr/>
          <p:nvPr/>
        </p:nvPicPr>
        <p:blipFill>
          <a:blip r:embed="rId4"/>
          <a:stretch/>
        </p:blipFill>
        <p:spPr>
          <a:xfrm>
            <a:off x="642960" y="4643280"/>
            <a:ext cx="1857240" cy="10004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7" name="Рисунок 14" descr="C:\Users\1\Desktop\пиктограммы\дети 2011-2012г. 003.jpg"/>
          <p:cNvPicPr/>
          <p:nvPr/>
        </p:nvPicPr>
        <p:blipFill>
          <a:blip r:embed="rId5"/>
          <a:stretch/>
        </p:blipFill>
        <p:spPr>
          <a:xfrm>
            <a:off x="6858000" y="4643280"/>
            <a:ext cx="1714680" cy="1000440"/>
          </a:xfrm>
          <a:prstGeom prst="rect">
            <a:avLst/>
          </a:prstGeom>
          <a:ln w="6480">
            <a:solidFill>
              <a:srgbClr val="0070c0"/>
            </a:solidFill>
            <a:miter/>
          </a:ln>
        </p:spPr>
      </p:pic>
      <p:sp>
        <p:nvSpPr>
          <p:cNvPr id="108" name="TextBox 15"/>
          <p:cNvSpPr/>
          <p:nvPr/>
        </p:nvSpPr>
        <p:spPr>
          <a:xfrm>
            <a:off x="428760" y="5643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Ком сн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2500200" y="564372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Заверн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лёг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6715080" y="56437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тонкой тка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нег 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медле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4786200" y="564372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нежный ком раста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аст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20" descr="C:\Users\1\Desktop\DSCN1229.JPG"/>
          <p:cNvPicPr/>
          <p:nvPr/>
        </p:nvPicPr>
        <p:blipFill>
          <a:blip r:embed="rId6"/>
          <a:stretch/>
        </p:blipFill>
        <p:spPr>
          <a:xfrm>
            <a:off x="357120" y="2214720"/>
            <a:ext cx="3214800" cy="2071440"/>
          </a:xfrm>
          <a:prstGeom prst="rect">
            <a:avLst/>
          </a:prstGeom>
          <a:ln w="1908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3"/>
          <p:cNvSpPr/>
          <p:nvPr/>
        </p:nvSpPr>
        <p:spPr>
          <a:xfrm>
            <a:off x="285840" y="4357800"/>
            <a:ext cx="8572320" cy="207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5840" y="107136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пыт со снегом и меховой ткан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2FB-7546-484D-8982-C2B0154464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147B-8432-4A98-9FE3-20B335A07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C:\Users\1\Desktop\DSCN1228.JPG"/>
          <p:cNvPicPr/>
          <p:nvPr/>
        </p:nvPicPr>
        <p:blipFill>
          <a:blip r:embed="rId1"/>
          <a:stretch/>
        </p:blipFill>
        <p:spPr>
          <a:xfrm>
            <a:off x="285840" y="2143080"/>
            <a:ext cx="3214440" cy="20718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Рисунок 6" descr="C:\Users\1\Desktop\DSCN1232.JPG"/>
          <p:cNvPicPr/>
          <p:nvPr/>
        </p:nvPicPr>
        <p:blipFill>
          <a:blip r:embed="rId2"/>
          <a:stretch/>
        </p:blipFill>
        <p:spPr>
          <a:xfrm>
            <a:off x="5643720" y="2143080"/>
            <a:ext cx="3214440" cy="2071800"/>
          </a:xfrm>
          <a:prstGeom prst="rect">
            <a:avLst/>
          </a:prstGeom>
          <a:ln w="1260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Стрелка вправо 8"/>
          <p:cNvSpPr/>
          <p:nvPr/>
        </p:nvSpPr>
        <p:spPr>
          <a:xfrm>
            <a:off x="4000680" y="2786040"/>
            <a:ext cx="1285560" cy="7858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2" descr="C:\Users\1\Desktop\пиктограммы\дети 2011-2012г..jpg"/>
          <p:cNvPicPr/>
          <p:nvPr/>
        </p:nvPicPr>
        <p:blipFill>
          <a:blip r:embed="rId3"/>
          <a:stretch/>
        </p:blipFill>
        <p:spPr>
          <a:xfrm>
            <a:off x="571680" y="4429080"/>
            <a:ext cx="185724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22" name="Рисунок 13" descr="C:\Users\1\Desktop\пиктограммы\дети 2011-2012г. 003.jpg"/>
          <p:cNvPicPr/>
          <p:nvPr/>
        </p:nvPicPr>
        <p:blipFill>
          <a:blip r:embed="rId4"/>
          <a:stretch/>
        </p:blipFill>
        <p:spPr>
          <a:xfrm>
            <a:off x="6858000" y="4429080"/>
            <a:ext cx="171468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23" name="Рисунок 14" descr="C:\Users\1\Desktop\пиктограммы\дети 2011-2012г. 006.jpg"/>
          <p:cNvPicPr/>
          <p:nvPr/>
        </p:nvPicPr>
        <p:blipFill>
          <a:blip r:embed="rId5"/>
          <a:stretch/>
        </p:blipFill>
        <p:spPr>
          <a:xfrm>
            <a:off x="2714760" y="4427640"/>
            <a:ext cx="178596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24" name="Рисунок 15" descr="C:\Users\1\Desktop\пиктограммы\дети 2011-2012г. 005.jpg"/>
          <p:cNvPicPr/>
          <p:nvPr/>
        </p:nvPicPr>
        <p:blipFill>
          <a:blip r:embed="rId6"/>
          <a:stretch/>
        </p:blipFill>
        <p:spPr>
          <a:xfrm>
            <a:off x="4857840" y="4429080"/>
            <a:ext cx="171432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25" name="Прямоугольник 16"/>
          <p:cNvSpPr/>
          <p:nvPr/>
        </p:nvSpPr>
        <p:spPr>
          <a:xfrm>
            <a:off x="428760" y="5786280"/>
            <a:ext cx="2000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6715080" y="5429160"/>
            <a:ext cx="20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Шу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удержи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642960" y="542916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Ком сн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2428920" y="542916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Заверну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шуб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4643280" y="5429160"/>
            <a:ext cx="214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Снеж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не растая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480" y="1071360"/>
            <a:ext cx="87152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ведение опытов со снег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езультат всех опытов: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еховая ткань, из которой сшита шуба удерживает не только тепло, но и холод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. Поэтому Дед Мороз не снимает шубу в помещении, чтобы не растая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CF1B-4C20-4F21-BEE1-CD99C6DA70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B906-1A63-4C5B-9D1E-BAABE5181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C:\Users\1\Desktop\DSCN1230.JPG"/>
          <p:cNvPicPr/>
          <p:nvPr/>
        </p:nvPicPr>
        <p:blipFill>
          <a:blip r:embed="rId1"/>
          <a:stretch/>
        </p:blipFill>
        <p:spPr>
          <a:xfrm>
            <a:off x="334800" y="2066760"/>
            <a:ext cx="3286440" cy="25718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Рисунок 6" descr="C:\Users\1\Desktop\DSCN1237.JPG"/>
          <p:cNvPicPr/>
          <p:nvPr/>
        </p:nvPicPr>
        <p:blipFill>
          <a:blip r:embed="rId2"/>
          <a:stretch/>
        </p:blipFill>
        <p:spPr>
          <a:xfrm>
            <a:off x="5214960" y="2066760"/>
            <a:ext cx="3471840" cy="25718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Стрелка вправо 8"/>
          <p:cNvSpPr/>
          <p:nvPr/>
        </p:nvSpPr>
        <p:spPr>
          <a:xfrm>
            <a:off x="3780000" y="2924280"/>
            <a:ext cx="1285560" cy="7858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04:48:35Z</dcterms:created>
  <dc:creator>1</dc:creator>
  <dc:description>http://aida.ucoz.ru</dc:description>
  <dc:language>en-US</dc:language>
  <cp:lastModifiedBy>NewMy</cp:lastModifiedBy>
  <dcterms:modified xsi:type="dcterms:W3CDTF">2020-09-03T16:44:35Z</dcterms:modified>
  <cp:revision>131</cp:revision>
  <dc:subject/>
  <dc:title>Слайд 1</dc:title>
</cp:coreProperties>
</file>