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6C2-2562-4A56-80C7-EBEA0D3C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42B-B194-4433-9E98-24E66C07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82A-2BEE-4074-BDED-039C97AB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02C-C1B6-4ED3-88B0-919F988A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5F3-E968-4887-93A3-CC199E9E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F42-010A-489C-AE37-FD7D8D1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5C7-16A8-4373-99C1-4028D339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9D8-9A78-477E-9C98-0D00B9E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E55-15A3-49E4-BCA2-B0F38F5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58C-684B-4BBF-BF16-1FF0C456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5CA-88B2-468B-B6DE-345D017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326-843B-4727-A3F1-0CD3F65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B24-A487-40E4-B585-7D9F992BF8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272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20000"/>
                </a:solidFill>
                <a:latin typeface="Times New Roman"/>
              </a:rPr>
              <a:t>Детско-родительский мини проект</a:t>
            </a:r>
            <a:br>
              <a:rPr sz="2800"/>
            </a:br>
            <a:r>
              <a:rPr b="0" i="1" lang="ru-RU" sz="2800" spc="-1" strike="noStrike">
                <a:solidFill>
                  <a:srgbClr val="820000"/>
                </a:solidFill>
                <a:latin typeface="Times New Roman"/>
              </a:rPr>
              <a:t>«Мои любимые цвет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7640" y="3789360"/>
            <a:ext cx="6912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полнила семья Данили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Вохмянина   Лариса   Владимиро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979640" y="15840"/>
            <a:ext cx="518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ДОУ «Детский сад «Лесная сказ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Users\андрей\Desktop\миша\Посадка цветов\IMG_2799.JPG"/>
          <p:cNvPicPr/>
          <p:nvPr/>
        </p:nvPicPr>
        <p:blipFill>
          <a:blip r:embed="rId1"/>
          <a:stretch/>
        </p:blipFill>
        <p:spPr>
          <a:xfrm>
            <a:off x="2843280" y="2060640"/>
            <a:ext cx="360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560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в дошкольном возрасте очень любопытны, они даже не имеют представления о необходимых условиях роста растений. Им интересно наблюдать за живым ростком, жизнь и рост, которого зависит от того,  как за ним ухаживает сам ребенок. Расширение представлений детей о том, как из семян появляется росток цветка. Повышение экологической грамотности детей и родителей. Обобщение представлений о необходимости света, тепла , влаги почвы для роста растений. С помощью взрослых ребенок сможет понять состояние растений, будет с любовью ухаживать за ни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427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чение  детей в практическую деятельность по выращиванию цветочных растений совместно с родите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Задачи проекта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ить знания о названиях цвето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Формировать навыки исследовательск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звивать воображение, мышление в процессе наблю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спитывать бережное отношение  и любовь к растения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спитывать уважение к своему и чужому труд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9200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 (постановка проблем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матривание альбомо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адовые цветы», «Комнатные растения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андрей\Desktop\миша\Посадка цветов\IMG_2804.JPG"/>
          <p:cNvPicPr/>
          <p:nvPr/>
        </p:nvPicPr>
        <p:blipFill>
          <a:blip r:embed="rId1"/>
          <a:stretch/>
        </p:blipFill>
        <p:spPr>
          <a:xfrm>
            <a:off x="2984400" y="2997360"/>
            <a:ext cx="2017800" cy="227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андрей\Desktop\миша\Посадка цветов\IMG_2805.JPG"/>
          <p:cNvPicPr/>
          <p:nvPr/>
        </p:nvPicPr>
        <p:blipFill>
          <a:blip r:embed="rId2"/>
          <a:stretch/>
        </p:blipFill>
        <p:spPr>
          <a:xfrm>
            <a:off x="6251400" y="299736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седа  о комнатных раст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C:\Users\андрей\Desktop\миша\Посадка цветов\IMG_2789.JPG"/>
          <p:cNvPicPr/>
          <p:nvPr/>
        </p:nvPicPr>
        <p:blipFill>
          <a:blip r:embed="rId1"/>
          <a:stretch/>
        </p:blipFill>
        <p:spPr>
          <a:xfrm>
            <a:off x="2195640" y="1785960"/>
            <a:ext cx="24541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андрей\Desktop\миша\Посадка цветов\IMG_2793.JPG"/>
          <p:cNvPicPr/>
          <p:nvPr/>
        </p:nvPicPr>
        <p:blipFill>
          <a:blip r:embed="rId2"/>
          <a:stretch/>
        </p:blipFill>
        <p:spPr>
          <a:xfrm>
            <a:off x="5651640" y="178596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андрей\Desktop\миша\Посадка цветов\IMG_2796.JPG"/>
          <p:cNvPicPr/>
          <p:nvPr/>
        </p:nvPicPr>
        <p:blipFill>
          <a:blip r:embed="rId3"/>
          <a:stretch/>
        </p:blipFill>
        <p:spPr>
          <a:xfrm>
            <a:off x="2924280" y="4149720"/>
            <a:ext cx="212400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андрей\Desktop\миша\Посадка цветов\IMG_2801.JPG"/>
          <p:cNvPicPr/>
          <p:nvPr/>
        </p:nvPicPr>
        <p:blipFill>
          <a:blip r:embed="rId4"/>
          <a:stretch/>
        </p:blipFill>
        <p:spPr>
          <a:xfrm>
            <a:off x="6372360" y="4149720"/>
            <a:ext cx="2095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 (практическ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готовление земли для рассады и выбор  семян  цветов для посад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C:\Users\андрей\Desktop\миша\Посадка цветов\IMG_2491.JPG"/>
          <p:cNvPicPr/>
          <p:nvPr/>
        </p:nvPicPr>
        <p:blipFill>
          <a:blip r:embed="rId1"/>
          <a:stretch/>
        </p:blipFill>
        <p:spPr>
          <a:xfrm>
            <a:off x="1979640" y="1952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андрей\Desktop\миша\Посадка цветов\IMG_2496.JPG"/>
          <p:cNvPicPr/>
          <p:nvPr/>
        </p:nvPicPr>
        <p:blipFill>
          <a:blip r:embed="rId2"/>
          <a:stretch/>
        </p:blipFill>
        <p:spPr>
          <a:xfrm>
            <a:off x="4211640" y="1952640"/>
            <a:ext cx="1204920" cy="169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андрей\Desktop\миша\Посадка цветов\IMG_2495.JPG"/>
          <p:cNvPicPr/>
          <p:nvPr/>
        </p:nvPicPr>
        <p:blipFill>
          <a:blip r:embed="rId3"/>
          <a:stretch/>
        </p:blipFill>
        <p:spPr>
          <a:xfrm>
            <a:off x="6496200" y="1952640"/>
            <a:ext cx="13158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андрей\Desktop\миша\Посадка цветов\IMG_2497.JPG"/>
          <p:cNvPicPr/>
          <p:nvPr/>
        </p:nvPicPr>
        <p:blipFill>
          <a:blip r:embed="rId4"/>
          <a:stretch/>
        </p:blipFill>
        <p:spPr>
          <a:xfrm>
            <a:off x="3154320" y="4005360"/>
            <a:ext cx="127332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андрей\Desktop\миша\Посадка цветов\IMG_2499.JPG"/>
          <p:cNvPicPr/>
          <p:nvPr/>
        </p:nvPicPr>
        <p:blipFill>
          <a:blip r:embed="rId5"/>
          <a:stretch/>
        </p:blipFill>
        <p:spPr>
          <a:xfrm>
            <a:off x="5219640" y="4005360"/>
            <a:ext cx="1460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5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адка семя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C:\Users\андрей\Desktop\миша\Посадка цветов\IMG_2509.JPG"/>
          <p:cNvPicPr/>
          <p:nvPr/>
        </p:nvPicPr>
        <p:blipFill>
          <a:blip r:embed="rId1"/>
          <a:stretch/>
        </p:blipFill>
        <p:spPr>
          <a:xfrm>
            <a:off x="1554120" y="1557360"/>
            <a:ext cx="2441520" cy="17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андрей\Desktop\миша\Посадка цветов\IMG_2511.JPG"/>
          <p:cNvPicPr/>
          <p:nvPr/>
        </p:nvPicPr>
        <p:blipFill>
          <a:blip r:embed="rId2"/>
          <a:stretch/>
        </p:blipFill>
        <p:spPr>
          <a:xfrm>
            <a:off x="5292720" y="1557360"/>
            <a:ext cx="259884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андрей\Desktop\миша\Посадка цветов\IMG_2520.JPG"/>
          <p:cNvPicPr/>
          <p:nvPr/>
        </p:nvPicPr>
        <p:blipFill>
          <a:blip r:embed="rId3"/>
          <a:stretch/>
        </p:blipFill>
        <p:spPr>
          <a:xfrm>
            <a:off x="3780000" y="3860640"/>
            <a:ext cx="208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блюдение  и уход за  всходами цве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Users\андрей\Desktop\миша\Посадка цветов\IMG_2544.JPG"/>
          <p:cNvPicPr/>
          <p:nvPr/>
        </p:nvPicPr>
        <p:blipFill>
          <a:blip r:embed="rId1"/>
          <a:stretch/>
        </p:blipFill>
        <p:spPr>
          <a:xfrm>
            <a:off x="1403280" y="126828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андрей\Desktop\миша\Посадка цветов\IMG_2564.JPG"/>
          <p:cNvPicPr/>
          <p:nvPr/>
        </p:nvPicPr>
        <p:blipFill>
          <a:blip r:embed="rId2"/>
          <a:stretch/>
        </p:blipFill>
        <p:spPr>
          <a:xfrm>
            <a:off x="3059280" y="1298520"/>
            <a:ext cx="158400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андрей\Desktop\миша\Посадка цветов\IMG_2662.JPG"/>
          <p:cNvPicPr/>
          <p:nvPr/>
        </p:nvPicPr>
        <p:blipFill>
          <a:blip r:embed="rId3"/>
          <a:stretch/>
        </p:blipFill>
        <p:spPr>
          <a:xfrm>
            <a:off x="5003640" y="12985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андрей\Desktop\миша\Посадка цветов\IMG_2771.JPG"/>
          <p:cNvPicPr/>
          <p:nvPr/>
        </p:nvPicPr>
        <p:blipFill>
          <a:blip r:embed="rId4"/>
          <a:stretch/>
        </p:blipFill>
        <p:spPr>
          <a:xfrm>
            <a:off x="6659640" y="1298520"/>
            <a:ext cx="1522440" cy="150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Users\андрей\Desktop\миша\Посадка цветов\IMG_2664.JPG"/>
          <p:cNvPicPr/>
          <p:nvPr/>
        </p:nvPicPr>
        <p:blipFill>
          <a:blip r:embed="rId5"/>
          <a:stretch/>
        </p:blipFill>
        <p:spPr>
          <a:xfrm>
            <a:off x="3635280" y="335772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этап (заключительный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ветущие клумбы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257004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5364000" y="1285920"/>
            <a:ext cx="249732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3413160" y="3654360"/>
            <a:ext cx="30384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Лариса</cp:lastModifiedBy>
  <dcterms:modified xsi:type="dcterms:W3CDTF">2020-09-03T13:45:41Z</dcterms:modified>
  <cp:revision>57</cp:revision>
  <dc:subject/>
  <dc:title>Слайд 1</dc:title>
</cp:coreProperties>
</file>