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42F1-CA1D-4F94-9BD5-021FC1D7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A7B-0D59-4EF1-9AB0-3DD78673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6B30-AD64-4580-9D01-4AF1D0C4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9A2-8472-42DB-9B62-9152FC58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8116-A5F9-4D0E-AD55-31535EF1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9067-3112-4FA7-ABE6-C0BD116F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F2BE-5C87-4AA0-A728-0D7B3701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8489-D7E1-4423-A2A5-4C37364E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DBF5-67DA-4B1C-867E-E051B88D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7FC7-AB5D-4738-8A8D-C5A50603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CF1E-40C8-4BF9-B113-671885A0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DAA9-1346-4B8D-8733-980BC48D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1437-4C3B-4A4D-B32E-0D93402D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C11C-C68D-4C2C-8DAB-CD37AA03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39D5-23DB-4B28-9AB0-54191B1F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FEEF-1FB1-4C4C-919F-EC296EC1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4129-C76B-403E-B150-2B4AD6E1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C65E-BC99-4244-B671-07F779DF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0F09-789D-4D06-B547-C52FCBA8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F949-D13B-4B3D-8174-1ADCF6C1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B8B-17A4-4E44-A64B-1D8F176F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02F0-D995-47AC-BCDE-79C7DCC5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2965-61C0-41C5-BE45-47655205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C81-A706-4A04-A5E8-73C34D43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2000"/>
                      <a:gd name="textAreaBottom" fmla="*/ 162360 h 162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>
                      <a:gd name="textAreaLeft" fmla="*/ 0 w 340560"/>
                      <a:gd name="textAreaRight" fmla="*/ 340920 w 34056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>
                      <a:gd name="textAreaLeft" fmla="*/ 360 w 882720"/>
                      <a:gd name="textAreaRight" fmla="*/ 883440 w 88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>
                      <a:gd name="textAreaLeft" fmla="*/ 360 w 473760"/>
                      <a:gd name="textAreaRight" fmla="*/ 474480 w 473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>
                      <a:gd name="textAreaLeft" fmla="*/ 360 w 930240"/>
                      <a:gd name="textAreaRight" fmla="*/ 930960 w 93024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>
                      <a:gd name="textAreaLeft" fmla="*/ 360 w 498960"/>
                      <a:gd name="textAreaRight" fmla="*/ 499680 w 49896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240"/>
                      <a:gd name="textAreaBottom" fmla="*/ 156600 h 156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2280"/>
                      <a:gd name="textAreaBottom" fmla="*/ 242640 h 242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120"/>
                      <a:gd name="textAreaBottom" fmla="*/ 159480 h 1591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8760"/>
                      <a:gd name="textAreaBottom" fmla="*/ 249120 h 248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>
                      <a:gd name="textAreaLeft" fmla="*/ -360 w 635400"/>
                      <a:gd name="textAreaRight" fmla="*/ 635400 w 63540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>
                      <a:gd name="textAreaLeft" fmla="*/ 0 w 340920"/>
                      <a:gd name="textAreaRight" fmla="*/ 340920 w 34092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>
                      <a:gd name="textAreaLeft" fmla="*/ -360 w 543240"/>
                      <a:gd name="textAreaRight" fmla="*/ 543240 w 5432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>
                      <a:gd name="textAreaLeft" fmla="*/ -360 w 293400"/>
                      <a:gd name="textAreaRight" fmla="*/ 293400 w 29340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>
                      <a:gd name="textAreaLeft" fmla="*/ 0 w 337680"/>
                      <a:gd name="textAreaRight" fmla="*/ 337680 w 3376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>
                      <a:gd name="textAreaLeft" fmla="*/ 0 w 338760"/>
                      <a:gd name="textAreaRight" fmla="*/ 339120 w 33876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>
                      <a:gd name="textAreaLeft" fmla="*/ 0 w 291240"/>
                      <a:gd name="textAreaRight" fmla="*/ 291600 w 2912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>
                      <a:gd name="textAreaLeft" fmla="*/ 360 w 886320"/>
                      <a:gd name="textAreaRight" fmla="*/ 887040 w 8863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>
                      <a:gd name="textAreaLeft" fmla="*/ -360 w 475560"/>
                      <a:gd name="textAreaRight" fmla="*/ 475560 w 4755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>
                      <a:gd name="textAreaLeft" fmla="*/ 360 w 820080"/>
                      <a:gd name="textAreaRight" fmla="*/ 820800 w 8200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>
                      <a:gd name="textAreaLeft" fmla="*/ 360 w 437760"/>
                      <a:gd name="textAreaRight" fmla="*/ 438480 w 437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>
                      <a:gd name="textAreaLeft" fmla="*/ 0 w 753840"/>
                      <a:gd name="textAreaRight" fmla="*/ 754200 w 75384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>
                      <a:gd name="textAreaLeft" fmla="*/ 0 w 405720"/>
                      <a:gd name="textAreaRight" fmla="*/ 406080 w 40572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>
                      <a:gd name="textAreaLeft" fmla="*/ 0 w 394920"/>
                      <a:gd name="textAreaRight" fmla="*/ 395280 w 39492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80800"/>
                  <a:gd name="textAreaBottom" fmla="*/ 1180800 h 118080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7160"/>
                  <a:gd name="textAreaBottom" fmla="*/ 1217520 h 121716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0800"/>
                  <a:gd name="textAreaBottom" fmla="*/ 1181160 h 118080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80440"/>
                  <a:gd name="textAreaBottom" fmla="*/ 1180800 h 118044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2960"/>
                  <a:gd name="textAreaBottom" fmla="*/ 733320 h 7329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4FEA-1DF7-4DE7-A0A9-64E975ED2762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316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520" cy="2742840"/>
                    <a:chOff x="5761440" y="232236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600" y="3020040"/>
                      <a:ext cx="2127600" cy="384480"/>
                    </a:xfrm>
                    <a:custGeom>
                      <a:avLst/>
                      <a:gdLst>
                        <a:gd name="textAreaLeft" fmla="*/ 0 w 2127600"/>
                        <a:gd name="textAreaRight" fmla="*/ 2127960 w 21276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6120"/>
                      <a:ext cx="1139040" cy="604080"/>
                    </a:xfrm>
                    <a:custGeom>
                      <a:avLst/>
                      <a:gdLst>
                        <a:gd name="textAreaLeft" fmla="*/ 0 w 1139040"/>
                        <a:gd name="textAreaRight" fmla="*/ 113940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840"/>
                      <a:ext cx="2236680" cy="4258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5880"/>
                        <a:gd name="textAreaBottom" fmla="*/ 426240 h 4258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0960"/>
                      <a:ext cx="1202040" cy="67284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560"/>
                      <a:ext cx="1906560" cy="384480"/>
                    </a:xfrm>
                    <a:custGeom>
                      <a:avLst/>
                      <a:gdLst>
                        <a:gd name="textAreaLeft" fmla="*/ 0 w 1906560"/>
                        <a:gd name="textAreaRight" fmla="*/ 1906920 w 19065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2400"/>
                      <a:ext cx="1519200" cy="26604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580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5920"/>
                    <a:ext cx="3040200" cy="2530800"/>
                    <a:chOff x="2085120" y="2365920"/>
                    <a:chExt cx="3040200" cy="25308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6400" y="2970000"/>
                      <a:ext cx="2238480" cy="428040"/>
                    </a:xfrm>
                    <a:custGeom>
                      <a:avLst/>
                      <a:gdLst>
                        <a:gd name="textAreaLeft" fmla="*/ 360 w 2238480"/>
                        <a:gd name="textAreaRight" fmla="*/ 2239200 w 2238480"/>
                        <a:gd name="textAreaTop" fmla="*/ 0 h 428040"/>
                        <a:gd name="textAreaBottom" fmla="*/ 428400 h 428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200"/>
                      <a:ext cx="1202760" cy="67212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840"/>
                    <a:ext cx="3096360" cy="1992240"/>
                    <a:chOff x="2040840" y="2283840"/>
                    <a:chExt cx="309636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4360" y="2739600"/>
                      <a:ext cx="2140200" cy="375480"/>
                    </a:xfrm>
                    <a:custGeom>
                      <a:avLst/>
                      <a:gdLst>
                        <a:gd name="textAreaLeft" fmla="*/ -360 w 2140200"/>
                        <a:gd name="textAreaRight" fmla="*/ 2140200 w 2140200"/>
                        <a:gd name="textAreaTop" fmla="*/ 0 h 375480"/>
                        <a:gd name="textAreaBottom" fmla="*/ 375840 h 375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640"/>
                      <a:ext cx="1150200" cy="586440"/>
                    </a:xfrm>
                    <a:custGeom>
                      <a:avLst/>
                      <a:gdLst>
                        <a:gd name="textAreaLeft" fmla="*/ -360 w 1150200"/>
                        <a:gd name="textAreaRight" fmla="*/ 1150200 w 1150200"/>
                        <a:gd name="textAreaTop" fmla="*/ 0 h 586440"/>
                        <a:gd name="textAreaBottom" fmla="*/ 586800 h 586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520" cy="1608120"/>
                    <a:chOff x="2010960" y="2188440"/>
                    <a:chExt cx="313452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960" y="2497680"/>
                      <a:ext cx="2068200" cy="412920"/>
                    </a:xfrm>
                    <a:custGeom>
                      <a:avLst/>
                      <a:gdLst>
                        <a:gd name="textAreaLeft" fmla="*/ -360 w 2068200"/>
                        <a:gd name="textAreaRight" fmla="*/ 2068200 w 206820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89080"/>
                      <a:ext cx="1111680" cy="651240"/>
                    </a:xfrm>
                    <a:custGeom>
                      <a:avLst/>
                      <a:gdLst>
                        <a:gd name="textAreaLeft" fmla="*/ 360 w 1111680"/>
                        <a:gd name="textAreaRight" fmla="*/ 1112400 w 1111680"/>
                        <a:gd name="textAreaTop" fmla="*/ 0 h 651240"/>
                        <a:gd name="textAreaBottom" fmla="*/ 651600 h 651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480" y="2097720"/>
                    <a:ext cx="2940840" cy="1002240"/>
                    <a:chOff x="2166480" y="209772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120" y="2223720"/>
                      <a:ext cx="1906560" cy="386280"/>
                    </a:xfrm>
                    <a:custGeom>
                      <a:avLst/>
                      <a:gdLst>
                        <a:gd name="textAreaLeft" fmla="*/ 360 w 1906560"/>
                        <a:gd name="textAreaRight" fmla="*/ 1907280 w 1906560"/>
                        <a:gd name="textAreaTop" fmla="*/ 0 h 386280"/>
                        <a:gd name="textAreaBottom" fmla="*/ 386640 h 386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120" y="2430360"/>
                      <a:ext cx="1022760" cy="603360"/>
                    </a:xfrm>
                    <a:custGeom>
                      <a:avLst/>
                      <a:gdLst>
                        <a:gd name="textAreaLeft" fmla="*/ -360 w 1022760"/>
                        <a:gd name="textAreaRight" fmla="*/ 1022760 w 102276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960" cy="446040"/>
                    <a:chOff x="2403720" y="2033640"/>
                    <a:chExt cx="265896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8200" y="2071440"/>
                      <a:ext cx="1731240" cy="267840"/>
                    </a:xfrm>
                    <a:custGeom>
                      <a:avLst/>
                      <a:gdLst>
                        <a:gd name="textAreaLeft" fmla="*/ -360 w 1731240"/>
                        <a:gd name="textAreaRight" fmla="*/ 1731240 w 1731240"/>
                        <a:gd name="textAreaTop" fmla="*/ 0 h 267840"/>
                        <a:gd name="textAreaBottom" fmla="*/ 268200 h 267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30240" cy="423000"/>
                    </a:xfrm>
                    <a:custGeom>
                      <a:avLst/>
                      <a:gdLst>
                        <a:gd name="textAreaLeft" fmla="*/ 360 w 930240"/>
                        <a:gd name="textAreaRight" fmla="*/ 930960 w 93024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2440"/>
                    <a:ext cx="2364840" cy="787320"/>
                    <a:chOff x="2760480" y="1522440"/>
                    <a:chExt cx="236484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4880" cy="1083960"/>
                    <a:chOff x="288720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680" y="1787400"/>
                      <a:ext cx="1520280" cy="26568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580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31240"/>
                    <a:ext cx="2169720" cy="1507680"/>
                    <a:chOff x="3161520" y="831240"/>
                    <a:chExt cx="2169720" cy="150768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6040" y="1672920"/>
                      <a:ext cx="1519200" cy="26568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0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1240" cy="1886400"/>
                    <a:chOff x="4027320" y="335160"/>
                    <a:chExt cx="146124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7200" cy="265680"/>
                    </a:xfrm>
                    <a:custGeom>
                      <a:avLst/>
                      <a:gdLst>
                        <a:gd name="textAreaLeft" fmla="*/ 360 w 1357200"/>
                        <a:gd name="textAreaRight" fmla="*/ 1357920 w 135720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760"/>
                      <a:ext cx="727560" cy="416160"/>
                    </a:xfrm>
                    <a:custGeom>
                      <a:avLst/>
                      <a:gdLst>
                        <a:gd name="textAreaLeft" fmla="*/ 0 w 727560"/>
                        <a:gd name="textAreaRight" fmla="*/ 727560 w 7275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120" cy="1946160"/>
                    <a:chOff x="4448160" y="245520"/>
                    <a:chExt cx="1122120" cy="194616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4720" y="1400760"/>
                      <a:ext cx="1308960" cy="265320"/>
                    </a:xfrm>
                    <a:custGeom>
                      <a:avLst/>
                      <a:gdLst>
                        <a:gd name="textAreaLeft" fmla="*/ 360 w 1308960"/>
                        <a:gd name="textAreaRight" fmla="*/ 1309680 w 130896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16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1680"/>
                    <a:chOff x="5661720" y="952560"/>
                    <a:chExt cx="2317320" cy="111168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440"/>
                      <a:ext cx="816120" cy="41904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9040"/>
                        <a:gd name="textAreaBottom" fmla="*/ 419400 h 419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196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6640" cy="1901160"/>
                    <a:chOff x="5355720" y="269640"/>
                    <a:chExt cx="119664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440" y="1418400"/>
                      <a:ext cx="1310400" cy="226080"/>
                    </a:xfrm>
                    <a:custGeom>
                      <a:avLst/>
                      <a:gdLst>
                        <a:gd name="textAreaLeft" fmla="*/ 0 w 1310400"/>
                        <a:gd name="textAreaRight" fmla="*/ 1310760 w 131040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080" y="484920"/>
                      <a:ext cx="703080" cy="357480"/>
                    </a:xfrm>
                    <a:custGeom>
                      <a:avLst/>
                      <a:gdLst>
                        <a:gd name="textAreaLeft" fmla="*/ 0 w 703080"/>
                        <a:gd name="textAreaRight" fmla="*/ 703080 w 703080"/>
                        <a:gd name="textAreaTop" fmla="*/ 0 h 357480"/>
                        <a:gd name="textAreaBottom" fmla="*/ 357840 h 357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080" y="388080"/>
                    <a:ext cx="1892520" cy="1797480"/>
                    <a:chOff x="5347080" y="388080"/>
                    <a:chExt cx="1892520" cy="179748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000" y="1388520"/>
                      <a:ext cx="1425960" cy="333000"/>
                    </a:xfrm>
                    <a:custGeom>
                      <a:avLst/>
                      <a:gdLst>
                        <a:gd name="textAreaLeft" fmla="*/ 0 w 1425960"/>
                        <a:gd name="textAreaRight" fmla="*/ 1426320 w 1425960"/>
                        <a:gd name="textAreaTop" fmla="*/ 0 h 333000"/>
                        <a:gd name="textAreaBottom" fmla="*/ 333360 h 333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1880" y="583920"/>
                      <a:ext cx="766440" cy="524160"/>
                    </a:xfrm>
                    <a:custGeom>
                      <a:avLst/>
                      <a:gdLst>
                        <a:gd name="textAreaLeft" fmla="*/ 0 w 766440"/>
                        <a:gd name="textAreaRight" fmla="*/ 766800 w 766440"/>
                        <a:gd name="textAreaTop" fmla="*/ 0 h 524160"/>
                        <a:gd name="textAreaBottom" fmla="*/ 524520 h 524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680"/>
                    <a:chOff x="5458320" y="292680"/>
                    <a:chExt cx="426960" cy="179568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560"/>
                        <a:gd name="textAreaBottom" fmla="*/ 106920 h 106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400" y="533160"/>
                      <a:ext cx="631080" cy="16740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400"/>
                        <a:gd name="textAreaBottom" fmla="*/ 167760 h 167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30440"/>
                    <a:ext cx="2195640" cy="3003120"/>
                    <a:chOff x="3063240" y="2530440"/>
                    <a:chExt cx="2195640" cy="300312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8560" y="3314880"/>
                      <a:ext cx="2127960" cy="385560"/>
                    </a:xfrm>
                    <a:custGeom>
                      <a:avLst/>
                      <a:gdLst>
                        <a:gd name="textAreaLeft" fmla="*/ -360 w 2127960"/>
                        <a:gd name="textAreaRight" fmla="*/ 2127960 w 21279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2160"/>
                      <a:ext cx="1139040" cy="60408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160" y="2650320"/>
                    <a:ext cx="1483200" cy="2999880"/>
                    <a:chOff x="3791160" y="2650320"/>
                    <a:chExt cx="148320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0160"/>
                      <a:ext cx="1967400" cy="38556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2200" y="4746240"/>
                      <a:ext cx="1055880" cy="6019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1920"/>
                        <a:gd name="textAreaBottom" fmla="*/ 602280 h 60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8280" y="2703240"/>
                    <a:ext cx="875160" cy="2926800"/>
                    <a:chOff x="4508280" y="2703240"/>
                    <a:chExt cx="87516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5640" y="3488760"/>
                      <a:ext cx="1887480" cy="347760"/>
                    </a:xfrm>
                    <a:custGeom>
                      <a:avLst/>
                      <a:gdLst>
                        <a:gd name="textAreaLeft" fmla="*/ -360 w 1887480"/>
                        <a:gd name="textAreaRight" fmla="*/ 1887480 w 1887480"/>
                        <a:gd name="textAreaTop" fmla="*/ 0 h 347760"/>
                        <a:gd name="textAreaBottom" fmla="*/ 348120 h 347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880" y="4808160"/>
                      <a:ext cx="1011600" cy="545400"/>
                    </a:xfrm>
                    <a:custGeom>
                      <a:avLst/>
                      <a:gdLst>
                        <a:gd name="textAreaLeft" fmla="*/ 360 w 1011600"/>
                        <a:gd name="textAreaRight" fmla="*/ 1012320 w 1011600"/>
                        <a:gd name="textAreaTop" fmla="*/ 0 h 545400"/>
                        <a:gd name="textAreaBottom" fmla="*/ 545760 h 545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200" y="2482920"/>
                    <a:ext cx="2281320" cy="2953080"/>
                    <a:chOff x="5677200" y="2482920"/>
                    <a:chExt cx="228132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440"/>
                      <a:ext cx="2127960" cy="385560"/>
                    </a:xfrm>
                    <a:custGeom>
                      <a:avLst/>
                      <a:gdLst>
                        <a:gd name="textAreaLeft" fmla="*/ 0 w 2127960"/>
                        <a:gd name="textAreaRight" fmla="*/ 2128320 w 21279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2200" y="4499280"/>
                      <a:ext cx="1139400" cy="60264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760" y="2593080"/>
                    <a:ext cx="1757520" cy="3032640"/>
                    <a:chOff x="5648760" y="2593080"/>
                    <a:chExt cx="175752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6080" y="3395160"/>
                      <a:ext cx="2033640" cy="369360"/>
                    </a:xfrm>
                    <a:custGeom>
                      <a:avLst/>
                      <a:gdLst>
                        <a:gd name="textAreaLeft" fmla="*/ 0 w 2033640"/>
                        <a:gd name="textAreaRight" fmla="*/ 2034000 w 2033640"/>
                        <a:gd name="textAreaTop" fmla="*/ 0 h 369360"/>
                        <a:gd name="textAreaBottom" fmla="*/ 369720 h 369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19240"/>
                      <a:ext cx="1090800" cy="578160"/>
                    </a:xfrm>
                    <a:custGeom>
                      <a:avLst/>
                      <a:gdLst>
                        <a:gd name="textAreaLeft" fmla="*/ 0 w 1090800"/>
                        <a:gd name="textAreaRight" fmla="*/ 1091160 w 109080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040"/>
                      <a:ext cx="1972080" cy="302760"/>
                    </a:xfrm>
                    <a:custGeom>
                      <a:avLst/>
                      <a:gdLst>
                        <a:gd name="textAreaLeft" fmla="*/ 0 w 1972080"/>
                        <a:gd name="textAreaRight" fmla="*/ 1972440 w 197208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40760"/>
                    <a:ext cx="696960" cy="2777400"/>
                    <a:chOff x="552168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7080" y="3607560"/>
                      <a:ext cx="1812240" cy="303120"/>
                    </a:xfrm>
                    <a:custGeom>
                      <a:avLst/>
                      <a:gdLst>
                        <a:gd name="textAreaLeft" fmla="*/ 0 w 1812240"/>
                        <a:gd name="textAreaRight" fmla="*/ 1812600 w 18122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920" y="4864320"/>
                      <a:ext cx="973080" cy="475560"/>
                    </a:xfrm>
                    <a:custGeom>
                      <a:avLst/>
                      <a:gdLst>
                        <a:gd name="textAreaLeft" fmla="*/ 0 w 973080"/>
                        <a:gd name="textAreaRight" fmla="*/ 973440 w 97308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2720" y="857880"/>
                    <a:ext cx="3164400" cy="2523960"/>
                  </a:xfrm>
                  <a:custGeom>
                    <a:avLst/>
                    <a:gdLst>
                      <a:gd name="textAreaLeft" fmla="*/ 0 w 3164400"/>
                      <a:gd name="textAreaRight" fmla="*/ 3164760 w 316440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70520"/>
                    <a:ext cx="2485080" cy="2933280"/>
                  </a:xfrm>
                  <a:custGeom>
                    <a:avLst/>
                    <a:gdLst>
                      <a:gd name="textAreaLeft" fmla="*/ -360 w 2485080"/>
                      <a:gd name="textAreaRight" fmla="*/ 2485080 w 248508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20120" y="1752840"/>
                    <a:ext cx="1757520" cy="2934360"/>
                  </a:xfrm>
                  <a:custGeom>
                    <a:avLst/>
                    <a:gdLst>
                      <a:gd name="textAreaLeft" fmla="*/ 0 w 1757520"/>
                      <a:gd name="textAreaRight" fmla="*/ 1757880 w 175752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000" cy="293436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1320" cy="2840760"/>
                  </a:xfrm>
                  <a:custGeom>
                    <a:avLst/>
                    <a:gdLst>
                      <a:gd name="textAreaLeft" fmla="*/ -360 w 2281320"/>
                      <a:gd name="textAreaRight" fmla="*/ 2281320 w 228132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2520" y="1875960"/>
                    <a:ext cx="942840" cy="2840760"/>
                  </a:xfrm>
                  <a:custGeom>
                    <a:avLst/>
                    <a:gdLst>
                      <a:gd name="textAreaLeft" fmla="*/ 0 w 942840"/>
                      <a:gd name="textAreaRight" fmla="*/ 943200 w 94284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48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2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3280" y="2579760"/>
                <a:ext cx="2613960" cy="2841120"/>
              </a:xfrm>
              <a:custGeom>
                <a:avLst/>
                <a:gdLst>
                  <a:gd name="textAreaLeft" fmla="*/ -360 w 2613960"/>
                  <a:gd name="textAreaRight" fmla="*/ 2613960 w 261396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4640" y="2122200"/>
                <a:ext cx="1536120" cy="2934000"/>
              </a:xfrm>
              <a:custGeom>
                <a:avLst/>
                <a:gdLst>
                  <a:gd name="textAreaLeft" fmla="*/ -360 w 1536120"/>
                  <a:gd name="textAreaRight" fmla="*/ 1536120 w 15361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7880"/>
                <a:ext cx="1241640" cy="197280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2800"/>
                  <a:gd name="textAreaBottom" fmla="*/ 1973160 h 1972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EA83-F7E9-4D65-AAA0-0200C2F354B3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7632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«Растем здоровыми»</a:t>
            </a: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ff6600"/>
                </a:solidFill>
                <a:latin typeface="Arial Black"/>
              </a:rPr>
              <a:t>(система физкультурно-оздоровительной работы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7432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Black"/>
              </a:rPr>
              <a:t>МДОУ ДСКН №4</a:t>
            </a:r>
            <a:br>
              <a:rPr sz="2800"/>
            </a:br>
            <a:r>
              <a:rPr b="0" lang="ru-RU" sz="2800" spc="-1" strike="noStrike">
                <a:solidFill>
                  <a:srgbClr val="3333ff"/>
                </a:solidFill>
                <a:latin typeface="Arial Black"/>
              </a:rPr>
              <a:t>г. Сосновоборск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Лечебно-</a:t>
            </a:r>
            <a:br>
              <a:rPr sz="4000"/>
            </a:b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профилактическая </a:t>
            </a:r>
            <a:br>
              <a:rPr sz="4000"/>
            </a:b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работ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AutoShape 5"/>
          <p:cNvSpPr/>
          <p:nvPr/>
        </p:nvSpPr>
        <p:spPr>
          <a:xfrm>
            <a:off x="179280" y="3643200"/>
            <a:ext cx="3024360" cy="2232000"/>
          </a:xfrm>
          <a:prstGeom prst="rightArrowCallout">
            <a:avLst>
              <a:gd name="adj1" fmla="val 24326"/>
              <a:gd name="adj2" fmla="val 39949"/>
              <a:gd name="adj3" fmla="val 12734"/>
              <a:gd name="adj4" fmla="val 83991"/>
            </a:avLst>
          </a:prstGeom>
          <a:solidFill>
            <a:srgbClr val="ffffff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 Black"/>
              </a:rPr>
              <a:t>I </a:t>
            </a: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ЭТАП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Подготовительный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(сентябрь, октябрь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6" name="AutoShape 7"/>
          <p:cNvSpPr/>
          <p:nvPr/>
        </p:nvSpPr>
        <p:spPr>
          <a:xfrm>
            <a:off x="3203640" y="3716280"/>
            <a:ext cx="2736720" cy="2158920"/>
          </a:xfrm>
          <a:prstGeom prst="rightArrowCallout">
            <a:avLst>
              <a:gd name="adj1" fmla="val 29734"/>
              <a:gd name="adj2" fmla="val 39949"/>
              <a:gd name="adj3" fmla="val 14777"/>
              <a:gd name="adj4" fmla="val 82162"/>
            </a:avLst>
          </a:prstGeom>
          <a:solidFill>
            <a:srgbClr val="ff99ff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 Black"/>
              </a:rPr>
              <a:t>II </a:t>
            </a: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ЭТАП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Интенсивной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профилактики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AutoShape 8"/>
          <p:cNvSpPr/>
          <p:nvPr/>
        </p:nvSpPr>
        <p:spPr>
          <a:xfrm>
            <a:off x="5940360" y="3716280"/>
            <a:ext cx="3203640" cy="2232000"/>
          </a:xfrm>
          <a:prstGeom prst="rightArrowCallout">
            <a:avLst>
              <a:gd name="adj1" fmla="val 25836"/>
              <a:gd name="adj2" fmla="val 39949"/>
              <a:gd name="adj3" fmla="val 17569"/>
              <a:gd name="adj4" fmla="val 84069"/>
            </a:avLst>
          </a:prstGeom>
          <a:solidFill>
            <a:srgbClr val="ff9900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 Black"/>
              </a:rPr>
              <a:t>III </a:t>
            </a: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ЭТАП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Реабилитационный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(март, апрель, май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Физкультурно-оздоровительная работ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Oval 7"/>
          <p:cNvSpPr/>
          <p:nvPr/>
        </p:nvSpPr>
        <p:spPr>
          <a:xfrm>
            <a:off x="250920" y="1700280"/>
            <a:ext cx="3456000" cy="316872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Дополнительны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физкультурны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занят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пециализированного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воздействи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Oval 5"/>
          <p:cNvSpPr/>
          <p:nvPr/>
        </p:nvSpPr>
        <p:spPr>
          <a:xfrm>
            <a:off x="2411280" y="1773360"/>
            <a:ext cx="3456000" cy="3168360"/>
          </a:xfrm>
          <a:prstGeom prst="ellipse">
            <a:avLst/>
          </a:prstGeom>
          <a:solidFill>
            <a:srgbClr val="ff33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Физкультурны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занятия босиком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Oval 9"/>
          <p:cNvSpPr/>
          <p:nvPr/>
        </p:nvSpPr>
        <p:spPr>
          <a:xfrm>
            <a:off x="1619280" y="3284640"/>
            <a:ext cx="3456000" cy="3168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Хожден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на лыжах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250920" y="2997360"/>
            <a:ext cx="3456000" cy="3168360"/>
          </a:xfrm>
          <a:prstGeom prst="ellipse">
            <a:avLst/>
          </a:prstGeom>
          <a:solidFill>
            <a:srgbClr val="ff99ff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Утрення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зарядк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 бегом на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выносливость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Oval 8"/>
          <p:cNvSpPr/>
          <p:nvPr/>
        </p:nvSpPr>
        <p:spPr>
          <a:xfrm>
            <a:off x="4140360" y="1916280"/>
            <a:ext cx="3456000" cy="316836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одвижные игры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и упражнени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на улиц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Oval 11"/>
          <p:cNvSpPr/>
          <p:nvPr/>
        </p:nvSpPr>
        <p:spPr>
          <a:xfrm>
            <a:off x="3635280" y="2781360"/>
            <a:ext cx="3456000" cy="3168720"/>
          </a:xfrm>
          <a:prstGeom prst="ellipse">
            <a:avLst/>
          </a:prstGeom>
          <a:solidFill>
            <a:srgbClr val="ff66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Дыхательна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гимнастика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осле сн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5" name="Oval 12"/>
          <p:cNvSpPr/>
          <p:nvPr/>
        </p:nvSpPr>
        <p:spPr>
          <a:xfrm>
            <a:off x="5435640" y="3213000"/>
            <a:ext cx="3456000" cy="3168720"/>
          </a:xfrm>
          <a:prstGeom prst="ellipse">
            <a:avLst/>
          </a:prstGeom>
          <a:solidFill>
            <a:srgbClr val="003366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портивные игры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и соревновани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Oval 13"/>
          <p:cNvSpPr/>
          <p:nvPr/>
        </p:nvSpPr>
        <p:spPr>
          <a:xfrm>
            <a:off x="1187280" y="3357720"/>
            <a:ext cx="3456000" cy="3168360"/>
          </a:xfrm>
          <a:prstGeom prst="ellipse">
            <a:avLst/>
          </a:prstGeom>
          <a:solidFill>
            <a:srgbClr val="0099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Интенсивно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закаливание стоп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7" name="Oval 14"/>
          <p:cNvSpPr/>
          <p:nvPr/>
        </p:nvSpPr>
        <p:spPr>
          <a:xfrm>
            <a:off x="2124000" y="3429000"/>
            <a:ext cx="3456000" cy="316872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Элементы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точечного массажа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и пальчиковы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упражнения дл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укрепления здоровь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8" name="Oval 15"/>
          <p:cNvSpPr/>
          <p:nvPr/>
        </p:nvSpPr>
        <p:spPr>
          <a:xfrm>
            <a:off x="3492360" y="3357720"/>
            <a:ext cx="3456000" cy="3168360"/>
          </a:xfrm>
          <a:prstGeom prst="ellipse">
            <a:avLst/>
          </a:prstGeom>
          <a:solidFill>
            <a:srgbClr val="cc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бщекорректирующ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упражнени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Oval 16"/>
          <p:cNvSpPr/>
          <p:nvPr/>
        </p:nvSpPr>
        <p:spPr>
          <a:xfrm>
            <a:off x="4859280" y="3429000"/>
            <a:ext cx="3456000" cy="31687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Элементы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сихогимнастики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елаксаци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 Black"/>
              </a:rPr>
              <a:t>Новые подходы к организации физкультурно-оздоровительной работы</a:t>
            </a:r>
            <a:r>
              <a:rPr b="0" lang="ru-RU" sz="39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Oval 3"/>
          <p:cNvSpPr/>
          <p:nvPr/>
        </p:nvSpPr>
        <p:spPr>
          <a:xfrm>
            <a:off x="539640" y="1700280"/>
            <a:ext cx="2952720" cy="280836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Утрення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гимнастика с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здоровительным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бегом на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выносливость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2" name="Oval 4"/>
          <p:cNvSpPr/>
          <p:nvPr/>
        </p:nvSpPr>
        <p:spPr>
          <a:xfrm>
            <a:off x="1835280" y="1773360"/>
            <a:ext cx="3024000" cy="2663640"/>
          </a:xfrm>
          <a:prstGeom prst="ellipse">
            <a:avLst/>
          </a:prstGeom>
          <a:solidFill>
            <a:srgbClr val="ff33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Элементы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егионального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порт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Oval 5"/>
          <p:cNvSpPr/>
          <p:nvPr/>
        </p:nvSpPr>
        <p:spPr>
          <a:xfrm>
            <a:off x="3995640" y="1773360"/>
            <a:ext cx="2808360" cy="273672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Туризм и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портивно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риентирован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Oval 6"/>
          <p:cNvSpPr/>
          <p:nvPr/>
        </p:nvSpPr>
        <p:spPr>
          <a:xfrm>
            <a:off x="5292720" y="2276640"/>
            <a:ext cx="2519280" cy="2734920"/>
          </a:xfrm>
          <a:prstGeom prst="ellipse">
            <a:avLst/>
          </a:prstGeom>
          <a:solidFill>
            <a:srgbClr val="ff66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Физкультурны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досуги и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азвлечени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Oval 7"/>
          <p:cNvSpPr/>
          <p:nvPr/>
        </p:nvSpPr>
        <p:spPr>
          <a:xfrm>
            <a:off x="6084720" y="3789360"/>
            <a:ext cx="2808360" cy="278136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итмическа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гимнастик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6" name="Oval 8"/>
          <p:cNvSpPr/>
          <p:nvPr/>
        </p:nvSpPr>
        <p:spPr>
          <a:xfrm>
            <a:off x="4932360" y="4049640"/>
            <a:ext cx="2735280" cy="2808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Интенсивно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закаливани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топ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Oval 9"/>
          <p:cNvSpPr/>
          <p:nvPr/>
        </p:nvSpPr>
        <p:spPr>
          <a:xfrm>
            <a:off x="3419640" y="4122720"/>
            <a:ext cx="2736720" cy="2735280"/>
          </a:xfrm>
          <a:prstGeom prst="ellipse">
            <a:avLst/>
          </a:prstGeom>
          <a:solidFill>
            <a:srgbClr val="ff99ff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екция «Мяча»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2195640" y="3860640"/>
            <a:ext cx="2736720" cy="273528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Лыжи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Oval 11"/>
          <p:cNvSpPr/>
          <p:nvPr/>
        </p:nvSpPr>
        <p:spPr>
          <a:xfrm>
            <a:off x="179280" y="3645000"/>
            <a:ext cx="3060720" cy="27352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Занятия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в спорткомплекс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«Надежда»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Формирование представлений о здоровом образе жизни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AutoShape 4"/>
          <p:cNvSpPr/>
          <p:nvPr/>
        </p:nvSpPr>
        <p:spPr>
          <a:xfrm>
            <a:off x="250920" y="1773360"/>
            <a:ext cx="2808360" cy="3097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ривит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тойких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культурно-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гигиенических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навыков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AutoShape 5"/>
          <p:cNvSpPr/>
          <p:nvPr/>
        </p:nvSpPr>
        <p:spPr>
          <a:xfrm>
            <a:off x="468360" y="1916280"/>
            <a:ext cx="3311640" cy="3240000"/>
          </a:xfrm>
          <a:prstGeom prst="rightArrow">
            <a:avLst>
              <a:gd name="adj1" fmla="val 50000"/>
              <a:gd name="adj2" fmla="val 25553"/>
            </a:avLst>
          </a:prstGeom>
          <a:solidFill>
            <a:srgbClr val="ffff99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бучение уходу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за своим телом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навыкам оказан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элементарно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омощ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826920" y="2276640"/>
            <a:ext cx="3240360" cy="3168360"/>
          </a:xfrm>
          <a:prstGeom prst="rightArrow">
            <a:avLst>
              <a:gd name="adj1" fmla="val 50000"/>
              <a:gd name="adj2" fmla="val 25568"/>
            </a:avLst>
          </a:prstGeom>
          <a:solidFill>
            <a:srgbClr val="ff9966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Формировани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элементарных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редставлени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б окружающей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ред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AutoShape 7"/>
          <p:cNvSpPr/>
          <p:nvPr/>
        </p:nvSpPr>
        <p:spPr>
          <a:xfrm>
            <a:off x="1476360" y="2349360"/>
            <a:ext cx="3059280" cy="3429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Формировани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ривычки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ежедневных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физкультурных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упражнений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AutoShape 8"/>
          <p:cNvSpPr/>
          <p:nvPr/>
        </p:nvSpPr>
        <p:spPr>
          <a:xfrm>
            <a:off x="1692360" y="2565360"/>
            <a:ext cx="3529080" cy="3429000"/>
          </a:xfrm>
          <a:prstGeom prst="rightArrow">
            <a:avLst>
              <a:gd name="adj1" fmla="val 50000"/>
              <a:gd name="adj2" fmla="val 25730"/>
            </a:avLst>
          </a:prstGeom>
          <a:solidFill>
            <a:srgbClr val="99cc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азвити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редставлени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 строении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обственного тела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назначении органов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AutoShape 14"/>
          <p:cNvSpPr/>
          <p:nvPr/>
        </p:nvSpPr>
        <p:spPr>
          <a:xfrm>
            <a:off x="2556000" y="3141720"/>
            <a:ext cx="3527280" cy="2779560"/>
          </a:xfrm>
          <a:prstGeom prst="rightArrow">
            <a:avLst>
              <a:gd name="adj1" fmla="val 73889"/>
              <a:gd name="adj2" fmla="val 31208"/>
            </a:avLst>
          </a:prstGeom>
          <a:solidFill>
            <a:srgbClr val="ccff99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Формировани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редставлени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 том, что полезно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и что вредно дл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рганизм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132000" y="3213000"/>
            <a:ext cx="4321440" cy="2924280"/>
          </a:xfrm>
          <a:prstGeom prst="rightArrow">
            <a:avLst>
              <a:gd name="adj1" fmla="val 79472"/>
              <a:gd name="adj2" fmla="val 41029"/>
            </a:avLst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Формировани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сознанного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тношен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к своему здоровью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умен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пределять свои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остояния и ощущени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AutoShape 12"/>
          <p:cNvSpPr/>
          <p:nvPr/>
        </p:nvSpPr>
        <p:spPr>
          <a:xfrm>
            <a:off x="4211640" y="3357720"/>
            <a:ext cx="4105440" cy="2854080"/>
          </a:xfrm>
          <a:prstGeom prst="rightArrow">
            <a:avLst>
              <a:gd name="adj1" fmla="val 67685"/>
              <a:gd name="adj2" fmla="val 42028"/>
            </a:avLst>
          </a:prstGeom>
          <a:solidFill>
            <a:srgbClr val="ff99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бучен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детей правилам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дорожного движения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оведению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на улицах и дорогах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AutoShape 11"/>
          <p:cNvSpPr/>
          <p:nvPr/>
        </p:nvSpPr>
        <p:spPr>
          <a:xfrm>
            <a:off x="5724360" y="3789360"/>
            <a:ext cx="3275280" cy="2852640"/>
          </a:xfrm>
          <a:prstGeom prst="rightArrow">
            <a:avLst>
              <a:gd name="adj1" fmla="val 70213"/>
              <a:gd name="adj2" fmla="val 35619"/>
            </a:avLst>
          </a:prstGeom>
          <a:solidFill>
            <a:srgbClr val="ff6600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Выработка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знаний и умени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действовать в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пасных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жизненных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итуациях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6600"/>
                </a:solidFill>
                <a:latin typeface="Arial Black"/>
              </a:rPr>
              <a:t>Психогигиенические</a:t>
            </a:r>
            <a:br>
              <a:rPr sz="3800"/>
            </a:br>
            <a:r>
              <a:rPr b="0" lang="ru-RU" sz="3800" spc="-1" strike="noStrike">
                <a:solidFill>
                  <a:srgbClr val="ff6600"/>
                </a:solidFill>
                <a:latin typeface="Arial Black"/>
              </a:rPr>
              <a:t>и психопрофилактические </a:t>
            </a:r>
            <a:br>
              <a:rPr sz="3800"/>
            </a:br>
            <a:r>
              <a:rPr b="0" lang="ru-RU" sz="3800" spc="-1" strike="noStrike">
                <a:solidFill>
                  <a:srgbClr val="ff6600"/>
                </a:solidFill>
                <a:latin typeface="Arial Black"/>
              </a:rPr>
              <a:t>средства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5076720" y="2033640"/>
            <a:ext cx="3886200" cy="4824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сихолого-педагогическая коррекци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Коррекционно-развивающие занятия  со специалистами ДОУ (учитель-логопед, педагог-психолог, учитель-дефектолог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екция «Школа мяча»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-обучение ходьбе на лыжах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Кружок«Топтыжка» (профилактика плоскостопия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Rectangle 8"/>
          <p:cNvSpPr/>
          <p:nvPr/>
        </p:nvSpPr>
        <p:spPr>
          <a:xfrm>
            <a:off x="324000" y="2060640"/>
            <a:ext cx="4606920" cy="4797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9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сихолого-педагогические профилактические мероприяти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Утренняя гимнастика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Гимнастика пробуждения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Физкультурные занятия с элементами ЛФК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Физкультурные паузы во время занятий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ыхательная гимнастика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амомассаж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сихогимнастика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сихотренинги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Зарядка для глаз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Комплексы по развитию мелкой моторики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зготовление нестандартного оборудования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Работа с педагогами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684360" y="2349360"/>
          <a:ext cx="6696000" cy="41040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41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Курсы  повышения  квалификации  специалистов ДОУ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3399"/>
                          </a:solidFill>
                          <a:latin typeface="Times New Roman"/>
                          <a:ea typeface="Times New Roman"/>
                        </a:rPr>
                        <a:t>Консультации, семинары, открытые просмотры, мастер-классы, педсоветы, круглые столы, деловые игр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Контрольно-диагностические срезы по выявлению профессиональной компетенции педагог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3399"/>
                          </a:solidFill>
                          <a:latin typeface="Times New Roman"/>
                          <a:ea typeface="Times New Roman"/>
                        </a:rPr>
                        <a:t>Обеспечение методической и дидактической литературой специалист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Работа с родителям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AutoShape 3"/>
          <p:cNvSpPr/>
          <p:nvPr/>
        </p:nvSpPr>
        <p:spPr>
          <a:xfrm>
            <a:off x="0" y="836640"/>
            <a:ext cx="2843280" cy="2376360"/>
          </a:xfrm>
          <a:custGeom>
            <a:avLst/>
            <a:gdLst>
              <a:gd name="textAreaLeft" fmla="*/ 649080 w 2843280"/>
              <a:gd name="textAreaRight" fmla="*/ 2194200 w 2843280"/>
              <a:gd name="textAreaTop" fmla="*/ 542520 h 2376360"/>
              <a:gd name="textAreaBottom" fmla="*/ 183384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Проведение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родительских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собраний,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семинаров-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практикумов,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консультаций</a:t>
            </a: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7" name="AutoShape 4"/>
          <p:cNvSpPr/>
          <p:nvPr/>
        </p:nvSpPr>
        <p:spPr>
          <a:xfrm>
            <a:off x="1835280" y="765000"/>
            <a:ext cx="3887640" cy="2953080"/>
          </a:xfrm>
          <a:custGeom>
            <a:avLst/>
            <a:gdLst>
              <a:gd name="textAreaLeft" fmla="*/ 887400 w 3887640"/>
              <a:gd name="textAreaRight" fmla="*/ 3000240 w 3887640"/>
              <a:gd name="textAreaTop" fmla="*/ 673920 h 2953080"/>
              <a:gd name="textAreaBottom" fmla="*/ 2279160 h 295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66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Педагогические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беседы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с родителями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(индивидуальные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и групповые)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по проблемам</a:t>
            </a: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AutoShape 5"/>
          <p:cNvSpPr/>
          <p:nvPr/>
        </p:nvSpPr>
        <p:spPr>
          <a:xfrm>
            <a:off x="4284720" y="981000"/>
            <a:ext cx="3240000" cy="295272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73920 h 2952720"/>
              <a:gd name="textAreaBottom" fmla="*/ 227880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Дни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открытых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дверей</a:t>
            </a: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AutoShape 6"/>
          <p:cNvSpPr/>
          <p:nvPr/>
        </p:nvSpPr>
        <p:spPr>
          <a:xfrm>
            <a:off x="0" y="1844640"/>
            <a:ext cx="3564000" cy="3024360"/>
          </a:xfrm>
          <a:custGeom>
            <a:avLst/>
            <a:gdLst>
              <a:gd name="textAreaLeft" fmla="*/ 813600 w 3564000"/>
              <a:gd name="textAreaRight" fmla="*/ 2750400 w 3564000"/>
              <a:gd name="textAreaTop" fmla="*/ 690480 h 3024360"/>
              <a:gd name="textAreaBottom" fmla="*/ 233388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Экскурсии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по детскому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саду для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вновь прибывших</a:t>
            </a: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0" name="AutoShape 7"/>
          <p:cNvSpPr/>
          <p:nvPr/>
        </p:nvSpPr>
        <p:spPr>
          <a:xfrm>
            <a:off x="1476360" y="2060640"/>
            <a:ext cx="3240000" cy="280836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оказ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заняти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для родителей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1" name="AutoShape 8"/>
          <p:cNvSpPr/>
          <p:nvPr/>
        </p:nvSpPr>
        <p:spPr>
          <a:xfrm>
            <a:off x="3635280" y="2133720"/>
            <a:ext cx="3313080" cy="3166920"/>
          </a:xfrm>
          <a:custGeom>
            <a:avLst/>
            <a:gdLst>
              <a:gd name="textAreaLeft" fmla="*/ 756360 w 3313080"/>
              <a:gd name="textAreaRight" fmla="*/ 2556720 w 3313080"/>
              <a:gd name="textAreaTop" fmla="*/ 722880 h 3166920"/>
              <a:gd name="textAreaBottom" fmla="*/ 2444040 h 316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Совместны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занят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родителе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с детьм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AutoShape 9"/>
          <p:cNvSpPr/>
          <p:nvPr/>
        </p:nvSpPr>
        <p:spPr>
          <a:xfrm>
            <a:off x="5076720" y="2781360"/>
            <a:ext cx="3529080" cy="2808360"/>
          </a:xfrm>
          <a:custGeom>
            <a:avLst/>
            <a:gdLst>
              <a:gd name="textAreaLeft" fmla="*/ 805680 w 3529080"/>
              <a:gd name="textAreaRight" fmla="*/ 2723400 w 352908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ff99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Круглые столы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 привлечением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пециалистов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детского сад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AutoShape 10"/>
          <p:cNvSpPr/>
          <p:nvPr/>
        </p:nvSpPr>
        <p:spPr>
          <a:xfrm>
            <a:off x="0" y="3789360"/>
            <a:ext cx="3240000" cy="280836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Совместны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мероприят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Дни здоровья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турпоходы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субботник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AutoShape 11"/>
          <p:cNvSpPr/>
          <p:nvPr/>
        </p:nvSpPr>
        <p:spPr>
          <a:xfrm>
            <a:off x="1187280" y="4049640"/>
            <a:ext cx="3240360" cy="2808360"/>
          </a:xfrm>
          <a:custGeom>
            <a:avLst/>
            <a:gdLst>
              <a:gd name="textAreaLeft" fmla="*/ 739800 w 3240360"/>
              <a:gd name="textAreaRight" fmla="*/ 2500560 w 324036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33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Телефон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довер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AutoShape 12"/>
          <p:cNvSpPr/>
          <p:nvPr/>
        </p:nvSpPr>
        <p:spPr>
          <a:xfrm>
            <a:off x="2195640" y="3618000"/>
            <a:ext cx="3456000" cy="3240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739440 h 3240000"/>
              <a:gd name="textAreaBottom" fmla="*/ 25005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Организац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совместных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дел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AutoShape 14"/>
          <p:cNvSpPr/>
          <p:nvPr/>
        </p:nvSpPr>
        <p:spPr>
          <a:xfrm>
            <a:off x="4067280" y="3618000"/>
            <a:ext cx="3456000" cy="3240000"/>
          </a:xfrm>
          <a:custGeom>
            <a:avLst/>
            <a:gdLst>
              <a:gd name="textAreaLeft" fmla="*/ 696600 w 3456000"/>
              <a:gd name="textAreaRight" fmla="*/ 2759400 w 3456000"/>
              <a:gd name="textAreaTop" fmla="*/ 653040 h 3240000"/>
              <a:gd name="textAreaBottom" fmla="*/ 25869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49" y="14215"/>
                </a:lnTo>
                <a:lnTo>
                  <a:pt x="3163" y="18437"/>
                </a:lnTo>
                <a:lnTo>
                  <a:pt x="7238" y="19190"/>
                </a:lnTo>
                <a:lnTo>
                  <a:pt x="10800" y="21600"/>
                </a:lnTo>
                <a:lnTo>
                  <a:pt x="14215" y="19251"/>
                </a:lnTo>
                <a:lnTo>
                  <a:pt x="18437" y="18437"/>
                </a:lnTo>
                <a:lnTo>
                  <a:pt x="19190" y="14362"/>
                </a:lnTo>
                <a:lnTo>
                  <a:pt x="21600" y="10800"/>
                </a:lnTo>
                <a:lnTo>
                  <a:pt x="19251" y="7385"/>
                </a:lnTo>
                <a:lnTo>
                  <a:pt x="18437" y="3163"/>
                </a:lnTo>
                <a:lnTo>
                  <a:pt x="14362" y="2410"/>
                </a:lnTo>
                <a:lnTo>
                  <a:pt x="10800" y="0"/>
                </a:lnTo>
                <a:lnTo>
                  <a:pt x="7385" y="2349"/>
                </a:lnTo>
                <a:lnTo>
                  <a:pt x="3163" y="3163"/>
                </a:lnTo>
                <a:lnTo>
                  <a:pt x="2410" y="7238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Клуб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«Румянные щечки»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3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42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4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52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57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62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6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72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7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8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8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Внешние связ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Rectangle 83"/>
          <p:cNvSpPr/>
          <p:nvPr/>
        </p:nvSpPr>
        <p:spPr>
          <a:xfrm>
            <a:off x="250920" y="1557360"/>
            <a:ext cx="4825800" cy="266364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ff"/>
                </a:solidFill>
                <a:uFillTx/>
                <a:latin typeface="Times New Roman"/>
              </a:rPr>
              <a:t>Спортивно-медицински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Краевой офтальмологический центр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ЦГБ г.Сосновоборска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Спортивный комплекс «Надежда»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Лыжная база «Снежинка»;</a:t>
            </a:r>
            <a:r>
              <a:rPr b="0" lang="ru-RU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Rectangle 84"/>
          <p:cNvSpPr/>
          <p:nvPr/>
        </p:nvSpPr>
        <p:spPr>
          <a:xfrm>
            <a:off x="4859280" y="1125360"/>
            <a:ext cx="4033800" cy="252108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ff"/>
                </a:solidFill>
                <a:uFillTx/>
                <a:latin typeface="Times New Roman"/>
              </a:rPr>
              <a:t>Научно-практические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ККИПК и ППРО г.Красноярск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ГПМПК г.Сосновоборска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МОУ  СОШ № 2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Rectangle 85"/>
          <p:cNvSpPr/>
          <p:nvPr/>
        </p:nvSpPr>
        <p:spPr>
          <a:xfrm>
            <a:off x="1258920" y="3284640"/>
            <a:ext cx="5329080" cy="33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ff"/>
                </a:solidFill>
                <a:uFillTx/>
                <a:latin typeface="Times New Roman"/>
              </a:rPr>
              <a:t>Культурно-воспитательные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Дом детского творчества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ДК «Мечта»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Библиотеки им.Бианки и им.Шукшина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Музейно –выставочный центр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Школа искусств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60"/>
                            </p:stCondLst>
                            <p:childTnLst>
                              <p:par>
                                <p:cTn id="6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0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560"/>
                            </p:stCondLst>
                            <p:childTnLst>
                              <p:par>
                                <p:cTn id="7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4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2560"/>
                            </p:stCondLst>
                            <p:childTnLst>
                              <p:par>
                                <p:cTn id="70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8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УКРЕПЛЕНИЕ </a:t>
            </a:r>
            <a:br>
              <a:rPr sz="4000"/>
            </a:b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МАТЕРИАЛЬНО-</a:t>
            </a:r>
            <a:br>
              <a:rPr sz="4000"/>
            </a:b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ТЕХНИЧЕСКОЙ БАЗЫ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 Black"/>
              </a:rPr>
              <a:t>Спортивный зал с различным оборудованием и инвентарем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99"/>
                </a:solidFill>
                <a:latin typeface="Arial Black"/>
              </a:rPr>
              <a:t>Спортивная площадка для занятий на воздухе оснащена необходимым инвентарём и оборудованием: “ямой” для прыжков в длину, “полосой препятствий” для развития выносливости, гимнастической стенкой и бревном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 Black"/>
              </a:rPr>
              <a:t>Малая спортивная площадка для занятий и игр  с мячом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99"/>
                </a:solidFill>
                <a:latin typeface="Arial Black"/>
              </a:rPr>
              <a:t>Малая спортивная площадка для индивидуальных занятий с детьми по развитию основных движений.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 Black"/>
              </a:rPr>
              <a:t>Имеется картотека для подвижных игр с необходимыми шапочками и другими атрибутами.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99"/>
                </a:solidFill>
                <a:latin typeface="Arial Black"/>
              </a:rPr>
              <a:t>Имеется   картотека для развития основных видов движения, картотека физкультминуток и пальчиковых игр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 Black"/>
              </a:rPr>
              <a:t>В каждой возрастной группе имеются уголки движения (спортивные уголки), где дети занимаются как самостоятельно, так и под наблюдением педагогов.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99"/>
                </a:solidFill>
                <a:latin typeface="Arial Black"/>
              </a:rPr>
              <a:t>В старших  и подготовительных к школе группах имеется спортивный комплекс «Малыш» 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 Black"/>
              </a:rPr>
              <a:t>На территории ДОУ  имеется экологическая тропа с обширной лесной зоной.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99"/>
                </a:solidFill>
                <a:latin typeface="Arial Black"/>
              </a:rPr>
              <a:t>Для индивидуальной коррекционной работы в ДОУ  имеются :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99"/>
                </a:solidFill>
                <a:latin typeface="Arial Black"/>
              </a:rPr>
              <a:t>      </a:t>
            </a:r>
            <a:r>
              <a:rPr b="0" lang="ru-RU" sz="1400" spc="-1" strike="noStrike">
                <a:solidFill>
                  <a:srgbClr val="ff3399"/>
                </a:solidFill>
                <a:latin typeface="Arial Black"/>
              </a:rPr>
              <a:t>кабинет учителя -логопеда, кабинет учителя-  дефектолога, кабинет врача офтальмолога и медсестры ортоптистки, оснащенные лечебно-профилактическим оборудованием: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2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7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7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2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7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2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7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2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7" dur="500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2" dur="500"/>
                                        <p:tgtEl>
                                          <p:spTgt spid="4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Сравнительная характеристика заболеваемости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324000" y="2060640"/>
          <a:ext cx="8208720" cy="3960720"/>
        </p:xfrm>
        <a:graphic>
          <a:graphicData uri="http://schemas.openxmlformats.org/drawingml/2006/table">
            <a:tbl>
              <a:tblPr/>
              <a:tblGrid>
                <a:gridCol w="2093760"/>
                <a:gridCol w="969840"/>
                <a:gridCol w="1121040"/>
                <a:gridCol w="745920"/>
                <a:gridCol w="1122480"/>
                <a:gridCol w="1046160"/>
                <a:gridCol w="110952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20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20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20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Случа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Длительн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Случа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Длительн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Случа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Длительн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Всего зарегистрировано заболева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5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6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5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7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4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6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Дети после 3-х л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4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4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7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3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6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Из них простудн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3399"/>
                          </a:solidFill>
                          <a:latin typeface="Arial Black"/>
                        </a:rPr>
                        <a:t>Грипп, ОРВ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3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7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2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7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2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6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Дети после 3-х л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2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6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2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6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2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 Black"/>
                        </a:rPr>
                        <a:t>6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Цель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116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Black"/>
              </a:rPr>
              <a:t>Создание условий для сохранения и укрепления здоровья детей, формирование у родителей, педагогов, воспитанников ответственности в деле сохранения собственного здоровья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    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Адаптация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539640" y="2133720"/>
          <a:ext cx="7243920" cy="4248000"/>
        </p:xfrm>
        <a:graphic>
          <a:graphicData uri="http://schemas.openxmlformats.org/drawingml/2006/table">
            <a:tbl>
              <a:tblPr/>
              <a:tblGrid>
                <a:gridCol w="1805040"/>
                <a:gridCol w="3019320"/>
                <a:gridCol w="2419560"/>
              </a:tblGrid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99"/>
                          </a:solidFill>
                          <a:latin typeface="Times New Roman"/>
                          <a:ea typeface="Times New Roman"/>
                        </a:rPr>
                        <a:t>УРОВ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99"/>
                          </a:solidFill>
                          <a:latin typeface="Times New Roman"/>
                          <a:ea typeface="Times New Roman"/>
                        </a:rPr>
                        <a:t>ХАРАКТЕР АДАП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99"/>
                          </a:solidFill>
                          <a:latin typeface="Times New Roman"/>
                          <a:ea typeface="Times New Roman"/>
                        </a:rPr>
                        <a:t>КОЛИЧЕСТВО ДЕТ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Легкий - до 2 нед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14 детей – 5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Средний - до 4 нед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9 детей – 3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Тяжелый - до 6 нед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2 ребенка – 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ff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8720">
                      <a:solidFill>
                        <a:srgbClr val="3333ff"/>
                      </a:solidFill>
                    </a:lnT>
                    <a:lnB w="18720">
                      <a:solidFill>
                        <a:srgbClr val="3333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omb dir="horz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0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Снижение уровня заболеваемости детей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Black"/>
              </a:rPr>
              <a:t>Осознание взрослыми и детьми понятия «здоровье» и влияния образа жизни на состояние здоровья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Arial Black"/>
              </a:rPr>
              <a:t>Повышение уровня ориентации к современным условиям жизни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Black"/>
              </a:rPr>
              <a:t>Овладение навыками самовыздоровления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Arial Black"/>
              </a:rPr>
              <a:t>Дальнейшее усовершенствование материально-технической базы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4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9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4" dur="5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9" dur="5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5"/>
          <p:cNvSpPr/>
          <p:nvPr/>
        </p:nvSpPr>
        <p:spPr>
          <a:xfrm>
            <a:off x="395280" y="1055160"/>
            <a:ext cx="6769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  <a:ea typeface="Times New Roman"/>
              </a:rPr>
              <a:t>Здоровое воспитание – здоровое поколение!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  <a:ea typeface="Times New Roman"/>
              </a:rPr>
              <a:t>Растить детей здоровыми сегодня, сейчас,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  <a:ea typeface="Times New Roman"/>
              </a:rPr>
              <a:t>чтобы не оздоравливать их завтра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Задачи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формировать у детей потребность в сохранении своего здоровья («Хочу быть здоровым»);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 Black"/>
              </a:rPr>
              <a:t>формировать у детей представления о здоровье и здоровом образе жизни; о значении гигиенических процедур, закаливания, занятий спортом, утренней гимнастике; о необходимости активного пребывания на свежем воздухе для укрепления здоровья; первоначальные представления об органах человека и их функциях. Воспитывать решимость в этом («буду здоровым»)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знакомить  с правилами безопасного поведения; некоторыми приемами первой помощи в случае травм, о правилах поведения в обществе в случаях заболевания («знаю, как сохранить здоровье»)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 Black"/>
              </a:rPr>
              <a:t>наладить  тесный  контакт с родителями по данному направлению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 Black"/>
              </a:rPr>
              <a:t>создавать  наиболее благоприятные условий для формирования правильного физического развития и укрепления здоровья детей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Основные направлен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AutoShape 18"/>
          <p:cNvSpPr/>
          <p:nvPr/>
        </p:nvSpPr>
        <p:spPr>
          <a:xfrm>
            <a:off x="324000" y="1700280"/>
            <a:ext cx="3095640" cy="2376360"/>
          </a:xfrm>
          <a:prstGeom prst="rightArrow">
            <a:avLst>
              <a:gd name="adj1" fmla="val 50000"/>
              <a:gd name="adj2" fmla="val 32567"/>
            </a:avLst>
          </a:prstGeom>
          <a:solidFill>
            <a:srgbClr val="ff6600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АБОТ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 ДЕТЬМ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AutoShape 20"/>
          <p:cNvSpPr/>
          <p:nvPr/>
        </p:nvSpPr>
        <p:spPr>
          <a:xfrm>
            <a:off x="1835280" y="2637000"/>
            <a:ext cx="3095640" cy="2376360"/>
          </a:xfrm>
          <a:prstGeom prst="rightArrow">
            <a:avLst>
              <a:gd name="adj1" fmla="val 50000"/>
              <a:gd name="adj2" fmla="val 32567"/>
            </a:avLst>
          </a:prstGeom>
          <a:solidFill>
            <a:srgbClr val="ffff99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АБОТА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 ПЕДАГОГАМ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AutoShape 21"/>
          <p:cNvSpPr/>
          <p:nvPr/>
        </p:nvSpPr>
        <p:spPr>
          <a:xfrm>
            <a:off x="3348000" y="3573360"/>
            <a:ext cx="3311640" cy="2376720"/>
          </a:xfrm>
          <a:prstGeom prst="rightArrow">
            <a:avLst>
              <a:gd name="adj1" fmla="val 50000"/>
              <a:gd name="adj2" fmla="val 34834"/>
            </a:avLst>
          </a:prstGeom>
          <a:solidFill>
            <a:srgbClr val="ff9966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РАБОТА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С РОДИТЕЛЯМ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AutoShape 22"/>
          <p:cNvSpPr/>
          <p:nvPr/>
        </p:nvSpPr>
        <p:spPr>
          <a:xfrm>
            <a:off x="5292720" y="4481640"/>
            <a:ext cx="3851280" cy="2376360"/>
          </a:xfrm>
          <a:prstGeom prst="rightArrow">
            <a:avLst>
              <a:gd name="adj1" fmla="val 50000"/>
              <a:gd name="adj2" fmla="val 40517"/>
            </a:avLst>
          </a:prstGeom>
          <a:solidFill>
            <a:srgbClr val="ff99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УКРЕПЛЕН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МАТЕРИАЛЬНО-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ТЕХНИЧЕСКОЙ БАЗЫ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Работа с детьми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AutoShape 4"/>
          <p:cNvSpPr/>
          <p:nvPr/>
        </p:nvSpPr>
        <p:spPr>
          <a:xfrm>
            <a:off x="0" y="1268280"/>
            <a:ext cx="3240000" cy="288000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57360 h 2880000"/>
              <a:gd name="textAreaBottom" fmla="*/ 2222640 h 28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ДИАГНОСТИКА</a:t>
            </a: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AutoShape 7"/>
          <p:cNvSpPr/>
          <p:nvPr/>
        </p:nvSpPr>
        <p:spPr>
          <a:xfrm>
            <a:off x="5651640" y="981000"/>
            <a:ext cx="3240000" cy="295272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73920 h 2952720"/>
              <a:gd name="textAreaBottom" fmla="*/ 227880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ЗАКАЛИВАН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AutoShape 11"/>
          <p:cNvSpPr/>
          <p:nvPr/>
        </p:nvSpPr>
        <p:spPr>
          <a:xfrm>
            <a:off x="2771640" y="1197000"/>
            <a:ext cx="3456000" cy="280836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66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олноценно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итан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AutoShape 12"/>
          <p:cNvSpPr/>
          <p:nvPr/>
        </p:nvSpPr>
        <p:spPr>
          <a:xfrm>
            <a:off x="755640" y="2349360"/>
            <a:ext cx="3240000" cy="280836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Организац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оздоровительных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режимов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AutoShape 13"/>
          <p:cNvSpPr/>
          <p:nvPr/>
        </p:nvSpPr>
        <p:spPr>
          <a:xfrm>
            <a:off x="3348000" y="2133720"/>
            <a:ext cx="3240000" cy="280800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40800 h 2808000"/>
              <a:gd name="textAreaBottom" fmla="*/ 216720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Лечебно-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рофилактическа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абота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AutoShape 14"/>
          <p:cNvSpPr/>
          <p:nvPr/>
        </p:nvSpPr>
        <p:spPr>
          <a:xfrm>
            <a:off x="6084720" y="2060640"/>
            <a:ext cx="3240360" cy="2808360"/>
          </a:xfrm>
          <a:custGeom>
            <a:avLst/>
            <a:gdLst>
              <a:gd name="textAreaLeft" fmla="*/ 739800 w 3240360"/>
              <a:gd name="textAreaRight" fmla="*/ 2500560 w 324036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Организац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двигательной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активност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AutoShape 6"/>
          <p:cNvSpPr/>
          <p:nvPr/>
        </p:nvSpPr>
        <p:spPr>
          <a:xfrm>
            <a:off x="0" y="3860640"/>
            <a:ext cx="3240000" cy="280836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ff99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Формировани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редставлени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 здоровом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бразе жизни</a:t>
            </a: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AutoShape 8"/>
          <p:cNvSpPr/>
          <p:nvPr/>
        </p:nvSpPr>
        <p:spPr>
          <a:xfrm>
            <a:off x="1619280" y="4049640"/>
            <a:ext cx="3240000" cy="280836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АДАПТАЦ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AutoShape 9"/>
          <p:cNvSpPr/>
          <p:nvPr/>
        </p:nvSpPr>
        <p:spPr>
          <a:xfrm>
            <a:off x="3203640" y="4049640"/>
            <a:ext cx="3240000" cy="280836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33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Коррекционна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работа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AutoShape 10"/>
          <p:cNvSpPr/>
          <p:nvPr/>
        </p:nvSpPr>
        <p:spPr>
          <a:xfrm>
            <a:off x="4788000" y="3357720"/>
            <a:ext cx="4356000" cy="3500280"/>
          </a:xfrm>
          <a:custGeom>
            <a:avLst/>
            <a:gdLst>
              <a:gd name="textAreaLeft" fmla="*/ 994320 w 4356000"/>
              <a:gd name="textAreaRight" fmla="*/ 3361680 w 4356000"/>
              <a:gd name="textAreaTop" fmla="*/ 798840 h 3500280"/>
              <a:gd name="textAreaBottom" fmla="*/ 2701440 h 350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Психогигиенически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и психопрофилактическ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средств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Диагностика</a:t>
            </a: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AutoShape 6"/>
          <p:cNvSpPr/>
          <p:nvPr/>
        </p:nvSpPr>
        <p:spPr>
          <a:xfrm>
            <a:off x="250920" y="2565360"/>
            <a:ext cx="3816360" cy="1873440"/>
          </a:xfrm>
          <a:custGeom>
            <a:avLst/>
            <a:gdLst>
              <a:gd name="textAreaLeft" fmla="*/ 477000 w 3816360"/>
              <a:gd name="textAreaRight" fmla="*/ 3339360 w 3816360"/>
              <a:gd name="textAreaTop" fmla="*/ 468360 h 1873440"/>
              <a:gd name="textAreaBottom" fmla="*/ 1405080 h 187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ff"/>
          </a:solidFill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ФТАЛЬМОЛОГ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Oval 10"/>
          <p:cNvSpPr/>
          <p:nvPr/>
        </p:nvSpPr>
        <p:spPr>
          <a:xfrm>
            <a:off x="3995640" y="2205000"/>
            <a:ext cx="3095640" cy="2808360"/>
          </a:xfrm>
          <a:prstGeom prst="ellipse">
            <a:avLst/>
          </a:prstGeom>
          <a:solidFill>
            <a:srgbClr val="ff99ff"/>
          </a:solidFill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строта зрения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Нарушен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зрительных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функций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50920" y="2565360"/>
            <a:ext cx="3816360" cy="1800360"/>
          </a:xfrm>
          <a:custGeom>
            <a:avLst/>
            <a:gdLst>
              <a:gd name="textAreaLeft" fmla="*/ 477000 w 3816360"/>
              <a:gd name="textAreaRight" fmla="*/ 3339360 w 3816360"/>
              <a:gd name="textAreaTop" fmla="*/ 450000 h 1800360"/>
              <a:gd name="textAreaBottom" fmla="*/ 13503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СИХОЛОГ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Oval 13"/>
          <p:cNvSpPr/>
          <p:nvPr/>
        </p:nvSpPr>
        <p:spPr>
          <a:xfrm>
            <a:off x="3924360" y="2133720"/>
            <a:ext cx="3600360" cy="295092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Индивидуальны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собенност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азвит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сихических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роцессов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AutoShape 14"/>
          <p:cNvSpPr/>
          <p:nvPr/>
        </p:nvSpPr>
        <p:spPr>
          <a:xfrm>
            <a:off x="250920" y="2421000"/>
            <a:ext cx="3673440" cy="2016000"/>
          </a:xfrm>
          <a:custGeom>
            <a:avLst/>
            <a:gdLst>
              <a:gd name="textAreaLeft" fmla="*/ 367560 w 3673440"/>
              <a:gd name="textAreaRight" fmla="*/ 3305880 w 3673440"/>
              <a:gd name="textAreaTop" fmla="*/ 504720 h 2016000"/>
              <a:gd name="textAreaBottom" fmla="*/ 151128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5409"/>
                </a:moveTo>
                <a:lnTo>
                  <a:pt x="17269" y="5409"/>
                </a:lnTo>
                <a:lnTo>
                  <a:pt x="17269" y="0"/>
                </a:lnTo>
                <a:lnTo>
                  <a:pt x="21600" y="10800"/>
                </a:lnTo>
                <a:lnTo>
                  <a:pt x="17269" y="21600"/>
                </a:lnTo>
                <a:lnTo>
                  <a:pt x="17269" y="16191"/>
                </a:lnTo>
                <a:lnTo>
                  <a:pt x="0" y="16191"/>
                </a:lnTo>
                <a:lnTo>
                  <a:pt x="2162" y="10800"/>
                </a:lnTo>
                <a:lnTo>
                  <a:pt x="0" y="5409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ИНСТРУКТОР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О ФИЗКУЛЬТУР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Oval 15"/>
          <p:cNvSpPr/>
          <p:nvPr/>
        </p:nvSpPr>
        <p:spPr>
          <a:xfrm>
            <a:off x="3851280" y="1844640"/>
            <a:ext cx="4105440" cy="3600360"/>
          </a:xfrm>
          <a:prstGeom prst="ellipse">
            <a:avLst/>
          </a:prstGeom>
          <a:solidFill>
            <a:srgbClr val="ff6600"/>
          </a:solidFill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азвит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крупномоторных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и мелкомоторных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навыков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Уровень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двигательно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активности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Тестирован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о физ. подготовке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AutoShape 16"/>
          <p:cNvSpPr/>
          <p:nvPr/>
        </p:nvSpPr>
        <p:spPr>
          <a:xfrm>
            <a:off x="250920" y="2421000"/>
            <a:ext cx="3671640" cy="2087640"/>
          </a:xfrm>
          <a:custGeom>
            <a:avLst/>
            <a:gdLst>
              <a:gd name="textAreaLeft" fmla="*/ 387000 w 3671640"/>
              <a:gd name="textAreaRight" fmla="*/ 3284640 w 3671640"/>
              <a:gd name="textAreaTop" fmla="*/ 447480 h 2087640"/>
              <a:gd name="textAreaBottom" fmla="*/ 164016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4632"/>
                </a:moveTo>
                <a:lnTo>
                  <a:pt x="17612" y="4632"/>
                </a:lnTo>
                <a:lnTo>
                  <a:pt x="17612" y="0"/>
                </a:lnTo>
                <a:lnTo>
                  <a:pt x="21600" y="10800"/>
                </a:lnTo>
                <a:lnTo>
                  <a:pt x="17612" y="21600"/>
                </a:lnTo>
                <a:lnTo>
                  <a:pt x="17612" y="16968"/>
                </a:lnTo>
                <a:lnTo>
                  <a:pt x="0" y="16968"/>
                </a:lnTo>
                <a:lnTo>
                  <a:pt x="2278" y="10800"/>
                </a:lnTo>
                <a:lnTo>
                  <a:pt x="0" y="4632"/>
                </a:lnTo>
                <a:close/>
              </a:path>
            </a:pathLst>
          </a:custGeom>
          <a:solidFill>
            <a:srgbClr val="ff3399"/>
          </a:solidFill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МУЗЫКАЛЬНЫ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УКОВОДИТЕЛЬ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Oval 17"/>
          <p:cNvSpPr/>
          <p:nvPr/>
        </p:nvSpPr>
        <p:spPr>
          <a:xfrm>
            <a:off x="3924360" y="1989000"/>
            <a:ext cx="3960720" cy="3384720"/>
          </a:xfrm>
          <a:prstGeom prst="ellipse">
            <a:avLst/>
          </a:prstGeom>
          <a:solidFill>
            <a:srgbClr val="ff3399"/>
          </a:solidFill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Уровень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музыкального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азвити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AutoShape 18"/>
          <p:cNvSpPr/>
          <p:nvPr/>
        </p:nvSpPr>
        <p:spPr>
          <a:xfrm>
            <a:off x="0" y="2349360"/>
            <a:ext cx="3924360" cy="2233800"/>
          </a:xfrm>
          <a:custGeom>
            <a:avLst/>
            <a:gdLst>
              <a:gd name="textAreaLeft" fmla="*/ 387360 w 3924360"/>
              <a:gd name="textAreaRight" fmla="*/ 3537000 w 3924360"/>
              <a:gd name="textAreaTop" fmla="*/ 527040 h 2233800"/>
              <a:gd name="textAreaBottom" fmla="*/ 1706760 h 2233800"/>
            </a:gdLst>
            <a:ahLst/>
            <a:rect l="textAreaLeft" t="textAreaTop" r="textAreaRight" b="textAreaBottom"/>
            <a:pathLst>
              <a:path w="21600" h="21600">
                <a:moveTo>
                  <a:pt x="0" y="5097"/>
                </a:moveTo>
                <a:lnTo>
                  <a:pt x="17562" y="5097"/>
                </a:lnTo>
                <a:lnTo>
                  <a:pt x="17562" y="0"/>
                </a:lnTo>
                <a:lnTo>
                  <a:pt x="21600" y="10800"/>
                </a:lnTo>
                <a:lnTo>
                  <a:pt x="17562" y="21600"/>
                </a:lnTo>
                <a:lnTo>
                  <a:pt x="17562" y="16503"/>
                </a:lnTo>
                <a:lnTo>
                  <a:pt x="0" y="16503"/>
                </a:lnTo>
                <a:lnTo>
                  <a:pt x="2132" y="10800"/>
                </a:lnTo>
                <a:lnTo>
                  <a:pt x="0" y="5097"/>
                </a:lnTo>
                <a:close/>
              </a:path>
            </a:pathLst>
          </a:custGeom>
          <a:solidFill>
            <a:srgbClr val="ffff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едагоги  ДОУ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Oval 19"/>
          <p:cNvSpPr/>
          <p:nvPr/>
        </p:nvSpPr>
        <p:spPr>
          <a:xfrm>
            <a:off x="3924360" y="1773360"/>
            <a:ext cx="3960720" cy="36734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азвити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мускулатуры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кисти рук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глазомера 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енсорного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восприяти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AutoShape 20"/>
          <p:cNvSpPr/>
          <p:nvPr/>
        </p:nvSpPr>
        <p:spPr>
          <a:xfrm rot="16200000">
            <a:off x="4049640" y="1071000"/>
            <a:ext cx="1189080" cy="8640720"/>
          </a:xfrm>
          <a:custGeom>
            <a:avLst/>
            <a:gdLst>
              <a:gd name="textAreaLeft" fmla="*/ 759600 w 1189080"/>
              <a:gd name="textAreaRight" fmla="*/ 1189440 w 1189080"/>
              <a:gd name="textAreaTop" fmla="*/ 224640 h 8640720"/>
              <a:gd name="textAreaBottom" fmla="*/ 8416080 h 864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8962"/>
                </a:lnTo>
                <a:cubicBezTo>
                  <a:pt x="10800" y="9860"/>
                  <a:pt x="5400" y="10758"/>
                  <a:pt x="0" y="10758"/>
                </a:cubicBezTo>
                <a:cubicBezTo>
                  <a:pt x="5400" y="10758"/>
                  <a:pt x="10800" y="11656"/>
                  <a:pt x="10800" y="12554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4" name="Text Box 21"/>
          <p:cNvSpPr/>
          <p:nvPr/>
        </p:nvSpPr>
        <p:spPr>
          <a:xfrm>
            <a:off x="826200" y="6156360"/>
            <a:ext cx="737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Arial Black"/>
              </a:rPr>
              <a:t>ПРОВЕДЕНИЕ  ПИХОЛОГО-МЕДИКО –ПЕДАГОГИЧЕСКОГО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Arial Black"/>
              </a:rPr>
              <a:t>КОНСИЛИУМ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6600"/>
                </a:solidFill>
                <a:latin typeface="Arial Black"/>
              </a:rPr>
              <a:t>Организация </a:t>
            </a:r>
            <a:br>
              <a:rPr sz="3900"/>
            </a:br>
            <a:r>
              <a:rPr b="0" lang="ru-RU" sz="3900" spc="-1" strike="noStrike">
                <a:solidFill>
                  <a:srgbClr val="ff6600"/>
                </a:solidFill>
                <a:latin typeface="Arial Black"/>
              </a:rPr>
              <a:t>оздоровительных режимов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 Black"/>
              </a:rPr>
              <a:t>Достаточная ежедневная длительность пребывания детей на воздухе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Arial Black"/>
              </a:rPr>
              <a:t>Чередование умственных и физических нагрузок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 Black"/>
              </a:rPr>
              <a:t>Регулярное питание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Arial Black"/>
              </a:rPr>
              <a:t>Режим с учетом холодного и теплого периода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 Black"/>
              </a:rPr>
              <a:t>Преобладание положительных эмоциональных впечатлений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Arial Black"/>
              </a:rPr>
              <a:t>Достаточный по продолжительности сон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 Black"/>
              </a:rPr>
              <a:t>Учёт индивидуальных особенностей развития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Полноценное </a:t>
            </a:r>
            <a:br>
              <a:rPr sz="4000"/>
            </a:b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питание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88" name="Diagram 5"/>
          <p:cNvGrpSpPr/>
          <p:nvPr/>
        </p:nvGrpSpPr>
        <p:grpSpPr>
          <a:xfrm>
            <a:off x="1374840" y="2020680"/>
            <a:ext cx="6108840" cy="3794040"/>
            <a:chOff x="1374840" y="2020680"/>
            <a:chExt cx="6108840" cy="3794040"/>
          </a:xfrm>
        </p:grpSpPr>
        <p:sp>
          <p:nvSpPr>
            <p:cNvPr id="389" name="_s1028"/>
            <p:cNvSpPr/>
            <p:nvPr/>
          </p:nvSpPr>
          <p:spPr>
            <a:xfrm>
              <a:off x="3656160" y="2560320"/>
              <a:ext cx="1542960" cy="154296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0" name="_s1029"/>
            <p:cNvSpPr/>
            <p:nvPr/>
          </p:nvSpPr>
          <p:spPr>
            <a:xfrm>
              <a:off x="3656160" y="2020680"/>
              <a:ext cx="1542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          </a:t>
              </a: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Картотека блюд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1" name="_s1030"/>
            <p:cNvSpPr/>
            <p:nvPr/>
          </p:nvSpPr>
          <p:spPr>
            <a:xfrm>
              <a:off x="3949560" y="2638080"/>
              <a:ext cx="1543320" cy="1542960"/>
            </a:xfrm>
            <a:prstGeom prst="ellipse">
              <a:avLst/>
            </a:prstGeom>
            <a:solidFill>
              <a:srgbClr val="ff9966">
                <a:alpha val="50000"/>
              </a:srgbClr>
            </a:solidFill>
            <a:ln w="57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2" name="_s1031"/>
            <p:cNvSpPr/>
            <p:nvPr/>
          </p:nvSpPr>
          <p:spPr>
            <a:xfrm>
              <a:off x="5183280" y="2222280"/>
              <a:ext cx="1542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   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               </a:t>
              </a:r>
              <a:r>
                <a:rPr b="0" lang="en-US" sz="1800" spc="-1" strike="noStrike">
                  <a:solidFill>
                    <a:srgbClr val="ff3399"/>
                  </a:solidFill>
                  <a:latin typeface="Arial Black"/>
                </a:rPr>
                <a:t>Меню на 10 дней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3" name="_s1032"/>
            <p:cNvSpPr/>
            <p:nvPr/>
          </p:nvSpPr>
          <p:spPr>
            <a:xfrm>
              <a:off x="4164120" y="2852640"/>
              <a:ext cx="1542960" cy="1542960"/>
            </a:xfrm>
            <a:prstGeom prst="ellipse">
              <a:avLst/>
            </a:prstGeom>
            <a:solidFill>
              <a:srgbClr val="ff3399">
                <a:alpha val="50000"/>
              </a:srgbClr>
            </a:solidFill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4" name="_s1033"/>
            <p:cNvSpPr/>
            <p:nvPr/>
          </p:nvSpPr>
          <p:spPr>
            <a:xfrm>
              <a:off x="5737320" y="2774520"/>
              <a:ext cx="15429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   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  </a:t>
              </a: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Натуральные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 </a:t>
              </a: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соки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5" name="_s1034"/>
            <p:cNvSpPr/>
            <p:nvPr/>
          </p:nvSpPr>
          <p:spPr>
            <a:xfrm>
              <a:off x="4243320" y="3144600"/>
              <a:ext cx="1543320" cy="154296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572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6" name="_s1035"/>
            <p:cNvSpPr/>
            <p:nvPr/>
          </p:nvSpPr>
          <p:spPr>
            <a:xfrm>
              <a:off x="5940360" y="3723840"/>
              <a:ext cx="15433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 Black"/>
                </a:rPr>
                <a:t>Фрукты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7" name="_s1036"/>
            <p:cNvSpPr/>
            <p:nvPr/>
          </p:nvSpPr>
          <p:spPr>
            <a:xfrm>
              <a:off x="4165560" y="3438360"/>
              <a:ext cx="1542960" cy="1542960"/>
            </a:xfrm>
            <a:prstGeom prst="ellipse">
              <a:avLst/>
            </a:prstGeom>
            <a:solidFill>
              <a:srgbClr val="ff99ff">
                <a:alpha val="50000"/>
              </a:srgbClr>
            </a:solidFill>
            <a:ln w="572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8" name="_s1037"/>
            <p:cNvSpPr/>
            <p:nvPr/>
          </p:nvSpPr>
          <p:spPr>
            <a:xfrm>
              <a:off x="5738760" y="4671720"/>
              <a:ext cx="15433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      </a:t>
              </a: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Овощи и зелень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9" name="_s1038"/>
            <p:cNvSpPr/>
            <p:nvPr/>
          </p:nvSpPr>
          <p:spPr>
            <a:xfrm>
              <a:off x="3951360" y="3652560"/>
              <a:ext cx="1542960" cy="154296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0" name="_s1039"/>
            <p:cNvSpPr/>
            <p:nvPr/>
          </p:nvSpPr>
          <p:spPr>
            <a:xfrm>
              <a:off x="5186520" y="5225760"/>
              <a:ext cx="15429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 Black"/>
                </a:rPr>
                <a:t>Кисломолочные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3399"/>
                  </a:solidFill>
                  <a:latin typeface="Arial Black"/>
                </a:rPr>
                <a:t>продукты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1" name="_s1040"/>
            <p:cNvSpPr/>
            <p:nvPr/>
          </p:nvSpPr>
          <p:spPr>
            <a:xfrm>
              <a:off x="3659400" y="3731760"/>
              <a:ext cx="1542960" cy="1543320"/>
            </a:xfrm>
            <a:prstGeom prst="ellipse">
              <a:avLst/>
            </a:prstGeom>
            <a:solidFill>
              <a:srgbClr val="ff9966">
                <a:alpha val="50000"/>
              </a:srgbClr>
            </a:solidFill>
            <a:ln w="57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2" name="_s1041"/>
            <p:cNvSpPr/>
            <p:nvPr/>
          </p:nvSpPr>
          <p:spPr>
            <a:xfrm>
              <a:off x="3659400" y="5428800"/>
              <a:ext cx="15429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С-витаминизация    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3" name="_s1042"/>
            <p:cNvSpPr/>
            <p:nvPr/>
          </p:nvSpPr>
          <p:spPr>
            <a:xfrm>
              <a:off x="3365640" y="3654000"/>
              <a:ext cx="1542960" cy="1543320"/>
            </a:xfrm>
            <a:prstGeom prst="ellipse">
              <a:avLst/>
            </a:prstGeom>
            <a:solidFill>
              <a:srgbClr val="ff3399">
                <a:alpha val="50000"/>
              </a:srgbClr>
            </a:solidFill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4" name="_s1043"/>
            <p:cNvSpPr/>
            <p:nvPr/>
          </p:nvSpPr>
          <p:spPr>
            <a:xfrm>
              <a:off x="2131920" y="5227200"/>
              <a:ext cx="15433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 Black"/>
                </a:rPr>
                <a:t>Йодированный 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 Black"/>
                </a:rPr>
                <a:t>хлеб, соль</a:t>
              </a: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5" name="_s1044"/>
            <p:cNvSpPr/>
            <p:nvPr/>
          </p:nvSpPr>
          <p:spPr>
            <a:xfrm>
              <a:off x="3151080" y="3439800"/>
              <a:ext cx="1543320" cy="154296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572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6" name="_s1045"/>
            <p:cNvSpPr/>
            <p:nvPr/>
          </p:nvSpPr>
          <p:spPr>
            <a:xfrm>
              <a:off x="1577880" y="4674960"/>
              <a:ext cx="15433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Выполнение 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режима питания</a:t>
              </a: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7" name="_s1046"/>
            <p:cNvSpPr/>
            <p:nvPr/>
          </p:nvSpPr>
          <p:spPr>
            <a:xfrm>
              <a:off x="3071880" y="3147840"/>
              <a:ext cx="1542960" cy="1542960"/>
            </a:xfrm>
            <a:prstGeom prst="ellipse">
              <a:avLst/>
            </a:prstGeom>
            <a:solidFill>
              <a:srgbClr val="ff99ff">
                <a:alpha val="50000"/>
              </a:srgbClr>
            </a:solidFill>
            <a:ln w="572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8" name="_s1047"/>
            <p:cNvSpPr/>
            <p:nvPr/>
          </p:nvSpPr>
          <p:spPr>
            <a:xfrm>
              <a:off x="1374840" y="3727080"/>
              <a:ext cx="15429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 Black"/>
                </a:rPr>
                <a:t>Гигиена 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 Black"/>
                </a:rPr>
                <a:t>приёма пищи</a:t>
              </a: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9" name="_s1048"/>
            <p:cNvSpPr/>
            <p:nvPr/>
          </p:nvSpPr>
          <p:spPr>
            <a:xfrm>
              <a:off x="3149640" y="2855520"/>
              <a:ext cx="1542960" cy="154332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0" name="_s1049"/>
            <p:cNvSpPr/>
            <p:nvPr/>
          </p:nvSpPr>
          <p:spPr>
            <a:xfrm>
              <a:off x="1576440" y="2777760"/>
              <a:ext cx="15429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            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Соблюдение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норм потребления 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 Black"/>
                </a:rPr>
                <a:t>продуктов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1" name="_s1050"/>
            <p:cNvSpPr/>
            <p:nvPr/>
          </p:nvSpPr>
          <p:spPr>
            <a:xfrm>
              <a:off x="3362400" y="2641320"/>
              <a:ext cx="1542960" cy="1542960"/>
            </a:xfrm>
            <a:prstGeom prst="ellipse">
              <a:avLst/>
            </a:prstGeom>
            <a:solidFill>
              <a:srgbClr val="ff9966">
                <a:alpha val="50000"/>
              </a:srgbClr>
            </a:solidFill>
            <a:ln w="57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2" name="_s1051"/>
            <p:cNvSpPr/>
            <p:nvPr/>
          </p:nvSpPr>
          <p:spPr>
            <a:xfrm>
              <a:off x="2129040" y="2223720"/>
              <a:ext cx="15429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 Black"/>
                </a:rPr>
                <a:t>Сервировка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ransition>
    <p:comb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4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840"/>
                            </p:stCondLst>
                            <p:childTnLst>
                              <p:par>
                                <p:cTn id="2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840"/>
                            </p:stCondLst>
                            <p:childTnLst>
                              <p:par>
                                <p:cTn id="2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840"/>
                            </p:stCondLst>
                            <p:childTnLst>
                              <p:par>
                                <p:cTn id="2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840"/>
                            </p:stCondLst>
                            <p:childTnLst>
                              <p:par>
                                <p:cTn id="2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840"/>
                            </p:stCondLst>
                            <p:childTnLst>
                              <p:par>
                                <p:cTn id="2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840"/>
                            </p:stCondLst>
                            <p:childTnLst>
                              <p:par>
                                <p:cTn id="2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840"/>
                            </p:stCondLst>
                            <p:childTnLst>
                              <p:par>
                                <p:cTn id="2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8840"/>
                            </p:stCondLst>
                            <p:childTnLst>
                              <p:par>
                                <p:cTn id="3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984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84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184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ЗАКАЛИВАНИЕ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0" y="836640"/>
            <a:ext cx="2843280" cy="2376360"/>
          </a:xfrm>
          <a:custGeom>
            <a:avLst/>
            <a:gdLst>
              <a:gd name="textAreaLeft" fmla="*/ 649080 w 2843280"/>
              <a:gd name="textAreaRight" fmla="*/ 2194200 w 2843280"/>
              <a:gd name="textAreaTop" fmla="*/ 542520 h 2376360"/>
              <a:gd name="textAreaBottom" fmla="*/ 183384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Облегченна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одежда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в группах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AutoShape 5"/>
          <p:cNvSpPr/>
          <p:nvPr/>
        </p:nvSpPr>
        <p:spPr>
          <a:xfrm>
            <a:off x="1835280" y="765000"/>
            <a:ext cx="3887640" cy="2953080"/>
          </a:xfrm>
          <a:custGeom>
            <a:avLst/>
            <a:gdLst>
              <a:gd name="textAreaLeft" fmla="*/ 887400 w 3887640"/>
              <a:gd name="textAreaRight" fmla="*/ 3000240 w 3887640"/>
              <a:gd name="textAreaTop" fmla="*/ 673920 h 2953080"/>
              <a:gd name="textAreaBottom" fmla="*/ 2279160 h 295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66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езонная одежд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на прогулке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учитыва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индивидуальны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состояние здоровь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AutoShape 4"/>
          <p:cNvSpPr/>
          <p:nvPr/>
        </p:nvSpPr>
        <p:spPr>
          <a:xfrm>
            <a:off x="4284720" y="1125360"/>
            <a:ext cx="3240000" cy="295308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73920 h 2953080"/>
              <a:gd name="textAreaBottom" fmla="*/ 2279160 h 295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Температурны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режим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7" name="AutoShape 7"/>
          <p:cNvSpPr/>
          <p:nvPr/>
        </p:nvSpPr>
        <p:spPr>
          <a:xfrm>
            <a:off x="324000" y="2060640"/>
            <a:ext cx="3240000" cy="280836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Дыхательна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Гимнастик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осле сн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AutoShape 8"/>
          <p:cNvSpPr/>
          <p:nvPr/>
        </p:nvSpPr>
        <p:spPr>
          <a:xfrm>
            <a:off x="3635280" y="2133720"/>
            <a:ext cx="3313080" cy="3166920"/>
          </a:xfrm>
          <a:custGeom>
            <a:avLst/>
            <a:gdLst>
              <a:gd name="textAreaLeft" fmla="*/ 756360 w 3313080"/>
              <a:gd name="textAreaRight" fmla="*/ 2556720 w 3313080"/>
              <a:gd name="textAreaTop" fmla="*/ 722880 h 3166920"/>
              <a:gd name="textAreaBottom" fmla="*/ 2444040 h 316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Мыть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прохладной водой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рук по локоть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шеи, верхне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части груд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5219640" y="2781360"/>
            <a:ext cx="3240000" cy="280836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ff99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равильна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организаци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прогулки  и её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 Black"/>
              </a:rPr>
              <a:t>длительность</a:t>
            </a: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0" y="3789360"/>
            <a:ext cx="3240000" cy="2808360"/>
          </a:xfrm>
          <a:custGeom>
            <a:avLst/>
            <a:gdLst>
              <a:gd name="textAreaLeft" fmla="*/ 739440 w 3240000"/>
              <a:gd name="textAreaRight" fmla="*/ 2500560 w 324000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Полоскание рт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AutoShape 11"/>
          <p:cNvSpPr/>
          <p:nvPr/>
        </p:nvSpPr>
        <p:spPr>
          <a:xfrm>
            <a:off x="1187280" y="4049640"/>
            <a:ext cx="3240360" cy="2808360"/>
          </a:xfrm>
          <a:custGeom>
            <a:avLst/>
            <a:gdLst>
              <a:gd name="textAreaLeft" fmla="*/ 739800 w 3240360"/>
              <a:gd name="textAreaRight" fmla="*/ 2500560 w 3240360"/>
              <a:gd name="textAreaTop" fmla="*/ 641160 h 2808360"/>
              <a:gd name="textAreaBottom" fmla="*/ 21672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33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Метод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«Босоножки»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AutoShape 12"/>
          <p:cNvSpPr/>
          <p:nvPr/>
        </p:nvSpPr>
        <p:spPr>
          <a:xfrm>
            <a:off x="2484360" y="3213000"/>
            <a:ext cx="3456000" cy="324036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739800 h 3240360"/>
              <a:gd name="textAreaBottom" fmla="*/ 250056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Ходьба по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солевой дорожк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AutoShape 13"/>
          <p:cNvSpPr/>
          <p:nvPr/>
        </p:nvSpPr>
        <p:spPr>
          <a:xfrm>
            <a:off x="4606920" y="3618000"/>
            <a:ext cx="4537080" cy="3240000"/>
          </a:xfrm>
          <a:custGeom>
            <a:avLst/>
            <a:gdLst>
              <a:gd name="textAreaLeft" fmla="*/ 914760 w 4537080"/>
              <a:gd name="textAreaRight" fmla="*/ 3622320 w 4537080"/>
              <a:gd name="textAreaTop" fmla="*/ 653040 h 3240000"/>
              <a:gd name="textAreaBottom" fmla="*/ 25869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49" y="14215"/>
                </a:lnTo>
                <a:lnTo>
                  <a:pt x="3163" y="18437"/>
                </a:lnTo>
                <a:lnTo>
                  <a:pt x="7238" y="19190"/>
                </a:lnTo>
                <a:lnTo>
                  <a:pt x="10800" y="21600"/>
                </a:lnTo>
                <a:lnTo>
                  <a:pt x="14215" y="19251"/>
                </a:lnTo>
                <a:lnTo>
                  <a:pt x="18437" y="18437"/>
                </a:lnTo>
                <a:lnTo>
                  <a:pt x="19190" y="14362"/>
                </a:lnTo>
                <a:lnTo>
                  <a:pt x="21600" y="10800"/>
                </a:lnTo>
                <a:lnTo>
                  <a:pt x="19251" y="7385"/>
                </a:lnTo>
                <a:lnTo>
                  <a:pt x="18437" y="3163"/>
                </a:lnTo>
                <a:lnTo>
                  <a:pt x="14362" y="2410"/>
                </a:lnTo>
                <a:lnTo>
                  <a:pt x="10800" y="0"/>
                </a:lnTo>
                <a:lnTo>
                  <a:pt x="7385" y="2349"/>
                </a:lnTo>
                <a:lnTo>
                  <a:pt x="3163" y="3163"/>
                </a:lnTo>
                <a:lnTo>
                  <a:pt x="2410" y="7238"/>
                </a:lnTo>
                <a:lnTo>
                  <a:pt x="0" y="10800"/>
                </a:lnTo>
                <a:close/>
              </a:path>
            </a:pathLst>
          </a:custGeom>
          <a:solidFill>
            <a:srgbClr val="ff99ff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Хождение дете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босиком по ткани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смоченной водо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комнатной температуры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и уложенно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 Black"/>
              </a:rPr>
              <a:t>на массажные коврик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4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4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3:46:24Z</dcterms:created>
  <dc:creator>ZALIVKA</dc:creator>
  <dc:description/>
  <dc:language>en-US</dc:language>
  <cp:lastModifiedBy>1</cp:lastModifiedBy>
  <dcterms:modified xsi:type="dcterms:W3CDTF">2020-09-03T05:48:50Z</dcterms:modified>
  <cp:revision>20</cp:revision>
  <dc:subject/>
  <dc:title>ЗДОРОВЫЙ МАЛЫШ (Программа оздоровления детей в ДОУ)</dc:title>
</cp:coreProperties>
</file>