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B6E-2D2A-461B-851A-8E4FD07D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66B-0CD0-4719-A054-44BB9055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4FC-C4CD-4091-9F89-E6EA0BE2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F07-ED11-438D-885F-A9758F17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41AD-308E-43C7-9191-528EEE04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8C1-FA77-4D5F-A975-C6CFA63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6E2-50A2-4C8E-9558-EA9053B1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F030-5497-4A1D-B80E-64411AFC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D7E8-78CF-49FB-992B-834986F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1CE8-CDB9-479C-8EF0-78F118B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DC95-C5C1-42A9-8476-D2D9E266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CCC-5698-479A-9F0A-F9E8D5F5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BD8-4DF1-4E06-80DF-E0F4D26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CCA7-04D5-4DFB-8801-80CD1903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66B1-6A5A-49DB-A869-537315DD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1FED-C237-4A8E-9D02-9750A78B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3FD1-F2A7-496F-9B1A-D3FAFBC7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FB4-C2A0-4E78-B57B-415C2848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8D8-4CBD-415F-9F94-15448F0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1EF-8B88-4A02-9FB9-731857D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0EA-E479-475E-B187-EE47CD40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854-32E4-4D52-80A6-A18C79C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870-17D8-42FF-9250-0BC1AA0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542-BD40-4389-BD53-297141B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290-F84C-401C-91A8-59A811F1081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B28-58BC-4A22-B0CE-795D738EE74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632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«Растем здоровыми»</a:t>
            </a: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ff6600"/>
                </a:solidFill>
                <a:latin typeface="Arial Black"/>
              </a:rPr>
              <a:t>(система физкультурно-оздоровительной работы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МДОУ ДСКН №4</a:t>
            </a:r>
            <a:br>
              <a:rPr sz="2800"/>
            </a:b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г. Сосновоборск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Лечебно-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профилактическая 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рабо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179280" y="3643200"/>
            <a:ext cx="3024360" cy="2232000"/>
          </a:xfrm>
          <a:prstGeom prst="rightArrowCallout">
            <a:avLst>
              <a:gd name="adj1" fmla="val 24326"/>
              <a:gd name="adj2" fmla="val 39949"/>
              <a:gd name="adj3" fmla="val 12734"/>
              <a:gd name="adj4" fmla="val 83991"/>
            </a:avLst>
          </a:prstGeom>
          <a:solidFill>
            <a:srgbClr val="ffff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 Black"/>
              </a:rPr>
              <a:t>I 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одготовительный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(сентябрь, октябрь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3203640" y="3716280"/>
            <a:ext cx="2736720" cy="2158920"/>
          </a:xfrm>
          <a:prstGeom prst="rightArrowCallout">
            <a:avLst>
              <a:gd name="adj1" fmla="val 29734"/>
              <a:gd name="adj2" fmla="val 39949"/>
              <a:gd name="adj3" fmla="val 14777"/>
              <a:gd name="adj4" fmla="val 82162"/>
            </a:avLst>
          </a:prstGeom>
          <a:solidFill>
            <a:srgbClr val="ff99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 Black"/>
              </a:rPr>
              <a:t>II 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Интенсивной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рофилактик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5940360" y="3716280"/>
            <a:ext cx="3203640" cy="2232000"/>
          </a:xfrm>
          <a:prstGeom prst="rightArrowCallout">
            <a:avLst>
              <a:gd name="adj1" fmla="val 25836"/>
              <a:gd name="adj2" fmla="val 39949"/>
              <a:gd name="adj3" fmla="val 17569"/>
              <a:gd name="adj4" fmla="val 84069"/>
            </a:avLst>
          </a:prstGeom>
          <a:solidFill>
            <a:srgbClr val="ff9900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 Black"/>
              </a:rPr>
              <a:t>III 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Реабилитационный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(март, апрель, май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Физкультурно-оздоровительная рабо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250920" y="1700280"/>
            <a:ext cx="3456000" cy="31687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ополнитель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ециализированног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оздейств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2411280" y="1773360"/>
            <a:ext cx="3456000" cy="3168360"/>
          </a:xfrm>
          <a:prstGeom prst="ellipse">
            <a:avLst/>
          </a:prstGeom>
          <a:solidFill>
            <a:srgbClr val="ff33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я босиком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1619280" y="3284640"/>
            <a:ext cx="3456000" cy="316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Хожд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лыжа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250920" y="2997360"/>
            <a:ext cx="3456000" cy="316836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трення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рядк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бегом н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ынослив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Oval 8"/>
          <p:cNvSpPr/>
          <p:nvPr/>
        </p:nvSpPr>
        <p:spPr>
          <a:xfrm>
            <a:off x="4140360" y="1916280"/>
            <a:ext cx="3456000" cy="316836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движные игр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упражн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улиц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Oval 11"/>
          <p:cNvSpPr/>
          <p:nvPr/>
        </p:nvSpPr>
        <p:spPr>
          <a:xfrm>
            <a:off x="3635280" y="2781360"/>
            <a:ext cx="3456000" cy="3168720"/>
          </a:xfrm>
          <a:prstGeom prst="ellipse">
            <a:avLst/>
          </a:prstGeom>
          <a:solidFill>
            <a:srgbClr val="ff66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ыхательна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сле с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Oval 12"/>
          <p:cNvSpPr/>
          <p:nvPr/>
        </p:nvSpPr>
        <p:spPr>
          <a:xfrm>
            <a:off x="5435640" y="3213000"/>
            <a:ext cx="3456000" cy="3168720"/>
          </a:xfrm>
          <a:prstGeom prst="ellipse">
            <a:avLst/>
          </a:prstGeom>
          <a:solidFill>
            <a:srgbClr val="003366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ортивные игр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соревнова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Oval 13"/>
          <p:cNvSpPr/>
          <p:nvPr/>
        </p:nvSpPr>
        <p:spPr>
          <a:xfrm>
            <a:off x="1187280" y="3357720"/>
            <a:ext cx="3456000" cy="3168360"/>
          </a:xfrm>
          <a:prstGeom prst="ellipse">
            <a:avLst/>
          </a:prstGeom>
          <a:solidFill>
            <a:srgbClr val="0099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тенсивн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каливание стоп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Oval 14"/>
          <p:cNvSpPr/>
          <p:nvPr/>
        </p:nvSpPr>
        <p:spPr>
          <a:xfrm>
            <a:off x="2124000" y="3429000"/>
            <a:ext cx="3456000" cy="31687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очечного массаж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пальчиковы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пражнения дл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крепления здоровь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Oval 15"/>
          <p:cNvSpPr/>
          <p:nvPr/>
        </p:nvSpPr>
        <p:spPr>
          <a:xfrm>
            <a:off x="3492360" y="3357720"/>
            <a:ext cx="3456000" cy="3168360"/>
          </a:xfrm>
          <a:prstGeom prst="ellipse">
            <a:avLst/>
          </a:prstGeom>
          <a:solidFill>
            <a:srgbClr val="cc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щекорректирующ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пражн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Oval 16"/>
          <p:cNvSpPr/>
          <p:nvPr/>
        </p:nvSpPr>
        <p:spPr>
          <a:xfrm>
            <a:off x="4859280" y="3429000"/>
            <a:ext cx="3456000" cy="31687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сихогимнастики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елаксаци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 Black"/>
              </a:rPr>
              <a:t>Новые подходы к организации физкультурно-оздоровительной работы</a:t>
            </a:r>
            <a:r>
              <a:rPr b="0" lang="ru-RU" sz="39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539640" y="1700280"/>
            <a:ext cx="2952720" cy="280836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трення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 с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здоровительны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бегом н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ынослив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1835280" y="1773360"/>
            <a:ext cx="3024000" cy="2663640"/>
          </a:xfrm>
          <a:prstGeom prst="ellipse">
            <a:avLst/>
          </a:prstGeom>
          <a:solidFill>
            <a:srgbClr val="ff33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егиональ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ор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Oval 5"/>
          <p:cNvSpPr/>
          <p:nvPr/>
        </p:nvSpPr>
        <p:spPr>
          <a:xfrm>
            <a:off x="3995640" y="1773360"/>
            <a:ext cx="2808360" cy="273672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уризм 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ортивн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риентиров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5292720" y="2276640"/>
            <a:ext cx="2519280" cy="2734920"/>
          </a:xfrm>
          <a:prstGeom prst="ellipse">
            <a:avLst/>
          </a:prstGeom>
          <a:solidFill>
            <a:srgbClr val="ff66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осуги 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леч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6084720" y="3789360"/>
            <a:ext cx="2808360" cy="278136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итмическ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Oval 8"/>
          <p:cNvSpPr/>
          <p:nvPr/>
        </p:nvSpPr>
        <p:spPr>
          <a:xfrm>
            <a:off x="4932360" y="4049640"/>
            <a:ext cx="2735280" cy="2808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тенсив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кали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топ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Oval 9"/>
          <p:cNvSpPr/>
          <p:nvPr/>
        </p:nvSpPr>
        <p:spPr>
          <a:xfrm>
            <a:off x="3419640" y="4122720"/>
            <a:ext cx="2736720" cy="273528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кция «Мяча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2195640" y="3860640"/>
            <a:ext cx="2736720" cy="273528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Лыж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Oval 11"/>
          <p:cNvSpPr/>
          <p:nvPr/>
        </p:nvSpPr>
        <p:spPr>
          <a:xfrm>
            <a:off x="179280" y="3645000"/>
            <a:ext cx="3060720" cy="2735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я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 спорткомплекс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«Надежда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Формирование представлений о здоровом образе жизн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250920" y="1773360"/>
            <a:ext cx="2808360" cy="3097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ивит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тойки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ультурно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гиенически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вык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468360" y="1916280"/>
            <a:ext cx="3311640" cy="3240000"/>
          </a:xfrm>
          <a:prstGeom prst="rightArrow">
            <a:avLst>
              <a:gd name="adj1" fmla="val 50000"/>
              <a:gd name="adj2" fmla="val 25553"/>
            </a:avLst>
          </a:prstGeom>
          <a:solidFill>
            <a:srgbClr val="ffff99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учение уходу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 своим телом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выкам оказа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арн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мощ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826920" y="2276640"/>
            <a:ext cx="3240360" cy="3168360"/>
          </a:xfrm>
          <a:prstGeom prst="rightArrow">
            <a:avLst>
              <a:gd name="adj1" fmla="val 50000"/>
              <a:gd name="adj2" fmla="val 25568"/>
            </a:avLst>
          </a:prstGeom>
          <a:solidFill>
            <a:srgbClr val="ff9966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ар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 окружающ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ред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476360" y="2349360"/>
            <a:ext cx="3059280" cy="3429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ивычк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ежеднев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пражнени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1692360" y="2565360"/>
            <a:ext cx="3529080" cy="3429000"/>
          </a:xfrm>
          <a:prstGeom prst="rightArrow">
            <a:avLst>
              <a:gd name="adj1" fmla="val 50000"/>
              <a:gd name="adj2" fmla="val 25730"/>
            </a:avLst>
          </a:prstGeom>
          <a:solidFill>
            <a:srgbClr val="99cc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 строени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обственного тела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значении орган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2556000" y="3141720"/>
            <a:ext cx="3527280" cy="2779560"/>
          </a:xfrm>
          <a:prstGeom prst="rightArrow">
            <a:avLst>
              <a:gd name="adj1" fmla="val 73889"/>
              <a:gd name="adj2" fmla="val 31208"/>
            </a:avLst>
          </a:prstGeom>
          <a:solidFill>
            <a:srgbClr val="ccff99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 том, что полезно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что вредно дл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рганизм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132000" y="3213000"/>
            <a:ext cx="4321440" cy="2924280"/>
          </a:xfrm>
          <a:prstGeom prst="rightArrow">
            <a:avLst>
              <a:gd name="adj1" fmla="val 79472"/>
              <a:gd name="adj2" fmla="val 41029"/>
            </a:avLst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сознан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тноше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 своему здоровью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ме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пределять сво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остояния и ощущ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AutoShape 12"/>
          <p:cNvSpPr/>
          <p:nvPr/>
        </p:nvSpPr>
        <p:spPr>
          <a:xfrm>
            <a:off x="4211640" y="3357720"/>
            <a:ext cx="4105440" cy="2854080"/>
          </a:xfrm>
          <a:prstGeom prst="rightArrow">
            <a:avLst>
              <a:gd name="adj1" fmla="val 67685"/>
              <a:gd name="adj2" fmla="val 42028"/>
            </a:avLst>
          </a:prstGeom>
          <a:solidFill>
            <a:srgbClr val="ff99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уч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етей правила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орожного движения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ведению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улицах и дорогах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5724360" y="3789360"/>
            <a:ext cx="3275280" cy="2852640"/>
          </a:xfrm>
          <a:prstGeom prst="rightArrow">
            <a:avLst>
              <a:gd name="adj1" fmla="val 70213"/>
              <a:gd name="adj2" fmla="val 35619"/>
            </a:avLst>
          </a:prstGeom>
          <a:solidFill>
            <a:srgbClr val="ff66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ыработк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наний и ум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ействовать в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пас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жизнен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итуация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6600"/>
                </a:solidFill>
                <a:latin typeface="Arial Black"/>
              </a:rPr>
              <a:t>Психогигиенические</a:t>
            </a:r>
            <a:br>
              <a:rPr sz="3800"/>
            </a:br>
            <a:r>
              <a:rPr b="0" lang="ru-RU" sz="3800" spc="-1" strike="noStrike">
                <a:solidFill>
                  <a:srgbClr val="ff6600"/>
                </a:solidFill>
                <a:latin typeface="Arial Black"/>
              </a:rPr>
              <a:t>и психопрофилактические </a:t>
            </a:r>
            <a:br>
              <a:rPr sz="3800"/>
            </a:br>
            <a:r>
              <a:rPr b="0" lang="ru-RU" sz="3800" spc="-1" strike="noStrike">
                <a:solidFill>
                  <a:srgbClr val="ff6600"/>
                </a:solidFill>
                <a:latin typeface="Arial Black"/>
              </a:rPr>
              <a:t>средства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5076720" y="2033640"/>
            <a:ext cx="3886200" cy="4824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сихолого-педагогическая коррекц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оррекционно-развивающие занятия  со специалистами ДОУ (учитель-логопед, педагог-психолог, учитель-дефектолог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екция «Школа мяча»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-обучение ходьбе на лыжах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ружок«Топтыжка» (профилактика плоскостопия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324000" y="2060640"/>
            <a:ext cx="4606920" cy="4797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сихолого-педагогические профилактические мероприят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имнастика пробужде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Физкультурные занятия с элементами ЛФ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Физкультурные паузы во время занятий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ыхательная гимнастик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амомассаж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сихогимнастик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сихотренинг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Зарядка для гла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омплексы по развитию мелкой моторик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зготовление нестандартного оборуд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Работа с педагогам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84360" y="2349360"/>
          <a:ext cx="6696000" cy="4104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41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Курсы  повышения  квалификации  специалистов ДОУ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Консультации, семинары, открытые просмотры, мастер-классы, педсоветы, круглые столы, деловые игр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Контрольно-диагностические срезы по выявлению профессиональной компетенции педагог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Обеспечение методической и дидактической литературой специалис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Работа с родителям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0" y="836640"/>
            <a:ext cx="2843280" cy="2376360"/>
          </a:xfrm>
          <a:custGeom>
            <a:avLst/>
            <a:gdLst>
              <a:gd name="textAreaLeft" fmla="*/ 649080 w 2843280"/>
              <a:gd name="textAreaRight" fmla="*/ 2194200 w 2843280"/>
              <a:gd name="textAreaTop" fmla="*/ 542520 h 2376360"/>
              <a:gd name="textAreaBottom" fmla="*/ 18338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роведение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родительских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обраний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еминаров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рактикумов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консультаций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1835280" y="765000"/>
            <a:ext cx="3887640" cy="2953080"/>
          </a:xfrm>
          <a:custGeom>
            <a:avLst/>
            <a:gdLst>
              <a:gd name="textAreaLeft" fmla="*/ 887400 w 3887640"/>
              <a:gd name="textAreaRight" fmla="*/ 3000240 w 3887640"/>
              <a:gd name="textAreaTop" fmla="*/ 673920 h 2953080"/>
              <a:gd name="textAreaBottom" fmla="*/ 227916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едагогические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беседы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 родителям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(индивидуальные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и групповые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о проблемам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4284720" y="981000"/>
            <a:ext cx="3240000" cy="295272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73920 h 2952720"/>
              <a:gd name="textAreaBottom" fmla="*/ 227880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Дн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открытых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дверей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0" y="1844640"/>
            <a:ext cx="3564000" cy="3024360"/>
          </a:xfrm>
          <a:custGeom>
            <a:avLst/>
            <a:gdLst>
              <a:gd name="textAreaLeft" fmla="*/ 813600 w 3564000"/>
              <a:gd name="textAreaRight" fmla="*/ 2750400 w 3564000"/>
              <a:gd name="textAreaTop" fmla="*/ 690480 h 3024360"/>
              <a:gd name="textAreaBottom" fmla="*/ 23338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кскурси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о детскому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аду для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вновь прибывших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1476360" y="2060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каз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ля родител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3635280" y="2133720"/>
            <a:ext cx="3313080" cy="316692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722880 h 3166920"/>
              <a:gd name="textAreaBottom" fmla="*/ 244404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вмест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заня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одителе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 деть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AutoShape 9"/>
          <p:cNvSpPr/>
          <p:nvPr/>
        </p:nvSpPr>
        <p:spPr>
          <a:xfrm>
            <a:off x="5076720" y="2781360"/>
            <a:ext cx="3529080" cy="2808360"/>
          </a:xfrm>
          <a:custGeom>
            <a:avLst/>
            <a:gdLst>
              <a:gd name="textAreaLeft" fmla="*/ 805680 w 3529080"/>
              <a:gd name="textAreaRight" fmla="*/ 2723400 w 352908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руглые стол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привлечение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ециалистов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етского сад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AutoShape 10"/>
          <p:cNvSpPr/>
          <p:nvPr/>
        </p:nvSpPr>
        <p:spPr>
          <a:xfrm>
            <a:off x="0" y="3789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вмест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ероприя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ни здоровья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турпоходы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убботни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1187280" y="4049640"/>
            <a:ext cx="3240360" cy="2808360"/>
          </a:xfrm>
          <a:custGeom>
            <a:avLst/>
            <a:gdLst>
              <a:gd name="textAreaLeft" fmla="*/ 739800 w 3240360"/>
              <a:gd name="textAreaRight" fmla="*/ 2500560 w 3240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Телефон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овер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AutoShape 12"/>
          <p:cNvSpPr/>
          <p:nvPr/>
        </p:nvSpPr>
        <p:spPr>
          <a:xfrm>
            <a:off x="2195640" y="3618000"/>
            <a:ext cx="3456000" cy="3240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739440 h 3240000"/>
              <a:gd name="textAreaBottom" fmla="*/ 25005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вмест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е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4067280" y="3618000"/>
            <a:ext cx="3456000" cy="3240000"/>
          </a:xfrm>
          <a:custGeom>
            <a:avLst/>
            <a:gdLst>
              <a:gd name="textAreaLeft" fmla="*/ 696600 w 3456000"/>
              <a:gd name="textAreaRight" fmla="*/ 2759400 w 3456000"/>
              <a:gd name="textAreaTop" fmla="*/ 653040 h 3240000"/>
              <a:gd name="textAreaBottom" fmla="*/ 25869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49" y="14215"/>
                </a:lnTo>
                <a:lnTo>
                  <a:pt x="3163" y="18437"/>
                </a:lnTo>
                <a:lnTo>
                  <a:pt x="7238" y="19190"/>
                </a:lnTo>
                <a:lnTo>
                  <a:pt x="10800" y="21600"/>
                </a:lnTo>
                <a:lnTo>
                  <a:pt x="14215" y="19251"/>
                </a:lnTo>
                <a:lnTo>
                  <a:pt x="18437" y="18437"/>
                </a:lnTo>
                <a:lnTo>
                  <a:pt x="19190" y="14362"/>
                </a:lnTo>
                <a:lnTo>
                  <a:pt x="21600" y="10800"/>
                </a:lnTo>
                <a:lnTo>
                  <a:pt x="19251" y="7385"/>
                </a:lnTo>
                <a:lnTo>
                  <a:pt x="18437" y="3163"/>
                </a:lnTo>
                <a:lnTo>
                  <a:pt x="14362" y="2410"/>
                </a:lnTo>
                <a:lnTo>
                  <a:pt x="10800" y="0"/>
                </a:lnTo>
                <a:lnTo>
                  <a:pt x="7385" y="2349"/>
                </a:lnTo>
                <a:lnTo>
                  <a:pt x="3163" y="3163"/>
                </a:lnTo>
                <a:lnTo>
                  <a:pt x="2410" y="723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луб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«Румянные щечки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Внешние связ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Rectangle 83"/>
          <p:cNvSpPr/>
          <p:nvPr/>
        </p:nvSpPr>
        <p:spPr>
          <a:xfrm>
            <a:off x="250920" y="1557360"/>
            <a:ext cx="4825800" cy="26636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Спортивно-медицински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Краевой офтальмологический центр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ЦГБ г.Сосновоборска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Спортивный комплекс «Надежда»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Лыжная база «Снежинка»;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Rectangle 84"/>
          <p:cNvSpPr/>
          <p:nvPr/>
        </p:nvSpPr>
        <p:spPr>
          <a:xfrm>
            <a:off x="4859280" y="1125360"/>
            <a:ext cx="4033800" cy="25210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Научно-практические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ККИПК и ППРО г.Красноярск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ГПМПК г.Сосновоборска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МОУ  СОШ № 2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85"/>
          <p:cNvSpPr/>
          <p:nvPr/>
        </p:nvSpPr>
        <p:spPr>
          <a:xfrm>
            <a:off x="1258920" y="3284640"/>
            <a:ext cx="532908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ff"/>
                </a:solidFill>
                <a:uFillTx/>
                <a:latin typeface="Times New Roman"/>
              </a:rPr>
              <a:t>Культурно-воспитательны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Дом детского творчества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ДК «Мечта»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Библиотеки им.Бианки и им.Шукшина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Музейно –выставочный центр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Школа искусств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60"/>
                            </p:stCondLst>
                            <p:childTnLst>
                              <p:par>
                                <p:cTn id="6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60"/>
                            </p:stCondLst>
                            <p:childTnLst>
                              <p:par>
                                <p:cTn id="7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560"/>
                            </p:stCondLst>
                            <p:childTnLst>
                              <p:par>
                                <p:cTn id="7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УКРЕПЛЕНИЕ 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МАТЕРИАЛЬНО-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ТЕХНИЧЕСКОЙ БАЗ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Спортивный зал с различным оборудованием и инвентарем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Спортивная площадка для занятий на воздухе оснащена необходимым инвентарём и оборудованием: “ямой” для прыжков в длину, “полосой препятствий” для развития выносливости, гимнастической стенкой и бревном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Малая спортивная площадка для занятий и игр  с мячом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Малая спортивная площадка для индивидуальных занятий с детьми по развитию основных движений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Имеется картотека для подвижных игр с необходимыми шапочками и другими атрибутами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Имеется   картотека для развития основных видов движения, картотека физкультминуток и пальчиковых игр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В каждой возрастной группе имеются уголки движения (спортивные уголки), где дети занимаются как самостоятельно, так и под наблюдением педагогов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В старших  и подготовительных к школе группах имеется спортивный комплекс «Малыш» 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На территории ДОУ  имеется экологическая тропа с обширной лесной зоной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Для индивидуальной коррекционной работы в ДОУ  имеются 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кабинет учителя -логопеда, кабинет учителя-  дефектолога, кабинет врача офтальмолога и медсестры ортоптистки, оснащенные лечебно-профилактическим оборудованием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7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2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7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2" dur="500"/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Сравнительная характеристика заболеваемост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24000" y="2060640"/>
          <a:ext cx="8208720" cy="3960720"/>
        </p:xfrm>
        <a:graphic>
          <a:graphicData uri="http://schemas.openxmlformats.org/drawingml/2006/table">
            <a:tbl>
              <a:tblPr/>
              <a:tblGrid>
                <a:gridCol w="2093760"/>
                <a:gridCol w="969840"/>
                <a:gridCol w="1121040"/>
                <a:gridCol w="745920"/>
                <a:gridCol w="1122480"/>
                <a:gridCol w="1046160"/>
                <a:gridCol w="110952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Случа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Дли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Случа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Дли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Случа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Дли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Всего зарегистрировано заболев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5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5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4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Дети после 3-х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4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4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Из них простуд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Грипп, ОР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3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Дети после 3-х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116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Black"/>
              </a:rPr>
              <a:t>Создание условий для сохранения и укрепления здоровья детей, формирование у родителей, педагогов, воспитанников ответственности в деле сохранения собственного здоровь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    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Адаптация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539640" y="2133720"/>
          <a:ext cx="7243920" cy="4248000"/>
        </p:xfrm>
        <a:graphic>
          <a:graphicData uri="http://schemas.openxmlformats.org/drawingml/2006/table">
            <a:tbl>
              <a:tblPr/>
              <a:tblGrid>
                <a:gridCol w="1805040"/>
                <a:gridCol w="3019320"/>
                <a:gridCol w="241956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УРОВ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ХАРАКТЕР 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КОЛИЧЕСТВО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Легкий - до 2 нед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14 детей – 5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Средний - до 4 нед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9 детей – 3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Тяжелый - до 6 нед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2 ребенка – 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Снижение уровня заболеваемости детей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Осознание взрослыми и детьми понятия «здоровье» и влияния образа жизни на состояние здоровья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Повышение уровня ориентации к современным условиям жизн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Овладение навыками самовыздоровления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Дальнейшее усовершенствование материально-технической баз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4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9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4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9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395280" y="1055160"/>
            <a:ext cx="676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Times New Roman"/>
              </a:rPr>
              <a:t>Здоровое воспитание – здоровое поколение!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Times New Roman"/>
              </a:rPr>
              <a:t>Растить детей здоровыми сегодня, сейчас,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Times New Roman"/>
              </a:rPr>
              <a:t>чтобы не оздоравливать их завтра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Задачи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формировать у детей потребность в сохранении своего здоровья («Хочу быть здоровым»);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 Black"/>
              </a:rPr>
              <a:t>формировать у детей представления о здоровье и здоровом образе жизни; о значении гигиенических процедур, закаливания, занятий спортом, утренней гимнастике; о необходимости активного пребывания на свежем воздухе для укрепления здоровья; первоначальные представления об органах человека и их функциях. Воспитывать решимость в этом («буду здоровым»)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знакомить  с правилами безопасного поведения; некоторыми приемами первой помощи в случае травм, о правилах поведения в обществе в случаях заболевания («знаю, как сохранить здоровье»)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 Black"/>
              </a:rPr>
              <a:t>наладить  тесный  контакт с родителями по данному направлению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оздавать  наиболее благоприятные условий для формирования правильного физического развития и укрепления здоровья дет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AutoShape 18"/>
          <p:cNvSpPr/>
          <p:nvPr/>
        </p:nvSpPr>
        <p:spPr>
          <a:xfrm>
            <a:off x="324000" y="1700280"/>
            <a:ext cx="3095640" cy="2376360"/>
          </a:xfrm>
          <a:prstGeom prst="rightArrow">
            <a:avLst>
              <a:gd name="adj1" fmla="val 50000"/>
              <a:gd name="adj2" fmla="val 32567"/>
            </a:avLst>
          </a:prstGeom>
          <a:solidFill>
            <a:srgbClr val="ff66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БО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ДЕТЬ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AutoShape 20"/>
          <p:cNvSpPr/>
          <p:nvPr/>
        </p:nvSpPr>
        <p:spPr>
          <a:xfrm>
            <a:off x="1835280" y="2637000"/>
            <a:ext cx="3095640" cy="2376360"/>
          </a:xfrm>
          <a:prstGeom prst="rightArrow">
            <a:avLst>
              <a:gd name="adj1" fmla="val 50000"/>
              <a:gd name="adj2" fmla="val 32567"/>
            </a:avLst>
          </a:prstGeom>
          <a:solidFill>
            <a:srgbClr val="ffff99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ПЕДАГОГА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AutoShape 21"/>
          <p:cNvSpPr/>
          <p:nvPr/>
        </p:nvSpPr>
        <p:spPr>
          <a:xfrm>
            <a:off x="3348000" y="3573360"/>
            <a:ext cx="3311640" cy="2376720"/>
          </a:xfrm>
          <a:prstGeom prst="rightArrow">
            <a:avLst>
              <a:gd name="adj1" fmla="val 50000"/>
              <a:gd name="adj2" fmla="val 34834"/>
            </a:avLst>
          </a:prstGeom>
          <a:solidFill>
            <a:srgbClr val="ff9966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 РОДИТЕЛЯ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AutoShape 22"/>
          <p:cNvSpPr/>
          <p:nvPr/>
        </p:nvSpPr>
        <p:spPr>
          <a:xfrm>
            <a:off x="5292720" y="4481640"/>
            <a:ext cx="3851280" cy="2376360"/>
          </a:xfrm>
          <a:prstGeom prst="rightArrow">
            <a:avLst>
              <a:gd name="adj1" fmla="val 50000"/>
              <a:gd name="adj2" fmla="val 40517"/>
            </a:avLst>
          </a:prstGeom>
          <a:solidFill>
            <a:srgbClr val="ff99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УКРЕПЛ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АТЕРИАЛЬНО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ТЕХНИЧЕСКОЙ БАЗ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Работа с детьми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0" y="1268280"/>
            <a:ext cx="3240000" cy="288000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57360 h 2880000"/>
              <a:gd name="textAreaBottom" fmla="*/ 222264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ИАГНОСТИКА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5651640" y="981000"/>
            <a:ext cx="3240000" cy="295272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73920 h 2952720"/>
              <a:gd name="textAreaBottom" fmla="*/ 227880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КАЛИВ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771640" y="1197000"/>
            <a:ext cx="3456000" cy="280836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лноценн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ит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AutoShape 12"/>
          <p:cNvSpPr/>
          <p:nvPr/>
        </p:nvSpPr>
        <p:spPr>
          <a:xfrm>
            <a:off x="755640" y="2349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здоровитель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ежим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AutoShape 13"/>
          <p:cNvSpPr/>
          <p:nvPr/>
        </p:nvSpPr>
        <p:spPr>
          <a:xfrm>
            <a:off x="3348000" y="2133720"/>
            <a:ext cx="3240000" cy="280800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0800 h 2808000"/>
              <a:gd name="textAreaBottom" fmla="*/ 216720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Лечебно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офилактическ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AutoShape 14"/>
          <p:cNvSpPr/>
          <p:nvPr/>
        </p:nvSpPr>
        <p:spPr>
          <a:xfrm>
            <a:off x="6084720" y="2060640"/>
            <a:ext cx="3240360" cy="2808360"/>
          </a:xfrm>
          <a:custGeom>
            <a:avLst/>
            <a:gdLst>
              <a:gd name="textAreaLeft" fmla="*/ 739800 w 3240360"/>
              <a:gd name="textAreaRight" fmla="*/ 2500560 w 3240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вигательно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активност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0" y="3860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 здоровом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разе жизни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1619280" y="4049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АДАПТ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203640" y="4049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Коррекцион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4788000" y="3357720"/>
            <a:ext cx="4356000" cy="3500280"/>
          </a:xfrm>
          <a:custGeom>
            <a:avLst/>
            <a:gdLst>
              <a:gd name="textAreaLeft" fmla="*/ 994320 w 4356000"/>
              <a:gd name="textAreaRight" fmla="*/ 3361680 w 4356000"/>
              <a:gd name="textAreaTop" fmla="*/ 798840 h 3500280"/>
              <a:gd name="textAreaBottom" fmla="*/ 27014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Психогигиеническ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и психопрофилактическ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редств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иагностика</a:t>
            </a: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250920" y="2565360"/>
            <a:ext cx="3816360" cy="1873440"/>
          </a:xfrm>
          <a:custGeom>
            <a:avLst/>
            <a:gdLst>
              <a:gd name="textAreaLeft" fmla="*/ 477000 w 3816360"/>
              <a:gd name="textAreaRight" fmla="*/ 3339360 w 3816360"/>
              <a:gd name="textAreaTop" fmla="*/ 468360 h 1873440"/>
              <a:gd name="textAreaBottom" fmla="*/ 140508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ff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ФТАЛЬМОЛОГ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3995640" y="2205000"/>
            <a:ext cx="3095640" cy="280836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строта зрения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руш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ритель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ункци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50920" y="2565360"/>
            <a:ext cx="3816360" cy="1800360"/>
          </a:xfrm>
          <a:custGeom>
            <a:avLst/>
            <a:gdLst>
              <a:gd name="textAreaLeft" fmla="*/ 477000 w 3816360"/>
              <a:gd name="textAreaRight" fmla="*/ 3339360 w 3816360"/>
              <a:gd name="textAreaTop" fmla="*/ 450000 h 1800360"/>
              <a:gd name="textAreaBottom" fmla="*/ 1350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СИХОЛОГ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Oval 13"/>
          <p:cNvSpPr/>
          <p:nvPr/>
        </p:nvSpPr>
        <p:spPr>
          <a:xfrm>
            <a:off x="3924360" y="2133720"/>
            <a:ext cx="3600360" cy="2950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дивидуаль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собенност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сихически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оцессов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AutoShape 14"/>
          <p:cNvSpPr/>
          <p:nvPr/>
        </p:nvSpPr>
        <p:spPr>
          <a:xfrm>
            <a:off x="250920" y="2421000"/>
            <a:ext cx="3673440" cy="2016000"/>
          </a:xfrm>
          <a:custGeom>
            <a:avLst/>
            <a:gdLst>
              <a:gd name="textAreaLeft" fmla="*/ 367560 w 3673440"/>
              <a:gd name="textAreaRight" fmla="*/ 3305880 w 3673440"/>
              <a:gd name="textAreaTop" fmla="*/ 504720 h 2016000"/>
              <a:gd name="textAreaBottom" fmla="*/ 151128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5409"/>
                </a:moveTo>
                <a:lnTo>
                  <a:pt x="17269" y="5409"/>
                </a:lnTo>
                <a:lnTo>
                  <a:pt x="17269" y="0"/>
                </a:lnTo>
                <a:lnTo>
                  <a:pt x="21600" y="10800"/>
                </a:lnTo>
                <a:lnTo>
                  <a:pt x="17269" y="21600"/>
                </a:lnTo>
                <a:lnTo>
                  <a:pt x="17269" y="16191"/>
                </a:lnTo>
                <a:lnTo>
                  <a:pt x="0" y="16191"/>
                </a:lnTo>
                <a:lnTo>
                  <a:pt x="2162" y="10800"/>
                </a:lnTo>
                <a:lnTo>
                  <a:pt x="0" y="5409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СТРУКТОР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 ФИЗКУЛЬТУР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Oval 15"/>
          <p:cNvSpPr/>
          <p:nvPr/>
        </p:nvSpPr>
        <p:spPr>
          <a:xfrm>
            <a:off x="3851280" y="1844640"/>
            <a:ext cx="4105440" cy="3600360"/>
          </a:xfrm>
          <a:prstGeom prst="ellipse">
            <a:avLst/>
          </a:prstGeom>
          <a:solidFill>
            <a:srgbClr val="ff6600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рупномотор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мелкомотор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выков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ровень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вигательн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активности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естиров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 физ. подготовке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250920" y="2421000"/>
            <a:ext cx="3671640" cy="2087640"/>
          </a:xfrm>
          <a:custGeom>
            <a:avLst/>
            <a:gdLst>
              <a:gd name="textAreaLeft" fmla="*/ 387000 w 3671640"/>
              <a:gd name="textAreaRight" fmla="*/ 3284640 w 3671640"/>
              <a:gd name="textAreaTop" fmla="*/ 447480 h 2087640"/>
              <a:gd name="textAreaBottom" fmla="*/ 164016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4632"/>
                </a:moveTo>
                <a:lnTo>
                  <a:pt x="17612" y="4632"/>
                </a:lnTo>
                <a:lnTo>
                  <a:pt x="17612" y="0"/>
                </a:lnTo>
                <a:lnTo>
                  <a:pt x="21600" y="10800"/>
                </a:lnTo>
                <a:lnTo>
                  <a:pt x="17612" y="21600"/>
                </a:lnTo>
                <a:lnTo>
                  <a:pt x="17612" y="16968"/>
                </a:lnTo>
                <a:lnTo>
                  <a:pt x="0" y="16968"/>
                </a:lnTo>
                <a:lnTo>
                  <a:pt x="2278" y="10800"/>
                </a:lnTo>
                <a:lnTo>
                  <a:pt x="0" y="4632"/>
                </a:lnTo>
                <a:close/>
              </a:path>
            </a:pathLst>
          </a:custGeom>
          <a:solidFill>
            <a:srgbClr val="ff33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МУЗЫКАЛЬНЫ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УКОВОДИТЕЛ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Oval 17"/>
          <p:cNvSpPr/>
          <p:nvPr/>
        </p:nvSpPr>
        <p:spPr>
          <a:xfrm>
            <a:off x="3924360" y="1989000"/>
            <a:ext cx="3960720" cy="3384720"/>
          </a:xfrm>
          <a:prstGeom prst="ellipse">
            <a:avLst/>
          </a:prstGeom>
          <a:solidFill>
            <a:srgbClr val="ff33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ровень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музыкаль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AutoShape 18"/>
          <p:cNvSpPr/>
          <p:nvPr/>
        </p:nvSpPr>
        <p:spPr>
          <a:xfrm>
            <a:off x="0" y="2349360"/>
            <a:ext cx="3924360" cy="2233800"/>
          </a:xfrm>
          <a:custGeom>
            <a:avLst/>
            <a:gdLst>
              <a:gd name="textAreaLeft" fmla="*/ 387360 w 3924360"/>
              <a:gd name="textAreaRight" fmla="*/ 3537000 w 3924360"/>
              <a:gd name="textAreaTop" fmla="*/ 527040 h 2233800"/>
              <a:gd name="textAreaBottom" fmla="*/ 1706760 h 2233800"/>
            </a:gdLst>
            <a:ahLst/>
            <a:rect l="textAreaLeft" t="textAreaTop" r="textAreaRight" b="textAreaBottom"/>
            <a:pathLst>
              <a:path w="21600" h="21600">
                <a:moveTo>
                  <a:pt x="0" y="5097"/>
                </a:moveTo>
                <a:lnTo>
                  <a:pt x="17562" y="5097"/>
                </a:ln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17562" y="16503"/>
                </a:lnTo>
                <a:lnTo>
                  <a:pt x="0" y="16503"/>
                </a:lnTo>
                <a:lnTo>
                  <a:pt x="2132" y="10800"/>
                </a:lnTo>
                <a:lnTo>
                  <a:pt x="0" y="5097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едагоги  ДОУ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19"/>
          <p:cNvSpPr/>
          <p:nvPr/>
        </p:nvSpPr>
        <p:spPr>
          <a:xfrm>
            <a:off x="3924360" y="1773360"/>
            <a:ext cx="3960720" cy="3673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мускулатур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исти рук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лазомера 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нсор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осприят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20"/>
          <p:cNvSpPr/>
          <p:nvPr/>
        </p:nvSpPr>
        <p:spPr>
          <a:xfrm rot="16200000">
            <a:off x="4049640" y="1071000"/>
            <a:ext cx="1189080" cy="8640720"/>
          </a:xfrm>
          <a:custGeom>
            <a:avLst/>
            <a:gdLst>
              <a:gd name="textAreaLeft" fmla="*/ 759600 w 1189080"/>
              <a:gd name="textAreaRight" fmla="*/ 1189440 w 1189080"/>
              <a:gd name="textAreaTop" fmla="*/ 224640 h 8640720"/>
              <a:gd name="textAreaBottom" fmla="*/ 8416080 h 864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8962"/>
                </a:lnTo>
                <a:cubicBezTo>
                  <a:pt x="10800" y="9860"/>
                  <a:pt x="5400" y="10758"/>
                  <a:pt x="0" y="10758"/>
                </a:cubicBezTo>
                <a:cubicBezTo>
                  <a:pt x="5400" y="10758"/>
                  <a:pt x="10800" y="11656"/>
                  <a:pt x="10800" y="12554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21"/>
          <p:cNvSpPr/>
          <p:nvPr/>
        </p:nvSpPr>
        <p:spPr>
          <a:xfrm>
            <a:off x="826200" y="6156360"/>
            <a:ext cx="737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ПРОВЕДЕНИЕ  ПИХОЛОГО-МЕДИКО –ПЕДАГОГИЧЕСК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КОНСИЛИУМ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6600"/>
                </a:solidFill>
                <a:latin typeface="Arial Black"/>
              </a:rPr>
              <a:t>Организация </a:t>
            </a:r>
            <a:br>
              <a:rPr sz="3900"/>
            </a:br>
            <a:r>
              <a:rPr b="0" lang="ru-RU" sz="3900" spc="-1" strike="noStrike">
                <a:solidFill>
                  <a:srgbClr val="ff6600"/>
                </a:solidFill>
                <a:latin typeface="Arial Black"/>
              </a:rPr>
              <a:t>оздоровительных режимов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Достаточная ежедневная длительность пребывания детей на воздух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Чередование умственных и физических нагруз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Регулярное питани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Режим с учетом холодного и теплого период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Преобладание положительных эмоциональных впечатлений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Достаточный по продолжительности сон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Учёт индивидуальных особенностей развит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Полноценное 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питание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88" name="Diagram 5"/>
          <p:cNvGrpSpPr/>
          <p:nvPr/>
        </p:nvGrpSpPr>
        <p:grpSpPr>
          <a:xfrm>
            <a:off x="1374840" y="2020680"/>
            <a:ext cx="6108840" cy="3794040"/>
            <a:chOff x="1374840" y="2020680"/>
            <a:chExt cx="6108840" cy="3794040"/>
          </a:xfrm>
        </p:grpSpPr>
        <p:sp>
          <p:nvSpPr>
            <p:cNvPr id="389" name="_s1028"/>
            <p:cNvSpPr/>
            <p:nvPr/>
          </p:nvSpPr>
          <p:spPr>
            <a:xfrm>
              <a:off x="3656160" y="2560320"/>
              <a:ext cx="1542960" cy="154296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_s1029"/>
            <p:cNvSpPr/>
            <p:nvPr/>
          </p:nvSpPr>
          <p:spPr>
            <a:xfrm>
              <a:off x="3656160" y="202068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 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Картотека блюд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_s1030"/>
            <p:cNvSpPr/>
            <p:nvPr/>
          </p:nvSpPr>
          <p:spPr>
            <a:xfrm>
              <a:off x="3949560" y="2638080"/>
              <a:ext cx="1543320" cy="1542960"/>
            </a:xfrm>
            <a:prstGeom prst="ellipse">
              <a:avLst/>
            </a:prstGeom>
            <a:solidFill>
              <a:srgbClr val="ff9966">
                <a:alpha val="50000"/>
              </a:srgbClr>
            </a:solidFill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_s1031"/>
            <p:cNvSpPr/>
            <p:nvPr/>
          </p:nvSpPr>
          <p:spPr>
            <a:xfrm>
              <a:off x="5183280" y="222228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Меню на 10 дней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_s1032"/>
            <p:cNvSpPr/>
            <p:nvPr/>
          </p:nvSpPr>
          <p:spPr>
            <a:xfrm>
              <a:off x="4164120" y="2852640"/>
              <a:ext cx="1542960" cy="1542960"/>
            </a:xfrm>
            <a:prstGeom prst="ellipse">
              <a:avLst/>
            </a:prstGeom>
            <a:solidFill>
              <a:srgbClr val="ff3399">
                <a:alpha val="50000"/>
              </a:srgbClr>
            </a:solidFill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_s1033"/>
            <p:cNvSpPr/>
            <p:nvPr/>
          </p:nvSpPr>
          <p:spPr>
            <a:xfrm>
              <a:off x="5737320" y="277452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Натуральные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соки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_s1034"/>
            <p:cNvSpPr/>
            <p:nvPr/>
          </p:nvSpPr>
          <p:spPr>
            <a:xfrm>
              <a:off x="4243320" y="3144600"/>
              <a:ext cx="1543320" cy="15429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572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_s1035"/>
            <p:cNvSpPr/>
            <p:nvPr/>
          </p:nvSpPr>
          <p:spPr>
            <a:xfrm>
              <a:off x="5940360" y="3723840"/>
              <a:ext cx="1543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Фрукты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7" name="_s1036"/>
            <p:cNvSpPr/>
            <p:nvPr/>
          </p:nvSpPr>
          <p:spPr>
            <a:xfrm>
              <a:off x="4165560" y="3438360"/>
              <a:ext cx="1542960" cy="154296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57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8" name="_s1037"/>
            <p:cNvSpPr/>
            <p:nvPr/>
          </p:nvSpPr>
          <p:spPr>
            <a:xfrm>
              <a:off x="5738760" y="4671720"/>
              <a:ext cx="1543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Овощи и зелень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_s1038"/>
            <p:cNvSpPr/>
            <p:nvPr/>
          </p:nvSpPr>
          <p:spPr>
            <a:xfrm>
              <a:off x="3951360" y="3652560"/>
              <a:ext cx="1542960" cy="154296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0" name="_s1039"/>
            <p:cNvSpPr/>
            <p:nvPr/>
          </p:nvSpPr>
          <p:spPr>
            <a:xfrm>
              <a:off x="5186520" y="522576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Кисломолочные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продукты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1" name="_s1040"/>
            <p:cNvSpPr/>
            <p:nvPr/>
          </p:nvSpPr>
          <p:spPr>
            <a:xfrm>
              <a:off x="3659400" y="3731760"/>
              <a:ext cx="1542960" cy="1543320"/>
            </a:xfrm>
            <a:prstGeom prst="ellipse">
              <a:avLst/>
            </a:prstGeom>
            <a:solidFill>
              <a:srgbClr val="ff9966">
                <a:alpha val="50000"/>
              </a:srgbClr>
            </a:solidFill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_s1041"/>
            <p:cNvSpPr/>
            <p:nvPr/>
          </p:nvSpPr>
          <p:spPr>
            <a:xfrm>
              <a:off x="3659400" y="542880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С-витаминизация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_s1042"/>
            <p:cNvSpPr/>
            <p:nvPr/>
          </p:nvSpPr>
          <p:spPr>
            <a:xfrm>
              <a:off x="3365640" y="3654000"/>
              <a:ext cx="1542960" cy="1543320"/>
            </a:xfrm>
            <a:prstGeom prst="ellipse">
              <a:avLst/>
            </a:prstGeom>
            <a:solidFill>
              <a:srgbClr val="ff3399">
                <a:alpha val="50000"/>
              </a:srgbClr>
            </a:solidFill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_s1043"/>
            <p:cNvSpPr/>
            <p:nvPr/>
          </p:nvSpPr>
          <p:spPr>
            <a:xfrm>
              <a:off x="2131920" y="5227200"/>
              <a:ext cx="1543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Йодированный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хлеб, соль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5" name="_s1044"/>
            <p:cNvSpPr/>
            <p:nvPr/>
          </p:nvSpPr>
          <p:spPr>
            <a:xfrm>
              <a:off x="3151080" y="3439800"/>
              <a:ext cx="1543320" cy="15429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572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6" name="_s1045"/>
            <p:cNvSpPr/>
            <p:nvPr/>
          </p:nvSpPr>
          <p:spPr>
            <a:xfrm>
              <a:off x="1577880" y="467496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Выполнение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режима питания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7" name="_s1046"/>
            <p:cNvSpPr/>
            <p:nvPr/>
          </p:nvSpPr>
          <p:spPr>
            <a:xfrm>
              <a:off x="3071880" y="3147840"/>
              <a:ext cx="1542960" cy="154296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57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8" name="_s1047"/>
            <p:cNvSpPr/>
            <p:nvPr/>
          </p:nvSpPr>
          <p:spPr>
            <a:xfrm>
              <a:off x="1374840" y="372708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Гигиена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приёма пищи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9" name="_s1048"/>
            <p:cNvSpPr/>
            <p:nvPr/>
          </p:nvSpPr>
          <p:spPr>
            <a:xfrm>
              <a:off x="3149640" y="2855520"/>
              <a:ext cx="1542960" cy="15433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0" name="_s1049"/>
            <p:cNvSpPr/>
            <p:nvPr/>
          </p:nvSpPr>
          <p:spPr>
            <a:xfrm>
              <a:off x="1576440" y="277776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Соблюдение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норм потребления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продуктов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1" name="_s1050"/>
            <p:cNvSpPr/>
            <p:nvPr/>
          </p:nvSpPr>
          <p:spPr>
            <a:xfrm>
              <a:off x="3362400" y="2641320"/>
              <a:ext cx="1542960" cy="1542960"/>
            </a:xfrm>
            <a:prstGeom prst="ellipse">
              <a:avLst/>
            </a:prstGeom>
            <a:solidFill>
              <a:srgbClr val="ff9966">
                <a:alpha val="50000"/>
              </a:srgbClr>
            </a:solidFill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_s1051"/>
            <p:cNvSpPr/>
            <p:nvPr/>
          </p:nvSpPr>
          <p:spPr>
            <a:xfrm>
              <a:off x="2129040" y="222372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Сервировка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ransition>
    <p:comb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4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4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84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84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840"/>
                            </p:stCondLst>
                            <p:childTnLst>
                              <p:par>
                                <p:cTn id="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84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84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84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84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84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84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84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ЗАКАЛИВАНИЕ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0" y="836640"/>
            <a:ext cx="2843280" cy="2376360"/>
          </a:xfrm>
          <a:custGeom>
            <a:avLst/>
            <a:gdLst>
              <a:gd name="textAreaLeft" fmla="*/ 649080 w 2843280"/>
              <a:gd name="textAreaRight" fmla="*/ 2194200 w 2843280"/>
              <a:gd name="textAreaTop" fmla="*/ 542520 h 2376360"/>
              <a:gd name="textAreaBottom" fmla="*/ 18338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блегчен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дежд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в группа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1835280" y="765000"/>
            <a:ext cx="3887640" cy="2953080"/>
          </a:xfrm>
          <a:custGeom>
            <a:avLst/>
            <a:gdLst>
              <a:gd name="textAreaLeft" fmla="*/ 887400 w 3887640"/>
              <a:gd name="textAreaRight" fmla="*/ 3000240 w 3887640"/>
              <a:gd name="textAreaTop" fmla="*/ 673920 h 2953080"/>
              <a:gd name="textAreaBottom" fmla="*/ 227916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зонная одежд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прогулке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читыв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дивидуаль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остояние здоровь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284720" y="1125360"/>
            <a:ext cx="3240000" cy="295308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73920 h 2953080"/>
              <a:gd name="textAreaBottom" fmla="*/ 227916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емпературны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ежи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324000" y="2060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ыхатель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сле с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3635280" y="2133720"/>
            <a:ext cx="3313080" cy="316692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722880 h 3166920"/>
              <a:gd name="textAreaBottom" fmla="*/ 244404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ыть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прохладной водо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ук по локоть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шеи, верхне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части груд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5219640" y="2781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авиль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рганизац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огулки  и её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лительность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0" y="3789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Полоскание р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1187280" y="4049640"/>
            <a:ext cx="3240360" cy="2808360"/>
          </a:xfrm>
          <a:custGeom>
            <a:avLst/>
            <a:gdLst>
              <a:gd name="textAreaLeft" fmla="*/ 739800 w 3240360"/>
              <a:gd name="textAreaRight" fmla="*/ 2500560 w 3240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етод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«Босоножки»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AutoShape 12"/>
          <p:cNvSpPr/>
          <p:nvPr/>
        </p:nvSpPr>
        <p:spPr>
          <a:xfrm>
            <a:off x="2484360" y="3213000"/>
            <a:ext cx="3456000" cy="324036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739800 h 3240360"/>
              <a:gd name="textAreaBottom" fmla="*/ 250056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Ходьба п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левой дорожк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606920" y="3618000"/>
            <a:ext cx="4537080" cy="3240000"/>
          </a:xfrm>
          <a:custGeom>
            <a:avLst/>
            <a:gdLst>
              <a:gd name="textAreaLeft" fmla="*/ 914760 w 4537080"/>
              <a:gd name="textAreaRight" fmla="*/ 3622320 w 4537080"/>
              <a:gd name="textAreaTop" fmla="*/ 653040 h 3240000"/>
              <a:gd name="textAreaBottom" fmla="*/ 25869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49" y="14215"/>
                </a:lnTo>
                <a:lnTo>
                  <a:pt x="3163" y="18437"/>
                </a:lnTo>
                <a:lnTo>
                  <a:pt x="7238" y="19190"/>
                </a:lnTo>
                <a:lnTo>
                  <a:pt x="10800" y="21600"/>
                </a:lnTo>
                <a:lnTo>
                  <a:pt x="14215" y="19251"/>
                </a:lnTo>
                <a:lnTo>
                  <a:pt x="18437" y="18437"/>
                </a:lnTo>
                <a:lnTo>
                  <a:pt x="19190" y="14362"/>
                </a:lnTo>
                <a:lnTo>
                  <a:pt x="21600" y="10800"/>
                </a:lnTo>
                <a:lnTo>
                  <a:pt x="19251" y="7385"/>
                </a:lnTo>
                <a:lnTo>
                  <a:pt x="18437" y="3163"/>
                </a:lnTo>
                <a:lnTo>
                  <a:pt x="14362" y="2410"/>
                </a:lnTo>
                <a:lnTo>
                  <a:pt x="10800" y="0"/>
                </a:lnTo>
                <a:lnTo>
                  <a:pt x="7385" y="2349"/>
                </a:lnTo>
                <a:lnTo>
                  <a:pt x="3163" y="3163"/>
                </a:lnTo>
                <a:lnTo>
                  <a:pt x="2410" y="7238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Хождение дете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босиком по ткани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моченной вод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комнатной температур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и уложенн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на массажные коври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3:46:24Z</dcterms:created>
  <dc:creator>ZALIVKA</dc:creator>
  <dc:description/>
  <dc:language>en-US</dc:language>
  <cp:lastModifiedBy>1</cp:lastModifiedBy>
  <dcterms:modified xsi:type="dcterms:W3CDTF">2020-09-03T05:48:50Z</dcterms:modified>
  <cp:revision>20</cp:revision>
  <dc:subject/>
  <dc:title>ЗДОРОВЫЙ МАЛЫШ (Программа оздоровления детей в ДОУ)</dc:title>
</cp:coreProperties>
</file>