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5520"/>
            <a:ext cx="9143640" cy="1752120"/>
            <a:chOff x="0" y="5105520"/>
            <a:chExt cx="9143640" cy="175212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8400"/>
              <a:ext cx="9143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364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3640" cy="5108040"/>
            <a:chOff x="0" y="0"/>
            <a:chExt cx="9143640" cy="510804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3640" cy="51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3640" cy="51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58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3640" cy="5101920"/>
            <a:chOff x="0" y="1603440"/>
            <a:chExt cx="9143640" cy="5101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364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3800" cy="36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GB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GB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GB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GB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GB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GB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GB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GB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476360" y="1427040"/>
            <a:ext cx="68292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DejaVu Sans"/>
              </a:rPr>
              <a:t>Технологии «Клубный час» и «Рефлексивный круг»: задачи и методика проведения в образовательной деятельности со старшими дошкольни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508720" y="4797360"/>
            <a:ext cx="3244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Verdana"/>
                <a:ea typeface="DejaVu Sans"/>
              </a:rPr>
              <a:t>Пименова А.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611280" y="426960"/>
            <a:ext cx="80751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Свободное перемещение по  детскому саду радует ребят, они чувствуют себя не гостями, а хозяевами детского сада и это позволяет решить одну из основных целей социализации дошкольников - приобретение собственного жизненного опыта, переживаний, необходимых для самоопределения и саморегуляц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641400" cy="2779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4662000" cy="310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2124000" y="4300560"/>
            <a:ext cx="367164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195120" y="-108000"/>
            <a:ext cx="80150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900" spc="-1" strike="noStrike">
                <a:solidFill>
                  <a:srgbClr val="006666"/>
                </a:solidFill>
                <a:latin typeface="Arial"/>
                <a:ea typeface="DejaVu Sans"/>
              </a:rPr>
              <a:t>После завершения «Клубного часа»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  <a:ea typeface="DejaVu Sans"/>
              </a:rPr>
              <a:t> </a:t>
            </a:r>
            <a:r>
              <a:rPr b="1" lang="ru-RU" sz="1900" spc="-1" strike="noStrike">
                <a:solidFill>
                  <a:srgbClr val="006666"/>
                </a:solidFill>
                <a:latin typeface="Arial"/>
                <a:ea typeface="DejaVu Sans"/>
              </a:rPr>
              <a:t>проводиться «Рефлексивный круг», где воспитанники обсуждают такие вопросы: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95280" y="1195560"/>
            <a:ext cx="8027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  <a:ea typeface="DejaVu Sans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  <a:ea typeface="DejaVu Sans"/>
              </a:rPr>
              <a:t>Где был ребенок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  <a:ea typeface="DejaVu Sans"/>
              </a:rPr>
              <a:t>Что ему запомн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  <a:ea typeface="DejaVu Sans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  <a:ea typeface="DejaVu Sans"/>
              </a:rPr>
              <a:t>Хотел ли он еще раз туда пойти и поч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  <a:ea typeface="DejaVu Sans"/>
              </a:rPr>
              <a:t>Планировал ли он перед КЧ  куда-то пой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  <a:ea typeface="DejaVu Sans"/>
              </a:rPr>
              <a:t>Смог ли это осуществить и если нет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  <a:ea typeface="DejaVu Sans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  <a:ea typeface="DejaVu Sans"/>
              </a:rPr>
              <a:t>то поч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  <a:ea typeface="DejaVu Sans"/>
              </a:rPr>
              <a:t>Удалось ли соблюдать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  <a:ea typeface="DejaVu Sans"/>
              </a:rPr>
              <a:t>правила, если нет, т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  <a:ea typeface="DejaVu Sans"/>
              </a:rPr>
              <a:t>поч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179280" y="4005360"/>
            <a:ext cx="3509640" cy="246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3757680" y="3530520"/>
            <a:ext cx="3941280" cy="2684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5688000" y="936720"/>
            <a:ext cx="3365280" cy="23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1370160" y="450720"/>
            <a:ext cx="73162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  <a:ea typeface="DejaVu Sans"/>
              </a:rPr>
              <a:t>Тематический «Клубный час»   «Космос» </a:t>
            </a:r>
            <a:br>
              <a:rPr sz="1700"/>
            </a:br>
            <a:r>
              <a:rPr b="1" lang="ru-RU" sz="1700" spc="-1" strike="noStrike">
                <a:solidFill>
                  <a:srgbClr val="006666"/>
                </a:solidFill>
                <a:latin typeface="Arial"/>
                <a:ea typeface="DejaVu Sans"/>
              </a:rPr>
              <a:t>станция «Космическая мода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1370160" y="1827360"/>
            <a:ext cx="7316280" cy="39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742920" cy="2518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896000" y="1000080"/>
            <a:ext cx="3870000" cy="2814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4014360" cy="2671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tretch/>
        </p:blipFill>
        <p:spPr>
          <a:xfrm>
            <a:off x="4986360" y="3881520"/>
            <a:ext cx="379692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1332000" y="333360"/>
            <a:ext cx="7318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  <a:ea typeface="DejaVu Sans"/>
              </a:rPr>
              <a:t>Станция «Академия космических нау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4572000" y="907920"/>
            <a:ext cx="3752640" cy="273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60360" y="1011240"/>
            <a:ext cx="3671640" cy="5614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4481640" y="3816360"/>
            <a:ext cx="3870000" cy="28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50920" y="260280"/>
            <a:ext cx="80150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  <a:ea typeface="DejaVu Sans"/>
              </a:rPr>
              <a:t>Станция «Планетар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3816000" cy="2817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4751280" y="928800"/>
            <a:ext cx="3725640" cy="281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306360" y="3887640"/>
            <a:ext cx="3941280" cy="2684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tretch/>
        </p:blipFill>
        <p:spPr>
          <a:xfrm>
            <a:off x="4770360" y="4011480"/>
            <a:ext cx="36540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971640" y="260280"/>
            <a:ext cx="73162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  <a:ea typeface="DejaVu Sans"/>
              </a:rPr>
              <a:t>Станция «Космодро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79360" y="863640"/>
            <a:ext cx="4255560" cy="2952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5129280" y="851040"/>
            <a:ext cx="3580920" cy="2677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4824360" y="3816360"/>
            <a:ext cx="4103280" cy="280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4"/>
          <a:stretch/>
        </p:blipFill>
        <p:spPr>
          <a:xfrm>
            <a:off x="449280" y="4103640"/>
            <a:ext cx="3941280" cy="251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4360" y="333360"/>
            <a:ext cx="800208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  <a:ea typeface="DejaVu Sans"/>
              </a:rPr>
              <a:t>Деятельностный «Клубный час»  «Мастерская Деда Мороз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95280" y="919080"/>
            <a:ext cx="4032000" cy="2869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3816000" cy="2890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233280" y="3913200"/>
            <a:ext cx="4157280" cy="2782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4"/>
          <a:stretch/>
        </p:blipFill>
        <p:spPr>
          <a:xfrm>
            <a:off x="4680000" y="3984480"/>
            <a:ext cx="403200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1116000" y="401760"/>
            <a:ext cx="757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  <a:ea typeface="DejaVu Sans"/>
              </a:rPr>
              <a:t>В летний период «Клубные часы» проводились и на улице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  <a:ea typeface="DejaVu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370160" y="1827360"/>
            <a:ext cx="7316280" cy="39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887280" cy="2642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4680000" y="1079640"/>
            <a:ext cx="3941280" cy="2663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4699080" y="3862440"/>
            <a:ext cx="3939840" cy="2690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4"/>
          <a:stretch/>
        </p:blipFill>
        <p:spPr>
          <a:xfrm>
            <a:off x="468360" y="3933720"/>
            <a:ext cx="381600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826920" y="415800"/>
            <a:ext cx="782136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  <a:ea typeface="DejaVu Sans"/>
              </a:rPr>
              <a:t>Технология КЧ дает возможность активного и эффективного привлечения родителей к жизни детей в детском саду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  <a:ea typeface="DejaVu San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370160" y="1827360"/>
            <a:ext cx="7316280" cy="39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032000" cy="287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4608360" y="1295280"/>
            <a:ext cx="4301640" cy="273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4751280" y="4124160"/>
            <a:ext cx="3958920" cy="2571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144360" y="4319640"/>
            <a:ext cx="43016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395280" y="301680"/>
            <a:ext cx="8289720" cy="11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  <a:ea typeface="DejaVu Sans"/>
              </a:rPr>
              <a:t>Во время проведения КЧ  ощущается атмосфера одной большой дружной семьи, и несмотря на трудности, которые возникали при апробации данных технологий видны положительные результа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84040" y="1295280"/>
            <a:ext cx="4035240" cy="309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4122720" y="3481560"/>
            <a:ext cx="466200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515880" y="260280"/>
            <a:ext cx="8018280" cy="55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едагогическая технология «Клубный час», разработана творческим коллективом под руководством  Н.П. Гришаевой, старшим научным сотрудником ИС РАН и Струковой Л.М. педагогом-психологом ГБОУ 262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«Клубный час» - это особая современная технология развития личности ребёнка, которая заключается в том, что дети могут в течение одного часа свободно общаться друг с другом и  беспрепятственно перемещаться по детскому саду, соблюдая определенные правила поведения, и по сигналу возвращаться в групп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87280" y="3095640"/>
            <a:ext cx="4247640" cy="287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751280" y="3527280"/>
            <a:ext cx="4247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179280" y="260280"/>
            <a:ext cx="8505360" cy="56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</a:tabLst>
            </a:pPr>
            <a:r>
              <a:rPr b="1" lang="ru-RU" sz="8800" spc="-1" strike="noStrike">
                <a:solidFill>
                  <a:srgbClr val="280099"/>
                </a:solidFill>
                <a:latin typeface="Times New Roman"/>
                <a:ea typeface="DejaVu Sans"/>
              </a:rPr>
              <a:t>СПАСИБО ЗА 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716040" y="114480"/>
            <a:ext cx="7316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  <a:ea typeface="DejaVu Sans"/>
              </a:rPr>
              <a:t>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DejaVu Sans"/>
              </a:rPr>
              <a:t>Основными целями «Клубного часа»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16000" y="692280"/>
            <a:ext cx="853236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воспитывать у детей самостоятельность и ответственность за свои поступ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учить детей ориентироваться в простран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воспитывать  дружеские отношения между детьми различного возраста, уважительное отношение к окружающ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формировать умение проявлять инициативу  в заботе об окружающих, с благодарностью относиться к помощи и знакам вним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формировать  умение планировать свои действия и оценивать их результ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учить  детей вежливо выражать свою просьбу, благодарить за оказанную услуг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развивать стремление выражать свое отношение к окружающему, самостоятельно находить для этого различные речевые сре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формировать умение  решать  спорные вопросы и улаживать конфлик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оощрять попытки ребенка осознано делиться с педагогом и другими детьми разнообразными впечатлени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омогать приобретать жизненный опыт (смысловые образования) переживания необходимые для самоопределения и саморегуля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395280" y="115920"/>
            <a:ext cx="8291160" cy="11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DejaVu Sans"/>
              </a:rPr>
              <a:t>Для реализации  данной педагогической технологии необходима подготовительная работа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  <a:ea typeface="DejaVu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395280" y="1125360"/>
            <a:ext cx="829116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на заседании педагогического совета   принимается  Положение о КЧ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создается творческая групп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издается приказ об обеспечении безопасности во время проведения КЧ, назначаются ответственн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определяется тематика КЧ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составляется перспективный  пла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определяется порядок начала, сколько групп будет участвовать в первый КЧ, какие именно групп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родителей, на первом  собран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знакомят с данной технологией: к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это повлияет на развитие детей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каким образом будет обеспечи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их безопас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967280" y="3887640"/>
            <a:ext cx="3958920" cy="27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758880" y="189000"/>
            <a:ext cx="79275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DejaVu Sans"/>
              </a:rPr>
              <a:t>C детьми   проводится предварительная работ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539640" y="907920"/>
            <a:ext cx="8146800" cy="48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DejaVu Sans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организуется дискуссия «Что такое КЧ, зачем он нужен, что мы будем делать во время КЧ и кто хотел бы на него пойт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обсуждается, какие группы есть в детском саду. Возраст детей в этих группах и на каком этаже  они находя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определяется, какие есть помещения в детском саду. Как они называются, кто там работает, чем заним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еред каждым «тематическим» или «деятельностным» КЧ составляется план - карта, со схемой деятельности в каждой груп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еред проведением  первого  КЧ с детьми обсуждаются все правила и  непосредственно перед каждым КЧ они кратко  повторя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539640" y="3957480"/>
            <a:ext cx="3903480" cy="2639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4809960" y="4005360"/>
            <a:ext cx="3792240" cy="25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431640" y="189000"/>
            <a:ext cx="82548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DejaVu Sans"/>
              </a:rPr>
              <a:t>Правила  «Клубного часа»  для  дет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31640" y="1052640"/>
            <a:ext cx="825480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Говори «Здравствуйте!» при встрече и «До свидания» при проща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Если взял игрушку поиграть – положи ее на место, когда уходиш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Не отнимай игрушки у других детей, если они взяли ее первы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Говори спокой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Ходи спокой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Возвращайся в группу по сигналу зво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Если не хочешь ходить в другие группы, то можно остаться в своей или вернуться в нее, если уста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Доводи начатое дело до ко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31640" y="4084560"/>
            <a:ext cx="3941280" cy="253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824360" y="3600360"/>
            <a:ext cx="403200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190440" y="0"/>
            <a:ext cx="847044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DejaVu Sans"/>
              </a:rPr>
              <a:t>«Клубные часы» могут проводиться в различных формах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39640" y="874800"/>
            <a:ext cx="8146800" cy="49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 algn="ctr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как образовательная деятельность в утренние час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ctr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как деятельность в группах по интерес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ctr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как одна из форм организации прогул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ctr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как итоговое мероприятие тематической не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  <a:ea typeface="DejaVu San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216000" y="3095640"/>
            <a:ext cx="4103280" cy="2734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4664160" y="3456000"/>
            <a:ext cx="4047840" cy="28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324000" y="0"/>
            <a:ext cx="838008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DejaVu Sans"/>
              </a:rPr>
              <a:t>«Клубные часы» бывают разных видов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324000" y="627120"/>
            <a:ext cx="8210160" cy="53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«Свободный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предполагает свободное перемещение детей по всей территории детского сада и самостоятельную организацию разновозрастного общения по интереса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«Тематический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проводится по определенной тематике, обычно как итоговое мероприятие тематической недели и проходит в виде конкурсов, викторин, просмотра проектов, продуктивной деятельности и т.д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в основ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«Деятельностного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включаются различные виды детск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«Творческий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предполагает организацию деятельности для всех приходящих  детей  дошкольниками подготовительной к школе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6360" y="4103640"/>
            <a:ext cx="3725640" cy="2518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4338720" y="4084560"/>
            <a:ext cx="423036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1370160" y="439560"/>
            <a:ext cx="731628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  <a:ea typeface="DejaVu Sans"/>
              </a:rPr>
              <a:t>В 2017 году  Н.П. Гришаевой и ее  творческим коллективом были разработаны еще несколько видов «Клубных часов»: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654120" y="1052640"/>
            <a:ext cx="792432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«Группообразование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- дети проводят КЧ, объединившись в группы, команды для развития групповых нав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«Квест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- дети на территории участка или в помещении ищут по схеме какую-либо вещь, предмет, решают какую-либо задач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«Музейный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- дети в «ситуации месяца» собирают у себя музейные экспонаты, а затем в конце месяца самостоятельно проводят экскурсии для других пришедших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"/>
              <a:tabLst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«Большая игра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- в игре есть сюжет и персонажи, по ходу игры дошкольники самостояте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действуют в ситуациях без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взрослых. Задания для детей долж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обязательно развивать 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социальные навы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4900680" y="3468600"/>
            <a:ext cx="4028760" cy="32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theme/theme1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391</TotalTime>
  <Application>LibreOffice/7.4.7.2$Linux_X86_64 LibreOffice_project/40$Build-2</Application>
  <AppVersion>15.0000</AppVersion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18T09:16:59Z</dcterms:created>
  <dc:creator>Work</dc:creator>
  <dc:description/>
  <dc:language>en-US</dc:language>
  <cp:lastModifiedBy>Белгород Склад</cp:lastModifiedBy>
  <cp:lastPrinted>1601-01-01T00:00:00Z</cp:lastPrinted>
  <dcterms:modified xsi:type="dcterms:W3CDTF">2020-09-03T11:59:45Z</dcterms:modified>
  <cp:revision>12</cp:revision>
  <dc:subject/>
  <dc:title>Технологии «Клубный час» и «Рефлексивный круг»: задачи и методика проведения в образовательной деятельности со старшими дошкольникам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On-screen Show (4:3)</vt:lpwstr>
  </property>
  <property fmtid="{D5CDD505-2E9C-101B-9397-08002B2CF9AE}" pid="4" name="Slides">
    <vt:r8>20</vt:r8>
  </property>
</Properties>
</file>