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861-814C-4D12-AB6A-CF0683E4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EE3-8BA2-41D1-A3AA-737B6009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CD2-B56B-4A90-8932-F627DB3A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0F1-2F46-42A8-9F06-E8BC5E8D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4C2-AFF6-42DB-A816-3773F6F5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806-65D8-44AA-978B-7BFDF78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2E1-2E77-4FF9-87EE-4A119260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81D-AEAE-488E-850F-F8ABBFA2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DF9-782A-4562-B453-800C0AD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712-FF8C-4C7B-A12A-4E6AC1A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015-6E85-4F54-BE94-69AE9AE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D85-FAD4-421F-8A2B-1FFB0EF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2C9-B97C-456A-AF33-7532F27B9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-27000"/>
            <a:ext cx="1011888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9560" y="1882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личие натурального меда                                         от фальсифицированног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24080" y="4495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ыполнил: ученик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ниматкин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39560" y="214200"/>
            <a:ext cx="82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БОУ «Барашев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ньгушевск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2079000" y="1063800"/>
            <a:ext cx="50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30920" y="64008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148840" y="2746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к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52280" y="882720"/>
            <a:ext cx="6858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веточ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ечиш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пов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д из разнотра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ровел с ними органолептический и физико- химический анал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304920" y="2971800"/>
            <a:ext cx="4572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Зрелость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: Подогрел его немного, помешивая его ложкой. Вынул ложку, повращал ее. Если продукт зрелый, он навернется на ложку, если не зрелый, стеч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Вывод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Мед №1 оказался не зр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5000760" y="3200400"/>
            <a:ext cx="401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04920" y="7920"/>
            <a:ext cx="45720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ома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туральный мед очень душистый. Его запах нельзя ни с чем сравнить. Если в нем есть сахар, аромата почти нет, на вкус он напоминает сладкую води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2 имеет слабый аро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28440" y="1905120"/>
            <a:ext cx="570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28600" y="36360"/>
            <a:ext cx="457200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язкост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уститил в емкость со сладким продуктом тонкую деревянную палочку, вытаскивая ее, посмотрел на мед. Если он тянется за палочкой тонкой непрерывной нитью. А когда она прерывается, то опускается вся целиком, образуя на поверхности башенку – берите без сомнения, он натура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1 не тяну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685800" y="3094200"/>
            <a:ext cx="5315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0" y="0"/>
            <a:ext cx="45720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истен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она у настоящего продукта нежная, легкая. Сладость легко растереть между пальцами руки, она легко впитается в кожу. Не настоящий мед липкий, оставляет ком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 1 и Мед №4  липнет к ру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76320" y="2222640"/>
            <a:ext cx="59436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52280" y="111240"/>
            <a:ext cx="58676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пнул  немного меда на промокашку. Если он растечется, оставит влажные пятна – продукт разбавили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2 имеет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117360" y="1719360"/>
            <a:ext cx="8909280" cy="3419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76716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3220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098760" y="361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8376840" y="361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9" descr=""/>
          <p:cNvPicPr/>
          <p:nvPr/>
        </p:nvPicPr>
        <p:blipFill>
          <a:blip r:embed="rId3"/>
          <a:stretch/>
        </p:blipFill>
        <p:spPr>
          <a:xfrm>
            <a:off x="5273640" y="4092480"/>
            <a:ext cx="3225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52280" y="0"/>
            <a:ext cx="64008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ус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 сладкий, приятный. Натуральный мед раздражает слизистую оболочку рта и гортани. Для определения вкуса меда, сначала подогревают пробу до температуры 30 градусов, затем пробуют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Мед №4не раздражает оболочку рта и гортани. Пробовали мед 5 человек и все сошлись к единому мнению, что  всех вкуснее ме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824040" y="2424240"/>
            <a:ext cx="50576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2301480" y="1522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Физико -химический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920" y="646200"/>
            <a:ext cx="4572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Метод определения мела в мё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меду, разбавленному дистиллированной  водой, добавить несколько капель уксуса. При наличии мела происходит вскипание смеси из-за выделения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в меде №4 наблюдал вскип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304920" y="2913120"/>
            <a:ext cx="5014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152280" y="0"/>
            <a:ext cx="45720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Метод определения муки или крахм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г меда растворил в 5-10 мл воды, нагрел до кипения и прибавил несколько капель раствора йода. При наличии муки или крахмала появиться синее о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 ни в одном исследуемом мёде не было обнаружено крахмала и м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762120" y="2498760"/>
            <a:ext cx="67816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380880" y="76320"/>
            <a:ext cx="457200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Метод определения глю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раствору меда добавил 5 - 10% раствора нитрата серебра. Если добавлена сахарная потока, то появиться белый осадок хлорида серебра, чего никогда не бывает в чистом м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в мёде № 2 и мёде  №4 было небольшое помут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98280" y="30099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3909960" y="2654280"/>
            <a:ext cx="52340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152280" y="29844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0" y="138240"/>
            <a:ext cx="62485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казатели кисло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имический стакан налил 100мл. 10% водного раствора меда. Прибавил 5 капель 1% спиртного раствора фенолфталеина,  5мл. 0,1% раствора едкого натра. Раствор остался бесцветным,  значит, мед имеет повышенную кислотность. Если раствор окрасился в малиновый цвет, то мед имеет нормальную кисло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  в исследуемом мёде  нормальная кило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2"/>
          <a:stretch/>
        </p:blipFill>
        <p:spPr>
          <a:xfrm>
            <a:off x="33480" y="3589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4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"/>
          <p:cNvPicPr/>
          <p:nvPr/>
        </p:nvPicPr>
        <p:blipFill>
          <a:blip r:embed="rId5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"/>
          <p:cNvPicPr/>
          <p:nvPr/>
        </p:nvPicPr>
        <p:blipFill>
          <a:blip r:embed="rId6"/>
          <a:stretch/>
        </p:blipFill>
        <p:spPr>
          <a:xfrm>
            <a:off x="1317600" y="54000"/>
            <a:ext cx="6705720" cy="6705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"/>
          <p:cNvPicPr/>
          <p:nvPr/>
        </p:nvPicPr>
        <p:blipFill>
          <a:blip r:embed="rId7"/>
          <a:stretch/>
        </p:blipFill>
        <p:spPr>
          <a:xfrm>
            <a:off x="-152280" y="341280"/>
            <a:ext cx="9138960" cy="6095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"/>
          <p:cNvPicPr/>
          <p:nvPr/>
        </p:nvPicPr>
        <p:blipFill>
          <a:blip r:embed="rId8"/>
          <a:stretch/>
        </p:blipFill>
        <p:spPr>
          <a:xfrm>
            <a:off x="73080" y="358920"/>
            <a:ext cx="89298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152280" y="0"/>
            <a:ext cx="6248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  приме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гр. меда  50мл. дистиллированной воды, нагреть до 50⁰С, полученный раствор вылить в цилиндр из светлого стекла вместимостью 100мл.   Примеси, если присутствуют, будут плавать в растворе или же находиться на д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есь мед имел прим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184320" y="2438280"/>
            <a:ext cx="5306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469800" y="325440"/>
            <a:ext cx="6311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фальсифицированным медом оказался мед под номером №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ачественным медом  из всех оказался мед под номером №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1676520" y="1649520"/>
            <a:ext cx="54925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685800" y="3276720"/>
            <a:ext cx="4572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Так устроена природа: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Нет без пчел в природе меда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Без цветочков нету пчел -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Это я давно учел!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Лета ждать уже недолго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Прилетай скорее пчелка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Дай мне с каждого цветка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Килограмма два ме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838080" y="152280"/>
            <a:ext cx="47959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работе  «Отличие натурального меда от фальсифицированного»   я исследовал   его физический и  химический состав, лечебные свойства, классификацию, также изучил  качественный состав нескольких сортов меда и определил натуральные они или фальсифициров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подтвердилась, что  изучив  способы подделки  меда, можно определить натуральный он или фальсифиц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4257720" y="3392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441520" y="174600"/>
            <a:ext cx="6783480" cy="6292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6320" y="-76320"/>
            <a:ext cx="480060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исследования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учиться различать натуральный мед от фальсифициров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1. Провести анализ литературных источников истории меда, классификации, по его качественному составу соответствующим нормам Г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2. Изучить и освоить методику определения качественного состава м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3. Определить качество меда разных сортов по ГОС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ъект исследовани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различные сорта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исследования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чественный состав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Гипотеза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: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изучив  способы подделки  меда, можно определить натуральный он или фальсифицир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я выбрал эту исследовательскую работ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брал эту исследовательскую работу потому что мне стало интересно  научиться  отличать  хороший мед от  фальсифицирова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923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9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 содержит 13—22 % воды, 75—80 % углеводов (глюкоза, фруктоза, сахароза), а также в незначительных количествах витамины В1, В2, В6, Е, К, С, каротин (провитамин витамина A), фолиевую кисл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Unikalnyy_sostav_meda_raznoobrazie_komponentov_1"/>
          <p:cNvPicPr/>
          <p:nvPr/>
        </p:nvPicPr>
        <p:blipFill>
          <a:blip r:embed="rId2"/>
          <a:stretch/>
        </p:blipFill>
        <p:spPr>
          <a:xfrm>
            <a:off x="4495680" y="1905120"/>
            <a:ext cx="4638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22320" y="-42840"/>
            <a:ext cx="10067760" cy="6900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42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роисходит производство м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69800" y="1254600"/>
            <a:ext cx="373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ёд - это результат переработки пчёлами цветочного нектара, а сахаристые выделения - это падь, выделяемая тлёй или медвяная роса.  Итак, пчёлы делают мёд из нектара медоносных растений.   Единственная  функция нектара - привлечение насекомых для опы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1524906785198967365"/>
          <p:cNvPicPr/>
          <p:nvPr/>
        </p:nvPicPr>
        <p:blipFill>
          <a:blip r:embed="rId3"/>
          <a:stretch/>
        </p:blipFill>
        <p:spPr>
          <a:xfrm>
            <a:off x="4203720" y="1763640"/>
            <a:ext cx="5721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ие виды пчел производят 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640" y="1240920"/>
            <a:ext cx="426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пчёлы выполняют все работы внутри улья и вне его. Они чистят гнездо, готовят ячейки сот для откладки в них яиц маткой, выделяют воск и строят новые соты, выкармливают личинок, поддерживают в улье необходимую температуру, охраняют гнездо, собирают с цветков растений нектар и пыльцу и приносят их в улей; словом, рабочие пчёлы выполняют все работы, связанные с жизнью пчелиной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роизводство тепла отвечают «пчёлы-печки», которые с большой точностью регулируют выработку тепла и способны разогреваться до 44 °C. Одна такая пчела, забравшись в свободную ячейку, способна обеспечить теплом до 70 куколок, а всего в зависимости от размеров колонии количество таких пчёл может составлять от нескольких штук до нескольких сотен. Температура, при которой развивалась куколка, влияет на будущую «профессию»: куколка, развившаяся при 35 °C, станет фуражиром, а при 34 °C — домохозяйкой. Кроме того, специализация пчелы зависит от врождённой реакции на стимулы: особи, реагирующие на положительные стимулы (пища), становятся сборщиками, а на отрицательные (опасность) — охран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img_6089"/>
          <p:cNvPicPr/>
          <p:nvPr/>
        </p:nvPicPr>
        <p:blipFill>
          <a:blip r:embed="rId2"/>
          <a:stretch/>
        </p:blipFill>
        <p:spPr>
          <a:xfrm>
            <a:off x="4800600" y="3505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27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виды 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04920" y="1068480"/>
            <a:ext cx="5105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виды меда: цветочный и падевый (лесной). Которые в свою очередь делятся уже на различные с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для создания новых сортов меда их смешивают, если правильно подобрать и смешать различные сорта, то это улучшает качество, а не правильный подбор, наоборот, может сделать только ху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очный мед бывает монофлерный и полифлер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офлерный — переработанный из нектара одного вида медоносного растения, например, липа, гречиха, акация и т.д. Мед из одного вида растения меда встречается очень редко, т.к. сложно ограничить пчел от всех остальных растений, например, кроме гречихи. Поэтому монофлерным медом принято считать такой мед, в котором преобладает пыльца какого-нибудь одного раст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med_kosmeticheskij_savonry_cvetochnij_med-6"/>
          <p:cNvPicPr/>
          <p:nvPr/>
        </p:nvPicPr>
        <p:blipFill>
          <a:blip r:embed="rId2"/>
          <a:stretch/>
        </p:blipFill>
        <p:spPr>
          <a:xfrm>
            <a:off x="1251000" y="4135320"/>
            <a:ext cx="3429000" cy="2478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1757520" y="626112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веточ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1373454"/>
          <p:cNvPicPr/>
          <p:nvPr/>
        </p:nvPicPr>
        <p:blipFill>
          <a:blip r:embed="rId3"/>
          <a:stretch/>
        </p:blipFill>
        <p:spPr>
          <a:xfrm>
            <a:off x="5159520" y="3691080"/>
            <a:ext cx="4038480" cy="2989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6444000" y="62434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дев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999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рдова Наталья</dc:creator>
  <dc:description/>
  <dc:language>en-US</dc:language>
  <cp:lastModifiedBy>Бердова Наталья</cp:lastModifiedBy>
  <dcterms:modified xsi:type="dcterms:W3CDTF">2020-09-04T09:41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