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F0D-2EF6-4827-986E-8A881905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621-187F-4F57-85D2-7480E4C8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F5D-2E74-4611-84A6-D524897D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15D-6FE5-4A08-B578-2AB29044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41A-9ADA-426C-A8BB-09E9F66E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7A0-C86E-472E-861A-8E028341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AF9-E819-41FA-8CAD-F667EB93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A01-6E12-46B7-80BE-6BEC1F7B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C0F-220C-432E-B798-E8FA77BB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F17-D5AF-4339-9025-0467EBAF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614-A413-41DA-A33F-824C36FB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C16-4DCE-48E5-AE3E-9C276DF8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4E26-0BE1-4C70-801E-1C0A80254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0" y="-27000"/>
            <a:ext cx="1011888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9560" y="1882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личие натурального меда                                         от фальсифицированног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24080" y="44953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Выполнил: ученик 9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ониматкин Иго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39560" y="214200"/>
            <a:ext cx="826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МБОУ «Барашевская средняя общеобразовательная школ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Теньгушевского район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2079000" y="1063800"/>
            <a:ext cx="50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Исследователь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030920" y="640080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201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2148840" y="27468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ктическ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152280" y="882720"/>
            <a:ext cx="68580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веточный 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речишный 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иповый 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д из разнотрав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провел с ними органолептический и физико- химический анали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304920" y="2971800"/>
            <a:ext cx="4572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Зрелость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: Подогрел его немного, помешивая его ложкой. Вынул ложку, повращал ее. Если продукт зрелый, он навернется на ложку, если не зрелый, стеч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Вывод: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Мед №1 оказался не зре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7" descr=""/>
          <p:cNvPicPr/>
          <p:nvPr/>
        </p:nvPicPr>
        <p:blipFill>
          <a:blip r:embed="rId2"/>
          <a:stretch/>
        </p:blipFill>
        <p:spPr>
          <a:xfrm>
            <a:off x="5000760" y="3200400"/>
            <a:ext cx="4019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304920" y="7920"/>
            <a:ext cx="457200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рома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туральный мед очень душистый. Его запах нельзя ни с чем сравнить. Если в нем есть сахар, аромата почти нет, на вкус он напоминает сладкую води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д №2 имеет слабый аро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2"/>
          <a:stretch/>
        </p:blipFill>
        <p:spPr>
          <a:xfrm>
            <a:off x="28440" y="1905120"/>
            <a:ext cx="5708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228600" y="36360"/>
            <a:ext cx="457200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язкост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пуститил в емкость со сладким продуктом тонкую деревянную палочку, вытаскивая ее, посмотрел на мед. Если он тянется за палочкой тонкой непрерывной нитью. А когда она прерывается, то опускается вся целиком, образуя на поверхности башенку – берите без сомнения, он натура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д №1 не тянул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"/>
          <p:cNvPicPr/>
          <p:nvPr/>
        </p:nvPicPr>
        <p:blipFill>
          <a:blip r:embed="rId2"/>
          <a:stretch/>
        </p:blipFill>
        <p:spPr>
          <a:xfrm>
            <a:off x="685800" y="3094200"/>
            <a:ext cx="5315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0" y="0"/>
            <a:ext cx="457200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истен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она у настоящего продукта нежная, легкая. Сладость легко растереть между пальцами руки, она легко впитается в кожу. Не настоящий мед липкий, оставляет ком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д № 1 и Мед №4  липнет к ру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4" descr=""/>
          <p:cNvPicPr/>
          <p:nvPr/>
        </p:nvPicPr>
        <p:blipFill>
          <a:blip r:embed="rId2"/>
          <a:stretch/>
        </p:blipFill>
        <p:spPr>
          <a:xfrm>
            <a:off x="76320" y="2222640"/>
            <a:ext cx="594360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"/>
          <p:cNvSpPr/>
          <p:nvPr/>
        </p:nvSpPr>
        <p:spPr>
          <a:xfrm>
            <a:off x="152280" y="111240"/>
            <a:ext cx="5867640" cy="14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апнул  немного меда на промокашку. Если он растечется, оставит влажные пятна – продукт разбавили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д №2 имеет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2"/>
          <a:stretch/>
        </p:blipFill>
        <p:spPr>
          <a:xfrm>
            <a:off x="117360" y="1719360"/>
            <a:ext cx="8909280" cy="34192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76716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332208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6098760" y="361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8376840" y="361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9" descr=""/>
          <p:cNvPicPr/>
          <p:nvPr/>
        </p:nvPicPr>
        <p:blipFill>
          <a:blip r:embed="rId3"/>
          <a:stretch/>
        </p:blipFill>
        <p:spPr>
          <a:xfrm>
            <a:off x="5273640" y="4092480"/>
            <a:ext cx="322596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152280" y="0"/>
            <a:ext cx="640080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ус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ычно сладкий, приятный. Натуральный мед раздражает слизистую оболочку рта и гортани. Для определения вкуса меда, сначала подогревают пробу до температуры 30 градусов, затем пробуют.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270000"/>
                <a:tab algn="l" pos="80964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Мед №4не раздражает оболочку рта и гортани. Пробовали мед 5 человек и все сошлись к единому мнению, что  всех вкуснее мед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4" descr=""/>
          <p:cNvPicPr/>
          <p:nvPr/>
        </p:nvPicPr>
        <p:blipFill>
          <a:blip r:embed="rId2"/>
          <a:stretch/>
        </p:blipFill>
        <p:spPr>
          <a:xfrm>
            <a:off x="824040" y="2424240"/>
            <a:ext cx="50576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2301480" y="1522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Физико -химический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304920" y="646200"/>
            <a:ext cx="45720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Метод определения мела в мё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меду, разбавленному дистиллированной  водой, добавить несколько капель уксуса. При наличии мела происходит вскипание смеси из-за выделения углекислого г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в меде №4 наблюдал вскип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304920" y="2913120"/>
            <a:ext cx="50148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"/>
          <p:cNvSpPr/>
          <p:nvPr/>
        </p:nvSpPr>
        <p:spPr>
          <a:xfrm>
            <a:off x="152280" y="0"/>
            <a:ext cx="45720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Метод определения муки или крахм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 г меда растворил в 5-10 мл воды, нагрел до кипения и прибавил несколько капель раствора йода. При наличии муки или крахмала появиться синее окраш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 ни в одном исследуемом мёде не было обнаружено крахмала и м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" descr=""/>
          <p:cNvPicPr/>
          <p:nvPr/>
        </p:nvPicPr>
        <p:blipFill>
          <a:blip r:embed="rId2"/>
          <a:stretch/>
        </p:blipFill>
        <p:spPr>
          <a:xfrm>
            <a:off x="762120" y="2498760"/>
            <a:ext cx="67816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2"/>
          <p:cNvSpPr/>
          <p:nvPr/>
        </p:nvSpPr>
        <p:spPr>
          <a:xfrm>
            <a:off x="380880" y="76320"/>
            <a:ext cx="457200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Метод определения глюк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раствору меда добавил 5 - 10% раствора нитрата серебра. Если добавлена сахарная потока, то появиться белый осадок хлорида серебра, чего никогда не бывает в чистом м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в мёде № 2 и мёде  №4 было небольшое помут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2"/>
          <a:stretch/>
        </p:blipFill>
        <p:spPr>
          <a:xfrm>
            <a:off x="98280" y="300996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"/>
          <p:cNvPicPr/>
          <p:nvPr/>
        </p:nvPicPr>
        <p:blipFill>
          <a:blip r:embed="rId3"/>
          <a:stretch/>
        </p:blipFill>
        <p:spPr>
          <a:xfrm>
            <a:off x="3909960" y="2654280"/>
            <a:ext cx="52340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tretch/>
        </p:blipFill>
        <p:spPr>
          <a:xfrm>
            <a:off x="152280" y="2984400"/>
            <a:ext cx="5715000" cy="38862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0" y="138240"/>
            <a:ext cx="62485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оказатели кисло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химический стакан налил 100мл. 10% водного раствора меда. Прибавил 5 капель 1% спиртного раствора фенолфталеина,  5мл. 0,1% раствора едкого натра. Раствор остался бесцветным,  значит, мед имеет повышенную кислотность. Если раствор окрасился в малиновый цвет, то мед имеет нормальную кисло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  в исследуемом мёде  нормальная кило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"/>
          <p:cNvPicPr/>
          <p:nvPr/>
        </p:nvPicPr>
        <p:blipFill>
          <a:blip r:embed="rId2"/>
          <a:stretch/>
        </p:blipFill>
        <p:spPr>
          <a:xfrm>
            <a:off x="33480" y="358920"/>
            <a:ext cx="9144000" cy="60958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"/>
          <p:cNvPicPr/>
          <p:nvPr/>
        </p:nvPicPr>
        <p:blipFill>
          <a:blip r:embed="rId3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"/>
          <p:cNvPicPr/>
          <p:nvPr/>
        </p:nvPicPr>
        <p:blipFill>
          <a:blip r:embed="rId4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2" descr=""/>
          <p:cNvPicPr/>
          <p:nvPr/>
        </p:nvPicPr>
        <p:blipFill>
          <a:blip r:embed="rId5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3" descr=""/>
          <p:cNvPicPr/>
          <p:nvPr/>
        </p:nvPicPr>
        <p:blipFill>
          <a:blip r:embed="rId6"/>
          <a:stretch/>
        </p:blipFill>
        <p:spPr>
          <a:xfrm>
            <a:off x="1317600" y="54000"/>
            <a:ext cx="6705720" cy="6705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4" descr=""/>
          <p:cNvPicPr/>
          <p:nvPr/>
        </p:nvPicPr>
        <p:blipFill>
          <a:blip r:embed="rId7"/>
          <a:stretch/>
        </p:blipFill>
        <p:spPr>
          <a:xfrm>
            <a:off x="-152280" y="341280"/>
            <a:ext cx="9138960" cy="60958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5" descr=""/>
          <p:cNvPicPr/>
          <p:nvPr/>
        </p:nvPicPr>
        <p:blipFill>
          <a:blip r:embed="rId8"/>
          <a:stretch/>
        </p:blipFill>
        <p:spPr>
          <a:xfrm>
            <a:off x="73080" y="358920"/>
            <a:ext cx="89298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2"/>
          <p:cNvSpPr/>
          <p:nvPr/>
        </p:nvSpPr>
        <p:spPr>
          <a:xfrm>
            <a:off x="152280" y="0"/>
            <a:ext cx="62485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держание   приме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гр. меда  50мл. дистиллированной воды, нагреть до 50⁰С, полученный раствор вылить в цилиндр из светлого стекла вместимостью 100мл.   Примеси, если присутствуют, будут плавать в растворе или же находиться на дн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весь мед имел приме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6" descr=""/>
          <p:cNvPicPr/>
          <p:nvPr/>
        </p:nvPicPr>
        <p:blipFill>
          <a:blip r:embed="rId2"/>
          <a:stretch/>
        </p:blipFill>
        <p:spPr>
          <a:xfrm>
            <a:off x="184320" y="2438280"/>
            <a:ext cx="5306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469800" y="325440"/>
            <a:ext cx="63118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фальсифицированным медом оказался мед под номером №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качественным медом  из всех оказался мед под номером №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3" descr=""/>
          <p:cNvPicPr/>
          <p:nvPr/>
        </p:nvPicPr>
        <p:blipFill>
          <a:blip r:embed="rId2"/>
          <a:stretch/>
        </p:blipFill>
        <p:spPr>
          <a:xfrm>
            <a:off x="1676520" y="1649520"/>
            <a:ext cx="549252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Объект 3" descr=""/>
          <p:cNvPicPr/>
          <p:nvPr/>
        </p:nvPicPr>
        <p:blipFill>
          <a:blip r:embed="rId1"/>
          <a:stretch/>
        </p:blipFill>
        <p:spPr>
          <a:xfrm>
            <a:off x="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2"/>
          <p:cNvSpPr/>
          <p:nvPr/>
        </p:nvSpPr>
        <p:spPr>
          <a:xfrm>
            <a:off x="685800" y="3276720"/>
            <a:ext cx="4572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5555"/>
                </a:solidFill>
                <a:latin typeface="Times New Roman"/>
                <a:ea typeface="Calibri"/>
              </a:rPr>
              <a:t>Так устроена природа: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Times New Roman"/>
                <a:ea typeface="Calibri"/>
              </a:rPr>
              <a:t>Нет без пчел в природе меда,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Times New Roman"/>
                <a:ea typeface="Calibri"/>
              </a:rPr>
              <a:t>Без цветочков нету пчел -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Times New Roman"/>
                <a:ea typeface="Calibri"/>
              </a:rPr>
              <a:t>Это я давно учел!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Times New Roman"/>
                <a:ea typeface="Calibri"/>
              </a:rPr>
              <a:t>Лета ждать уже недолго,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Times New Roman"/>
                <a:ea typeface="Calibri"/>
              </a:rPr>
              <a:t>Прилетай скорее пчелка,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Times New Roman"/>
                <a:ea typeface="Calibri"/>
              </a:rPr>
              <a:t>Дай мне с каждого цветка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Times New Roman"/>
                <a:ea typeface="Calibri"/>
              </a:rPr>
              <a:t>Килограмма два ме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838080" y="152280"/>
            <a:ext cx="479592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работе  «Отличие натурального меда от фальсифицированного»   я исследовал   его физический и  химический состав, лечебные свойства, классификацию, также изучил  качественный состав нескольких сортов меда и определил натуральные они или фальсифициров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гипотеза подтвердилась, что  изучив  способы подделки  меда, можно определить натуральный он или фальсифиц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2"/>
          <a:stretch/>
        </p:blipFill>
        <p:spPr>
          <a:xfrm>
            <a:off x="4257720" y="3392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2441520" y="174600"/>
            <a:ext cx="6783480" cy="62928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76320" y="-76320"/>
            <a:ext cx="4800600" cy="64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Цель исследования: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научиться различать натуральный мед от фальсифицирова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1. Провести анализ литературных источников истории меда, классификации, по его качественному составу соответствующим нормам ГО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2. Изучить и освоить методику определения качественного состава ме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3. Определить качество меда разных сортов по ГОС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Объект исследования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: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различные сорта м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мет исследования: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качественный состав м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Гипотеза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: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 изучив  способы подделки  меда, можно определить натуральный он или фальсифицирова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чему я выбрал эту исследовательскую работу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выбрал эту исследовательскую работу потому что мне стало интересно  научиться  отличать  хороший мед от  фальсифицирова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9234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м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760" y="12794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 содержит 13—22 % воды, 75—80 % углеводов (глюкоза, фруктоза, сахароза), а также в незначительных количествах витамины В1, В2, В6, Е, К, С, каротин (провитамин витамина A), фолиевую кисл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Unikalnyy_sostav_meda_raznoobrazie_komponentov_1"/>
          <p:cNvPicPr/>
          <p:nvPr/>
        </p:nvPicPr>
        <p:blipFill>
          <a:blip r:embed="rId2"/>
          <a:stretch/>
        </p:blipFill>
        <p:spPr>
          <a:xfrm>
            <a:off x="4495680" y="1905120"/>
            <a:ext cx="4638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2"/>
          <a:stretch/>
        </p:blipFill>
        <p:spPr>
          <a:xfrm>
            <a:off x="22320" y="-42840"/>
            <a:ext cx="10067760" cy="6900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42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происходит производство ме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69800" y="1254600"/>
            <a:ext cx="3733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ёд - это результат переработки пчёлами цветочного нектара, а сахаристые выделения - это падь, выделяемая тлёй или медвяная роса.  Итак, пчёлы делают мёд из нектара медоносных растений.   Единственная  функция нектара - привлечение насекомых для опы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1524906785198967365"/>
          <p:cNvPicPr/>
          <p:nvPr/>
        </p:nvPicPr>
        <p:blipFill>
          <a:blip r:embed="rId3"/>
          <a:stretch/>
        </p:blipFill>
        <p:spPr>
          <a:xfrm>
            <a:off x="4203720" y="1763640"/>
            <a:ext cx="57214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ие виды пчел производят м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640" y="1240920"/>
            <a:ext cx="426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чие пчёлы выполняют все работы внутри улья и вне его. Они чистят гнездо, готовят ячейки сот для откладки в них яиц маткой, выделяют воск и строят новые соты, выкармливают личинок, поддерживают в улье необходимую температуру, охраняют гнездо, собирают с цветков растений нектар и пыльцу и приносят их в улей; словом, рабочие пчёлы выполняют все работы, связанные с жизнью пчелиной сем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производство тепла отвечают «пчёлы-печки», которые с большой точностью регулируют выработку тепла и способны разогреваться до 44 °C. Одна такая пчела, забравшись в свободную ячейку, способна обеспечить теплом до 70 куколок, а всего в зависимости от размеров колонии количество таких пчёл может составлять от нескольких штук до нескольких сотен. Температура, при которой развивалась куколка, влияет на будущую «профессию»: куколка, развившаяся при 35 °C, станет фуражиром, а при 34 °C — домохозяйкой. Кроме того, специализация пчелы зависит от врождённой реакции на стимулы: особи, реагирующие на положительные стимулы (пища), становятся сборщиками, а на отрицательные (опасность) — охранни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img_6089"/>
          <p:cNvPicPr/>
          <p:nvPr/>
        </p:nvPicPr>
        <p:blipFill>
          <a:blip r:embed="rId2"/>
          <a:stretch/>
        </p:blipFill>
        <p:spPr>
          <a:xfrm>
            <a:off x="4800600" y="3505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27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новные виды м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04920" y="1068480"/>
            <a:ext cx="51051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виды меда: цветочный и падевый (лесной). Которые в свою очередь делятся уже на различные со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для создания новых сортов меда их смешивают, если правильно подобрать и смешать различные сорта, то это улучшает качество, а не правильный подбор, наоборот, может сделать только ху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веточный мед бывает монофлерный и полифлер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офлерный — переработанный из нектара одного вида медоносного растения, например, липа, гречиха, акация и т.д. Мед из одного вида растения меда встречается очень редко, т.к. сложно ограничить пчел от всех остальных растений, например, кроме гречихи. Поэтому монофлерным медом принято считать такой мед, в котором преобладает пыльца какого-нибудь одного раст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med_kosmeticheskij_savonry_cvetochnij_med-6"/>
          <p:cNvPicPr/>
          <p:nvPr/>
        </p:nvPicPr>
        <p:blipFill>
          <a:blip r:embed="rId2"/>
          <a:stretch/>
        </p:blipFill>
        <p:spPr>
          <a:xfrm>
            <a:off x="1251000" y="4135320"/>
            <a:ext cx="3429000" cy="24782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1757520" y="626112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веточный 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4" descr="1373454"/>
          <p:cNvPicPr/>
          <p:nvPr/>
        </p:nvPicPr>
        <p:blipFill>
          <a:blip r:embed="rId3"/>
          <a:stretch/>
        </p:blipFill>
        <p:spPr>
          <a:xfrm>
            <a:off x="5159520" y="3691080"/>
            <a:ext cx="4038480" cy="2989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6444000" y="624348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девый 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7999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ердова Наталья</dc:creator>
  <dc:description/>
  <dc:language>en-US</dc:language>
  <cp:lastModifiedBy>Бердова Наталья</cp:lastModifiedBy>
  <dcterms:modified xsi:type="dcterms:W3CDTF">2020-09-04T09:41:4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