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4110-80E5-48D2-A1E9-7D77A836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FB6-65ED-4BFA-9547-000430C3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2F8-39E4-47B0-8AA0-5DAC14C3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27F3-B0E0-40AA-8180-887A19BC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D046-8127-48BE-81C4-52D00C56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8675-7402-49F3-91F9-3A2FBE6C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1D6D-271C-45CC-B798-C25077C2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E4E5-55B5-4C2B-AB86-B8E1BA0B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C0E-BB0A-47C8-BEAB-52A084EF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0C5-173E-4103-8D36-4ED402BC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A174-2733-4E18-A989-F850ECE8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B00-022F-496B-9041-1DC3A408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50000">
              <a:srgbClr val="ffffff"/>
            </a:gs>
            <a:gs pos="100000">
              <a:srgbClr val="3333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1655-C895-4DDE-A9DE-E7D7250DF3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901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ниципальное общеобразовательное учрежден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няя общеобразовательная школа ЗАТО Звёз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133360"/>
            <a:ext cx="6688080" cy="2616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рое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Уровень развития ИКТ- компетентности учител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как показатель его профессионал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меститель директора по учебной работе С.Н. Юд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1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1547640" y="5373720"/>
            <a:ext cx="6266160" cy="214200"/>
          </a:xfrm>
          <a:custGeom>
            <a:avLst/>
            <a:gdLst>
              <a:gd name="textAreaLeft" fmla="*/ 63360 w 6266160"/>
              <a:gd name="textAreaRight" fmla="*/ 6202800 w 6266160"/>
              <a:gd name="textAreaTop" fmla="*/ 63360 h 214200"/>
              <a:gd name="textAreaBottom" fmla="*/ 150840 h 214200"/>
            </a:gdLst>
            <a:ahLst/>
            <a:rect l="textAreaLeft" t="textAreaTop" r="textAreaRight" b="textAreaBottom"/>
            <a:pathLst>
              <a:path w="630858" h="21600">
                <a:moveTo>
                  <a:pt x="9070" y="0"/>
                </a:moveTo>
                <a:arcTo wR="9070" hR="9070" stAng="0" swAng="5400000"/>
                <a:lnTo>
                  <a:pt x="0" y="12530"/>
                </a:lnTo>
                <a:arcTo wR="9070" hR="9070" stAng="16200000" swAng="5400000"/>
                <a:lnTo>
                  <a:pt x="621788" y="21600"/>
                </a:lnTo>
                <a:arcTo wR="9070" hR="9070" stAng="10800000" swAng="5400000"/>
                <a:lnTo>
                  <a:pt x="630858" y="9070"/>
                </a:lnTo>
                <a:arcTo wR="9070" hR="9070" stAng="5400000" swAng="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блема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619280" y="2276640"/>
            <a:ext cx="640872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Низкий уровень ИКТ- компетентности не позволяет эффективно использ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дагогические ресурсы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3995640" y="4724280"/>
            <a:ext cx="1441440" cy="1440000"/>
          </a:xfrm>
          <a:custGeom>
            <a:avLst/>
            <a:gdLst>
              <a:gd name="textAreaLeft" fmla="*/ 210960 w 1441440"/>
              <a:gd name="textAreaRight" fmla="*/ 1230480 w 1441440"/>
              <a:gd name="textAreaTop" fmla="*/ 210600 h 1440000"/>
              <a:gd name="textAreaBottom" fmla="*/ 12294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7"/>
          <p:cNvGrpSpPr/>
          <p:nvPr/>
        </p:nvGrpSpPr>
        <p:grpSpPr>
          <a:xfrm>
            <a:off x="2411280" y="189000"/>
            <a:ext cx="4606920" cy="4606920"/>
            <a:chOff x="2411280" y="189000"/>
            <a:chExt cx="4606920" cy="4606920"/>
          </a:xfrm>
        </p:grpSpPr>
        <p:sp>
          <p:nvSpPr>
            <p:cNvPr id="48" name="AutoShape 12"/>
            <p:cNvSpPr/>
            <p:nvPr/>
          </p:nvSpPr>
          <p:spPr>
            <a:xfrm>
              <a:off x="2411280" y="189000"/>
              <a:ext cx="4606920" cy="4606920"/>
            </a:xfrm>
            <a:custGeom>
              <a:avLst/>
              <a:gdLst>
                <a:gd name="textAreaLeft" fmla="*/ 674640 w 4606920"/>
                <a:gd name="textAreaRight" fmla="*/ 3932280 w 4606920"/>
                <a:gd name="textAreaTop" fmla="*/ 674640 h 4606920"/>
                <a:gd name="textAreaBottom" fmla="*/ 3932280 h 46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722" y="10800"/>
                  </a:moveTo>
                  <a:cubicBezTo>
                    <a:pt x="722" y="16366"/>
                    <a:pt x="5234" y="20878"/>
                    <a:pt x="10800" y="20878"/>
                  </a:cubicBezTo>
                  <a:cubicBezTo>
                    <a:pt x="16366" y="20878"/>
                    <a:pt x="20878" y="16366"/>
                    <a:pt x="20878" y="10800"/>
                  </a:cubicBezTo>
                  <a:cubicBezTo>
                    <a:pt x="20878" y="5234"/>
                    <a:pt x="16366" y="722"/>
                    <a:pt x="10800" y="722"/>
                  </a:cubicBezTo>
                  <a:cubicBezTo>
                    <a:pt x="5234" y="722"/>
                    <a:pt x="722" y="5234"/>
                    <a:pt x="722" y="1080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3"/>
            <p:cNvSpPr/>
            <p:nvPr/>
          </p:nvSpPr>
          <p:spPr>
            <a:xfrm>
              <a:off x="5219640" y="2421000"/>
              <a:ext cx="1690560" cy="15228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14"/>
            <p:cNvSpPr/>
            <p:nvPr/>
          </p:nvSpPr>
          <p:spPr>
            <a:xfrm>
              <a:off x="2482920" y="2421000"/>
              <a:ext cx="1920600" cy="15228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5"/>
            <p:cNvSpPr/>
            <p:nvPr/>
          </p:nvSpPr>
          <p:spPr>
            <a:xfrm rot="5400000">
              <a:off x="3945240" y="3766320"/>
              <a:ext cx="1690560" cy="15228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1341000"/>
            <a:ext cx="3527280" cy="136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Цель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1640" y="2997360"/>
            <a:ext cx="6985080" cy="3024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олучить достоверную информацию об уровне развития ИКТ- 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учителя, ее обработка, анализ и доведения до педагогического коллект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бъект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32000" y="1988640"/>
            <a:ext cx="6688080" cy="1297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ИКТ-компетентность учителей-предметников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971640" y="3573360"/>
            <a:ext cx="7772400" cy="118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476360" y="4724280"/>
            <a:ext cx="6688080" cy="86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1360" y="-178920"/>
            <a:ext cx="2232000" cy="1312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56000" y="188640"/>
            <a:ext cx="5967360" cy="647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619280" y="836640"/>
            <a:ext cx="2808360" cy="3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Первый критерий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140360" y="836640"/>
            <a:ext cx="302400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бученность ИК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8000" y="1484280"/>
          <a:ext cx="9036000" cy="5106960"/>
        </p:xfrm>
        <a:graphic>
          <a:graphicData uri="http://schemas.openxmlformats.org/drawingml/2006/table">
            <a:tbl>
              <a:tblPr/>
              <a:tblGrid>
                <a:gridCol w="3490920"/>
                <a:gridCol w="1512720"/>
                <a:gridCol w="1366920"/>
                <a:gridCol w="1657440"/>
                <a:gridCol w="100800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нструмен-та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ех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еал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ерио-дич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-й уровень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Применяет материалы, разработанные другими в урочной и вне урочной деятельности (презентаци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-й уровень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Способен самостоятельно редактировать материа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-й уровень: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пособен самостоятельно добывать информацию, используя различные компьютерные ресурс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-й уровень: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сходя из цели урока, способен самостоятельно разрабатывать образовательные материалы используя разные программы(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d, Power Point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ы, определяющие ИКТ грамотность учите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ирова-ние учащих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уроков администра-цией заведующими кафедр и взаимопосеще-ние уро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оготовка тес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Проведение тестирования, посещение уро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Информационная обработка материал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 школы, заведующие кафедр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психоло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раза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-322920"/>
            <a:ext cx="2276640" cy="1312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556000" y="188640"/>
            <a:ext cx="5967360" cy="647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619280" y="836640"/>
            <a:ext cx="2808360" cy="3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торой критерий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4140360" y="836640"/>
            <a:ext cx="302400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бучаемость ИК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8000" y="1484280"/>
          <a:ext cx="8856720" cy="5106960"/>
        </p:xfrm>
        <a:graphic>
          <a:graphicData uri="http://schemas.openxmlformats.org/drawingml/2006/table">
            <a:tbl>
              <a:tblPr/>
              <a:tblGrid>
                <a:gridCol w="3311640"/>
                <a:gridCol w="1591920"/>
                <a:gridCol w="1432080"/>
                <a:gridCol w="1533600"/>
                <a:gridCol w="98748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нструмен-та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ех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еал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ерио-дич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 продвижения в освоении ИК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Легкость осво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Гибкость переключ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рочность сохранения освоенного материа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-ние психологи-ческих тест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-гическое тестировани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-психолог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пол- год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-322920"/>
            <a:ext cx="2276640" cy="1312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556000" y="188640"/>
            <a:ext cx="5967360" cy="647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619280" y="836640"/>
            <a:ext cx="2808360" cy="3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Третий критерий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140360" y="836640"/>
            <a:ext cx="302400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Творческие успех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08000" y="1484280"/>
          <a:ext cx="8928000" cy="5106960"/>
        </p:xfrm>
        <a:graphic>
          <a:graphicData uri="http://schemas.openxmlformats.org/drawingml/2006/table">
            <a:tbl>
              <a:tblPr/>
              <a:tblGrid>
                <a:gridCol w="3311640"/>
                <a:gridCol w="1657080"/>
                <a:gridCol w="1511280"/>
                <a:gridCol w="1297080"/>
                <a:gridCol w="115092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нструмен-та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ех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еал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ерио-дич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Способность передачи опы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Проведение семинаров, конференций, круглых стол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убликации собственных достиже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Результаты участия в конкурсах: лучший урок с использованием ИКТ, учитель года и т.п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зента-ция опыта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ый ур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ина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фе-ренц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лый сто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-психолог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необ-ходимо-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жидаемый результа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32000" y="1988640"/>
            <a:ext cx="6688080" cy="2087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ИКТ-компетентность учителей-предмет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однимется на должный уров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1116000" y="4221000"/>
            <a:ext cx="7201080" cy="151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Повысится уровень преподавания в нашей школе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5:06:09Z</dcterms:created>
  <dc:creator>BNI</dc:creator>
  <dc:description/>
  <dc:language>en-US</dc:language>
  <cp:lastModifiedBy>Sunrise Corp</cp:lastModifiedBy>
  <dcterms:modified xsi:type="dcterms:W3CDTF">2020-09-04T17:35:59Z</dcterms:modified>
  <cp:revision>29</cp:revision>
  <dc:subject/>
  <dc:title>Проект программы мониторинга</dc:title>
</cp:coreProperties>
</file>