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CC33-DBA4-4699-887F-B80EFB20E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15A-AEFB-4B1F-8321-1FA154BC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B5F-4FD8-4048-A940-28EC78F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9A8-19D9-4312-83D6-819E4F24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20-68A1-4AD1-A214-D86895F6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370A-28A3-4FA7-99CF-5392D343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EAC-D570-441E-B942-19D06332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B10A-1CBB-4725-9854-C524E7D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EF3A-02AF-4A92-AEC3-EDC820F4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F7A2-3A20-41A1-84B8-10017F7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B843-0403-4A0A-9FBC-E4DC8EE7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E1AD-F055-4837-8D7E-314B588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A79-B99E-471E-B81D-7F4C122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5535-60C7-4A04-B294-96C68C6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1B71-1767-4D8E-AFDD-1F86340A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C79-1CE9-419D-B348-AFDB03AD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0782-0AAE-4B7D-84FF-22FE88ED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5C9E-7565-412D-B097-5F0731F7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58C-742C-4A21-BD33-9154397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479-6958-4AA3-A220-9F8DEB7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510-B0CF-4743-93B0-4E74E6C3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FB7-B46D-4B1D-9595-9EFE298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8A4-639F-454C-8410-24CDB13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370-15E2-4440-A11B-239A0E3C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B9B-DBF4-4898-888E-4C95920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3DEA-4FCA-4299-8BD8-C820094BE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CDEC-DF75-4ED9-B959-538205872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404640"/>
            <a:ext cx="7272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Joshua Reynol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Thomas Gainsbo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John Cons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Joseph Mallord William Tur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342200" cy="593892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763640" y="6237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The Watering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484360" y="333360"/>
            <a:ext cx="41148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John Constable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76 - 1837 )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72240" cy="43927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476360" y="6165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Malvern</a:t>
            </a:r>
            <a:r>
              <a:rPr b="1" lang="en-US" sz="1800" spc="-1" strike="noStrike">
                <a:solidFill>
                  <a:srgbClr val="003300"/>
                </a:solidFill>
                <a:latin typeface="Lucida Calligraphy"/>
              </a:rPr>
              <a:t> H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99400" cy="45021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835280" y="602136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Lucida Calligraphy"/>
              </a:rPr>
              <a:t>Wivenhoe</a:t>
            </a:r>
            <a:r>
              <a:rPr b="1" lang="en-US" sz="2200" spc="-1" strike="noStrike">
                <a:solidFill>
                  <a:srgbClr val="006666"/>
                </a:solidFill>
                <a:latin typeface="Lucida Calligraphy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Lucida Calligraphy"/>
              </a:rPr>
              <a:t>Pa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93000" cy="5646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187280" y="609300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Lucida Calligraphy"/>
              </a:rPr>
              <a:t>Salisbury Cathedral From the Meadows</a:t>
            </a:r>
            <a:r>
              <a:rPr b="1" lang="en-US" sz="2000" spc="-1" strike="noStrike">
                <a:solidFill>
                  <a:srgbClr val="006666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570852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476360" y="609300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The White Ho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9640" y="476280"/>
            <a:ext cx="812484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Joseph Mallord William Turner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75 - 1851 )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089760" cy="43927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2411280" y="616572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Calligraphy"/>
              </a:rPr>
              <a:t>Fishermen at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83480" cy="51292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1476360" y="61657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Lucida Calligraphy"/>
              </a:rPr>
              <a:t>Alnwick Castle, Northumber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5760" cy="50752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692360" y="6093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Calligraphy"/>
              </a:rPr>
              <a:t>The Decline of the Carthaginian 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10200" cy="5114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763640" y="61657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Calligraphy"/>
              </a:rPr>
              <a:t>The Grand Canal, Ven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Match the artists and the information about them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33843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ir Joshua Reyno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omas Gainsbo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John Con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Joseph Tu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08360" y="1125000"/>
            <a:ext cx="4897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alligraphy"/>
              </a:rPr>
              <a:t>A. was only fourteen years old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Lucida Calligraphy"/>
              </a:rPr>
              <a:t> when 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Lucida Calligraphy"/>
              </a:rPr>
              <a:t>he was admitted to the Royal Academy Schoo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B. suggested that the proportions of a sitter`s figure should be altered with a fixed id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C. insisted that art should be based on observation of nature on the one hand and feelings rather than logic and reason on the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D. by necessity a portraitist, he was by inclination a landscap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62064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0033"/>
                  </a:solidFill>
                  <a:miter/>
                </a:ln>
                <a:solidFill>
                  <a:srgbClr val="520402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orte"/>
              </a:rPr>
              <a:t>The Greatest British Artists</a:t>
            </a:r>
            <a:endParaRPr b="1" lang="en-US" sz="4400" spc="1" strike="noStrike">
              <a:ln w="15840">
                <a:solidFill>
                  <a:srgbClr val="660033"/>
                </a:solidFill>
                <a:miter/>
              </a:ln>
              <a:solidFill>
                <a:srgbClr val="520402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349360"/>
            <a:ext cx="82818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Joshua Reynolds ( 1723 – 1792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Thomas Gainsborough ( 1727 – 1788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John Constable ( 1776 – 1837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Joseph Mallord William Turner ( 1775 – 1851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260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Lucida Calligraphy"/>
              </a:rPr>
              <a:t>Match the artists and their wor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628640"/>
            <a:ext cx="23032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Sir Joshua Reyn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Thomas Gainsbo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John Con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J. M. W. Tur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43640" y="836640"/>
            <a:ext cx="2224080" cy="1657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771640" y="836640"/>
            <a:ext cx="2713320" cy="307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16720" y="3141720"/>
            <a:ext cx="226368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627280" cy="212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19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83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465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306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Lucida Calligraphy"/>
              </a:rPr>
              <a:t>Try to guess who is the author of the following works: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765000"/>
            <a:ext cx="2011320" cy="3321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5096160" cy="2447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485928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3516120" cy="273240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755640" y="6093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932360" y="4292640"/>
            <a:ext cx="3124080" cy="2211480"/>
          </a:xfrm>
          <a:prstGeom prst="rect">
            <a:avLst/>
          </a:prstGeom>
          <a:ln w="19080">
            <a:solidFill>
              <a:srgbClr val="ff33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5148360" y="609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7236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4480" y="333360"/>
            <a:ext cx="5315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33">
                    <a:alpha val="9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Sir Joshua Reynolds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33">
                  <a:alpha val="9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33">
                    <a:alpha val="9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23 - 1729 )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33">
                  <a:alpha val="9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37120" cy="42512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5732280" cy="64944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9280" y="5445000"/>
            <a:ext cx="273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Lucida Calligraphy"/>
              </a:rPr>
              <a:t>The Marlborough Famil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81960" cy="59943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116440" y="632628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Lucida Calligraphy"/>
              </a:rPr>
              <a:t>David Garrick Between Tragedy and Come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814560" cy="62546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76720" y="645336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Lucida Calligraphy"/>
              </a:rPr>
              <a:t>Edward Morant and His Son Joh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84520" cy="59054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79280" y="6237360"/>
            <a:ext cx="489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00"/>
                </a:solidFill>
                <a:latin typeface="Lucida Calligraphy"/>
              </a:rPr>
              <a:t>James Fitzgerald, Duke of Leinst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721040" cy="59896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284720" y="638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Lucida Calligraphy"/>
              </a:rPr>
              <a:t>Mrs Hugh Bonf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31442" b="0"/>
          <a:stretch/>
        </p:blipFill>
        <p:spPr>
          <a:xfrm>
            <a:off x="179280" y="189000"/>
            <a:ext cx="3775320" cy="604188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0" y="6308640"/>
            <a:ext cx="41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Lucida Calligraphy"/>
              </a:rPr>
              <a:t>Countess Spenser and Her Daugh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95640" y="476280"/>
            <a:ext cx="4657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Thomas Gainsborough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27 - 1788 )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4480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65720" cy="58309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260880" cy="421776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11640" y="260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Lucida Calligraphy"/>
              </a:rPr>
              <a:t>William Hallett and His Wife Elizabeth, nee Step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7340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Lucida Calligraphy"/>
              </a:rPr>
              <a:t>The Honorable Mrs. Grah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3:31:09Z</dcterms:created>
  <dc:creator>777</dc:creator>
  <dc:description/>
  <dc:language>en-US</dc:language>
  <cp:lastModifiedBy>Антон</cp:lastModifiedBy>
  <dcterms:modified xsi:type="dcterms:W3CDTF">2020-09-04T01:22:44Z</dcterms:modified>
  <cp:revision>5</cp:revision>
  <dc:subject/>
  <dc:title>Слайд 1</dc:title>
</cp:coreProperties>
</file>