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move the slide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DE8C2-8833-4F2C-8D28-2FEE5AE7E11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h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3A337-7505-4A86-A7F4-6269E7E8A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39443-BA7D-468B-993C-419525C61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168FF-D0C2-4595-A511-2111322C7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14958-03C5-4875-99F3-4201ABE5B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048F9-BB8D-454D-BDBC-5AB50D068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C2D06-A98D-42A5-915A-E100CFB3C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F6FFE-6D79-4557-B4AE-33E1C84DB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04C93-BD15-4458-B0CC-4CDA0EEDE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27A04-6D2B-4A54-87F5-92EB7AA0A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DD90B-88A0-442F-970C-D94E74DBC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C5114-3BEA-4FB2-83B5-69CA848E4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8C78C-BE06-433F-BECF-3A99DD927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CA720-D494-4D30-B92A-D8FF94582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CC9AC-11B5-42CD-95E0-362F837B0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EE354-67DE-4530-96D8-5C33E5813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0F259-68DF-401B-9DD7-BF0503B02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4F5EC-47EE-482A-AFBC-4CD6E3269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DE411-44FA-46DE-A8B4-441ED5868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82B31-0529-4C46-8536-36903567F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33D5F-C5E1-4C9C-86D0-DC894101D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86037-6675-41BA-99E8-37907B5B6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70B18-86ED-4B0E-B25D-F1D9A6355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CFD40-06B4-4097-95B7-83C24F2CC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FA09A-DB25-4DDD-9768-0E25E5385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8E82B-BF52-4A4C-AF95-59BF1311C79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ACD3B-5D14-482D-800F-0022AA91014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2.jpeg"/><Relationship Id="rId3" Type="http://schemas.openxmlformats.org/officeDocument/2006/relationships/image" Target="../media/image9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755640" y="404640"/>
            <a:ext cx="7272360" cy="56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Tempus Sans ITC"/>
              </a:rPr>
              <a:t>Joshua Reynold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Tempus Sans ITC"/>
              </a:rPr>
              <a:t>Thomas Gainsboroug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Tempus Sans ITC"/>
              </a:rPr>
              <a:t>John Constab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Tempus Sans ITC"/>
              </a:rPr>
              <a:t>Joseph Mallord William Turn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971640" y="189000"/>
            <a:ext cx="7342200" cy="5938920"/>
          </a:xfrm>
          <a:prstGeom prst="rect">
            <a:avLst/>
          </a:prstGeom>
          <a:ln w="28440">
            <a:solidFill>
              <a:srgbClr val="333300"/>
            </a:solidFill>
            <a:miter/>
          </a:ln>
        </p:spPr>
      </p:pic>
      <p:sp>
        <p:nvSpPr>
          <p:cNvPr id="150" name=""/>
          <p:cNvSpPr/>
          <p:nvPr/>
        </p:nvSpPr>
        <p:spPr>
          <a:xfrm>
            <a:off x="1763640" y="6237360"/>
            <a:ext cx="547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Lucida Calligraphy"/>
              </a:rPr>
              <a:t>The Watering</a:t>
            </a:r>
            <a:r>
              <a:rPr b="1" lang="en-US" sz="2000" spc="-1" strike="noStrike">
                <a:solidFill>
                  <a:srgbClr val="000000"/>
                </a:solidFill>
                <a:latin typeface="Lucida Calligraphy"/>
              </a:rPr>
              <a:t> </a:t>
            </a:r>
            <a:r>
              <a:rPr b="1" lang="en-US" sz="2000" spc="-1" strike="noStrike">
                <a:solidFill>
                  <a:srgbClr val="003300"/>
                </a:solidFill>
                <a:latin typeface="Lucida Calligraphy"/>
              </a:rPr>
              <a:t>Pla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2484360" y="333360"/>
            <a:ext cx="4114800" cy="1085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Felix Titling"/>
              </a:rPr>
              <a:t>John Constable</a:t>
            </a:r>
            <a:endParaRPr b="1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Felix Titling"/>
              <a:ea typeface="Felix Titling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Felix Titling"/>
              </a:rPr>
              <a:t>( 1776 - 1837 )</a:t>
            </a:r>
            <a:endParaRPr b="1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Felix Titling"/>
              <a:ea typeface="Felix Titling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332000" y="1628640"/>
            <a:ext cx="6672240" cy="4392720"/>
          </a:xfrm>
          <a:prstGeom prst="rect">
            <a:avLst/>
          </a:prstGeom>
          <a:ln w="38160">
            <a:solidFill>
              <a:srgbClr val="003300"/>
            </a:solidFill>
            <a:miter/>
          </a:ln>
        </p:spPr>
      </p:pic>
      <p:sp>
        <p:nvSpPr>
          <p:cNvPr id="153" name=""/>
          <p:cNvSpPr/>
          <p:nvPr/>
        </p:nvSpPr>
        <p:spPr>
          <a:xfrm>
            <a:off x="1476360" y="6165720"/>
            <a:ext cx="640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Lucida Calligraphy"/>
              </a:rPr>
              <a:t>Malvern</a:t>
            </a:r>
            <a:r>
              <a:rPr b="1" lang="en-US" sz="1800" spc="-1" strike="noStrike">
                <a:solidFill>
                  <a:srgbClr val="003300"/>
                </a:solidFill>
                <a:latin typeface="Lucida Calligraphy"/>
              </a:rPr>
              <a:t> Hal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11280" y="981000"/>
            <a:ext cx="7799400" cy="4502160"/>
          </a:xfrm>
          <a:prstGeom prst="rect">
            <a:avLst/>
          </a:prstGeom>
          <a:ln w="57240">
            <a:solidFill>
              <a:srgbClr val="003300"/>
            </a:solidFill>
            <a:miter/>
          </a:ln>
        </p:spPr>
      </p:pic>
      <p:sp>
        <p:nvSpPr>
          <p:cNvPr id="155" name=""/>
          <p:cNvSpPr/>
          <p:nvPr/>
        </p:nvSpPr>
        <p:spPr>
          <a:xfrm>
            <a:off x="1835280" y="6021360"/>
            <a:ext cx="5689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00"/>
                </a:solidFill>
                <a:latin typeface="Lucida Calligraphy"/>
              </a:rPr>
              <a:t>Wivenhoe</a:t>
            </a:r>
            <a:r>
              <a:rPr b="1" lang="en-US" sz="2200" spc="-1" strike="noStrike">
                <a:solidFill>
                  <a:srgbClr val="006666"/>
                </a:solidFill>
                <a:latin typeface="Lucida Calligraphy"/>
              </a:rPr>
              <a:t> </a:t>
            </a:r>
            <a:r>
              <a:rPr b="1" lang="en-US" sz="2200" spc="-1" strike="noStrike">
                <a:solidFill>
                  <a:srgbClr val="003300"/>
                </a:solidFill>
                <a:latin typeface="Lucida Calligraphy"/>
              </a:rPr>
              <a:t>Park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042920" y="260280"/>
            <a:ext cx="6993000" cy="5646960"/>
          </a:xfrm>
          <a:prstGeom prst="rect">
            <a:avLst/>
          </a:prstGeom>
          <a:ln w="38160">
            <a:solidFill>
              <a:srgbClr val="990033"/>
            </a:solidFill>
            <a:miter/>
          </a:ln>
        </p:spPr>
      </p:pic>
      <p:sp>
        <p:nvSpPr>
          <p:cNvPr id="157" name=""/>
          <p:cNvSpPr/>
          <p:nvPr/>
        </p:nvSpPr>
        <p:spPr>
          <a:xfrm>
            <a:off x="1187280" y="6093000"/>
            <a:ext cx="676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Lucida Calligraphy"/>
              </a:rPr>
              <a:t>Salisbury Cathedral From the Meadows</a:t>
            </a:r>
            <a:r>
              <a:rPr b="1" lang="en-US" sz="2000" spc="-1" strike="noStrike">
                <a:solidFill>
                  <a:srgbClr val="006666"/>
                </a:solidFill>
                <a:latin typeface="Lucida Calligraphy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468360" y="189000"/>
            <a:ext cx="8209080" cy="5708520"/>
          </a:xfrm>
          <a:prstGeom prst="rect">
            <a:avLst/>
          </a:prstGeom>
          <a:ln w="28440">
            <a:solidFill>
              <a:srgbClr val="663300"/>
            </a:solidFill>
            <a:miter/>
          </a:ln>
        </p:spPr>
      </p:pic>
      <p:sp>
        <p:nvSpPr>
          <p:cNvPr id="159" name=""/>
          <p:cNvSpPr/>
          <p:nvPr/>
        </p:nvSpPr>
        <p:spPr>
          <a:xfrm>
            <a:off x="1476360" y="6093000"/>
            <a:ext cx="619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Lucida Calligraphy"/>
              </a:rPr>
              <a:t>The White Hor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539640" y="476280"/>
            <a:ext cx="8124840" cy="1014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99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Felix Titling"/>
              </a:rPr>
              <a:t>Joseph Mallord William Turner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99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Felix Titling"/>
              <a:ea typeface="Felix Titling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99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Felix Titling"/>
              </a:rPr>
              <a:t>( 1775 - 1851 )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99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Felix Titling"/>
              <a:ea typeface="Felix Titling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619280" y="1700280"/>
            <a:ext cx="6089760" cy="4392720"/>
          </a:xfrm>
          <a:prstGeom prst="rect">
            <a:avLst/>
          </a:prstGeom>
          <a:ln w="38160">
            <a:solidFill>
              <a:srgbClr val="006666"/>
            </a:solidFill>
            <a:miter/>
          </a:ln>
        </p:spPr>
      </p:pic>
      <p:sp>
        <p:nvSpPr>
          <p:cNvPr id="162" name=""/>
          <p:cNvSpPr/>
          <p:nvPr/>
        </p:nvSpPr>
        <p:spPr>
          <a:xfrm>
            <a:off x="2411280" y="6165720"/>
            <a:ext cx="446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Lucida Calligraphy"/>
              </a:rPr>
              <a:t>Fishermen at Se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55640" y="620640"/>
            <a:ext cx="7683480" cy="5129280"/>
          </a:xfrm>
          <a:prstGeom prst="rect">
            <a:avLst/>
          </a:prstGeom>
          <a:ln w="38160">
            <a:solidFill>
              <a:srgbClr val="003366"/>
            </a:solidFill>
            <a:miter/>
          </a:ln>
        </p:spPr>
      </p:pic>
      <p:sp>
        <p:nvSpPr>
          <p:cNvPr id="164" name=""/>
          <p:cNvSpPr/>
          <p:nvPr/>
        </p:nvSpPr>
        <p:spPr>
          <a:xfrm>
            <a:off x="1476360" y="6165720"/>
            <a:ext cx="619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Lucida Calligraphy"/>
              </a:rPr>
              <a:t>Alnwick Castle, Northumberla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900000" y="765000"/>
            <a:ext cx="7205760" cy="5075280"/>
          </a:xfrm>
          <a:prstGeom prst="rect">
            <a:avLst/>
          </a:prstGeom>
          <a:ln w="38160">
            <a:solidFill>
              <a:srgbClr val="cc00cc"/>
            </a:solidFill>
            <a:miter/>
          </a:ln>
        </p:spPr>
      </p:pic>
      <p:sp>
        <p:nvSpPr>
          <p:cNvPr id="166" name=""/>
          <p:cNvSpPr/>
          <p:nvPr/>
        </p:nvSpPr>
        <p:spPr>
          <a:xfrm>
            <a:off x="1692360" y="6093000"/>
            <a:ext cx="568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Lucida Calligraphy"/>
              </a:rPr>
              <a:t>The Decline of the Carthaginian Empi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1258920" y="836640"/>
            <a:ext cx="6910200" cy="5114880"/>
          </a:xfrm>
          <a:prstGeom prst="rect">
            <a:avLst/>
          </a:prstGeom>
          <a:ln w="28440">
            <a:solidFill>
              <a:srgbClr val="000099"/>
            </a:solidFill>
            <a:miter/>
          </a:ln>
        </p:spPr>
      </p:pic>
      <p:sp>
        <p:nvSpPr>
          <p:cNvPr id="168" name=""/>
          <p:cNvSpPr/>
          <p:nvPr/>
        </p:nvSpPr>
        <p:spPr>
          <a:xfrm>
            <a:off x="1763640" y="6165720"/>
            <a:ext cx="57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Lucida Calligraphy"/>
              </a:rPr>
              <a:t>The Grand Canal, Veni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Lucida Calligraphy"/>
              </a:rPr>
              <a:t>Match the artists and the information about them</a:t>
            </a:r>
            <a:r>
              <a:rPr b="1" lang="en-US" sz="2000" spc="-1" strike="noStrike">
                <a:solidFill>
                  <a:srgbClr val="003300"/>
                </a:solidFill>
                <a:latin typeface="Times New Roman"/>
              </a:rPr>
              <a:t>.</a:t>
            </a:r>
            <a:endParaRPr b="1" lang="en-US" sz="2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50560" y="2133360"/>
            <a:ext cx="3384360" cy="31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Unicode MS"/>
              </a:rPr>
              <a:t>Sir Joshua Reynol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Unicode MS"/>
              </a:rPr>
              <a:t>Thomas Gainsboroug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Unicode MS"/>
              </a:rPr>
              <a:t>John Constab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Unicode MS"/>
              </a:rPr>
              <a:t>Joseph Turn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708360" y="1125000"/>
            <a:ext cx="489744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Lucida Calligraphy"/>
              </a:rPr>
              <a:t>A. was only fourteen years old</a:t>
            </a:r>
            <a:r>
              <a:rPr b="1" lang="en-US" sz="2000" spc="-1" strike="noStrike">
                <a:solidFill>
                  <a:srgbClr val="000000"/>
                </a:solidFill>
                <a:latin typeface="Lucida Calligraphy"/>
              </a:rPr>
              <a:t>,</a:t>
            </a:r>
            <a:r>
              <a:rPr b="1" lang="ru-RU" sz="2000" spc="-1" strike="noStrike">
                <a:solidFill>
                  <a:srgbClr val="000000"/>
                </a:solidFill>
                <a:latin typeface="Lucida Calligraphy"/>
              </a:rPr>
              <a:t> when </a:t>
            </a:r>
            <a:r>
              <a:rPr b="1" lang="en-US" sz="2000" spc="-1" strike="noStrike">
                <a:solidFill>
                  <a:srgbClr val="000000"/>
                </a:solidFill>
                <a:latin typeface="Lucida Calligraphy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Lucida Calligraphy"/>
              </a:rPr>
              <a:t>he was admitted to the Royal Academy School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Calligraphy"/>
              </a:rPr>
              <a:t>B. suggested that the proportions of a sitter`s figure should be altered with a fixed ide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Calligraphy"/>
              </a:rPr>
              <a:t>C. insisted that art should be based on observation of nature on the one hand and feelings rather than logic and reason on the oth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Calligraphy"/>
              </a:rPr>
              <a:t>D. by necessity a portraitist, he was by inclination a landscapis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0" y="620640"/>
            <a:ext cx="914400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5840">
                  <a:solidFill>
                    <a:srgbClr val="660033"/>
                  </a:solidFill>
                  <a:miter/>
                </a:ln>
                <a:solidFill>
                  <a:srgbClr val="520402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Forte"/>
              </a:rPr>
              <a:t>The Greatest British Artists</a:t>
            </a:r>
            <a:endParaRPr b="1" lang="en-US" sz="4400" spc="1" strike="noStrike">
              <a:ln w="15840">
                <a:solidFill>
                  <a:srgbClr val="660033"/>
                </a:solidFill>
                <a:miter/>
              </a:ln>
              <a:solidFill>
                <a:srgbClr val="520402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Forte"/>
              <a:ea typeface="Forte"/>
            </a:endParaRPr>
          </a:p>
        </p:txBody>
      </p:sp>
      <p:sp>
        <p:nvSpPr>
          <p:cNvPr id="128" name=""/>
          <p:cNvSpPr/>
          <p:nvPr/>
        </p:nvSpPr>
        <p:spPr>
          <a:xfrm>
            <a:off x="611280" y="2349360"/>
            <a:ext cx="8281800" cy="38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buClr>
                <a:srgbClr val="003300"/>
              </a:buClr>
              <a:buFont typeface="Bell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00"/>
                </a:solidFill>
                <a:latin typeface="Bell MT"/>
              </a:rPr>
              <a:t>Joshua Reynolds ( 1723 – 1792 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buClr>
                <a:srgbClr val="003300"/>
              </a:buClr>
              <a:buFont typeface="Bell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00"/>
                </a:solidFill>
                <a:latin typeface="Bell MT"/>
              </a:rPr>
              <a:t>Thomas Gainsborough ( 1727 – 1788 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buClr>
                <a:srgbClr val="003300"/>
              </a:buClr>
              <a:buFont typeface="Bell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00"/>
                </a:solidFill>
                <a:latin typeface="Bell MT"/>
              </a:rPr>
              <a:t>John Constable ( 1776 – 1837 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buClr>
                <a:srgbClr val="003300"/>
              </a:buClr>
              <a:buFont typeface="Bell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00"/>
                </a:solidFill>
                <a:latin typeface="Bell MT"/>
              </a:rPr>
              <a:t>Joseph Mallord William Turner ( 1775 – 1851 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buClr>
                <a:srgbClr val="003300"/>
              </a:buClr>
              <a:buFont typeface="Bell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539640" y="260280"/>
            <a:ext cx="79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Lucida Calligraphy"/>
              </a:rPr>
              <a:t>Match the artists and their work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4000" y="1628640"/>
            <a:ext cx="2303280" cy="37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Lucida Calligraphy"/>
              </a:rPr>
              <a:t>Sir Joshua Reynol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Lucida Calligraphy"/>
              </a:rPr>
              <a:t>Thomas Gainsboroug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Lucida Calligraphy"/>
              </a:rPr>
              <a:t>John Constab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Lucida Calligraphy"/>
              </a:rPr>
              <a:t>J. M. W. Turn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6443640" y="836640"/>
            <a:ext cx="2224080" cy="165744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2771640" y="836640"/>
            <a:ext cx="2713320" cy="307512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3"/>
          <a:stretch/>
        </p:blipFill>
        <p:spPr>
          <a:xfrm>
            <a:off x="6516720" y="3141720"/>
            <a:ext cx="2263680" cy="302400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4"/>
          <a:stretch/>
        </p:blipFill>
        <p:spPr>
          <a:xfrm>
            <a:off x="3203640" y="4508640"/>
            <a:ext cx="2627280" cy="212076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2411280" y="1197000"/>
            <a:ext cx="2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867280" y="836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771640" y="465300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940360" y="306864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-243000"/>
            <a:ext cx="8229600" cy="16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Lucida Calligraphy"/>
              </a:rPr>
              <a:t>Try to guess who is the author of the following works:</a:t>
            </a:r>
            <a:endParaRPr b="1" lang="en-US" sz="2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6659640" y="765000"/>
            <a:ext cx="2011320" cy="3321360"/>
          </a:xfrm>
          <a:prstGeom prst="rect">
            <a:avLst/>
          </a:prstGeom>
          <a:ln w="38160">
            <a:solidFill>
              <a:srgbClr val="993366"/>
            </a:solidFill>
            <a:miter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179280" y="1052640"/>
            <a:ext cx="5096160" cy="2447640"/>
          </a:xfrm>
          <a:prstGeom prst="rect">
            <a:avLst/>
          </a:prstGeom>
          <a:ln w="19080">
            <a:solidFill>
              <a:srgbClr val="003366"/>
            </a:solidFill>
            <a:miter/>
          </a:ln>
        </p:spPr>
      </p:pic>
      <p:sp>
        <p:nvSpPr>
          <p:cNvPr id="185" name=""/>
          <p:cNvSpPr/>
          <p:nvPr/>
        </p:nvSpPr>
        <p:spPr>
          <a:xfrm>
            <a:off x="4859280" y="306864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3"/>
          <a:stretch/>
        </p:blipFill>
        <p:spPr>
          <a:xfrm>
            <a:off x="468360" y="3860640"/>
            <a:ext cx="3516120" cy="2732400"/>
          </a:xfrm>
          <a:prstGeom prst="rect">
            <a:avLst/>
          </a:prstGeom>
          <a:ln w="28440">
            <a:solidFill>
              <a:srgbClr val="339966"/>
            </a:solidFill>
            <a:miter/>
          </a:ln>
        </p:spPr>
      </p:pic>
      <p:sp>
        <p:nvSpPr>
          <p:cNvPr id="187" name=""/>
          <p:cNvSpPr/>
          <p:nvPr/>
        </p:nvSpPr>
        <p:spPr>
          <a:xfrm>
            <a:off x="755640" y="6093000"/>
            <a:ext cx="86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cc33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4"/>
          <a:stretch/>
        </p:blipFill>
        <p:spPr>
          <a:xfrm>
            <a:off x="4932360" y="4292640"/>
            <a:ext cx="3124080" cy="2211480"/>
          </a:xfrm>
          <a:prstGeom prst="rect">
            <a:avLst/>
          </a:prstGeom>
          <a:ln w="19080">
            <a:solidFill>
              <a:srgbClr val="ff3300"/>
            </a:solidFill>
            <a:miter/>
          </a:ln>
        </p:spPr>
      </p:pic>
      <p:sp>
        <p:nvSpPr>
          <p:cNvPr id="189" name=""/>
          <p:cNvSpPr/>
          <p:nvPr/>
        </p:nvSpPr>
        <p:spPr>
          <a:xfrm>
            <a:off x="5148360" y="609300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33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8172360" y="364500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ff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1914480" y="333360"/>
            <a:ext cx="531504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660033"/>
                  </a:solidFill>
                  <a:miter/>
                </a:ln>
                <a:solidFill>
                  <a:srgbClr val="990033">
                    <a:alpha val="99000"/>
                  </a:srgbClr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Felix Titling"/>
              </a:rPr>
              <a:t>Sir Joshua Reynolds</a:t>
            </a:r>
            <a:endParaRPr b="1" i="1" lang="en-US" sz="1800" spc="1" strike="noStrike">
              <a:ln w="9360">
                <a:solidFill>
                  <a:srgbClr val="660033"/>
                </a:solidFill>
                <a:miter/>
              </a:ln>
              <a:solidFill>
                <a:srgbClr val="990033">
                  <a:alpha val="99000"/>
                </a:srgbClr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Felix Titling"/>
              <a:ea typeface="Felix Titling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660033"/>
                  </a:solidFill>
                  <a:miter/>
                </a:ln>
                <a:solidFill>
                  <a:srgbClr val="990033">
                    <a:alpha val="99000"/>
                  </a:srgbClr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Felix Titling"/>
              </a:rPr>
              <a:t>( 1723 - 1729 )</a:t>
            </a:r>
            <a:endParaRPr b="1" i="1" lang="en-US" sz="1800" spc="1" strike="noStrike">
              <a:ln w="9360">
                <a:solidFill>
                  <a:srgbClr val="660033"/>
                </a:solidFill>
                <a:miter/>
              </a:ln>
              <a:solidFill>
                <a:srgbClr val="990033">
                  <a:alpha val="99000"/>
                </a:srgbClr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Felix Titling"/>
              <a:ea typeface="Felix Titling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484360" y="1916280"/>
            <a:ext cx="4137120" cy="4251240"/>
          </a:xfrm>
          <a:prstGeom prst="rect">
            <a:avLst/>
          </a:prstGeom>
          <a:ln w="28440">
            <a:solidFill>
              <a:srgbClr val="003300"/>
            </a:solidFill>
            <a:miter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3059280" y="189000"/>
            <a:ext cx="5732280" cy="6494400"/>
          </a:xfrm>
          <a:prstGeom prst="rect">
            <a:avLst/>
          </a:prstGeom>
          <a:ln w="28440">
            <a:solidFill>
              <a:srgbClr val="003300"/>
            </a:solidFill>
            <a:miter/>
          </a:ln>
        </p:spPr>
      </p:pic>
      <p:sp>
        <p:nvSpPr>
          <p:cNvPr id="132" name=""/>
          <p:cNvSpPr/>
          <p:nvPr/>
        </p:nvSpPr>
        <p:spPr>
          <a:xfrm>
            <a:off x="179280" y="5445000"/>
            <a:ext cx="2737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3300"/>
                </a:solidFill>
                <a:latin typeface="Lucida Calligraphy"/>
              </a:rPr>
              <a:t>The Marlborough Family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826920" y="189000"/>
            <a:ext cx="7581960" cy="5994360"/>
          </a:xfrm>
          <a:prstGeom prst="rect">
            <a:avLst/>
          </a:prstGeom>
          <a:ln w="28440">
            <a:solidFill>
              <a:srgbClr val="993300"/>
            </a:solidFill>
            <a:miter/>
          </a:ln>
        </p:spPr>
      </p:pic>
      <p:sp>
        <p:nvSpPr>
          <p:cNvPr id="134" name=""/>
          <p:cNvSpPr/>
          <p:nvPr/>
        </p:nvSpPr>
        <p:spPr>
          <a:xfrm>
            <a:off x="2116440" y="6326280"/>
            <a:ext cx="526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Lucida Calligraphy"/>
              </a:rPr>
              <a:t>David Garrick Between Tragedy and Come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5148360" y="189000"/>
            <a:ext cx="3814560" cy="6254640"/>
          </a:xfrm>
          <a:prstGeom prst="rect">
            <a:avLst/>
          </a:prstGeom>
          <a:ln w="19080">
            <a:solidFill>
              <a:srgbClr val="003300"/>
            </a:solidFill>
            <a:miter/>
          </a:ln>
        </p:spPr>
      </p:pic>
      <p:sp>
        <p:nvSpPr>
          <p:cNvPr id="136" name=""/>
          <p:cNvSpPr/>
          <p:nvPr/>
        </p:nvSpPr>
        <p:spPr>
          <a:xfrm>
            <a:off x="5076720" y="6453360"/>
            <a:ext cx="431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Lucida Calligraphy"/>
              </a:rPr>
              <a:t>Edward Morant and His Son Joh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4484520" cy="5905440"/>
          </a:xfrm>
          <a:prstGeom prst="rect">
            <a:avLst/>
          </a:prstGeom>
          <a:ln w="28440">
            <a:solidFill>
              <a:srgbClr val="003300"/>
            </a:solidFill>
            <a:miter/>
          </a:ln>
        </p:spPr>
      </p:pic>
      <p:sp>
        <p:nvSpPr>
          <p:cNvPr id="138" name=""/>
          <p:cNvSpPr/>
          <p:nvPr/>
        </p:nvSpPr>
        <p:spPr>
          <a:xfrm>
            <a:off x="179280" y="6237360"/>
            <a:ext cx="489744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3300"/>
                </a:solidFill>
                <a:latin typeface="Lucida Calligraphy"/>
              </a:rPr>
              <a:t>James Fitzgerald, Duke of Leinster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4284720" y="189000"/>
            <a:ext cx="4721040" cy="5989680"/>
          </a:xfrm>
          <a:prstGeom prst="rect">
            <a:avLst/>
          </a:prstGeom>
          <a:ln w="28440">
            <a:solidFill>
              <a:srgbClr val="003300"/>
            </a:solidFill>
            <a:miter/>
          </a:ln>
        </p:spPr>
      </p:pic>
      <p:sp>
        <p:nvSpPr>
          <p:cNvPr id="140" name=""/>
          <p:cNvSpPr/>
          <p:nvPr/>
        </p:nvSpPr>
        <p:spPr>
          <a:xfrm>
            <a:off x="4284720" y="6381720"/>
            <a:ext cx="46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Lucida Calligraphy"/>
              </a:rPr>
              <a:t>Mrs Hugh Bonfo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rcRect l="0" t="0" r="31442" b="0"/>
          <a:stretch/>
        </p:blipFill>
        <p:spPr>
          <a:xfrm>
            <a:off x="179280" y="189000"/>
            <a:ext cx="3775320" cy="6041880"/>
          </a:xfrm>
          <a:prstGeom prst="rect">
            <a:avLst/>
          </a:prstGeom>
          <a:ln w="9360">
            <a:solidFill>
              <a:srgbClr val="520402"/>
            </a:solidFill>
            <a:miter/>
          </a:ln>
        </p:spPr>
      </p:pic>
      <p:sp>
        <p:nvSpPr>
          <p:cNvPr id="142" name=""/>
          <p:cNvSpPr/>
          <p:nvPr/>
        </p:nvSpPr>
        <p:spPr>
          <a:xfrm>
            <a:off x="0" y="6308640"/>
            <a:ext cx="414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Lucida Calligraphy"/>
              </a:rPr>
              <a:t>Countess Spenser and Her Daught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2195640" y="476280"/>
            <a:ext cx="465768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660033"/>
                  </a:solidFill>
                  <a:miter/>
                </a:ln>
                <a:solidFill>
                  <a:srgbClr val="660033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Felix Titling"/>
              </a:rPr>
              <a:t>Thomas Gainsborough</a:t>
            </a:r>
            <a:endParaRPr b="1" i="1" lang="en-US" sz="1800" spc="1" strike="noStrike">
              <a:ln w="9360">
                <a:solidFill>
                  <a:srgbClr val="660033"/>
                </a:solidFill>
                <a:miter/>
              </a:ln>
              <a:solidFill>
                <a:srgbClr val="660033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Felix Titling"/>
              <a:ea typeface="Felix Titling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660033"/>
                  </a:solidFill>
                  <a:miter/>
                </a:ln>
                <a:solidFill>
                  <a:srgbClr val="660033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Felix Titling"/>
              </a:rPr>
              <a:t>( 1727 - 1788 )</a:t>
            </a:r>
            <a:endParaRPr b="1" i="1" lang="en-US" sz="1800" spc="1" strike="noStrike">
              <a:ln w="9360">
                <a:solidFill>
                  <a:srgbClr val="660033"/>
                </a:solidFill>
                <a:miter/>
              </a:ln>
              <a:solidFill>
                <a:srgbClr val="660033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Felix Titling"/>
              <a:ea typeface="Felix Titling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843280" y="1773360"/>
            <a:ext cx="3448080" cy="41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4365720" cy="5830920"/>
          </a:xfrm>
          <a:prstGeom prst="rect">
            <a:avLst/>
          </a:prstGeom>
          <a:ln w="38160">
            <a:solidFill>
              <a:srgbClr val="006666"/>
            </a:solidFill>
            <a:miter/>
          </a:ln>
        </p:spPr>
      </p:pic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5219640" y="1413000"/>
            <a:ext cx="3260880" cy="4217760"/>
          </a:xfrm>
          <a:prstGeom prst="rect">
            <a:avLst/>
          </a:prstGeom>
          <a:ln w="28440">
            <a:solidFill>
              <a:srgbClr val="808000"/>
            </a:solidFill>
            <a:miter/>
          </a:ln>
        </p:spPr>
      </p:pic>
      <p:sp>
        <p:nvSpPr>
          <p:cNvPr id="147" name=""/>
          <p:cNvSpPr/>
          <p:nvPr/>
        </p:nvSpPr>
        <p:spPr>
          <a:xfrm>
            <a:off x="4211640" y="260280"/>
            <a:ext cx="468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Lucida Calligraphy"/>
              </a:rPr>
              <a:t>William Hallett and His Wife Elizabeth, nee Steph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148360" y="5734080"/>
            <a:ext cx="352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Lucida Calligraphy"/>
              </a:rPr>
              <a:t>The Honorable Mrs. Graha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8T13:31:09Z</dcterms:created>
  <dc:creator>777</dc:creator>
  <dc:description/>
  <dc:language>en-US</dc:language>
  <cp:lastModifiedBy>Антон</cp:lastModifiedBy>
  <dcterms:modified xsi:type="dcterms:W3CDTF">2020-09-04T01:22:44Z</dcterms:modified>
  <cp:revision>5</cp:revision>
  <dc:subject/>
  <dc:title>Слайд 1</dc:title>
</cp:coreProperties>
</file>