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2B58-C4BC-4180-A335-E414147C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5B70-CE9D-4B98-89A6-FF3FBDEF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63DC-45FE-4D2B-BAEF-BFD206627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293E-5D66-41A4-BF17-FAC3A37D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BD4C-1595-4F38-A2EB-3560D7D5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BA98-76C1-49D8-AEDA-C58FD553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449D-E15A-4FCC-A362-259AC4EA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8655-6834-4818-804A-9B24C839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9EEA-877F-47E8-8074-EB54ECEA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F8ED-AD6A-487A-8B0A-9840E798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857D-5D9B-47D8-BBB8-A41DF132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64F4-DB18-43E9-AA83-1F9A585E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3366-C6E7-45B7-88B3-A265447D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7DD0-A59C-4B04-B246-DBB8F2EE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CDC9-8865-4DF7-80AE-4E66BEAC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BA80-CC2A-4331-A970-5FC89B7C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25FC-8AE6-4CF6-A213-40952C9C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0CE1-C53E-4322-A3DC-ADE89FFF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B7A4-09B6-42C2-BDE2-0E44B22C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0EC4-139E-4FB3-96C9-692D9B32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1CC2-DC7D-48D9-B9C6-F510DBF4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94B7-1BC8-41F7-8530-F9E52BE2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E00E-9487-4198-AEDD-F601C9D4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E4E4-7176-46C5-B9C4-B6D888A1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B4E4-EA25-4B09-99C4-87937ECEF9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BD1E-EFE5-4BBB-9E0D-269B375DBE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Bookman Old Style"/>
              </a:rPr>
              <a:t>THE UNITED STATES OF AMERICA</a:t>
            </a:r>
            <a:r>
              <a:rPr b="1" i="1" lang="en-US" sz="48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635280" y="3357720"/>
            <a:ext cx="4294440" cy="3236760"/>
          </a:xfrm>
          <a:prstGeom prst="rect">
            <a:avLst/>
          </a:prstGeom>
          <a:ln w="44280">
            <a:solidFill>
              <a:srgbClr val="00808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0" t="0" r="16924" b="0"/>
          <a:stretch/>
        </p:blipFill>
        <p:spPr>
          <a:xfrm>
            <a:off x="179280" y="907920"/>
            <a:ext cx="2827440" cy="515628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24606" r="0" b="0"/>
          <a:stretch/>
        </p:blipFill>
        <p:spPr>
          <a:xfrm>
            <a:off x="4356000" y="1557360"/>
            <a:ext cx="4464000" cy="2016000"/>
          </a:xfrm>
          <a:prstGeom prst="rect">
            <a:avLst/>
          </a:prstGeom>
          <a:ln w="4428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Bookman Old Style"/>
              </a:rPr>
              <a:t>THE DISCOVERY OF AMERIC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8614" t="0" r="0" b="0"/>
          <a:stretch/>
        </p:blipFill>
        <p:spPr>
          <a:xfrm>
            <a:off x="5651640" y="765000"/>
            <a:ext cx="3249360" cy="3129120"/>
          </a:xfrm>
          <a:prstGeom prst="rect">
            <a:avLst/>
          </a:prstGeom>
          <a:ln w="34920">
            <a:solidFill>
              <a:srgbClr val="80008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-181080" y="836640"/>
            <a:ext cx="597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October 12, 149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Christopher Columb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24000" y="2997360"/>
            <a:ext cx="4141800" cy="313200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364000" y="4076640"/>
            <a:ext cx="3173400" cy="2517840"/>
          </a:xfrm>
          <a:prstGeom prst="rect">
            <a:avLst/>
          </a:prstGeom>
          <a:ln w="475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9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Bookman Old Style"/>
              </a:rPr>
              <a:t>WAR FOR INDEPEND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3911400" cy="2757600"/>
          </a:xfrm>
          <a:prstGeom prst="rect">
            <a:avLst/>
          </a:prstGeom>
          <a:ln w="47520">
            <a:solidFill>
              <a:srgbClr val="ff66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395280" y="126828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775 - 178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084720" y="981000"/>
            <a:ext cx="2462400" cy="3198960"/>
          </a:xfrm>
          <a:prstGeom prst="rect">
            <a:avLst/>
          </a:prstGeom>
          <a:ln w="41400">
            <a:solidFill>
              <a:srgbClr val="9933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971640" y="3500280"/>
            <a:ext cx="4998960" cy="3129120"/>
          </a:xfrm>
          <a:prstGeom prst="rect">
            <a:avLst/>
          </a:prstGeom>
          <a:ln w="34920">
            <a:solidFill>
              <a:srgbClr val="00ccff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5940360" y="4221000"/>
            <a:ext cx="320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George Washingt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Bookman Old Style"/>
              </a:rPr>
              <a:t>THANKSGIVING DAY</a:t>
            </a:r>
            <a:r>
              <a:rPr b="1" i="1" lang="en-US" sz="5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5238720" cy="3333960"/>
          </a:xfrm>
          <a:prstGeom prst="rect">
            <a:avLst/>
          </a:prstGeom>
          <a:ln w="41400">
            <a:solidFill>
              <a:srgbClr val="ff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175280" cy="3246480"/>
          </a:xfrm>
          <a:prstGeom prst="rect">
            <a:avLst/>
          </a:prstGeom>
          <a:ln w="41400">
            <a:solidFill>
              <a:srgbClr val="008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0" y="112536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s celebrated on the fourth Thursday in Novemb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55640" y="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Bookman Old Style"/>
              </a:rPr>
              <a:t>AMERICAN FOO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951440" cy="331812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3933720"/>
            <a:ext cx="2710080" cy="271008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940360" y="765000"/>
            <a:ext cx="2933640" cy="2953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843280" y="4221000"/>
            <a:ext cx="2638440" cy="214344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651640" y="3860640"/>
            <a:ext cx="3333600" cy="2857680"/>
          </a:xfrm>
          <a:prstGeom prst="rect">
            <a:avLst/>
          </a:prstGeom>
          <a:ln w="4428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348000" y="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Bookman Old Style"/>
              </a:rPr>
              <a:t>SPORTS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4000" y="4005360"/>
            <a:ext cx="3573360" cy="2679480"/>
          </a:xfrm>
          <a:prstGeom prst="rect">
            <a:avLst/>
          </a:prstGeom>
          <a:ln w="41400">
            <a:solidFill>
              <a:srgbClr val="ff00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140360" y="836640"/>
            <a:ext cx="4512960" cy="29844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3548160" cy="3521160"/>
          </a:xfrm>
          <a:prstGeom prst="rect">
            <a:avLst/>
          </a:prstGeom>
          <a:ln w="41400">
            <a:solidFill>
              <a:srgbClr val="00808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332000" y="3068640"/>
            <a:ext cx="1655640" cy="5814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footb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076720" y="3429000"/>
            <a:ext cx="3048120" cy="3048120"/>
          </a:xfrm>
          <a:prstGeom prst="rect">
            <a:avLst/>
          </a:prstGeom>
          <a:ln w="41400">
            <a:solidFill>
              <a:srgbClr val="ff0066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5076720" y="5734080"/>
            <a:ext cx="1511280" cy="5814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soc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08:19:27Z</dcterms:created>
  <dc:creator>админ</dc:creator>
  <dc:description/>
  <dc:language>en-US</dc:language>
  <cp:lastModifiedBy>админ</cp:lastModifiedBy>
  <dcterms:modified xsi:type="dcterms:W3CDTF">2011-06-16T09:03:39Z</dcterms:modified>
  <cp:revision>2</cp:revision>
  <dc:subject/>
  <dc:title>Слайд 1</dc:title>
</cp:coreProperties>
</file>