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F74-2A91-4360-89C4-A74F0E55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661-2F90-49E7-99A9-168F3717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2EC-E9BF-4416-8859-5CEDF463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C3D-EA8D-4E1F-A278-F61AC2F6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8F94-723B-4388-8CE8-1FF36929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1EEF-1D8E-411C-AC74-4E107C1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5B9-E708-4294-A95D-D2B99AD2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4AE-AD11-4C16-A22E-C1BD184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2A5-1565-4197-92BB-14CCD3A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BE3-3280-47B9-B9FC-4EA879F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C62B-048B-4FC9-8F2E-EB2F2DA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B63-4CB5-4DAA-84D9-694A871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61B7-2896-46D7-AFB0-5303799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1BC-1722-408D-A378-54BEDF3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CFE-05FA-483B-86F1-51C0D681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64B1-3215-4424-8A28-5FCE2E8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03A-7523-4B83-9A25-1AB59F82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B8F-736F-424A-9CC3-CD75462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ACB-72F9-4155-BF46-68EC7F0B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0FE-66EA-4A50-B5EC-56E1AC5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311-8D85-4DEF-A85C-F2F21487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9F9-385D-4300-944D-9008443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D7E-A60A-42B1-A777-28CA47E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71D-44BD-4F62-8704-8D2F746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5C83-8DAF-47E9-9038-47F0F644D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5F8-8DFF-4EDB-AC1B-8CC7D14CE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THE UNITED STATES OF AMERICA</a:t>
            </a:r>
            <a:r>
              <a:rPr b="1" i="1" lang="en-US" sz="48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4294440" cy="3236760"/>
          </a:xfrm>
          <a:prstGeom prst="rect">
            <a:avLst/>
          </a:prstGeom>
          <a:ln w="44280">
            <a:solidFill>
              <a:srgbClr val="00808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16924" b="0"/>
          <a:stretch/>
        </p:blipFill>
        <p:spPr>
          <a:xfrm>
            <a:off x="179280" y="907920"/>
            <a:ext cx="2827440" cy="51562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24606" r="0" b="0"/>
          <a:stretch/>
        </p:blipFill>
        <p:spPr>
          <a:xfrm>
            <a:off x="4356000" y="1557360"/>
            <a:ext cx="4464000" cy="201600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Bookman Old Style"/>
              </a:rPr>
              <a:t>THE DISCOVERY OF AMERIC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614" t="0" r="0" b="0"/>
          <a:stretch/>
        </p:blipFill>
        <p:spPr>
          <a:xfrm>
            <a:off x="5651640" y="765000"/>
            <a:ext cx="3249360" cy="312912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-181080" y="83664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ctober 12, 14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hristopher Colum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4141800" cy="3132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173400" cy="2517840"/>
          </a:xfrm>
          <a:prstGeom prst="rect">
            <a:avLst/>
          </a:prstGeom>
          <a:ln w="475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WAR FOR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11400" cy="2757600"/>
          </a:xfrm>
          <a:prstGeom prst="rect">
            <a:avLst/>
          </a:prstGeom>
          <a:ln w="47520">
            <a:solidFill>
              <a:srgbClr val="ff66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5280" y="1268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75 - 178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462400" cy="3198960"/>
          </a:xfrm>
          <a:prstGeom prst="rect">
            <a:avLst/>
          </a:prstGeom>
          <a:ln w="41400">
            <a:solidFill>
              <a:srgbClr val="9933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4998960" cy="3129120"/>
          </a:xfrm>
          <a:prstGeom prst="rect">
            <a:avLst/>
          </a:prstGeom>
          <a:ln w="34920">
            <a:solidFill>
              <a:srgbClr val="00cc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940360" y="4221000"/>
            <a:ext cx="32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George Washingt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THANKSGIVING DAY</a:t>
            </a: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5238720" cy="333396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5280" cy="3246480"/>
          </a:xfrm>
          <a:prstGeom prst="rect">
            <a:avLst/>
          </a:prstGeom>
          <a:ln w="41400">
            <a:solidFill>
              <a:srgbClr val="008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1125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celebrated on the fourth Thursday in Nov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Bookman Old Style"/>
              </a:rPr>
              <a:t>AMERICAN FO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951440" cy="33181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710080" cy="27100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0360" y="765000"/>
            <a:ext cx="2933640" cy="295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43280" y="4221000"/>
            <a:ext cx="2638440" cy="2143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651640" y="3860640"/>
            <a:ext cx="3333600" cy="285768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Bookman Old Style"/>
              </a:rPr>
              <a:t>SPORT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3573360" cy="2679480"/>
          </a:xfrm>
          <a:prstGeom prst="rect">
            <a:avLst/>
          </a:prstGeom>
          <a:ln w="41400">
            <a:solidFill>
              <a:srgbClr val="ff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4512960" cy="2984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548160" cy="3521160"/>
          </a:xfrm>
          <a:prstGeom prst="rect">
            <a:avLst/>
          </a:prstGeom>
          <a:ln w="41400">
            <a:solidFill>
              <a:srgbClr val="00808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332000" y="3068640"/>
            <a:ext cx="16556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3048120" cy="3048120"/>
          </a:xfrm>
          <a:prstGeom prst="rect">
            <a:avLst/>
          </a:prstGeom>
          <a:ln w="41400">
            <a:solidFill>
              <a:srgbClr val="ff0066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5076720" y="5734080"/>
            <a:ext cx="15112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19:27Z</dcterms:created>
  <dc:creator>админ</dc:creator>
  <dc:description/>
  <dc:language>en-US</dc:language>
  <cp:lastModifiedBy>админ</cp:lastModifiedBy>
  <dcterms:modified xsi:type="dcterms:W3CDTF">2011-06-16T09:03:39Z</dcterms:modified>
  <cp:revision>2</cp:revision>
  <dc:subject/>
  <dc:title>Слайд 1</dc:title>
</cp:coreProperties>
</file>