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83DE-D9FE-48C7-B3C9-91A47411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7746-B4B1-4494-8EC8-75E00EF2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45EE-B16B-40B5-BEC1-3BD7623C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A96E-DC50-45BD-8EB1-FEE8797D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9D02-B661-48CD-973A-DBBB1D8F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821F-D228-4C3D-9369-5C83A7FB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3EE2-4391-454F-AEE2-71ED649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AF11-8116-41A6-87A6-F8C69520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860A-C3BC-48B2-ACB9-08912C8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32E1-2ACB-4401-A38D-2B9603F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639-BAE9-41D6-AB8E-2DFCA791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DA72-8744-47FE-9ACB-9A6C7911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D2C9-70BF-4508-9492-232962B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F54B-D2F8-481D-9093-F2F9E3F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F10F-3B07-4DBB-9F09-865C8C9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069-5DCA-4B63-8FDB-0757C91E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3B8B-269A-4D36-8BAD-3E9951A7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903C-6F2D-46C2-B08A-704B2153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F3B6-836B-4006-8141-BE55E669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86BB-AECB-49C5-BC1D-DF4FD582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D423-FF64-4F23-A39E-0ADB4183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8A78-FAFD-40E9-ABFF-788F409D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55C2-DD90-4CB2-BEB3-E9AAEEF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8D67-D9F2-49A8-9091-A2EF8101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DDC6-B2D9-4759-B65E-10C4591EF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DCA-CCC0-425E-9F60-41B06CD492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" Target="slide40.xml"/><Relationship Id="rId18" Type="http://schemas.openxmlformats.org/officeDocument/2006/relationships/slide" Target="slide41.xml"/><Relationship Id="rId19" Type="http://schemas.openxmlformats.org/officeDocument/2006/relationships/slide" Target="slide42.xml"/><Relationship Id="rId20" Type="http://schemas.openxmlformats.org/officeDocument/2006/relationships/slide" Target="slide43.xml"/><Relationship Id="rId21" Type="http://schemas.openxmlformats.org/officeDocument/2006/relationships/slide" Target="slide44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000" y="1153800"/>
            <a:ext cx="6072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еловому письму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ОЯ ИГРА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Заставка.mp3" descr=""/>
          <p:cNvPicPr/>
          <p:nvPr/>
        </p:nvPicPr>
        <p:blipFill>
          <a:blip r:embed="rId1"/>
          <a:stretch/>
        </p:blipFill>
        <p:spPr>
          <a:xfrm>
            <a:off x="8675640" y="6470640"/>
            <a:ext cx="146160" cy="144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5654880" y="5803920"/>
            <a:ext cx="335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цаева Е.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№46 школа «Центр Ри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Санкт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1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944640" y="1282680"/>
            <a:ext cx="7389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 деловая бумага объясняет причины проступка, нарушения дисцип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бъяснительная записк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779400" y="1290600"/>
            <a:ext cx="7861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название головного убора используется для обозначения той части заявления или объяснительной записки, в которой пишут, кому адресована деловая бумага и кем написа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Шапка»</a:t>
            </a: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800280" y="1197000"/>
            <a:ext cx="757224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строительства Зимнего дворца в Петербурге осталось много мусора. Тогда было написано объявление. Через некоторое время после публикации этого объявления площадь перед Зимним дворцом оказалась очищена полностью. О чём было написано в том объявле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объявлении людям предлагалось забрать бесплатно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о, что им захоч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Spb-bestphoto"/>
          <p:cNvPicPr/>
          <p:nvPr/>
        </p:nvPicPr>
        <p:blipFill>
          <a:blip r:embed="rId2"/>
          <a:stretch/>
        </p:blipFill>
        <p:spPr>
          <a:xfrm>
            <a:off x="-66600" y="0"/>
            <a:ext cx="9306000" cy="6980400"/>
          </a:xfrm>
          <a:prstGeom prst="rect">
            <a:avLst/>
          </a:prstGeom>
          <a:ln w="0">
            <a:noFill/>
          </a:ln>
        </p:spPr>
      </p:pic>
      <p:pic>
        <p:nvPicPr>
          <p:cNvPr id="139" name="НС 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76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8766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766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95280" y="981000"/>
            <a:ext cx="82090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ый документ, удостоверяющий личность и гражданство владельц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о за докумен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аспо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11280" y="836640"/>
            <a:ext cx="799128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ый документ, в котором содержится письменная просьба о чем-нибудь, адресованная организации, предприятию или должностному лиц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 этот доку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явление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611280" y="836640"/>
            <a:ext cx="80010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деловая бумага может содержать вопросы по темам: «Персональные данные», «Мой класс», «Хобби», «Твоя семья» и друг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нкет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92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28600" y="836640"/>
            <a:ext cx="8497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6" descr="Nota High Definition"/>
          <p:cNvPicPr/>
          <p:nvPr/>
        </p:nvPicPr>
        <p:blipFill>
          <a:blip r:embed="rId2"/>
          <a:stretch/>
        </p:blipFill>
        <p:spPr>
          <a:xfrm>
            <a:off x="1258920" y="1197000"/>
            <a:ext cx="6572160" cy="5400720"/>
          </a:xfrm>
          <a:prstGeom prst="rect">
            <a:avLst/>
          </a:prstGeom>
          <a:ln w="0">
            <a:noFill/>
          </a:ln>
        </p:spPr>
      </p:pic>
      <p:pic>
        <p:nvPicPr>
          <p:cNvPr id="153" name="Музвопрос.mp3" descr=""/>
          <p:cNvPicPr/>
          <p:nvPr/>
        </p:nvPicPr>
        <p:blipFill>
          <a:blip r:embed="rId3"/>
          <a:stretch/>
        </p:blipFill>
        <p:spPr>
          <a:xfrm>
            <a:off x="7812000" y="587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5606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Узнай по описанию</a:t>
            </a: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971640" y="1197000"/>
            <a:ext cx="7500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бумага, в которой человек даёт разрешение кому-то действовать вместо себя (получать деньги, посылку, какие-то ценности)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оверенность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698400" y="822240"/>
            <a:ext cx="7991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оложи правильно части плана. Что пишут по получившемуся план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п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щ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ел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драв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Обращ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Поздрав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. Пожел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4. Подп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. Д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539640" y="620640"/>
            <a:ext cx="820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ступлении в колледж Петя принёс с собой объяснительную записку, характеристику, медицинскую справку, расписк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 ли выпускник подобрал докумен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т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1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557360"/>
          <a:ext cx="8713800" cy="3125880"/>
        </p:xfrm>
        <a:graphic>
          <a:graphicData uri="http://schemas.openxmlformats.org/drawingml/2006/table">
            <a:tbl>
              <a:tblPr/>
              <a:tblGrid>
                <a:gridCol w="4105080"/>
                <a:gridCol w="936720"/>
                <a:gridCol w="934920"/>
                <a:gridCol w="936720"/>
                <a:gridCol w="936720"/>
                <a:gridCol w="863640"/>
              </a:tblGrid>
              <a:tr h="69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Я вам пишу…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для чег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най по описани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утаница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Категория.mp3" descr=""/>
          <p:cNvPicPr/>
          <p:nvPr/>
        </p:nvPicPr>
        <p:blipFill>
          <a:blip r:embed="rId22"/>
          <a:stretch/>
        </p:blipFill>
        <p:spPr>
          <a:xfrm>
            <a:off x="8810640" y="657216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46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50920" y="1052640"/>
            <a:ext cx="878508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равь ошибки в оформлении деловой бумаг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ору школы №6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ой Е.А.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я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Смирнова Алёна, не пошла на урок физкультуры, потому что не умею кататься на лыжах. Простите мен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ругое название деловой бумаг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чина проступка не уважитель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полные данные «шапки»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60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649440" y="476280"/>
            <a:ext cx="80643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данная деловая бумага? Дополни её недостающими ча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му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кого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________________________________ , взял на три дня компьютерные диски «Электронная энциклопедия» № 1 и № 2 для подготовки виктор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уюсь вернуть 20 марта 2018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марта 2018 г.                                   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08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«Путаница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569880" y="476280"/>
            <a:ext cx="8136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оложи правильно текст деловой бумаги. Как она называет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адрес: г.Санкт-Петербург, ул.Руставели, д.37, к.1, кв.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Петров Иван Михайлович, родился 18 апреля 2000 года в Санкт-Петербу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мая 2017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мать, Петрова Ирина Николаевна, работает кассиром в продовольственном магазине. Мой отец, Петров Михаил Анатольевич, трудится на строй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7 г. я поступил в школу и окончил 9 классов в 2017 году. Обучался столярному делу и получил профессию столя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Пет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Управляющая кнопка: назад 3">
            <a:hlinkClick r:id="rId1" action="ppaction://hlinksldjump"/>
          </p:cNvPr>
          <p:cNvSpPr/>
          <p:nvPr/>
        </p:nvSpPr>
        <p:spPr>
          <a:xfrm>
            <a:off x="179280" y="638172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582480" y="476280"/>
            <a:ext cx="8136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би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Петров Иван Михайлович, родился 18 апреля 2000 года в Санкт-Петербу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мать, Петрова Ирина Николаевна, работает кассиром в продовольственном магазине. Мой отец, Петров Михаил Анатольевич, трудится на строй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7 г. я поступил в школу и окончил 9 классов в 2017 году. Обучался столярному делу и получил профессию столя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адрес: г.Санкт-Петербург, ул.Руставели, д.37, к.1, кв.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мая 2017 г.                                          И.Пе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2 раунд</a:t>
            </a:r>
            <a:endParaRPr b="1" lang="en-US" sz="40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55640" y="1557360"/>
          <a:ext cx="7675560" cy="3097080"/>
        </p:xfrm>
        <a:graphic>
          <a:graphicData uri="http://schemas.openxmlformats.org/drawingml/2006/table">
            <a:tbl>
              <a:tblPr/>
              <a:tblGrid>
                <a:gridCol w="3387600"/>
                <a:gridCol w="900360"/>
                <a:gridCol w="823680"/>
                <a:gridCol w="792360"/>
                <a:gridCol w="901800"/>
                <a:gridCol w="869760"/>
              </a:tblGrid>
              <a:tr h="69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реч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значит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ьно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ик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6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7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8" action="ppaction://hlinksldjump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9" action="ppaction://hlinksldjump"/>
                        </a:rPr>
                        <a:t>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0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5" name="Управляющая кнопка: в конец 3">
            <a:hlinkClick r:id="rId21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Категория.mp3" descr=""/>
          <p:cNvPicPr/>
          <p:nvPr/>
        </p:nvPicPr>
        <p:blipFill>
          <a:blip r:embed="rId22"/>
          <a:stretch/>
        </p:blipFill>
        <p:spPr>
          <a:xfrm>
            <a:off x="8756640" y="64612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6463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500040" y="1714680"/>
            <a:ext cx="8072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 указ так, чтобы все остались живы. Где поставишь запятую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знить нельзя помил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знить нельзя, помиловать!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755640" y="141300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4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 комната янтарным блеск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арена. Веселым треск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щит затопленная печ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ятно думать у лежан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знаешь: не велеть ли в сан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былку бурую запречь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187280" y="1052640"/>
            <a:ext cx="698508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-очень странный вид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Речка за окном, гори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чей-то дом, хвостом виля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песик, из ружья стреля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мальчик, чуть не слопал мышку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кот, в очках читает книжк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старый дед, вороб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ватил зерн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да как крикнет, улетая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- Вот что значит запята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042920" y="836640"/>
            <a:ext cx="66960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ель там варят. Из резин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ам шины делают. Из глин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ирпич там жгут. Из моло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ворог готовят. Из пес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стекло там плавят. Из бето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плотины строят. Из карто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обложки там. Из чугу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ам варят сталь. Из полот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роят рубахи. Из пластмасс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посуду делают. Из мяс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отлеты стряпают. Из саж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там ваксу делают. Из пряж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прядут там нитки. Из сукн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костюмы шьют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Красноречие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900000" y="836640"/>
            <a:ext cx="74883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ке там рыба. На буг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чит корова. В кону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ака лает. На забо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ет синичка. В коридо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т дети. На ст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ит картина. На ок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оры инея. В печур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ят дрова. В руках девчур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ядная там кукла. В клет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чной щегол поет. Салфет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 на столе лежат. Конь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зиме готовят там. Оч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жат для бабушки. Тетрад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да содержатся в поряд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857160" y="1500120"/>
            <a:ext cx="7572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деловой бумаге относится афиш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бъявл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31800" y="1268280"/>
            <a:ext cx="7921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ссказе А.П.Чехова «Ванька» мальчик писал письмо дедуш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ька сложил исписанный лист, вложил его в конверт… Подумав немного, он написал адрес: «На деревню дедушке». Потом прибавил: «Константину Макарычу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йдёт ли это письм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Не дойдёт, так как нет точного адрес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684360" y="1052640"/>
            <a:ext cx="7929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Физкультминутка за 40 баллов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и при помощи жестов (без слов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яр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ар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яр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ве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1042920" y="1341360"/>
            <a:ext cx="720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 словом на греческий язык можно перевести выражение «сам жизнь пишу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втобиография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539640" y="1268280"/>
            <a:ext cx="82868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лово пришло к нам из французского языка и переводится – «направлять». В русском языке – это название места нахождения объ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др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значит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42920" y="1268280"/>
            <a:ext cx="7416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почтам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анкт-Петербурге почтамт находится на Почтамтской улице, дом 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чтамт - главное почтовое отделение города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7" descr="Кот в мешке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97560"/>
          </a:xfrm>
          <a:prstGeom prst="rect">
            <a:avLst/>
          </a:prstGeom>
          <a:ln w="0">
            <a:noFill/>
          </a:ln>
        </p:spPr>
      </p:pic>
      <p:pic>
        <p:nvPicPr>
          <p:cNvPr id="208" name="Кот в мешке.mp3" descr=""/>
          <p:cNvPicPr/>
          <p:nvPr/>
        </p:nvPicPr>
        <p:blipFill>
          <a:blip r:embed="rId2"/>
          <a:stretch/>
        </p:blipFill>
        <p:spPr>
          <a:xfrm>
            <a:off x="8559720" y="6197760"/>
            <a:ext cx="31608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573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731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826920" y="1484280"/>
            <a:ext cx="77155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 букву, которую надо вставить в этих слов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_ография, св_детельство, изб_ра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укву 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95280" y="155736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4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__ега, коми__ия, профе__ия, промышле__ост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адо запомнить в правописании этих слов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двоенную согласную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104840" y="1197000"/>
            <a:ext cx="73119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ют человека, достигшего восемнадцатилетнего возрас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вершеннолетний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28760" y="1714680"/>
            <a:ext cx="82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ти слова, правильно поставив удар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алог, позвонит, добыча, дос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талОг, позвонИт, добЫча, дОсух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. Как правильно?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684360" y="1197000"/>
            <a:ext cx="8281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ь слова в родительный падеж множественного чис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поги – нет (чего?)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ки – нет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идоры – пять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ельсины – пять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поги – нет сапог, носки – нет нос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ять помидоров, пять апельсинов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-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826920" y="836640"/>
            <a:ext cx="80726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ыша обидел Вит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еред школою в стр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я проси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“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ините, я ошибку признаю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рок пришёл учител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ил на стол журна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ом Вит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“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ините, я немного опоздал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 давно ведётся в клас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жлив Витя или н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беритесь в этом спо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кажите мне  отв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Управляющая кнопка: назад 4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11280" y="1557360"/>
            <a:ext cx="8072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знак оплаты письма, в виде маленькой бумажки с рисунком и обозначением цены, которая приклеивается на конвер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Ма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395280" y="836640"/>
            <a:ext cx="828036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4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мальчика столкнулись в узком коридоре и не могут разойтись. Кто из них должен уступить дорогу, если одному 15, а другому 16 л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т, кому 15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т, кому 16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т, кто вежлив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упать дорогу не обязатель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от, кто вежлив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611280" y="1125360"/>
            <a:ext cx="7858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6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 и девочка одновременно подошли к гардеробу. Кто должен пройти первы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ноша и девушка выходят из автобуса, кто должен выйти первы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евочка.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Юноша должен выйти первым и подать руку девуш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116000" y="1413000"/>
            <a:ext cx="720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8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к тебе домой пришли друзья, и ты хочешь познакомить их с родителями – кого кому представлять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рузей родителя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Этикет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684360" y="549360"/>
            <a:ext cx="7929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 задачу. По улице шли двое прохожих: старик и мальчик 8 лет. У старика в руках было 5 предметов: портфель, 3 книги и большой свёрток. Одна книга уп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упала книга, – закричал мальчик, догоняя прохоже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е? – удивился то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чно. У вас было 5 предметов: 3 книги, портфель и свёрток, а теперь осталось 4 предмета, – объяснил мальч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ижу, что ты хорошо знаешь математику, – сказал старик, с трудом поднимая книгу. – Но, есть правила, которые ты ещё не усвои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авила не усвоил мальчи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Управляющая кнопка: назад 3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3 раунд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1692360" y="1557360"/>
            <a:ext cx="578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раун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Трудоустройст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опрос выпускникам!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187280" y="1628640"/>
            <a:ext cx="69138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окончания школы ты решил трудоустроиться. Где ты можешь получить информацию о рабочих  мест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центре занятост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молодёжной бирже т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средствах массов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 викторины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244" name="Рисунок 4" descr="casos.png"/>
          <p:cNvPicPr/>
          <p:nvPr/>
        </p:nvPicPr>
        <p:blipFill>
          <a:blip r:embed="rId1"/>
          <a:stretch/>
        </p:blipFill>
        <p:spPr>
          <a:xfrm>
            <a:off x="2987640" y="2813040"/>
            <a:ext cx="295272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aramond"/>
              </a:rPr>
              <a:t>Использованные интернет-ресурсы: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00040" y="1643040"/>
            <a:ext cx="807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Шаблон игры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s://myslide.ru/presentation/avtor-shablona-igry-uchitel-matematiki-mbou-sosh-61-im-mi-nedelina-vovdenko-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785880" y="1290600"/>
            <a:ext cx="75610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3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уга дней моих суровых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убка дряхлая мо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 в глуши лесов сосн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но, давно ты ждёшь мен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ому обращался А.С.Пушкин этими слова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К няне Арине Родионов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116000" y="1197000"/>
            <a:ext cx="7058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е всего писем в мире получает Папа Римский. На втором месте находится сказочный персонаж, который передвигается в санях, запряжённых олен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этот сказочный геро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Санта-Кла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«Я вам пишу…»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15960" y="1341360"/>
            <a:ext cx="799308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70 баллов.</a:t>
            </a: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ом  самого  короткого  письма  является писатель  Виктор  Гюго.  Он  отправил  издателю своё  новое  произведение  и  письмо, в котором вместо  слов  был  напис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 один вопросительный  знак.  Издателю  роман понравил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, что написал в ответном письме  издател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Times New Roman"/>
              </a:rPr>
              <a:t>                                    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</a:rPr>
              <a:t>!</a:t>
            </a:r>
            <a:r>
              <a:rPr b="1" i="1" lang="ru-RU" sz="54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187280" y="1125360"/>
            <a:ext cx="70376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 написании  какой  деловой бумаги  не используются предлоги и союзы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леграмма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Что для чего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050840" y="1413000"/>
            <a:ext cx="72867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опрос за 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основную бумагу надо написать, чтобы тебя приняли учиться в колледж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явление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Екатерина</cp:lastModifiedBy>
  <dcterms:modified xsi:type="dcterms:W3CDTF">2020-09-04T20:40:15Z</dcterms:modified>
  <cp:revision>152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