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F3F9-12FD-46F8-8487-AA0F5698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F0F1-8326-4DAE-8E1E-86C9C6CD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30DD-C876-46A3-BF24-B59885C2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8DA9-B9DF-4A61-8EC0-FF555AF4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785B-EB70-4F5B-9F71-28C97B83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F32D-3154-4015-AA7A-809BA0E6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92E1-0750-4E6B-B962-BAD51315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6040-668F-4550-A6B7-73185E02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84C6-3E9F-4301-B9AD-FE492F1F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B1A8-0A71-4EF8-BFC6-76F4807C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D656-985F-4579-9E8F-A4DD2AF2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2CB9-3CB2-4359-8D61-553C2C9A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3770-ADE7-4F2F-9CB6-39AAADEA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5912-4F32-4343-A3B3-930CBFF2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E1F8-0394-4DCA-8EF6-E7BF359E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43CA-6148-409A-93F4-1405B558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6E2F-6901-4D23-A8C1-781FF4A6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4DE6-910A-43D5-9A63-999B8227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A6C5-7303-4493-A3EA-F2E7E981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BD0A-FAB3-49B9-B0BA-65367841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632D-DF26-4055-B3F7-03128EEF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0121-BFBC-48E0-8B6C-2764E1F3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701B-92B0-4C9F-A01C-8F15F4CD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2959-2D36-4394-AE5C-A00F3B50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721D-6274-47DA-B8E5-EF93D043FA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3D5F-CD50-4898-A506-117DCDE5EF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7.xml"/><Relationship Id="rId15" Type="http://schemas.openxmlformats.org/officeDocument/2006/relationships/slide" Target="slide38.xml"/><Relationship Id="rId16" Type="http://schemas.openxmlformats.org/officeDocument/2006/relationships/slide" Target="slide39.xml"/><Relationship Id="rId17" Type="http://schemas.openxmlformats.org/officeDocument/2006/relationships/slide" Target="slide40.xml"/><Relationship Id="rId18" Type="http://schemas.openxmlformats.org/officeDocument/2006/relationships/slide" Target="slide41.xml"/><Relationship Id="rId19" Type="http://schemas.openxmlformats.org/officeDocument/2006/relationships/slide" Target="slide42.xml"/><Relationship Id="rId20" Type="http://schemas.openxmlformats.org/officeDocument/2006/relationships/slide" Target="slide43.xml"/><Relationship Id="rId21" Type="http://schemas.openxmlformats.org/officeDocument/2006/relationships/slide" Target="slide44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000" y="1153800"/>
            <a:ext cx="6072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н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деловому письму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ОЯ ИГРА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Заставка.mp3" descr=""/>
          <p:cNvPicPr/>
          <p:nvPr/>
        </p:nvPicPr>
        <p:blipFill>
          <a:blip r:embed="rId1"/>
          <a:stretch/>
        </p:blipFill>
        <p:spPr>
          <a:xfrm>
            <a:off x="8675640" y="6470640"/>
            <a:ext cx="146160" cy="144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5654880" y="5803920"/>
            <a:ext cx="335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ицаева Е.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ОУ №46 школа «Центр РиМ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Санкт-Петербу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1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для чего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944640" y="1282680"/>
            <a:ext cx="73897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 деловая бумага объясняет причины проступка, нарушения дисципл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бъяснительная записка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для чего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779400" y="1290600"/>
            <a:ext cx="78613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5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название головного убора используется для обозначения той части заявления или объяснительной записки, в которой пишут, кому адресована деловая бумага и кем написа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Шапка»</a:t>
            </a: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для чего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800280" y="1197000"/>
            <a:ext cx="757224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7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строительства Зимнего дворца в Петербурге осталось много мусора. Тогда было написано объявление. Через некоторое время после публикации этого объявления площадь перед Зимним дворцом оказалась очищена полностью. О чём было написано в том объявлен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объявлении людям предлагалось забрать бесплатно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о, что им захоч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Spb-bestphoto"/>
          <p:cNvPicPr/>
          <p:nvPr/>
        </p:nvPicPr>
        <p:blipFill>
          <a:blip r:embed="rId2"/>
          <a:stretch/>
        </p:blipFill>
        <p:spPr>
          <a:xfrm>
            <a:off x="-66600" y="0"/>
            <a:ext cx="9306000" cy="6980400"/>
          </a:xfrm>
          <a:prstGeom prst="rect">
            <a:avLst/>
          </a:prstGeom>
          <a:ln w="0">
            <a:noFill/>
          </a:ln>
        </p:spPr>
      </p:pic>
      <p:pic>
        <p:nvPicPr>
          <p:cNvPr id="139" name="НС .mp3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76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8766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766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Узнай по описанию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95280" y="981000"/>
            <a:ext cx="82090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ый документ, удостоверяющий личность и гражданство владельц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это за докумен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аспо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Узнай по описанию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11280" y="836640"/>
            <a:ext cx="7991280" cy="57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ициальный документ, в котором содержится письменная просьба о чем-нибудь, адресованная организации, предприятию или должностному лиц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 этот доку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явление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3. Узнай по описанию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611280" y="836640"/>
            <a:ext cx="800100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я деловая бумага может содержать вопросы по темам: «Персональные данные», «Мой класс», «Хобби», «Твоя семья» и друг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нкета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592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Узнай по описанию</a:t>
            </a: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28600" y="836640"/>
            <a:ext cx="8497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6" descr="Nota High Definition"/>
          <p:cNvPicPr/>
          <p:nvPr/>
        </p:nvPicPr>
        <p:blipFill>
          <a:blip r:embed="rId2"/>
          <a:stretch/>
        </p:blipFill>
        <p:spPr>
          <a:xfrm>
            <a:off x="1258920" y="1197000"/>
            <a:ext cx="6572160" cy="5400720"/>
          </a:xfrm>
          <a:prstGeom prst="rect">
            <a:avLst/>
          </a:prstGeom>
          <a:ln w="0">
            <a:noFill/>
          </a:ln>
        </p:spPr>
      </p:pic>
      <p:pic>
        <p:nvPicPr>
          <p:cNvPr id="153" name="Музвопрос.mp3" descr=""/>
          <p:cNvPicPr/>
          <p:nvPr/>
        </p:nvPicPr>
        <p:blipFill>
          <a:blip r:embed="rId3"/>
          <a:stretch/>
        </p:blipFill>
        <p:spPr>
          <a:xfrm>
            <a:off x="7812000" y="5877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5606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Узнай по описанию</a:t>
            </a: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971640" y="1197000"/>
            <a:ext cx="75009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бумага, в которой человек даёт разрешение кому-то действовать вместо себя (получать деньги, посылку, какие-то ценности)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оверенность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«Путаница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698400" y="822240"/>
            <a:ext cx="7991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оложи правильно части плана. Что пишут по получившемуся план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пи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щ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ел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драв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Обращ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. Поздрав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. Пожел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4. Подпи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5. Д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«Путаница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539640" y="620640"/>
            <a:ext cx="820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ступлении в колледж Петя принёс с собой объяснительную записку, характеристику, медицинскую справку, расписк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 ли выпускник подобрал документ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т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1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557360"/>
          <a:ext cx="8713800" cy="3125880"/>
        </p:xfrm>
        <a:graphic>
          <a:graphicData uri="http://schemas.openxmlformats.org/drawingml/2006/table">
            <a:tbl>
              <a:tblPr/>
              <a:tblGrid>
                <a:gridCol w="4105080"/>
                <a:gridCol w="936720"/>
                <a:gridCol w="934920"/>
                <a:gridCol w="936720"/>
                <a:gridCol w="936720"/>
                <a:gridCol w="863640"/>
              </a:tblGrid>
              <a:tr h="69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Я вам пишу…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для чег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най по описани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утаница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Управляющая кнопка: далее 3">
            <a:hlinkClick r:id="rId21" action="ppaction://hlinksldjump"/>
          </p:cNvPr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20513" y="10800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Категория.mp3" descr=""/>
          <p:cNvPicPr/>
          <p:nvPr/>
        </p:nvPicPr>
        <p:blipFill>
          <a:blip r:embed="rId22"/>
          <a:stretch/>
        </p:blipFill>
        <p:spPr>
          <a:xfrm>
            <a:off x="8810640" y="657216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46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«Путаница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50920" y="1052640"/>
            <a:ext cx="878508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3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равь ошибки в оформлении деловой бумаг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ору школы №6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ой Е.А.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я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, Смирнова Алёна, не пошла на урок физкультуры, потому что не умею кататься на лыжах. Простите мен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ругое название деловой бумаг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чина проступка не уважитель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полные данные «шапки».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60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«Путаница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649440" y="476280"/>
            <a:ext cx="80643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данная деловая бумага? Дополни её недостающими част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му?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кого?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, ________________________________ , взял на три дня компьютерные диски «Электронная энциклопедия» № 1 и № 2 для подготовки виктор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уюсь вернуть 20 марта 2018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 марта 2018 г.                                   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08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«Путаница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569880" y="476280"/>
            <a:ext cx="8136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оложи правильно текст деловой бумаги. Как она называет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й адрес: г.Санкт-Петербург, ул.Руставели, д.37, к.1, кв.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, Петров Иван Михайлович, родился 18 апреля 2000 года в Санкт-Петербург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 мая 2017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мать, Петрова Ирина Николаевна, работает кассиром в продовольственном магазине. Мой отец, Петров Михаил Анатольевич, трудится на строй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07 г. я поступил в школу и окончил 9 классов в 2017 году. Обучался столярному делу и получил профессию столя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 Пет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Управляющая кнопка: назад 3">
            <a:hlinkClick r:id="rId1" action="ppaction://hlinksldjump"/>
          </p:cNvPr>
          <p:cNvSpPr/>
          <p:nvPr/>
        </p:nvSpPr>
        <p:spPr>
          <a:xfrm>
            <a:off x="179280" y="638172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582480" y="476280"/>
            <a:ext cx="8136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биограф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, Петров Иван Михайлович, родился 18 апреля 2000 года в Санкт-Петербург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мать, Петрова Ирина Николаевна, работает кассиром в продовольственном магазине. Мой отец, Петров Михаил Анатольевич, трудится на строй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07 г. я поступил в школу и окончил 9 классов в 2017 году. Обучался столярному делу и получил профессию столя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й адрес: г.Санкт-Петербург, ул.Руставели, д.37, к.1, кв.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 мая 2017 г.                                          И.Пе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2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55640" y="1557360"/>
          <a:ext cx="7675560" cy="3097080"/>
        </p:xfrm>
        <a:graphic>
          <a:graphicData uri="http://schemas.openxmlformats.org/drawingml/2006/table">
            <a:tbl>
              <a:tblPr/>
              <a:tblGrid>
                <a:gridCol w="3387600"/>
                <a:gridCol w="900360"/>
                <a:gridCol w="823680"/>
                <a:gridCol w="792360"/>
                <a:gridCol w="901800"/>
                <a:gridCol w="869760"/>
              </a:tblGrid>
              <a:tr h="69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реч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 action="ppaction://hlinksldjump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 action="ppaction://hlinksldjump"/>
                        </a:rPr>
                        <a:t>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5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2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значит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6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7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8" action="ppaction://hlinksldjump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9" action="ppaction://hlinksldjump"/>
                        </a:rPr>
                        <a:t>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0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ьно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1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2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3" action="ppaction://hlinksldjump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4" action="ppaction://hlinksldjump"/>
                        </a:rPr>
                        <a:t>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5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ике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6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7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8" action="ppaction://hlinksldjump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9" action="ppaction://hlinksldjump"/>
                        </a:rPr>
                        <a:t>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0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5" name="Управляющая кнопка: в конец 3">
            <a:hlinkClick r:id="rId21" action="ppaction://hlinksldjump"/>
          </p:cNvPr>
          <p:cNvSpPr/>
          <p:nvPr/>
        </p:nvSpPr>
        <p:spPr>
          <a:xfrm>
            <a:off x="64296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Категория.mp3" descr=""/>
          <p:cNvPicPr/>
          <p:nvPr/>
        </p:nvPicPr>
        <p:blipFill>
          <a:blip r:embed="rId22"/>
          <a:stretch/>
        </p:blipFill>
        <p:spPr>
          <a:xfrm>
            <a:off x="8756640" y="646128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6463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Красноречие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500040" y="1714680"/>
            <a:ext cx="8072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 указ так, чтобы все остались живы. Где поставишь запятую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знить нельзя помил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знить нельзя, помиловать!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Красноречие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755640" y="141300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4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я комната янтарным блеск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арена. Веселым треск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щит затопленная печ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ятно думать у лежан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знаешь: не велеть ли в сан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былку бурую запречь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Красноречие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1187280" y="1052640"/>
            <a:ext cx="698508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-очень странный вид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Речка за окном, горит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чей-то дом, хвостом виляе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песик, из ружья стреляе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мальчик, чуть не слопал мышку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кот, в очках читает книжку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старый дед, вороб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ватил зерно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да как крикнет, улетая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- Вот что значит запятая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Красноречие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042920" y="836640"/>
            <a:ext cx="66960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сель там варят. Из резин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там шины делают. Из глин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кирпич там жгут. Из моло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творог готовят. Из пес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стекло там плавят. Из бетон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плотины строят. Из картон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обложки там. Из чугун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там варят сталь. Из полотн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кроят рубахи. Из пластмасс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посуду делают. Из мяс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котлеты стряпают. Из саж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там ваксу делают. Из пряж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прядут там нитки. Из сукн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костюмы шьют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Красноречие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900000" y="836640"/>
            <a:ext cx="748836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ке там рыба. На буг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чит корова. В кону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ака лает. На забо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ет синичка. В коридо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т дети. На ст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ит картина. На ок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оры инея. В печурк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ят дрова. В руках девчур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ядная там кукла. В клетк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чной щегол поет. Салфет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 на столе лежат. Конь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зиме готовят там. Оч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жат для бабушки. Тетрад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да содержатся в поряд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значит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857160" y="1500120"/>
            <a:ext cx="7572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ой деловой бумаге относится афиш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бъявл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«Я вам пишу…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631800" y="1268280"/>
            <a:ext cx="79218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 баллов.</a:t>
            </a: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ассказе А.П.Чехова «Ванька» мальчик писал письмо дедуш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…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нька сложил исписанный лист, вложил его в конверт… Подумав немного, он написал адрес: «На деревню дедушке». Потом прибавил: «Константину Макарычу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йдёт ли это письм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Не дойдёт, так как нет точного адреса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значит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684360" y="1052640"/>
            <a:ext cx="7929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Физкультминутка за 40 баллов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жи при помощи жестов (без слов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яр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ар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яр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ве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значит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1042920" y="1341360"/>
            <a:ext cx="720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м словом на греческий язык можно перевести выражение «сам жизнь пишу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втобиография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значит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539640" y="1268280"/>
            <a:ext cx="82868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лово пришло к нам из французского языка и переводится – «направлять». В русском языке – это название места нахождения объе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др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значит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042920" y="1268280"/>
            <a:ext cx="7416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почтамт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анкт-Петербурге почтамт находится на Почтамтской улице, дом 9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чтамт - главное почтовое отделение города.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7" descr="Кот в мешке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97560"/>
          </a:xfrm>
          <a:prstGeom prst="rect">
            <a:avLst/>
          </a:prstGeom>
          <a:ln w="0">
            <a:noFill/>
          </a:ln>
        </p:spPr>
      </p:pic>
      <p:pic>
        <p:nvPicPr>
          <p:cNvPr id="208" name="Кот в мешке.mp3" descr=""/>
          <p:cNvPicPr/>
          <p:nvPr/>
        </p:nvPicPr>
        <p:blipFill>
          <a:blip r:embed="rId2"/>
          <a:stretch/>
        </p:blipFill>
        <p:spPr>
          <a:xfrm>
            <a:off x="8559720" y="6197760"/>
            <a:ext cx="31608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573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731"/>
                            </p:stCondLst>
                            <p:childTnLst>
                              <p:par>
                                <p:cTn id="4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Как правильно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826920" y="1484280"/>
            <a:ext cx="77155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 букву, которую надо вставить в этих слов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_ография, св_детельство, изб_ра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укву 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Как правильно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395280" y="155736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4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__ега, коми__ия, профе__ия, промышле__ость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надо запомнить в правописании этих слов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двоенную согласную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Как правильно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1104840" y="1197000"/>
            <a:ext cx="73119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6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ют человека, достигшего восемнадцатилетнего возрас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вершеннолетний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Как правильно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428760" y="1714680"/>
            <a:ext cx="828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ти слова, правильно поставив ударени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алог, позвонит, добыча, дос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талОг, позвонИт, добЫча, дОсуха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Как правильно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684360" y="1197000"/>
            <a:ext cx="8281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вь слова в родительный падеж множественного числ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поги – нет (чего?)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ки – нет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идоры – пять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ельсины – пять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апоги – нет сапог, носки – нет нос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ять помидоров, пять апельсинов.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960" y="-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Этикет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826920" y="836640"/>
            <a:ext cx="80726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ыша обидел Вит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еред школою в стро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тя проси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“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ините, я ошибку признаю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рок пришёл учител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ил на стол журна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ом Вит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“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ините, я немного опоздал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 давно ведётся в класс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жлив Витя или н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беритесь в этом спо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кажите мне  отв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Управляющая кнопка: назад 4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«Я вам пишу…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11280" y="1557360"/>
            <a:ext cx="80722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</a:t>
            </a: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знак оплаты письма, в виде маленькой бумажки с рисунком и обозначением цены, которая приклеивается на конвер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Мар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Этикет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395280" y="836640"/>
            <a:ext cx="828036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4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 мальчика столкнулись в узком коридоре и не могут разойтись. Кто из них должен уступить дорогу, если одному 15, а другому 16 л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т, кому 15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т, кому 16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т, кто вежлив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упать дорогу не обязатель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от, кто вежлив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Этикет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611280" y="1125360"/>
            <a:ext cx="78580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чик и девочка одновременно подошли к гардеробу. Кто должен пройти первы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ноша и девушка выходят из автобуса, кто должен выйти первым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евочка.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Юноша должен выйти первым и подать руку девуш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Этикет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1116000" y="1413000"/>
            <a:ext cx="720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8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к тебе домой пришли друзья, и ты хочешь познакомить их с родителями – кого кому представлять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рузей родителя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Этикет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684360" y="549360"/>
            <a:ext cx="7929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 задачу. По улице шли двое прохожих: старик и мальчик 8 лет. У старика в руках было 5 предметов: портфель, 3 книги и большой свёрток. Одна книга упа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с упала книга, – закричал мальчик, догоняя прохоже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е? – удивился то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ечно. У вас было 5 предметов: 3 книги, портфель и свёрток, а теперь осталось 4 предмета, – объяснил мальч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вижу, что ты хорошо знаешь математику, – сказал старик, с трудом поднимая книгу. – Но, есть правила, которые ты ещё не усвои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правила не усвоил мальчи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 раунд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1692360" y="1557360"/>
            <a:ext cx="5786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раунд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«Трудоустройст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in" orient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опрос выпускникам!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187280" y="1628640"/>
            <a:ext cx="69138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окончания школы ты решил трудоустроиться. Где ты можешь получить информацию о рабочих  мест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центре занятости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 молодёжной бирже тр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средствах массов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968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дение итогов викторины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244" name="Рисунок 4" descr="casos.png"/>
          <p:cNvPicPr/>
          <p:nvPr/>
        </p:nvPicPr>
        <p:blipFill>
          <a:blip r:embed="rId1"/>
          <a:stretch/>
        </p:blipFill>
        <p:spPr>
          <a:xfrm>
            <a:off x="2987640" y="2813040"/>
            <a:ext cx="295272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Garamond"/>
              </a:rPr>
              <a:t>Использованные интернет-ресурсы: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00040" y="1643040"/>
            <a:ext cx="8072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Шаблон игры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s://myslide.ru/presentation/avtor-shablona-igry-uchitel-matematiki-mbou-sosh-61-im-mi-nedelina-vovdenko-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«Я вам пишу…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785880" y="1290600"/>
            <a:ext cx="75610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30 баллов.</a:t>
            </a: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уга дней моих суровых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убка дряхлая мо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а в глуши лесов сосн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но, давно ты ждёшь меня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ому обращался А.С.Пушкин этими словам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К няне Арине Родионов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Управляющая кнопка: назад 5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«Я вам пишу…»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116000" y="1197000"/>
            <a:ext cx="7058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е всего писем в мире получает Папа Римский. На втором месте находится сказочный персонаж, который передвигается в санях, запряжённых олен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этот сказочный геро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Санта-Кла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«Я вам пишу…»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615960" y="1341360"/>
            <a:ext cx="799308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70 баллов.</a:t>
            </a: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ом  самого  короткого  письма  является писатель  Виктор  Гюго.  Он  отправил  издателю своё  новое  произведение  и  письмо, в котором вместо  слов  был  написа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 один вопросительный  знак.  Издателю  роман понравил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гадай, что написал в ответном письме  издател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Times New Roman"/>
              </a:rPr>
              <a:t>                                    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</a:rPr>
              <a:t>!</a:t>
            </a:r>
            <a:r>
              <a:rPr b="1" i="1" lang="ru-RU" sz="54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для чего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187280" y="1125360"/>
            <a:ext cx="70376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 написании  какой  деловой бумаги  не используются предлоги и союзы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елеграмма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для чего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1050840" y="1413000"/>
            <a:ext cx="72867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ую основную бумагу надо написать, чтобы тебя приняли учиться в колледж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явление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Екатерина</cp:lastModifiedBy>
  <dcterms:modified xsi:type="dcterms:W3CDTF">2020-09-04T20:40:15Z</dcterms:modified>
  <cp:revision>152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</Properties>
</file>