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BA46-20AC-47F9-8954-A649B8D9A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81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5965560"/>
            <a:ext cx="82281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91DD-1F63-4025-B8A0-8AEAD6FAD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596556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596556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99FF-4485-4DA8-8DBA-10CACD37C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579132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579132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596556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596556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5965560"/>
            <a:ext cx="26492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4D96-164E-45D5-9C7D-466A86A526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5791320"/>
            <a:ext cx="82281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7B79-C85D-4A7C-B686-6737B20C8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81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CE71-BFAF-4DB9-AFFB-C7049A21A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C7FF-D2FD-4FDC-B8FC-557037E40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D58E-CA39-449D-9A1E-DD71B6F9B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79A7-8009-437B-B008-35636D536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596556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2D01-EFD9-4386-A5D3-96FEAB9D3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596556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F661-5253-47D6-BFB1-2A443BF3A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5791320"/>
            <a:ext cx="401508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5965560"/>
            <a:ext cx="82281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C9F4-DB1F-4F33-AA78-628F43107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5791320"/>
            <a:ext cx="82281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600" indent="-30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FAC73F-56DD-43A3-BDFF-1FF891353A0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762120" y="68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Bookman Old Style"/>
              </a:rPr>
              <a:t>ВЕЛИКОБРИТ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133720" y="76320"/>
            <a:ext cx="518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водный урок по английскому язы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380880" y="6324480"/>
            <a:ext cx="822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и дни в Великобритании живет  Королева Елизавета II . Этим королевством правит королева Елизавета II. Королева правит своим королевством уже 64 года. Королева любит выращивать ово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781520" cy="586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624852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левская резиденция  - Букингемский д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594560" cy="569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6324480"/>
            <a:ext cx="822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опримечательности Великобритании - Трафальгарская площад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79360" y="361800"/>
            <a:ext cx="8483760" cy="552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0" y="6324480"/>
            <a:ext cx="822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нная башня с часами Биг Бен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62120" y="57240"/>
            <a:ext cx="7950240" cy="596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920" y="624852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будете в Англии, обязательно покатайтесь на знаменитом колесе  обозрения - «Лондонский глаз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79440" y="6324480"/>
            <a:ext cx="658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й стране  живут люди по национальности – англича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530960" cy="3397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20680" y="5832360"/>
            <a:ext cx="8273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ество – самый любимый праздник у британских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англичан традиционно в течение многих веков начинается с яич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824360" y="2879640"/>
            <a:ext cx="4300560" cy="302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 rot="60000">
            <a:off x="63360" y="159840"/>
            <a:ext cx="52498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Давайте узнаем, что вы запомн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80880" y="1447920"/>
            <a:ext cx="8763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ется страна, в которой живет Вини-Пу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ица Великобритан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ом языке говорят в Британ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звали в древней Англии храбрых воин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самый главный в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достопримечательности вы запомни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зображено на флаге Великобритан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5562720" y="3067200"/>
            <a:ext cx="350496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0" y="6172200"/>
            <a:ext cx="9144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вы знаете, что Винни-Пух со своими друзьями  живет в стране, которая называется Великобрит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254480" cy="319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62485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рте мира  Великобритания обведена  красным кружком, правда маленькая стра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4938840"/>
          </a:xfrm>
          <a:prstGeom prst="rect">
            <a:avLst/>
          </a:prstGeom>
          <a:ln w="0">
            <a:noFill/>
          </a:ln>
        </p:spPr>
      </p:pic>
      <p:sp>
        <p:nvSpPr>
          <p:cNvPr id="52" name="Oval 4"/>
          <p:cNvSpPr/>
          <p:nvPr/>
        </p:nvSpPr>
        <p:spPr>
          <a:xfrm>
            <a:off x="4495680" y="1371600"/>
            <a:ext cx="228600" cy="22860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0" y="632448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ица Британии – Лонд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670880" cy="575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07512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0" y="6172200"/>
            <a:ext cx="91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британия древняя страна, со множеством старинных замков, сооруж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270400" cy="347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0880" y="6324480"/>
            <a:ext cx="822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историческое собрание каменных глыб - Стоунхенд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067440" cy="38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621828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минстерское аббат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476440" y="76320"/>
            <a:ext cx="4457880" cy="594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6248520"/>
            <a:ext cx="8991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ких замках  раньше жили рыцари  – это храбрые воины, которые носили доспехи и сражались за свою страну, короля или короле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3352680"/>
            <a:ext cx="2584440" cy="277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33520" y="0"/>
            <a:ext cx="1773000" cy="29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2666880" y="0"/>
            <a:ext cx="6477120" cy="4857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28600" y="6294600"/>
            <a:ext cx="891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царей уже давно нет, зато сохранились  замки и по прежнему живут коро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135760" cy="335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9-04T18:43:5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