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2905-2F0A-4DDD-BD33-53E922D35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81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5965560"/>
            <a:ext cx="82281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6034-0D2E-427A-901C-056F1F7BC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596556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596556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3B33-62DE-48C9-A6C0-9BA16F708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579132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579132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596556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596556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596556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416D-8B83-41ED-B92F-FE853EEBD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5791320"/>
            <a:ext cx="82281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68A5-6A4A-49A6-83EF-E7C582B875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81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A824-6FFE-4253-B47C-128D3E4DC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947D-F99D-4D11-A578-97CD401FC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813D-FDE5-4E56-8F7B-0E0F6A4BA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9830-01CA-4AC0-8942-3A0A95B80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596556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CFEB-523A-40A4-A43A-68FEB42B2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596556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43D6-18CD-4593-B927-D4E9B9382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5965560"/>
            <a:ext cx="82281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9020-4102-4876-9ED0-DAB3A5133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5791320"/>
            <a:ext cx="82281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ED6C09-5911-41D7-96F9-E73677F4C77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762120" y="68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Bookman Old Style"/>
              </a:rPr>
              <a:t>ВЕЛИКОБРИТ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133720" y="76320"/>
            <a:ext cx="518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водный урок по английскому язы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380880" y="6324480"/>
            <a:ext cx="822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и дни в Великобритании живет  Королева Елизавета II . Этим королевством правит королева Елизавета II. Королева правит своим королевством уже 64 года. Королева любит выращивать ово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781520" cy="586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624852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левская резиденция  - Букингемский д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594560" cy="569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6324480"/>
            <a:ext cx="822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опримечательности Великобритании - Трафальгарская площад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79360" y="361800"/>
            <a:ext cx="8483760" cy="552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0" y="6324480"/>
            <a:ext cx="822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нная башня с часами Биг Бен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62120" y="57240"/>
            <a:ext cx="7950240" cy="596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920" y="624852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будете в Англии, обязательно покатайтесь на знаменитом колесе  обозрения - «Лондонский глаз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79440" y="6324480"/>
            <a:ext cx="658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й стране  живут люди по национальности – англича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530960" cy="3397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20680" y="5832360"/>
            <a:ext cx="8273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ество – самый любимый праздник у британских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англичан традиционно в течение многих веков начинается с яич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824360" y="2879640"/>
            <a:ext cx="4300560" cy="302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 rot="60000">
            <a:off x="63360" y="159840"/>
            <a:ext cx="52498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Давайте узнаем, что вы запомн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80880" y="1447920"/>
            <a:ext cx="8763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ется страна, в которой живет Вини-Пу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ица Великобритан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ом языке говорят в Британ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звали в древней Англии храбрых воин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самый главный в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достопримечательности вы запомни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зображено на флаге Великобритан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562720" y="3067200"/>
            <a:ext cx="350496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0" y="6172200"/>
            <a:ext cx="9144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вы знаете, что Винни-Пух со своими друзьями  живет в стране, которая называется Великобрит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254480" cy="319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62485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рте мира  Великобритания обведена  красным кружком, правда маленькая стра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4938840"/>
          </a:xfrm>
          <a:prstGeom prst="rect">
            <a:avLst/>
          </a:prstGeom>
          <a:ln w="0">
            <a:noFill/>
          </a:ln>
        </p:spPr>
      </p:pic>
      <p:sp>
        <p:nvSpPr>
          <p:cNvPr id="52" name="Oval 4"/>
          <p:cNvSpPr/>
          <p:nvPr/>
        </p:nvSpPr>
        <p:spPr>
          <a:xfrm>
            <a:off x="4495680" y="1371600"/>
            <a:ext cx="228600" cy="22860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0" y="632448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ица Британии – Лонд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670880" cy="575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07512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0" y="6172200"/>
            <a:ext cx="91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британия древняя страна, со множеством старинных замков, сооруж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270400" cy="347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0880" y="6324480"/>
            <a:ext cx="822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историческое собрание каменных глыб - Стоунхенд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067440" cy="38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621828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минстерское аббат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476440" y="76320"/>
            <a:ext cx="4457880" cy="594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6248520"/>
            <a:ext cx="8991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ких замках  раньше жили рыцари  – это храбрые воины, которые носили доспехи и сражались за свою страну, короля или короле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3352680"/>
            <a:ext cx="2584440" cy="277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33520" y="0"/>
            <a:ext cx="1773000" cy="29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2666880" y="0"/>
            <a:ext cx="6477120" cy="4857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28600" y="6294600"/>
            <a:ext cx="891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царей уже давно нет, зато сохранились  замки и по прежнему живут коро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135760" cy="335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9-04T18:43:5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