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B72-F33B-454A-A820-3B4608AD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44F-EA70-407A-897C-60EB534D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407-D770-42AA-9DD1-C36E9061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CB1-380C-4357-AD27-D372CB77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05E-B7A3-4C06-8C46-FB584BDF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2DB-B976-4AE4-B372-D189A728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D8C-4E89-4CC3-96C5-A46BE05A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E25-DF3F-4634-8E88-1B25E331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FC4-4238-443B-9C5F-AB33820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A5A-978F-41E0-B957-81EA5FEC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FAB-0E27-4DC6-8F15-51847EB0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1CB-B7A7-407D-827E-07AA65F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6868-6FE9-4D67-80F1-0C538BB59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07920"/>
            <a:ext cx="7054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№ 1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Общеобразовательный центр» имени 21 армии Вооруженных сил СССР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г.т. Стройкерамика муниципального района Волжский Самарской обла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уктурное подразделение «Детский сад «Солнышко </a:t>
            </a:r>
            <a:br>
              <a:rPr sz="1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47131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дактическая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Ядовитые грибы в загадк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 воспитатель ЧубаеваЕ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700360" y="1844640"/>
            <a:ext cx="54738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54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2185920" cy="218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1125360"/>
            <a:ext cx="2011320" cy="2186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708360" y="3716280"/>
            <a:ext cx="2071800" cy="230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476600" y="3333600"/>
            <a:ext cx="19080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2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867280" y="2205000"/>
            <a:ext cx="2479680" cy="3090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2284200" cy="312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132000" y="69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500720" y="393372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252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16000" y="1700280"/>
            <a:ext cx="2136960" cy="23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276720" y="3789360"/>
            <a:ext cx="2233440" cy="249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476600" y="3333600"/>
            <a:ext cx="19080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147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2185920" cy="243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3860640"/>
            <a:ext cx="19044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731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5T04:26:19Z</dcterms:created>
  <dc:creator>алекс</dc:creator>
  <dc:description/>
  <dc:language>en-US</dc:language>
  <cp:lastModifiedBy>алекс</cp:lastModifiedBy>
  <dcterms:modified xsi:type="dcterms:W3CDTF">2020-09-05T10:45:10Z</dcterms:modified>
  <cp:revision>8</cp:revision>
  <dc:subject/>
  <dc:title> Государственное бюджетное общеобразовательное учреждение Самарской области средняя общеобразовательная школа № 1 «Общеобразовательный центр» имени 21 армии Вооруженных сил СССР  п.г.т. Стройкерамика муниципального района Волжский Самарской области Структурное подразделение «Детский сад «Солнышко   </dc:title>
</cp:coreProperties>
</file>