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3.gif" ContentType="image/gi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0FD0-6909-47B3-AD16-CEE6186F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88C2-4E00-40D7-9E84-0DC30F3D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6C98-B0D4-435C-B9DD-74727B5A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9523-9AA2-4F24-A72C-F8B5F73D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BA50-38C9-4BBE-BD24-7B4203D8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D9B3-1C3C-4DE9-8EC0-CBC2B11F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AF89-8DBC-492B-BCE2-268F3ADE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38CB-AA26-46B5-8EE1-8823B646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BBB2-2C5C-42AF-9957-BE98A29A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3248-D38C-4E80-904F-782135BD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A825-C226-4FAE-85F3-1508E46D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CA1A-5736-42A9-BB17-DB859476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1858-3616-444D-901C-97BC66BB9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07920"/>
            <a:ext cx="7054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осударственное бюджетное общеобразовательное учреждение Самарской области средняя общеобразовательная школа № 1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Общеобразовательный центр» имени 21 армии Вооруженных сил СССР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.г.т. Стройкерамика муниципального района Волжский Самарской област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руктурное подразделение «Детский сад «Солнышко </a:t>
            </a:r>
            <a:br>
              <a:rPr sz="14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12640"/>
            <a:ext cx="47131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дактическая иг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Ядовитые грибы в загадка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ила воспитатель ЧубаеваЕ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979640" y="270828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700360" y="1844640"/>
            <a:ext cx="547380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054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2185920" cy="2186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156360" y="1125360"/>
            <a:ext cx="2011320" cy="2186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708360" y="3716280"/>
            <a:ext cx="2071800" cy="2303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4476600" y="3333600"/>
            <a:ext cx="190800" cy="1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920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867280" y="2205000"/>
            <a:ext cx="2479680" cy="3090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971640" y="2781360"/>
            <a:ext cx="2284200" cy="3122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132000" y="692280"/>
            <a:ext cx="2743200" cy="3436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500720" y="393372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2252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116000" y="1700280"/>
            <a:ext cx="2136960" cy="2376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276720" y="3789360"/>
            <a:ext cx="2233440" cy="2494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476600" y="3333600"/>
            <a:ext cx="190800" cy="1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1479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76720" y="1989000"/>
            <a:ext cx="2185920" cy="2432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067280" y="3860640"/>
            <a:ext cx="190440" cy="1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97318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5T04:26:19Z</dcterms:created>
  <dc:creator>алекс</dc:creator>
  <dc:description/>
  <dc:language>en-US</dc:language>
  <cp:lastModifiedBy>алекс</cp:lastModifiedBy>
  <dcterms:modified xsi:type="dcterms:W3CDTF">2020-09-05T10:45:10Z</dcterms:modified>
  <cp:revision>8</cp:revision>
  <dc:subject/>
  <dc:title> Государственное бюджетное общеобразовательное учреждение Самарской области средняя общеобразовательная школа № 1 «Общеобразовательный центр» имени 21 армии Вооруженных сил СССР  п.г.т. Стройкерамика муниципального района Волжский Самарской области Структурное подразделение «Детский сад «Солнышко   </dc:title>
</cp:coreProperties>
</file>