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048-EE54-4E61-8D0C-51924C95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69B-911B-4AAB-8D23-365EA6BD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9EE3-8F9C-4CBE-B281-5694D25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090AF-A609-44FA-ABCD-6AC49BC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2EB74-F940-44AE-8EE4-0BF7CD3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25EC6-DB42-4FF9-9009-C8FC6B6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2F416-E766-4C2F-9257-765AA78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88DB7-447A-4C5A-BA94-EACE371B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A0E5-E1D6-4B9B-8099-2625B7A8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FF4BC-63F6-4D3B-916B-3041E223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9957F-E17B-4805-AA58-B3B91AE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48E50-CBAE-48A9-A1AA-9ED16A30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B1A-6FDA-4AC7-B466-BCCFA4EA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90D3A-FA24-4A33-86E2-F7A59E17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28B96-4631-479A-B301-F933EF8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2052-B8FB-46A8-BFA0-C4ECCF2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C381B-8245-413F-97ED-2C2D72E6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CF476-5EAE-4C3C-9A3D-9965CAB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A644-D4C0-4F8E-8590-751A4DE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46041-D897-47D7-BD7A-466B2B2E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CBCE-07F9-4A48-ACE3-9BF2817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5816-9F10-4D86-8DF3-D3B54C2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4FF9F-5685-49B1-B9A0-F5FCF759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556-5CB1-4CD1-A02B-CF145CF4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56404-2349-476B-8592-5AECE566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B206F-18E8-4E7E-BAFB-7FE44D8C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FE13-0AE1-41E1-B0D6-188EA67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2F37C-D822-4925-A00C-399A754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71DB6-1093-4383-B8DE-5B79443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248D5-C91F-4ECB-840A-F5B7928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68D0-475F-45D4-AE5D-4F0AE8A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E4FA6-1A29-469E-BA3F-FE83062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2320-C536-4C44-BEA8-6B2AE769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8C64E-172B-4E54-9B1D-42E0170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1D4-B697-49B4-A617-334A141B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1E23-A9B2-4A42-8253-1AB0047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8731-1811-42CE-8102-4E747815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D80E-0326-42DF-BB0A-05AA0CA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338E-E0D5-4B69-AEE7-9E54422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B5E-5228-4299-A384-D6191E7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E85-AC44-4BDE-A53E-0677185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BB32-2D38-4020-99B4-D31147E0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895D-00CD-416C-A358-60470778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609-A599-4698-A5C9-A163508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4AB-6782-4AB3-9F19-EAB2461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9886-29BE-49FB-9995-4F01CBB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CC5-9A20-45EF-A5F0-FF66CC9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A5E-5B21-46C8-83A6-FA11B42E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95AF-64CB-40AC-B3D6-14E15EEC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340-E6C5-4AF5-AFF9-2C24EE7F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3B6B-A299-48C3-8AAB-D7A15D43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018E-97D1-42BC-AB82-91FEE71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C9A1-B7D4-47D9-94E5-05B0DFE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E550-1453-498B-94B1-61C6DDB9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B076-DED0-478B-837D-0FAF5C1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2A8-CF04-48AF-BEF4-9D35C18E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F2CA-AAF4-4223-ABA8-B1365AA0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64E4-3F60-4760-BC82-58620B9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E8BC-E597-4472-AFB1-B04AC7F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9106-B518-4D0F-96A6-851CC08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0A21-BE78-4729-A110-DB797A3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5F1B-783C-4B46-AD4C-1E54B9A9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02A7-145A-40AD-A8B8-38AEAF6E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958F-5E39-4D6D-9BE6-1BBAE5DC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F44C-AFC8-4E41-887A-3E1D9EA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E1B3-4EF9-40CA-9A46-0E3039FD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300-D901-4DEB-B67C-B0B86FD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61DB-747E-4F1E-9721-1517932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EA2C-A08E-494D-9B70-64B74E3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457B-1409-4FFE-AA60-C94E0B4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83DA-744C-44FB-BF81-56788B6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7BA80-21FA-45C8-B038-442E000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3048-9F42-4C7E-A804-318DD64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AC0D-E545-4660-B29C-1DDB4AA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B33B-A1D5-483D-A687-CF662F8A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C0CB-5B7A-4340-B3D6-03FAEB3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052CA-DDA4-435E-87E7-0F124D70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E60-B066-46F6-96EE-38AB8DB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BBC6-65F1-4B8B-8C32-E95ACC8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2933-149A-4FEF-88E5-9EEF2F2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25A5E-AB09-4293-9A2B-6A013021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3657-9ADB-4B24-B15B-EF097D4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FF30-2004-423A-B4BD-8F7CB7A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89FC-897F-4795-8A9D-C9E9167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F282-D89A-472C-89AB-3133D1F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2ADE-F90F-487E-9E53-8921FF2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3917-B522-4DA7-8D97-B61D407A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3845-0849-4EB9-8CA8-A9E22CF1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D83-578E-4EE9-AC74-45E7942D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B87F-FC4F-4B38-A7EE-31BE0E0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8494-06D1-4A2E-928D-654F2B7C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C79D-D883-47E5-BD1F-7E19E77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D2A9-1AF9-4296-8358-FB9B15C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1094-DECB-4284-82A2-119AE126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F3AB-D0B5-4C2E-A12A-B975643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1D3A-2E3F-434F-9A57-5DD3DA3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95F9-0F94-4516-890B-DEA9042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B126-477D-444E-AD1F-68844ED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DF99-7E71-4C4F-BA53-00E4AF0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640-4ACD-4C90-9A8C-212DE5A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E275-D17D-4BFD-9026-4554D43A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61A5-1928-4E1F-B722-2FF869F1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09B6-C65C-407F-93C9-559A65C7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BD7C8-77AF-4A33-881A-062F1755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9A87-2C9D-47A9-A7F3-2AB2356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886B-6958-4166-B6F8-133C5BA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7A67-5926-49A1-A571-57C1373B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24CB-EC9F-4ABC-A82C-9EA1A7C1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E804-C0DE-44C6-B2AA-2141ECD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282F-F814-4C03-A851-5C2C509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E56-B1F2-43EC-8898-0B1F9E0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B2B0-81B7-4635-8DC8-7B0D1ED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201D-4392-4975-95E1-3DB162D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2DA3-3F45-44D6-9914-5B8E38C4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2759-0019-4E34-B84F-9D19433C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37412-EC3A-4024-9C4B-1E43AF65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9D0E-CE75-4D5C-936F-F3F6C0A9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52B2-9FD1-4CCE-B9FC-1E516660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E117-4332-4E1C-B413-4C32556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BD404-335F-4DA0-A794-3E9F1B4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C0DB9-5396-4D99-8D88-2FCCEC4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B8B-3E0B-4D72-A758-D6451E4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746E-029A-46EB-84E6-A9E6DD0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4A4B6-8B30-471C-BAD5-64A6207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AC37-C63B-4505-9995-D425FD8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A9F4-D176-4314-ADFC-E7CCE3F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F02C0-71A0-42D8-8FEB-9CEC0320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3C27-1E57-4630-BF0E-8079A403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A18D3-1404-4EDC-A2A6-266D9D4C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BBE40-DEA0-45DC-92CE-DBF8CECD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55F4D-6338-446F-9A41-FAEC4BE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E738-A5C0-4A75-83CD-A2F1207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0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82B-B151-4032-87E1-FE14F4380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5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472-3B64-44D1-BB51-267B53D29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4947-3E8F-4072-BF47-30B45F2FE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9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672-5C54-4F8D-AFB2-301A3AF44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8D1-1B6D-44E6-BC04-B292C7946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8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DA9E-2D67-45B2-BBA5-4C8FC6947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E6E-6E3A-433F-98E1-1A1F74168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27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586-538B-4D86-AA81-399CAD79B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01D-5771-4A1D-B5E7-772245E31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3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12C-0E92-440D-809B-51685DD04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34920" y="620280"/>
            <a:ext cx="662292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"Детский сад общеразвивающего вида с приоритетным осуществлением деятельности по физическому развитию детей № 13 "Звёздочка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499760" y="2142720"/>
            <a:ext cx="6715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1ab6"/>
                </a:solidFill>
                <a:latin typeface="Times New Roman"/>
              </a:rPr>
              <a:t>«Как мы провели лето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</a:rPr>
              <a:t>Подготовила воспитатель 2 средне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</a:rPr>
              <a:t>Зонова Александра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Содержимое 5" descr="ae06afJEx0o.jpg"/>
          <p:cNvPicPr/>
          <p:nvPr/>
        </p:nvPicPr>
        <p:blipFill>
          <a:blip r:embed="rId1"/>
          <a:stretch/>
        </p:blipFill>
        <p:spPr>
          <a:xfrm>
            <a:off x="3584520" y="1143000"/>
            <a:ext cx="5132520" cy="48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2" name="Прямоугольник 6"/>
          <p:cNvSpPr/>
          <p:nvPr/>
        </p:nvSpPr>
        <p:spPr>
          <a:xfrm>
            <a:off x="500040" y="178596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ы на солнце полежал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И друг друга не узнали.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то же мы -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бятк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Ил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Шокола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Я рисую лето - А какого цвета?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Красной краской - Солнце, 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На газонах розы,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А зеленой - поле, На лугах покос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3" descr="Xe2THexLIXQ.jpg"/>
          <p:cNvPicPr/>
          <p:nvPr/>
        </p:nvPicPr>
        <p:blipFill>
          <a:blip r:embed="rId1"/>
          <a:stretch/>
        </p:blipFill>
        <p:spPr>
          <a:xfrm>
            <a:off x="5643720" y="1785960"/>
            <a:ext cx="2857320" cy="34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5" name="Рисунок 4" descr="Myz2B3Tapek.jpg"/>
          <p:cNvPicPr/>
          <p:nvPr/>
        </p:nvPicPr>
        <p:blipFill>
          <a:blip r:embed="rId2"/>
          <a:stretch/>
        </p:blipFill>
        <p:spPr>
          <a:xfrm>
            <a:off x="642960" y="1928880"/>
            <a:ext cx="357192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Рисунок 6" descr="QoO8wrIG9jM.jpg"/>
          <p:cNvPicPr/>
          <p:nvPr/>
        </p:nvPicPr>
        <p:blipFill>
          <a:blip r:embed="rId3"/>
          <a:stretch/>
        </p:blipFill>
        <p:spPr>
          <a:xfrm>
            <a:off x="2857680" y="3786120"/>
            <a:ext cx="26524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6" descr="ScJ9wubHruo.jpg"/>
          <p:cNvPicPr/>
          <p:nvPr/>
        </p:nvPicPr>
        <p:blipFill>
          <a:blip r:embed="rId1"/>
          <a:stretch/>
        </p:blipFill>
        <p:spPr>
          <a:xfrm>
            <a:off x="1214280" y="1143000"/>
            <a:ext cx="352440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ы играем целый день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 целый день играть не лень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Рисунок 7" descr="bz8vN2xYFGQ.jpg"/>
          <p:cNvPicPr/>
          <p:nvPr/>
        </p:nvPicPr>
        <p:blipFill>
          <a:blip r:embed="rId2"/>
          <a:stretch/>
        </p:blipFill>
        <p:spPr>
          <a:xfrm>
            <a:off x="5072040" y="1143000"/>
            <a:ext cx="3500640" cy="262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0" name="Рисунок 8" descr="neCj55Slmlk.jpg"/>
          <p:cNvPicPr/>
          <p:nvPr/>
        </p:nvPicPr>
        <p:blipFill>
          <a:blip r:embed="rId3"/>
          <a:stretch/>
        </p:blipFill>
        <p:spPr>
          <a:xfrm>
            <a:off x="5000760" y="3857760"/>
            <a:ext cx="3381120" cy="253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1" name="Рисунок 9" descr="wTEy88cJ7T8.jpg"/>
          <p:cNvPicPr/>
          <p:nvPr/>
        </p:nvPicPr>
        <p:blipFill>
          <a:blip r:embed="rId4"/>
          <a:stretch/>
        </p:blipFill>
        <p:spPr>
          <a:xfrm>
            <a:off x="1214280" y="3857760"/>
            <a:ext cx="3500640" cy="25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Рисунок 5" descr="B5nQbEwukaU.jpg"/>
          <p:cNvPicPr/>
          <p:nvPr/>
        </p:nvPicPr>
        <p:blipFill>
          <a:blip r:embed="rId1"/>
          <a:stretch/>
        </p:blipFill>
        <p:spPr>
          <a:xfrm>
            <a:off x="142920" y="142920"/>
            <a:ext cx="408132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3" name="Рисунок 6" descr="gZjvxrMAGjg.jpg"/>
          <p:cNvPicPr/>
          <p:nvPr/>
        </p:nvPicPr>
        <p:blipFill>
          <a:blip r:embed="rId2"/>
          <a:stretch/>
        </p:blipFill>
        <p:spPr>
          <a:xfrm>
            <a:off x="4643280" y="1071720"/>
            <a:ext cx="405288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Рисунок 7" descr="NBTc7Q2yT1A.jpg"/>
          <p:cNvPicPr/>
          <p:nvPr/>
        </p:nvPicPr>
        <p:blipFill>
          <a:blip r:embed="rId3"/>
          <a:stretch/>
        </p:blipFill>
        <p:spPr>
          <a:xfrm>
            <a:off x="500040" y="3429000"/>
            <a:ext cx="3857760" cy="289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5" descr="i4F8bXNRcJ8.jpg"/>
          <p:cNvPicPr/>
          <p:nvPr/>
        </p:nvPicPr>
        <p:blipFill>
          <a:blip r:embed="rId1"/>
          <a:stretch/>
        </p:blipFill>
        <p:spPr>
          <a:xfrm>
            <a:off x="1643040" y="571680"/>
            <a:ext cx="2928960" cy="291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Рисунок 7" descr="NbEVOXw5bfo.jpg"/>
          <p:cNvPicPr/>
          <p:nvPr/>
        </p:nvPicPr>
        <p:blipFill>
          <a:blip r:embed="rId2"/>
          <a:stretch/>
        </p:blipFill>
        <p:spPr>
          <a:xfrm>
            <a:off x="4500720" y="3714840"/>
            <a:ext cx="38620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Рисунок 9" descr="ZvHWqJMqMX8.jpg"/>
          <p:cNvPicPr/>
          <p:nvPr/>
        </p:nvPicPr>
        <p:blipFill>
          <a:blip r:embed="rId3"/>
          <a:stretch/>
        </p:blipFill>
        <p:spPr>
          <a:xfrm>
            <a:off x="5000760" y="714240"/>
            <a:ext cx="286704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Рисунок 10" descr="IyxqwUZEpGY.jpg"/>
          <p:cNvPicPr/>
          <p:nvPr/>
        </p:nvPicPr>
        <p:blipFill>
          <a:blip r:embed="rId4"/>
          <a:stretch/>
        </p:blipFill>
        <p:spPr>
          <a:xfrm>
            <a:off x="1285920" y="3643200"/>
            <a:ext cx="278604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ыбки плавают в воде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ак  же вас поймать и гд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Рисунок 3" descr="qpemhruk-7g.jpg"/>
          <p:cNvPicPr/>
          <p:nvPr/>
        </p:nvPicPr>
        <p:blipFill>
          <a:blip r:embed="rId1"/>
          <a:stretch/>
        </p:blipFill>
        <p:spPr>
          <a:xfrm>
            <a:off x="714240" y="2071800"/>
            <a:ext cx="379116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1" name="Рисунок 4" descr="dfc8_Tiwmfo.jpg"/>
          <p:cNvPicPr/>
          <p:nvPr/>
        </p:nvPicPr>
        <p:blipFill>
          <a:blip r:embed="rId2"/>
          <a:stretch/>
        </p:blipFill>
        <p:spPr>
          <a:xfrm>
            <a:off x="5000760" y="1714680"/>
            <a:ext cx="3441600" cy="40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йка воду не жалейка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лумбы, грядочки полей-к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Рисунок 3" descr="ZaP11FM6IfI.jpg"/>
          <p:cNvPicPr/>
          <p:nvPr/>
        </p:nvPicPr>
        <p:blipFill>
          <a:blip r:embed="rId1"/>
          <a:stretch/>
        </p:blipFill>
        <p:spPr>
          <a:xfrm>
            <a:off x="785880" y="1143000"/>
            <a:ext cx="3857400" cy="323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4" name="Рисунок 4" descr="L4usCSmOqXY.jpg"/>
          <p:cNvPicPr/>
          <p:nvPr/>
        </p:nvPicPr>
        <p:blipFill>
          <a:blip r:embed="rId2"/>
          <a:stretch/>
        </p:blipFill>
        <p:spPr>
          <a:xfrm>
            <a:off x="5000760" y="1143000"/>
            <a:ext cx="36622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5" name="Рисунок 5" descr="WiC6tD0HjHY.jpg"/>
          <p:cNvPicPr/>
          <p:nvPr/>
        </p:nvPicPr>
        <p:blipFill>
          <a:blip r:embed="rId3"/>
          <a:stretch/>
        </p:blipFill>
        <p:spPr>
          <a:xfrm>
            <a:off x="2500200" y="3643200"/>
            <a:ext cx="38577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Ах, эти солнечные дни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Вот так мы лето провел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Рисунок 3" descr="6sMulk9Y-pg.jpg"/>
          <p:cNvPicPr/>
          <p:nvPr/>
        </p:nvPicPr>
        <p:blipFill>
          <a:blip r:embed="rId1"/>
          <a:stretch/>
        </p:blipFill>
        <p:spPr>
          <a:xfrm>
            <a:off x="1071720" y="1285920"/>
            <a:ext cx="29556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8" name="Рисунок 5" descr="Isre80xHeFQ.jpg"/>
          <p:cNvPicPr/>
          <p:nvPr/>
        </p:nvPicPr>
        <p:blipFill>
          <a:blip r:embed="rId2"/>
          <a:stretch/>
        </p:blipFill>
        <p:spPr>
          <a:xfrm>
            <a:off x="3571920" y="3143160"/>
            <a:ext cx="2571840" cy="315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9" name="Рисунок 4" descr="SS0Dc6C-gxU.jpg"/>
          <p:cNvPicPr/>
          <p:nvPr/>
        </p:nvPicPr>
        <p:blipFill>
          <a:blip r:embed="rId3"/>
          <a:stretch/>
        </p:blipFill>
        <p:spPr>
          <a:xfrm>
            <a:off x="5786280" y="1357200"/>
            <a:ext cx="2660760" cy="33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Рисунок 5" descr="pr_source.png"/>
          <p:cNvPicPr/>
          <p:nvPr/>
        </p:nvPicPr>
        <p:blipFill>
          <a:blip r:embed="rId1"/>
          <a:stretch/>
        </p:blipFill>
        <p:spPr>
          <a:xfrm>
            <a:off x="3279600" y="2706840"/>
            <a:ext cx="251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3920" y="500040"/>
            <a:ext cx="7472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Задачи летней оздорови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31ab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ализовать систему мероприятий, направленных на оздоровление и физическое развитие детей, их нравственное воспитание, развитие любознательности и познавательной активности, формирование культурно – гигиенических и трудовых навы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31ab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Осуществить педагогическое и санитарное просвещение родителей по вопросам воспитания и оздоровления детей в летний период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1214280" y="1928880"/>
            <a:ext cx="73584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оздать условия, обеспечивающие охрану жизни и здоровья детей, предупреждение заболеваемости и травмат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69120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омплекс оздоровительных мероприятий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2560" y="1999800"/>
            <a:ext cx="76438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жим д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рогулки на открытом воздух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балансированное пит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невной с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азнообразные вид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71360" y="785880"/>
            <a:ext cx="76150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то - чудная пора!</a:t>
            </a:r>
            <a:br>
              <a:rPr sz="4000"/>
            </a:b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то любит детвора!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Содержимое 5" descr="Z4WHu1IIjfA.jpg"/>
          <p:cNvPicPr/>
          <p:nvPr/>
        </p:nvPicPr>
        <p:blipFill>
          <a:blip r:embed="rId1"/>
          <a:stretch/>
        </p:blipFill>
        <p:spPr>
          <a:xfrm>
            <a:off x="1897200" y="1857240"/>
            <a:ext cx="5692680" cy="426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есочница, песочница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В песке вся детвора.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остроить домик хочется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Забавная иг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Содержимое 9" descr="Qr80lGttxLY.jpg"/>
          <p:cNvPicPr/>
          <p:nvPr/>
        </p:nvPicPr>
        <p:blipFill>
          <a:blip r:embed="rId1"/>
          <a:stretch/>
        </p:blipFill>
        <p:spPr>
          <a:xfrm>
            <a:off x="1295280" y="1857240"/>
            <a:ext cx="6553440" cy="442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ного нового узнали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Библиотеку посещ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Содержимое 7" descr="FWi6d4vAp1Y.jpg"/>
          <p:cNvPicPr/>
          <p:nvPr/>
        </p:nvPicPr>
        <p:blipFill>
          <a:blip r:embed="rId1"/>
          <a:stretch/>
        </p:blipFill>
        <p:spPr>
          <a:xfrm>
            <a:off x="4929120" y="1285920"/>
            <a:ext cx="3330720" cy="24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8" name="Рисунок 8" descr="Vy3txuBNk3g.jpg"/>
          <p:cNvPicPr/>
          <p:nvPr/>
        </p:nvPicPr>
        <p:blipFill>
          <a:blip r:embed="rId2"/>
          <a:stretch/>
        </p:blipFill>
        <p:spPr>
          <a:xfrm>
            <a:off x="4929120" y="3929040"/>
            <a:ext cx="335772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9" name="Рисунок 9" descr="OW2k9z9qu8o.jpg"/>
          <p:cNvPicPr/>
          <p:nvPr/>
        </p:nvPicPr>
        <p:blipFill>
          <a:blip r:embed="rId3"/>
          <a:stretch/>
        </p:blipFill>
        <p:spPr>
          <a:xfrm>
            <a:off x="1143000" y="4000680"/>
            <a:ext cx="335772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0" name="Рисунок 10" descr="H62s9DrLX3Y.jpg"/>
          <p:cNvPicPr/>
          <p:nvPr/>
        </p:nvPicPr>
        <p:blipFill>
          <a:blip r:embed="rId4"/>
          <a:stretch/>
        </p:blipFill>
        <p:spPr>
          <a:xfrm>
            <a:off x="1143000" y="1285920"/>
            <a:ext cx="3357720" cy="244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6" descr="qDkqs_eqxLQ.jpg"/>
          <p:cNvPicPr/>
          <p:nvPr/>
        </p:nvPicPr>
        <p:blipFill>
          <a:blip r:embed="rId1"/>
          <a:stretch/>
        </p:blipFill>
        <p:spPr>
          <a:xfrm>
            <a:off x="571680" y="3214800"/>
            <a:ext cx="400032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2" name="Рисунок 8" descr="DY_fjYZugcI.jpg"/>
          <p:cNvPicPr/>
          <p:nvPr/>
        </p:nvPicPr>
        <p:blipFill>
          <a:blip r:embed="rId2"/>
          <a:stretch/>
        </p:blipFill>
        <p:spPr>
          <a:xfrm>
            <a:off x="2714760" y="357120"/>
            <a:ext cx="37144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3" name="Рисунок 10" descr="cljxiBsxnmM.jpg"/>
          <p:cNvPicPr/>
          <p:nvPr/>
        </p:nvPicPr>
        <p:blipFill>
          <a:blip r:embed="rId3"/>
          <a:stretch/>
        </p:blipFill>
        <p:spPr>
          <a:xfrm>
            <a:off x="4786200" y="3214800"/>
            <a:ext cx="400068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</a:rPr>
              <a:t>И подарки получ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Содержимое 5" descr="pG-nw5rPTq4.jpg"/>
          <p:cNvPicPr/>
          <p:nvPr/>
        </p:nvPicPr>
        <p:blipFill>
          <a:blip r:embed="rId1"/>
          <a:stretch/>
        </p:blipFill>
        <p:spPr>
          <a:xfrm>
            <a:off x="1500120" y="857160"/>
            <a:ext cx="3157560" cy="301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6" name="Рисунок 6" descr="2K45FUE5_Ps.jpg"/>
          <p:cNvPicPr/>
          <p:nvPr/>
        </p:nvPicPr>
        <p:blipFill>
          <a:blip r:embed="rId2"/>
          <a:stretch/>
        </p:blipFill>
        <p:spPr>
          <a:xfrm>
            <a:off x="5143680" y="785880"/>
            <a:ext cx="3000240" cy="30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7" name="Рисунок 8" descr="tm7qp-JN8bY.jpg"/>
          <p:cNvPicPr/>
          <p:nvPr/>
        </p:nvPicPr>
        <p:blipFill>
          <a:blip r:embed="rId3"/>
          <a:stretch/>
        </p:blipFill>
        <p:spPr>
          <a:xfrm>
            <a:off x="3286080" y="3571920"/>
            <a:ext cx="3071880" cy="28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Вот и лето, красота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ружно  загораем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Бледноватые бока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олнцу подставля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Рисунок 5" descr="3lk0gAvXAxA.jpg"/>
          <p:cNvPicPr/>
          <p:nvPr/>
        </p:nvPicPr>
        <p:blipFill>
          <a:blip r:embed="rId1"/>
          <a:stretch/>
        </p:blipFill>
        <p:spPr>
          <a:xfrm>
            <a:off x="571680" y="2286000"/>
            <a:ext cx="4100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Рисунок 6" descr="qY8ax_0mKmI.jpg"/>
          <p:cNvPicPr/>
          <p:nvPr/>
        </p:nvPicPr>
        <p:blipFill>
          <a:blip r:embed="rId2"/>
          <a:stretch/>
        </p:blipFill>
        <p:spPr>
          <a:xfrm>
            <a:off x="5000760" y="2000160"/>
            <a:ext cx="352872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8:32:13Z</dcterms:created>
  <dc:creator>Admin</dc:creator>
  <dc:description/>
  <dc:language>en-US</dc:language>
  <cp:lastModifiedBy>Александра</cp:lastModifiedBy>
  <dcterms:modified xsi:type="dcterms:W3CDTF">2020-09-05T11:26:3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4647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