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.png" ContentType="image/png"/>
  <Override PartName="/ppt/media/image17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1CC5-63D7-48A6-9AF3-62D0A805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59E3-61DB-4A0D-9773-A2065C16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D9D43-5CDF-4AC9-8739-41894641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EEE3B-8E6B-4B84-8A9D-941DDAA6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C981E-6B8F-400B-A478-62F41716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78A5C-BA79-422E-A62B-68C82BA0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046E3-C111-41E6-B8E0-85259F68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DE145-7EE0-476F-BC57-24767A15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5DAE7-0B33-47A5-B86C-ADAF8C33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3C380-6F2F-479B-B67F-C3722380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D7AA9-1FAC-468E-8EC2-3A33CB40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3D000-1E9E-4E96-B6FB-25B01AC72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277C-DEF9-4E4B-8E00-BCB84023D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6E10F-2862-4A86-AD57-1E7D4F1E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A61F8-F9C8-4BB2-969E-5DF48CBA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782D5-EE1E-4390-91E9-24F3BB2B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BAC3C-2734-4C81-A7C5-9F4FE254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B67AE-7353-439C-80E4-3E6101C7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FFE26-60DA-48E5-84B1-EFC93013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F92EB-A771-4CF3-8348-417B39C1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4BF5B-05D2-4146-9D8F-53B62CDF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FDB3B-486E-4F7B-A27B-D91DA1A7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7B0F3-0698-4997-8EE6-377BE237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6DB0-7498-4928-8B81-926083F3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54BC9-06EB-463E-A06C-3548EDA2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139B3-6D72-4ED8-A00B-8C4B0B9A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B30AF-8521-476A-84D3-CCBFDAA4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68E05-2363-4059-80A1-37EFBD79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602EB-D695-4FBD-BE06-002EF489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56BB5-D56E-4F1D-B871-3CCF3D4C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D5A42-5C46-4AC7-AD5D-150079D9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71ED0-A8FB-414C-8757-810B904E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3FCD5-10CB-4A5A-A2A5-40878498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A5C35-B3A4-405E-860A-5B610186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6CDB-2F92-4FC9-93BB-E320BD77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50828-A398-4A8E-BE46-8814E2F0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309EF-D7A7-4B60-AB73-47779F2C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98829-1B55-443A-9E6B-8D94611D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2EBF-3FDA-4754-A952-C63BD5FC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8B0A-13DF-4FD6-8378-38F095AA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5980-33CF-4D96-9CBE-723D33F5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6594-7E3E-438C-849C-1D0BB389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99BC-A96A-470A-BA47-2D7C7CA3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108B-3696-4114-86CE-B510B356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1A9F-BC05-4CBD-B6EB-FC1C307F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8DFE-3EAF-4797-AC81-84DA9713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FDB3-2C19-4265-BF53-928A5B83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F054-B60B-4EE6-81CB-B61449EB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B408-470D-4787-A9F1-E29B4F67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C982-BB26-407A-AE9A-AFE63835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1CBC5-FD61-4616-B84F-25AE6160F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0694E-4726-439E-B5AF-2477ABD9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B46E7-10A9-43F1-8FB1-DE6CDFEB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D6FEA-0A49-4711-A32C-85F5C710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B1B5A-B910-4318-85B5-BB568D6C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CDA0-039F-4F5E-BC12-3854C489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E93DC-A1CE-4A4E-BF3B-AE7F7D30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B62C3-62EF-4780-BB6C-11A2CE2F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743B3-0895-4D3D-981C-229E1F27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1844F-A914-448E-BCC8-13AB2D40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D14F8-02D2-4E16-8F85-13EB0F2E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0C2D7-09BA-4501-BFB0-3F4B2EA3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010A7-7CA9-4D22-BDC6-C3A0BACA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E3D3E-DEBB-4E48-95D7-903D02E7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68A67-0855-4B9A-AE8F-786B39C1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BA7AF-F030-4FE5-A9E2-315914B5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3A41-5A26-4DB9-89D3-255D14A4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06DD4-DD06-4580-883D-44AFAC10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D9DB3-E6FA-49B8-9FCB-B5185220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EAB82-3106-4B33-8FDB-36347C4C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E411B-4698-4E9E-9991-83A9DED7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6A69D-0767-4CC0-934B-8C92B334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07991-EB13-416B-8E85-D871940E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84A85-97E1-4E3A-8A4E-10C178FC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B7BFD-B874-4AA9-9A11-05AAA7322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39EF2-1DFF-43B6-8F56-668671ED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427AE-BE02-426C-B91C-37799BEC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BE55-04F5-4777-BDE9-F5FD6AEA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65311-6E2B-43D5-B4C9-E491AF32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16600-213A-4E5C-A7B2-92FF7595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80047-E4FB-4DFE-A349-AD6C6F31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0BD05-7ECB-48B9-92CB-12F58A7D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6DD21-18E9-4F9F-AD50-BEFCD7B6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5B5F5-85BA-49BF-8B3D-3205FC12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5AE81-D205-4E48-9880-7409C3B0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3D2BD-35A5-449F-A68D-68F9DE8B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A5E47-AEDF-4666-8DF7-844ECF42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1F852-76F4-453A-AEDF-7907A073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6F9B-A85D-4E1E-B42A-C91E99B3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B1E23-701C-4598-B5E5-17FB3415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CF4AD-5ADE-46CC-99EE-EA7B0114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BE7E7-8DD1-4FC9-B7F1-7810210D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D8945-C481-405E-9527-0AA4D56C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026D3-90DD-49CB-BB6D-88656342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A73B8-C99F-4494-A92A-65313A26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106B5-FDF1-4A60-8697-CABAEBDC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E05E4-09AD-4495-9318-61E18E34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751F2-C6D3-4C60-8581-94920905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FEC5D-66F9-4F61-B201-2D84F9EF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C702-6323-443E-8B6C-E1B6599F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AE202-79D4-43C4-9443-751A9133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168CA-E67C-4F1A-9977-50424274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34F56-CD23-4BF9-BA68-0178A211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FE8D3-51F0-4AC4-90C6-A2796982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DC53E-815C-43EC-997F-616BE02D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E68E9-AE9D-4A8E-9147-FA1DF379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C0B0B-01E4-4ED6-A1C8-E04D560B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037A1-CBA4-4811-B53D-ACCE342F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E5705-E9C7-49B3-ADA0-97CB027F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9F287-BC4F-43B0-A47C-787179ED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276C-3612-4DCB-B30D-F2379B8F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CBEF5-AB66-46DE-978A-9A28630D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B4890-63B8-4830-9021-428961F5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2AE4D-76F6-489D-B05D-7D1E0D44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7D759-DC0B-4747-B43F-F93904A7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A43F3-FCBC-4B9E-B481-54C277F1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1D3D4-1318-43A5-952C-B2B8CE80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503E9-1ED5-4F0D-B214-589489C1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A01B7-EEEF-4BCC-BB2E-89B79FF7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DE7FD-6159-4014-8FEB-0CE9D7F8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192C0-1F9E-4CC4-841C-D8033D65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D48F-6639-4E6A-AFAD-18436E02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38E25-F019-415E-B609-D2485472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FEDA8-590F-458F-8A78-DB6BB491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841BC-B02D-45D4-99D8-F46D7D85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EF74F-D620-496A-9221-B1BCE2D0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9A774-496E-4B52-A578-44D1A970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A9915-51F3-4B07-B5F3-1A34A75A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55E44-4A01-4BDA-BCE0-2F11B018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635B9-FC5C-4313-9082-71CC6BAC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D32F1-2CC6-4B66-A5E9-A0A23F10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CEC31-5A7E-47C6-9060-960EC7DE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Скругленный прямоугольник 6"/>
          <p:cNvGrpSpPr/>
          <p:nvPr/>
        </p:nvGrpSpPr>
        <p:grpSpPr>
          <a:xfrm>
            <a:off x="109440" y="36360"/>
            <a:ext cx="8998200" cy="6712200"/>
            <a:chOff x="109440" y="36360"/>
            <a:chExt cx="8998200" cy="6712200"/>
          </a:xfrm>
        </p:grpSpPr>
        <p:pic>
          <p:nvPicPr>
            <p:cNvPr id="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09440" y="36360"/>
              <a:ext cx="8998200" cy="671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22360" y="450720"/>
              <a:ext cx="8170920" cy="58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" name="Рисунок 7" descr="0_75c96_b715e7d3_XL.jpeg"/>
          <p:cNvPicPr/>
          <p:nvPr/>
        </p:nvPicPr>
        <p:blipFill>
          <a:blip r:embed="rId4"/>
          <a:stretch/>
        </p:blipFill>
        <p:spPr>
          <a:xfrm>
            <a:off x="71280" y="71280"/>
            <a:ext cx="2000520" cy="200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Скругленный прямоугольник 6"/>
          <p:cNvGrpSpPr/>
          <p:nvPr/>
        </p:nvGrpSpPr>
        <p:grpSpPr>
          <a:xfrm>
            <a:off x="109440" y="36360"/>
            <a:ext cx="8998200" cy="6712200"/>
            <a:chOff x="109440" y="36360"/>
            <a:chExt cx="8998200" cy="6712200"/>
          </a:xfrm>
        </p:grpSpPr>
        <p:pic>
          <p:nvPicPr>
            <p:cNvPr id="40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09440" y="36360"/>
              <a:ext cx="8998200" cy="671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22360" y="450720"/>
              <a:ext cx="8170920" cy="58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8" name="Рисунок 7" descr="0_75c96_b715e7d3_XL.jpeg"/>
          <p:cNvPicPr/>
          <p:nvPr/>
        </p:nvPicPr>
        <p:blipFill>
          <a:blip r:embed="rId4"/>
          <a:stretch/>
        </p:blipFill>
        <p:spPr>
          <a:xfrm>
            <a:off x="71280" y="71280"/>
            <a:ext cx="2000520" cy="200052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B61A-785D-43DD-98BE-83BDFED53C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Скругленный прямоугольник 6"/>
          <p:cNvGrpSpPr/>
          <p:nvPr/>
        </p:nvGrpSpPr>
        <p:grpSpPr>
          <a:xfrm>
            <a:off x="109440" y="36360"/>
            <a:ext cx="8998200" cy="6712200"/>
            <a:chOff x="109440" y="36360"/>
            <a:chExt cx="8998200" cy="6712200"/>
          </a:xfrm>
        </p:grpSpPr>
        <p:pic>
          <p:nvPicPr>
            <p:cNvPr id="45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09440" y="36360"/>
              <a:ext cx="8998200" cy="671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522360" y="450720"/>
              <a:ext cx="8170920" cy="58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3" name="Рисунок 7" descr="0_75c96_b715e7d3_XL.jpeg"/>
          <p:cNvPicPr/>
          <p:nvPr/>
        </p:nvPicPr>
        <p:blipFill>
          <a:blip r:embed="rId4"/>
          <a:stretch/>
        </p:blipFill>
        <p:spPr>
          <a:xfrm>
            <a:off x="71280" y="71280"/>
            <a:ext cx="2000520" cy="200052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7DE3-5B40-4D3D-BA35-DF696BD577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Скругленный прямоугольник 6"/>
          <p:cNvGrpSpPr/>
          <p:nvPr/>
        </p:nvGrpSpPr>
        <p:grpSpPr>
          <a:xfrm>
            <a:off x="109440" y="36360"/>
            <a:ext cx="8998200" cy="6712200"/>
            <a:chOff x="109440" y="36360"/>
            <a:chExt cx="8998200" cy="6712200"/>
          </a:xfrm>
        </p:grpSpPr>
        <p:pic>
          <p:nvPicPr>
            <p:cNvPr id="4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09440" y="36360"/>
              <a:ext cx="8998200" cy="671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522360" y="450720"/>
              <a:ext cx="8170920" cy="58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Рисунок 7" descr="0_75c96_b715e7d3_XL.jpeg"/>
          <p:cNvPicPr/>
          <p:nvPr/>
        </p:nvPicPr>
        <p:blipFill>
          <a:blip r:embed="rId4"/>
          <a:stretch/>
        </p:blipFill>
        <p:spPr>
          <a:xfrm>
            <a:off x="71280" y="71280"/>
            <a:ext cx="2000520" cy="2000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AE2F-C4E4-40FC-BC68-465B82E741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Скругленный прямоугольник 6"/>
          <p:cNvGrpSpPr/>
          <p:nvPr/>
        </p:nvGrpSpPr>
        <p:grpSpPr>
          <a:xfrm>
            <a:off x="109440" y="36360"/>
            <a:ext cx="8998200" cy="6712200"/>
            <a:chOff x="109440" y="36360"/>
            <a:chExt cx="8998200" cy="6712200"/>
          </a:xfrm>
        </p:grpSpPr>
        <p:pic>
          <p:nvPicPr>
            <p:cNvPr id="9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09440" y="36360"/>
              <a:ext cx="8998200" cy="671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22360" y="450720"/>
              <a:ext cx="8170920" cy="58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Рисунок 7" descr="0_75c96_b715e7d3_XL.jpeg"/>
          <p:cNvPicPr/>
          <p:nvPr/>
        </p:nvPicPr>
        <p:blipFill>
          <a:blip r:embed="rId4"/>
          <a:stretch/>
        </p:blipFill>
        <p:spPr>
          <a:xfrm>
            <a:off x="71280" y="71280"/>
            <a:ext cx="2000520" cy="20005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3ACA-52C4-48C9-8603-6B0EB034C6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Скругленный прямоугольник 6"/>
          <p:cNvGrpSpPr/>
          <p:nvPr/>
        </p:nvGrpSpPr>
        <p:grpSpPr>
          <a:xfrm>
            <a:off x="109440" y="36360"/>
            <a:ext cx="8998200" cy="6712200"/>
            <a:chOff x="109440" y="36360"/>
            <a:chExt cx="8998200" cy="6712200"/>
          </a:xfrm>
        </p:grpSpPr>
        <p:pic>
          <p:nvPicPr>
            <p:cNvPr id="13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09440" y="36360"/>
              <a:ext cx="8998200" cy="671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22360" y="450720"/>
              <a:ext cx="8170920" cy="58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Рисунок 7" descr="0_75c96_b715e7d3_XL.jpeg"/>
          <p:cNvPicPr/>
          <p:nvPr/>
        </p:nvPicPr>
        <p:blipFill>
          <a:blip r:embed="rId4"/>
          <a:stretch/>
        </p:blipFill>
        <p:spPr>
          <a:xfrm>
            <a:off x="71280" y="71280"/>
            <a:ext cx="2000520" cy="20005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779A-7AD5-41EF-A0CD-6C62BFA69F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Скругленный прямоугольник 6"/>
          <p:cNvGrpSpPr/>
          <p:nvPr/>
        </p:nvGrpSpPr>
        <p:grpSpPr>
          <a:xfrm>
            <a:off x="109440" y="36360"/>
            <a:ext cx="8998200" cy="6712200"/>
            <a:chOff x="109440" y="36360"/>
            <a:chExt cx="8998200" cy="6712200"/>
          </a:xfrm>
        </p:grpSpPr>
        <p:pic>
          <p:nvPicPr>
            <p:cNvPr id="18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09440" y="36360"/>
              <a:ext cx="8998200" cy="671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22360" y="450720"/>
              <a:ext cx="8170920" cy="58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Рисунок 7" descr="0_75c96_b715e7d3_XL.jpeg"/>
          <p:cNvPicPr/>
          <p:nvPr/>
        </p:nvPicPr>
        <p:blipFill>
          <a:blip r:embed="rId4"/>
          <a:stretch/>
        </p:blipFill>
        <p:spPr>
          <a:xfrm>
            <a:off x="71280" y="71280"/>
            <a:ext cx="2000520" cy="20005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B70E-8CD3-4305-B6A4-1BA0AC32CB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Скругленный прямоугольник 6"/>
          <p:cNvGrpSpPr/>
          <p:nvPr/>
        </p:nvGrpSpPr>
        <p:grpSpPr>
          <a:xfrm>
            <a:off x="109440" y="36360"/>
            <a:ext cx="8998200" cy="6712200"/>
            <a:chOff x="109440" y="36360"/>
            <a:chExt cx="8998200" cy="6712200"/>
          </a:xfrm>
        </p:grpSpPr>
        <p:pic>
          <p:nvPicPr>
            <p:cNvPr id="22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09440" y="36360"/>
              <a:ext cx="8998200" cy="671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22360" y="450720"/>
              <a:ext cx="8170920" cy="58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Рисунок 7" descr="0_75c96_b715e7d3_XL.jpeg"/>
          <p:cNvPicPr/>
          <p:nvPr/>
        </p:nvPicPr>
        <p:blipFill>
          <a:blip r:embed="rId4"/>
          <a:stretch/>
        </p:blipFill>
        <p:spPr>
          <a:xfrm>
            <a:off x="71280" y="71280"/>
            <a:ext cx="2000520" cy="20005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C5B0-F2D8-4AC1-8778-C7B9450900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Скругленный прямоугольник 6"/>
          <p:cNvGrpSpPr/>
          <p:nvPr/>
        </p:nvGrpSpPr>
        <p:grpSpPr>
          <a:xfrm>
            <a:off x="109440" y="36360"/>
            <a:ext cx="8998200" cy="6712200"/>
            <a:chOff x="109440" y="36360"/>
            <a:chExt cx="8998200" cy="6712200"/>
          </a:xfrm>
        </p:grpSpPr>
        <p:pic>
          <p:nvPicPr>
            <p:cNvPr id="27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09440" y="36360"/>
              <a:ext cx="8998200" cy="671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22360" y="450720"/>
              <a:ext cx="8170920" cy="58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Рисунок 7" descr="0_75c96_b715e7d3_XL.jpeg"/>
          <p:cNvPicPr/>
          <p:nvPr/>
        </p:nvPicPr>
        <p:blipFill>
          <a:blip r:embed="rId4"/>
          <a:stretch/>
        </p:blipFill>
        <p:spPr>
          <a:xfrm>
            <a:off x="71280" y="71280"/>
            <a:ext cx="2000520" cy="20005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7978-DE57-4AD3-B89B-9BCA351B86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Скругленный прямоугольник 6"/>
          <p:cNvGrpSpPr/>
          <p:nvPr/>
        </p:nvGrpSpPr>
        <p:grpSpPr>
          <a:xfrm>
            <a:off x="109440" y="36360"/>
            <a:ext cx="8998200" cy="6712200"/>
            <a:chOff x="109440" y="36360"/>
            <a:chExt cx="8998200" cy="6712200"/>
          </a:xfrm>
        </p:grpSpPr>
        <p:pic>
          <p:nvPicPr>
            <p:cNvPr id="31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09440" y="36360"/>
              <a:ext cx="8998200" cy="671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522360" y="450720"/>
              <a:ext cx="8170920" cy="58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8" name="Рисунок 7" descr="0_75c96_b715e7d3_XL.jpeg"/>
          <p:cNvPicPr/>
          <p:nvPr/>
        </p:nvPicPr>
        <p:blipFill>
          <a:blip r:embed="rId4"/>
          <a:stretch/>
        </p:blipFill>
        <p:spPr>
          <a:xfrm>
            <a:off x="71280" y="71280"/>
            <a:ext cx="2000520" cy="200052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8CEB-6704-4D91-A257-18FEC52328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Скругленный прямоугольник 6"/>
          <p:cNvGrpSpPr/>
          <p:nvPr/>
        </p:nvGrpSpPr>
        <p:grpSpPr>
          <a:xfrm>
            <a:off x="109440" y="36360"/>
            <a:ext cx="8998200" cy="6712200"/>
            <a:chOff x="109440" y="36360"/>
            <a:chExt cx="8998200" cy="6712200"/>
          </a:xfrm>
        </p:grpSpPr>
        <p:pic>
          <p:nvPicPr>
            <p:cNvPr id="36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09440" y="36360"/>
              <a:ext cx="8998200" cy="671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522360" y="450720"/>
              <a:ext cx="8170920" cy="58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Рисунок 7" descr="0_75c96_b715e7d3_XL.jpeg"/>
          <p:cNvPicPr/>
          <p:nvPr/>
        </p:nvPicPr>
        <p:blipFill>
          <a:blip r:embed="rId4"/>
          <a:stretch/>
        </p:blipFill>
        <p:spPr>
          <a:xfrm>
            <a:off x="71280" y="71280"/>
            <a:ext cx="2000520" cy="20005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8D4B-55D3-499C-AF8F-9EDE8944E5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834920" y="620280"/>
            <a:ext cx="6622920" cy="18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"Детский сад общеразвивающего вида с приоритетным осуществлением деятельности по физическому развитию детей № 13 "Звёздочка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499760" y="2142720"/>
            <a:ext cx="67150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31ab6"/>
                </a:solidFill>
                <a:latin typeface="Times New Roman"/>
              </a:rPr>
              <a:t>«Как мы провели лето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1ab6"/>
                </a:solidFill>
                <a:latin typeface="Times New Roman"/>
              </a:rPr>
              <a:t>Подготовила воспитатель 2 средней групп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1ab6"/>
                </a:solidFill>
                <a:latin typeface="Times New Roman"/>
              </a:rPr>
              <a:t>Зонова Александра Викторо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Содержимое 5" descr="ae06afJEx0o.jpg"/>
          <p:cNvPicPr/>
          <p:nvPr/>
        </p:nvPicPr>
        <p:blipFill>
          <a:blip r:embed="rId1"/>
          <a:stretch/>
        </p:blipFill>
        <p:spPr>
          <a:xfrm>
            <a:off x="3584520" y="1143000"/>
            <a:ext cx="5132520" cy="484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2" name="Прямоугольник 6"/>
          <p:cNvSpPr/>
          <p:nvPr/>
        </p:nvSpPr>
        <p:spPr>
          <a:xfrm>
            <a:off x="500040" y="1785960"/>
            <a:ext cx="3643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Мы на солнце полежали</a:t>
            </a:r>
            <a:br>
              <a:rPr sz="2000"/>
            </a:br>
            <a:r>
              <a:rPr b="1" lang="ru-RU" sz="20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И друг друга не узнали.</a:t>
            </a:r>
            <a:br>
              <a:rPr sz="2000"/>
            </a:br>
            <a:r>
              <a:rPr b="1" lang="ru-RU" sz="20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Кто же мы -</a:t>
            </a:r>
            <a:br>
              <a:rPr sz="2000"/>
            </a:br>
            <a:r>
              <a:rPr b="1" lang="ru-RU" sz="20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Ребятки</a:t>
            </a:r>
            <a:br>
              <a:rPr sz="2000"/>
            </a:br>
            <a:r>
              <a:rPr b="1" lang="ru-RU" sz="20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Или</a:t>
            </a:r>
            <a:br>
              <a:rPr sz="2000"/>
            </a:br>
            <a:r>
              <a:rPr b="1" lang="ru-RU" sz="20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Шоколад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Я рисую лето - А какого цвета?</a:t>
            </a:r>
            <a:br>
              <a:rPr sz="2200"/>
            </a:br>
            <a:r>
              <a:rPr b="1" lang="ru-RU" sz="22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 Красной краской - Солнце, </a:t>
            </a:r>
            <a:br>
              <a:rPr sz="2200"/>
            </a:br>
            <a:r>
              <a:rPr b="1" lang="ru-RU" sz="22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На газонах розы,</a:t>
            </a:r>
            <a:br>
              <a:rPr sz="2200"/>
            </a:br>
            <a:r>
              <a:rPr b="1" lang="ru-RU" sz="22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 А зеленой - поле, На лугах покосы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Рисунок 3" descr="Xe2THexLIXQ.jpg"/>
          <p:cNvPicPr/>
          <p:nvPr/>
        </p:nvPicPr>
        <p:blipFill>
          <a:blip r:embed="rId1"/>
          <a:stretch/>
        </p:blipFill>
        <p:spPr>
          <a:xfrm>
            <a:off x="5643720" y="1785960"/>
            <a:ext cx="2857320" cy="348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5" name="Рисунок 4" descr="Myz2B3Tapek.jpg"/>
          <p:cNvPicPr/>
          <p:nvPr/>
        </p:nvPicPr>
        <p:blipFill>
          <a:blip r:embed="rId2"/>
          <a:stretch/>
        </p:blipFill>
        <p:spPr>
          <a:xfrm>
            <a:off x="642960" y="1928880"/>
            <a:ext cx="3571920" cy="258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6" name="Рисунок 6" descr="QoO8wrIG9jM.jpg"/>
          <p:cNvPicPr/>
          <p:nvPr/>
        </p:nvPicPr>
        <p:blipFill>
          <a:blip r:embed="rId3"/>
          <a:stretch/>
        </p:blipFill>
        <p:spPr>
          <a:xfrm>
            <a:off x="2857680" y="3786120"/>
            <a:ext cx="2652480" cy="2571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Рисунок 6" descr="ScJ9wubHruo.jpg"/>
          <p:cNvPicPr/>
          <p:nvPr/>
        </p:nvPicPr>
        <p:blipFill>
          <a:blip r:embed="rId1"/>
          <a:stretch/>
        </p:blipFill>
        <p:spPr>
          <a:xfrm>
            <a:off x="1214280" y="1143000"/>
            <a:ext cx="3524400" cy="264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Мы играем целый день,</a:t>
            </a:r>
            <a:br>
              <a:rPr sz="2400"/>
            </a:b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 целый день играть не лень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9" name="Рисунок 7" descr="bz8vN2xYFGQ.jpg"/>
          <p:cNvPicPr/>
          <p:nvPr/>
        </p:nvPicPr>
        <p:blipFill>
          <a:blip r:embed="rId2"/>
          <a:stretch/>
        </p:blipFill>
        <p:spPr>
          <a:xfrm>
            <a:off x="5072040" y="1143000"/>
            <a:ext cx="3500640" cy="2625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0" name="Рисунок 8" descr="neCj55Slmlk.jpg"/>
          <p:cNvPicPr/>
          <p:nvPr/>
        </p:nvPicPr>
        <p:blipFill>
          <a:blip r:embed="rId3"/>
          <a:stretch/>
        </p:blipFill>
        <p:spPr>
          <a:xfrm>
            <a:off x="5000760" y="3857760"/>
            <a:ext cx="3381120" cy="2535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1" name="Рисунок 9" descr="wTEy88cJ7T8.jpg"/>
          <p:cNvPicPr/>
          <p:nvPr/>
        </p:nvPicPr>
        <p:blipFill>
          <a:blip r:embed="rId4"/>
          <a:stretch/>
        </p:blipFill>
        <p:spPr>
          <a:xfrm>
            <a:off x="1214280" y="3857760"/>
            <a:ext cx="3500640" cy="251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Рисунок 5" descr="B5nQbEwukaU.jpg"/>
          <p:cNvPicPr/>
          <p:nvPr/>
        </p:nvPicPr>
        <p:blipFill>
          <a:blip r:embed="rId1"/>
          <a:stretch/>
        </p:blipFill>
        <p:spPr>
          <a:xfrm>
            <a:off x="142920" y="142920"/>
            <a:ext cx="4081320" cy="3000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3" name="Рисунок 6" descr="gZjvxrMAGjg.jpg"/>
          <p:cNvPicPr/>
          <p:nvPr/>
        </p:nvPicPr>
        <p:blipFill>
          <a:blip r:embed="rId2"/>
          <a:stretch/>
        </p:blipFill>
        <p:spPr>
          <a:xfrm>
            <a:off x="4643280" y="1071720"/>
            <a:ext cx="4052880" cy="414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4" name="Рисунок 7" descr="NBTc7Q2yT1A.jpg"/>
          <p:cNvPicPr/>
          <p:nvPr/>
        </p:nvPicPr>
        <p:blipFill>
          <a:blip r:embed="rId3"/>
          <a:stretch/>
        </p:blipFill>
        <p:spPr>
          <a:xfrm>
            <a:off x="500040" y="3429000"/>
            <a:ext cx="3857760" cy="2894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Рисунок 5" descr="i4F8bXNRcJ8.jpg"/>
          <p:cNvPicPr/>
          <p:nvPr/>
        </p:nvPicPr>
        <p:blipFill>
          <a:blip r:embed="rId1"/>
          <a:stretch/>
        </p:blipFill>
        <p:spPr>
          <a:xfrm>
            <a:off x="1643040" y="571680"/>
            <a:ext cx="2928960" cy="291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6" name="Рисунок 7" descr="NbEVOXw5bfo.jpg"/>
          <p:cNvPicPr/>
          <p:nvPr/>
        </p:nvPicPr>
        <p:blipFill>
          <a:blip r:embed="rId2"/>
          <a:stretch/>
        </p:blipFill>
        <p:spPr>
          <a:xfrm>
            <a:off x="4500720" y="3714840"/>
            <a:ext cx="3862080" cy="25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7" name="Рисунок 9" descr="ZvHWqJMqMX8.jpg"/>
          <p:cNvPicPr/>
          <p:nvPr/>
        </p:nvPicPr>
        <p:blipFill>
          <a:blip r:embed="rId3"/>
          <a:stretch/>
        </p:blipFill>
        <p:spPr>
          <a:xfrm>
            <a:off x="5000760" y="714240"/>
            <a:ext cx="2867040" cy="271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8" name="Рисунок 10" descr="IyxqwUZEpGY.jpg"/>
          <p:cNvPicPr/>
          <p:nvPr/>
        </p:nvPicPr>
        <p:blipFill>
          <a:blip r:embed="rId4"/>
          <a:stretch/>
        </p:blipFill>
        <p:spPr>
          <a:xfrm>
            <a:off x="1285920" y="3643200"/>
            <a:ext cx="2786040" cy="2643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Рыбки плавают в воде,</a:t>
            </a:r>
            <a:br>
              <a:rPr sz="2400"/>
            </a:b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Как  же вас поймать и где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Рисунок 3" descr="qpemhruk-7g.jpg"/>
          <p:cNvPicPr/>
          <p:nvPr/>
        </p:nvPicPr>
        <p:blipFill>
          <a:blip r:embed="rId1"/>
          <a:stretch/>
        </p:blipFill>
        <p:spPr>
          <a:xfrm>
            <a:off x="714240" y="2071800"/>
            <a:ext cx="3791160" cy="3000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1" name="Рисунок 4" descr="dfc8_Tiwmfo.jpg"/>
          <p:cNvPicPr/>
          <p:nvPr/>
        </p:nvPicPr>
        <p:blipFill>
          <a:blip r:embed="rId2"/>
          <a:stretch/>
        </p:blipFill>
        <p:spPr>
          <a:xfrm>
            <a:off x="5000760" y="1714680"/>
            <a:ext cx="3441600" cy="407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Лейка воду не жалейка</a:t>
            </a:r>
            <a:br>
              <a:rPr sz="2400"/>
            </a:b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Клумбы, грядочки полей-ка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Рисунок 3" descr="ZaP11FM6IfI.jpg"/>
          <p:cNvPicPr/>
          <p:nvPr/>
        </p:nvPicPr>
        <p:blipFill>
          <a:blip r:embed="rId1"/>
          <a:stretch/>
        </p:blipFill>
        <p:spPr>
          <a:xfrm>
            <a:off x="785880" y="1143000"/>
            <a:ext cx="3857400" cy="3233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4" name="Рисунок 4" descr="L4usCSmOqXY.jpg"/>
          <p:cNvPicPr/>
          <p:nvPr/>
        </p:nvPicPr>
        <p:blipFill>
          <a:blip r:embed="rId2"/>
          <a:stretch/>
        </p:blipFill>
        <p:spPr>
          <a:xfrm>
            <a:off x="5000760" y="1143000"/>
            <a:ext cx="366228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5" name="Рисунок 5" descr="WiC6tD0HjHY.jpg"/>
          <p:cNvPicPr/>
          <p:nvPr/>
        </p:nvPicPr>
        <p:blipFill>
          <a:blip r:embed="rId3"/>
          <a:stretch/>
        </p:blipFill>
        <p:spPr>
          <a:xfrm>
            <a:off x="2500200" y="3643200"/>
            <a:ext cx="3857760" cy="271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Ах, эти солнечные дни,</a:t>
            </a:r>
            <a:br>
              <a:rPr sz="2400"/>
            </a:b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 Вот так мы лето провел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Рисунок 3" descr="6sMulk9Y-pg.jpg"/>
          <p:cNvPicPr/>
          <p:nvPr/>
        </p:nvPicPr>
        <p:blipFill>
          <a:blip r:embed="rId1"/>
          <a:stretch/>
        </p:blipFill>
        <p:spPr>
          <a:xfrm>
            <a:off x="1071720" y="1285920"/>
            <a:ext cx="2955600" cy="314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8" name="Рисунок 5" descr="Isre80xHeFQ.jpg"/>
          <p:cNvPicPr/>
          <p:nvPr/>
        </p:nvPicPr>
        <p:blipFill>
          <a:blip r:embed="rId2"/>
          <a:stretch/>
        </p:blipFill>
        <p:spPr>
          <a:xfrm>
            <a:off x="3571920" y="3143160"/>
            <a:ext cx="2571840" cy="315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9" name="Рисунок 4" descr="SS0Dc6C-gxU.jpg"/>
          <p:cNvPicPr/>
          <p:nvPr/>
        </p:nvPicPr>
        <p:blipFill>
          <a:blip r:embed="rId3"/>
          <a:stretch/>
        </p:blipFill>
        <p:spPr>
          <a:xfrm>
            <a:off x="5786280" y="1357200"/>
            <a:ext cx="2660760" cy="332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До новых встреч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Рисунок 5" descr="pr_source.png"/>
          <p:cNvPicPr/>
          <p:nvPr/>
        </p:nvPicPr>
        <p:blipFill>
          <a:blip r:embed="rId1"/>
          <a:stretch/>
        </p:blipFill>
        <p:spPr>
          <a:xfrm>
            <a:off x="3279600" y="2706840"/>
            <a:ext cx="25117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13920" y="500040"/>
            <a:ext cx="74725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Задачи летней оздоровительной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1ab6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431ab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Реализовать систему мероприятий, направленных на оздоровление и физическое развитие детей, их нравственное воспитание, развитие любознательности и познавательной активности, формирование культурно – гигиенических и трудовых навы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431ab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Осуществить педагогическое и санитарное просвещение родителей по вопросам воспитания и оздоровления детей в летний период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Прямоугольник 3"/>
          <p:cNvSpPr/>
          <p:nvPr/>
        </p:nvSpPr>
        <p:spPr>
          <a:xfrm>
            <a:off x="1214280" y="1928880"/>
            <a:ext cx="735840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Создать условия, обеспечивающие охрану жизни и здоровья детей, предупреждение заболеваемости и травматиз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785960" y="500040"/>
            <a:ext cx="69120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Комплекс оздоровительных мероприятий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42560" y="1999800"/>
            <a:ext cx="76438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431ab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режим дн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431ab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прогулки на открытом воздух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431ab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сбалансированное питан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431ab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дневной сон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431ab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разнообразные виды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71360" y="785880"/>
            <a:ext cx="761508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Лето - чудная пора!</a:t>
            </a:r>
            <a:br>
              <a:rPr sz="4000"/>
            </a:br>
            <a:r>
              <a:rPr b="1" lang="ru-RU" sz="40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Лето любит детвора!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Содержимое 5" descr="Z4WHu1IIjfA.jpg"/>
          <p:cNvPicPr/>
          <p:nvPr/>
        </p:nvPicPr>
        <p:blipFill>
          <a:blip r:embed="rId1"/>
          <a:stretch/>
        </p:blipFill>
        <p:spPr>
          <a:xfrm>
            <a:off x="1897200" y="1857240"/>
            <a:ext cx="5692680" cy="426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Песочница, песочница,</a:t>
            </a:r>
            <a:br>
              <a:rPr sz="2400"/>
            </a:b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В песке вся детвора.</a:t>
            </a:r>
            <a:br>
              <a:rPr sz="2400"/>
            </a:b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Построить домик хочется,</a:t>
            </a:r>
            <a:br>
              <a:rPr sz="2400"/>
            </a:b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Забавная иг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Содержимое 9" descr="Qr80lGttxLY.jpg"/>
          <p:cNvPicPr/>
          <p:nvPr/>
        </p:nvPicPr>
        <p:blipFill>
          <a:blip r:embed="rId1"/>
          <a:stretch/>
        </p:blipFill>
        <p:spPr>
          <a:xfrm>
            <a:off x="1295280" y="1857240"/>
            <a:ext cx="6553440" cy="442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Много нового узнали,</a:t>
            </a:r>
            <a:br>
              <a:rPr sz="2400"/>
            </a:b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Библиотеку посеща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Содержимое 7" descr="FWi6d4vAp1Y.jpg"/>
          <p:cNvPicPr/>
          <p:nvPr/>
        </p:nvPicPr>
        <p:blipFill>
          <a:blip r:embed="rId1"/>
          <a:stretch/>
        </p:blipFill>
        <p:spPr>
          <a:xfrm>
            <a:off x="4929120" y="1285920"/>
            <a:ext cx="3330720" cy="2469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8" name="Рисунок 8" descr="Vy3txuBNk3g.jpg"/>
          <p:cNvPicPr/>
          <p:nvPr/>
        </p:nvPicPr>
        <p:blipFill>
          <a:blip r:embed="rId2"/>
          <a:stretch/>
        </p:blipFill>
        <p:spPr>
          <a:xfrm>
            <a:off x="4929120" y="3929040"/>
            <a:ext cx="335772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9" name="Рисунок 9" descr="OW2k9z9qu8o.jpg"/>
          <p:cNvPicPr/>
          <p:nvPr/>
        </p:nvPicPr>
        <p:blipFill>
          <a:blip r:embed="rId3"/>
          <a:stretch/>
        </p:blipFill>
        <p:spPr>
          <a:xfrm>
            <a:off x="1143000" y="4000680"/>
            <a:ext cx="3357720" cy="235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0" name="Рисунок 10" descr="H62s9DrLX3Y.jpg"/>
          <p:cNvPicPr/>
          <p:nvPr/>
        </p:nvPicPr>
        <p:blipFill>
          <a:blip r:embed="rId4"/>
          <a:stretch/>
        </p:blipFill>
        <p:spPr>
          <a:xfrm>
            <a:off x="1143000" y="1285920"/>
            <a:ext cx="3357720" cy="244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Рисунок 6" descr="qDkqs_eqxLQ.jpg"/>
          <p:cNvPicPr/>
          <p:nvPr/>
        </p:nvPicPr>
        <p:blipFill>
          <a:blip r:embed="rId1"/>
          <a:stretch/>
        </p:blipFill>
        <p:spPr>
          <a:xfrm>
            <a:off x="571680" y="3214800"/>
            <a:ext cx="4000320" cy="3000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2" name="Рисунок 8" descr="DY_fjYZugcI.jpg"/>
          <p:cNvPicPr/>
          <p:nvPr/>
        </p:nvPicPr>
        <p:blipFill>
          <a:blip r:embed="rId2"/>
          <a:stretch/>
        </p:blipFill>
        <p:spPr>
          <a:xfrm>
            <a:off x="2714760" y="357120"/>
            <a:ext cx="371448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3" name="Рисунок 10" descr="cljxiBsxnmM.jpg"/>
          <p:cNvPicPr/>
          <p:nvPr/>
        </p:nvPicPr>
        <p:blipFill>
          <a:blip r:embed="rId3"/>
          <a:stretch/>
        </p:blipFill>
        <p:spPr>
          <a:xfrm>
            <a:off x="4786200" y="3214800"/>
            <a:ext cx="4000680" cy="3000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1ab6"/>
                </a:solidFill>
                <a:latin typeface="Times New Roman"/>
              </a:rPr>
              <a:t>И подарки получа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Содержимое 5" descr="pG-nw5rPTq4.jpg"/>
          <p:cNvPicPr/>
          <p:nvPr/>
        </p:nvPicPr>
        <p:blipFill>
          <a:blip r:embed="rId1"/>
          <a:stretch/>
        </p:blipFill>
        <p:spPr>
          <a:xfrm>
            <a:off x="1500120" y="857160"/>
            <a:ext cx="3157560" cy="301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6" name="Рисунок 6" descr="2K45FUE5_Ps.jpg"/>
          <p:cNvPicPr/>
          <p:nvPr/>
        </p:nvPicPr>
        <p:blipFill>
          <a:blip r:embed="rId2"/>
          <a:stretch/>
        </p:blipFill>
        <p:spPr>
          <a:xfrm>
            <a:off x="5143680" y="785880"/>
            <a:ext cx="3000240" cy="3033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7" name="Рисунок 8" descr="tm7qp-JN8bY.jpg"/>
          <p:cNvPicPr/>
          <p:nvPr/>
        </p:nvPicPr>
        <p:blipFill>
          <a:blip r:embed="rId3"/>
          <a:stretch/>
        </p:blipFill>
        <p:spPr>
          <a:xfrm>
            <a:off x="3286080" y="3571920"/>
            <a:ext cx="3071880" cy="283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Вот и лето, красота,</a:t>
            </a:r>
            <a:br>
              <a:rPr sz="2400"/>
            </a:b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Дружно  загораем,</a:t>
            </a:r>
            <a:br>
              <a:rPr sz="2400"/>
            </a:b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Бледноватые бока</a:t>
            </a:r>
            <a:br>
              <a:rPr sz="2400"/>
            </a:br>
            <a:r>
              <a:rPr b="1" lang="ru-RU" sz="2400" spc="-1" strike="noStrike">
                <a:solidFill>
                  <a:srgbClr val="431ab6"/>
                </a:solidFill>
                <a:latin typeface="Times New Roman"/>
                <a:ea typeface="Times New Roman"/>
              </a:rPr>
              <a:t>Солнцу подставля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Рисунок 5" descr="3lk0gAvXAxA.jpg"/>
          <p:cNvPicPr/>
          <p:nvPr/>
        </p:nvPicPr>
        <p:blipFill>
          <a:blip r:embed="rId1"/>
          <a:stretch/>
        </p:blipFill>
        <p:spPr>
          <a:xfrm>
            <a:off x="571680" y="2286000"/>
            <a:ext cx="4100400" cy="314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0" name="Рисунок 6" descr="qY8ax_0mKmI.jpg"/>
          <p:cNvPicPr/>
          <p:nvPr/>
        </p:nvPicPr>
        <p:blipFill>
          <a:blip r:embed="rId2"/>
          <a:stretch/>
        </p:blipFill>
        <p:spPr>
          <a:xfrm>
            <a:off x="5000760" y="2000160"/>
            <a:ext cx="3528720" cy="378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18:32:13Z</dcterms:created>
  <dc:creator>Admin</dc:creator>
  <dc:description/>
  <dc:language>en-US</dc:language>
  <cp:lastModifiedBy>Александра</cp:lastModifiedBy>
  <dcterms:modified xsi:type="dcterms:W3CDTF">2020-09-05T11:26:38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746473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