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111-52EF-413E-BFF5-0C16DFE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63A-D5F6-4AC6-BE8B-7EFA5F2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526-E1F0-4B32-A2CC-FB131225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695-44B8-4CBE-B6B2-BF432CB1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CF2B-D8AF-4B91-92D4-D5F826C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183C-7EFA-496E-B10F-9F710BB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EEE9-5DA2-4D3F-810F-53C84838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2CF4D-E037-4B2A-9573-314D6018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9FE1-C095-4FF3-9B42-5098EDAF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11A9-71CB-4D07-8ED8-60D4909E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81D52-FE77-4F0A-88FD-C1DC0EE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4A5-A73F-43E8-8BBA-B8699AE4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EB579-B7B1-4B76-8E3B-B8146A7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13E5-D525-490E-BFB3-AFA36A4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11DFA-9D14-40A3-AB91-F7462E7A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F2FF7-8F08-4767-AC8C-C2BC4AE5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7919-56AC-48F2-979D-505FC0C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79A-2642-4335-80D7-0623B23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9DA-8374-4EDE-92BA-C76836DB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2BA-9896-4B84-81EF-B89563D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F2C-8FB7-4BC7-B315-81290940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466-E99C-4464-B8CC-2808D2D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303-B665-4CE7-87EB-ED8C8B2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D93-C3D1-4CB6-83ED-656C5AE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4AA-09A1-4019-8197-033E8764FA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FF4-0BDE-4D3B-AB28-476E8C1CB5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Развитие физических качеств:: быстрота, выносливость, гибкость , ловкость, прыгучесть. 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6447600"/>
            <a:ext cx="9105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ышц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мышцы при постоянном напряжении или внешней нагрузке называется изотоническим. Данный режим имеет место в силовых упражнениях (штанга, гири, гантели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работы мышц на тренажерах, где задается скорость перемещения звеньев тела называется изокинетическим (плавание, гребля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усилие спортсмена движением не сопровождается и производится без изменения длины мышц, то в этом случае говорят о статическом режиме. Такая сила называется статическ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 силой, и скоростью сокращения мышц существует обратно пропорциональная зависим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i (1)"/>
          <p:cNvPicPr/>
          <p:nvPr/>
        </p:nvPicPr>
        <p:blipFill>
          <a:blip r:embed="rId1"/>
          <a:stretch/>
        </p:blipFill>
        <p:spPr>
          <a:xfrm>
            <a:off x="1692360" y="47628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e3e3ff"/>
                </a:solidFill>
                <a:latin typeface="Arial"/>
              </a:rPr>
              <a:t>Психологические механизмы этого качества (силы) связаны с регуляцией напряжения в paзличных режимах их работы: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из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без изменения длины мышц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и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уменьшается длина мышцы (в циклических движениях)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пли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увеличение длины мышцы во время её растягивания. Этот режим связан с приседанием, с замахами при бросках мяча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едагогической характеристике силовых качеств человека выделяют следующие разновидност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аксимальная изометр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статическая сил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казатель силы, проявляемой при удержании в течении определённого времени предельных отягощений),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едленная динам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жимовая сила), проявляемая во время перемещения предметов большой массы, когда скорость перемещения практически не имеет знач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скоростная динам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сила характеризуется способностью человека к перемещениям в ограниченное время больших отягощений с ускорением ниже максимального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"взрывная"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сила - способность преодолевать сопрртивление_с максимальным мышечным напряжением в кратчайшее время. В этом случае сила и быстрота движений сочетаются, т.е. ступают как интегральное специфическое качество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 спортивной практике взрывная сила, проявляется в разных движениях и имеет разное название: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ыгуче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при отталкивании от пола), резкость (при ударах по мячу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мортизацио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cилa характеризуется развитием усилия за короткое время в уступающем режиме работы мышц, например, при приземлении на опору в различного вида прыжка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# силовая выносливость определяется способностью длительное время поддерживать необходимые силовые характеристики движен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силовую выносливость к динамической работе и статистическую выносливость (способность сохранять малоподвижное положение тела и т.д.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е время получила развитие ещё одна из силовых характеристик - способность к переключению с одного режима мышечной работы на другой при сохранении проявляемого силового усилия. Для этого нужна специальная направленная тренировк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редства развития силы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упражнения с внешним сопротивление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упражнения с преодолением веса собственного те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изометрические упраж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Упражне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 Первые упражнения, являются наиболее эффективными для развития силы и подразделяются на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упражнения с тяжестями, в том числе и на тренажёрах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упражнения с сопротивлением партнёра. Эти упражнения оказывают благотворное не нервно-эмоциональное состояние занимающихся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упражнения с сопротивлением внешней среды (бег в гору, бег по песку или снегу, бег в воде и т.д.);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упражнения с сопротивлением упругих предметов (прыжки на батуте, эспандер, резина)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) упражнения с преодолением собственного веса широко применяются во всех формах занятий по физическому воспитанию (подготовке). Они подразделяются на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гимнастические силовые упражнения (отжимание в упоре лежа, отжимание на брусьях, подтягивание ног к перекладине и т.п.)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легкоатлетические прыжковые упражнения однократные и "короткие" прыжковые упражнения; +упражнения с преодолением препятствий (ров, забор т.д.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ни являютс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упражнения являются эффективным средством базовой подготовки спортсменов, военнослужащих и д.р. професс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Методы развития силовых способностей</a:t>
            </a: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воему характеру все упражнения, способствующие развитию силы, подразделяются на основные группы: общего, регионального и локального воздействия на мышечные масси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Направленность воздействий силовых упражнений в основном определяетс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видом и характером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величиной отягощения или сопротивл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количеством повторения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скоростью выполнения преодолевающих или уступающих движ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темпом выполнения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характером и продолжительностью интервалов отдыха между подходами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Основы развития скоростных способностей. Понятие быстроты, формы её проявления, Методы развития быстроты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ыстро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- это способность человека в определённых специфических условиях мгновенно реагировать с высокой скоростью движений на тот или иной раздражитель, выполняемых при отсутствии значительного внешнего сопротивления, сложной координации работы мышц в минимальный для данных условий отрезок времени и не требующих больших энергозатра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ение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ла как физическое качество, формы проявления силовых качеств. Методы развития сил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ства развития сил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ы развития силовых способностей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ы развития скоростных способностей. Понятие быстроты, формы её проявления, Методы развития быстро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о выносливости. Виды и показатели выносливости. Методика развит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бкость как физическое качество. Развитие гибкости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ловкости, её вид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прыгучести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i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Различают несколько элементарных и комплексных форм проявления быстроты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Быстрота простой и сложной двигательной реакц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ыстрота одиночного движения (темп движения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Быстрота сложного (многоуровневого движения связанного с изменением положения тела, например в баскетболе, плавании, беге и т.д.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Частота не нагруженных дви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3e3ff"/>
                </a:solidFill>
                <a:uFillTx/>
                <a:latin typeface="Arial"/>
              </a:rPr>
              <a:t>Двигательная реак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вигательная реак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– это ответ на внезапно появляющийся сигнал определёнными движениями или действиями. Время реагирования на сигнал измеряется интервалом между появлениями сигнала и началом ответного 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то время определяется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возбуждения рецептора и посылки импульса в сенсорные цент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ереработки сигнала в ЦНС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ринятия решения о реагировании на сигнал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осылки сигнала к началу действи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развития возбуждения в исполнительном органе (мышц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о выносливости. </a:t>
            </a: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иды и показатели выносливости. Методика развития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- важнейшее физическое качество, проявляющееся в профессиональной, спортивной практике (в той или иной степени в каждом виде спорта) и повседневной жизни. Она отражает общий уровень работоспособности человека. В теории физвоспитания под выносливостью понимают способность человека значителъное время выполнять работу без снижения мощности нагрузки её интенсивности или как способность организма противостоять утомлению. Выносливость - многофункциональное свойство человеческого организма и интегрирует в себе большое число процессов, происходящих на различных уровнях: от клеточного до целостного организма. Однако, как показывают результаты современных научных исследований, ведущая роль в проявлении выносливости принадлежит факторам энергетического обмена веществ и вегетативным системам, которые его обеспечивают, а именно сердечно-сосудистой, дыхательной, а также ЦН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ыносливость как качество проявляется в двух основных формах: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в продолжительности работы без признаков утомления на данном уровне мощ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в скорости снижения работоспособности при наступлении утомления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i (8)"/>
          <p:cNvPicPr/>
          <p:nvPr/>
        </p:nvPicPr>
        <p:blipFill>
          <a:blip r:embed="rId1"/>
          <a:stretch/>
        </p:blipFill>
        <p:spPr>
          <a:xfrm>
            <a:off x="5003640" y="1557360"/>
            <a:ext cx="3745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Гибкость как физическое качество. Развитие гибкости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ость спортивной подготовки, а особенно в техническом компоненте во мне связана с важным свойством опорно-двигательного аппарата способности к мышечной релаксации - гибк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i (2)"/>
          <p:cNvPicPr/>
          <p:nvPr/>
        </p:nvPicPr>
        <p:blipFill>
          <a:blip r:embed="rId1"/>
          <a:stretch/>
        </p:blipFill>
        <p:spPr>
          <a:xfrm>
            <a:off x="4427640" y="1844640"/>
            <a:ext cx="432108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ловкости, её виды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вкость это сложное качество, характеризующееся хорошей координацией и высокой точностью движений.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овк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- это способность быстро овладевать сложными движениям быстро и точно перестраивать двигательную деятельность в соответствии с требованиями меняющейся обстановки. Ловкость, в известной мере, качество врождённое, однако в процессе тренировки её в значительной степени можно совершенствов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IDc1Fvfew4M"/>
          <p:cNvPicPr/>
          <p:nvPr/>
        </p:nvPicPr>
        <p:blipFill>
          <a:blip r:embed="rId1"/>
          <a:stretch/>
        </p:blipFill>
        <p:spPr>
          <a:xfrm>
            <a:off x="1695600" y="285840"/>
            <a:ext cx="575280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ритериями ловкости являются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95280" y="244080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оординационная сложность двигательного задани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точность выполнения (временная, пространственная, силовая) задани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ремя, необходимое для овладевания должным уровнем точности, либо минимальное время от момента изменения обстановки до начала ответного движения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ность человека на. производстве, в быту, спорте требует определённого уровня развития физических (двигательных) качеств. Уровень возможностей человека отражает качества, представляющие собой сочетание врождённых психологических и морфологаческих возможностей с приобретёнными в процессе жизни и тренировки опытом в использовании этих возможностей. Чем больше развиты физические качества, тем выше работоспособность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прыгучести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мышечной деятельности прыжок относится к группе скоростно-силовых упражнений с ациклической структурой движений, в которой в главном звене толчке развивается мышечное усилие максимальной мощности, имеющие реактивно-взрывной характер. Таким oбразом, прыгучесть является одним из главных специфических двигательных качеств определяющимся скоростью движения в заключительной фазе отталкивания. Чем быстрее отталкивание, выше начальная скорость взлёт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 (3)"/>
          <p:cNvPicPr/>
          <p:nvPr/>
        </p:nvPicPr>
        <p:blipFill>
          <a:blip r:embed="rId1"/>
          <a:stretch/>
        </p:blipFill>
        <p:spPr>
          <a:xfrm>
            <a:off x="2050920" y="620640"/>
            <a:ext cx="5834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одного из физических качеств на начальных этапах тренировок приводит к coвершенствованию и других. Однако в дальнейшем развитие качества прекращается. При этом упражнения, которые раньше оказывали влияние на развитие всех физических качеств, теперь будут оказывать тренирующее воздействие лишь на некоторые из них. В последующем могут даже проявиться отрицательные взаимоотношения между отдельными качествами. Так, оказываются несовместимыми задачи одновременно достижения максимальных показателей силы (поднимание большого веса) и максимальных показателей – выносливости (бег, марафон). Однако следует учитывать, что наивысшая степень проявления одного из физических качеств может быть достигнута лишь при определённой степени развития остальны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ФИЗИЧЕСКИЕ КАЧЕСТВ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физическими (двигательными) качествами принято понимать отдельные качественные стороны двигательных возможностей человека и отдельных действий. Уровень их развития определяется не только физическими факторами, но и психическими факторами в частности степенью развития интеллектуальных и волевых качеств. Физические качества необходимо развивать своевременно и всесторонне. Физические (двигательные качества связанны с типологическими особенностями проявления свойств нервной системы (силой-слаботью, подвижностью-инертностью и т.д.), которые выступают в структуре качеств в виде природных задатков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 (4)"/>
          <p:cNvPicPr/>
          <p:nvPr/>
        </p:nvPicPr>
        <p:blipFill>
          <a:blip r:embed="rId1"/>
          <a:stretch/>
        </p:blipFill>
        <p:spPr>
          <a:xfrm>
            <a:off x="1908000" y="98100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ЗМОЖНОСТ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качество обуславливает несколько различных возможностей особенностей. Например быстродействие обеспечивается слабой нервной системой, подвижностью возбуждения и уравновешенностью. Такие связи характерны только для быстроты. Наличие разных типологических особенностей у разных людей частично обуславливается тем, что у одних людей лучше развиты одни качества (или их компоненты), у других иные. Выигрывая в проявлении одних двигатель качеств, человек проигрывает в других. Физические (двигательные) качества можно разделить в зависимости от их структуры на простые и сложн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i (5)"/>
          <p:cNvPicPr/>
          <p:nvPr/>
        </p:nvPicPr>
        <p:blipFill>
          <a:blip r:embed="rId1"/>
          <a:stretch/>
        </p:blipFill>
        <p:spPr>
          <a:xfrm>
            <a:off x="2556000" y="134136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Сила как физическое качество, формы проявления силовых качеств. Методы развития силы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силой следует понимать способность человека преодолевать за счёт мышечных усилий (сокращений) внешнее сопротивление или противодействовать внешним силам. Сила – одно из важнейших физических качеств в абсолютном большинстве видов спорта, поэтому её развитию спортсмены уделяют исключительно много внима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i (6)"/>
          <p:cNvPicPr/>
          <p:nvPr/>
        </p:nvPicPr>
        <p:blipFill>
          <a:blip r:embed="rId1"/>
          <a:stretch/>
        </p:blipFill>
        <p:spPr>
          <a:xfrm>
            <a:off x="5003640" y="1773360"/>
            <a:ext cx="3097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ем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цессе выполнения спортивных или профессиональных приёмов связанных с подниманием, опусканием, удержание тяжёлых грузов, мышцы, преодолевая сопротивление, сокращаются и укорачиваются. Такая работа называется преодолевающей. Противодействуя какому-либо сопротивлению мышцы, могут при напряжении, и удлиняться, например, удержание очень тяжёлого груза. В таком случае их работа называется уступающей. Оба эти режима объединяются под одним названием - динамического. Сила, проявляемая в движении, т. е. в динамическом режиме называется динамической сил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i (7)"/>
          <p:cNvPicPr/>
          <p:nvPr/>
        </p:nvPicPr>
        <p:blipFill>
          <a:blip r:embed="rId1"/>
          <a:stretch/>
        </p:blipFill>
        <p:spPr>
          <a:xfrm>
            <a:off x="5076720" y="170028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56:42Z</dcterms:created>
  <dc:creator>WiZaRd</dc:creator>
  <dc:description/>
  <dc:language>en-US</dc:language>
  <cp:lastModifiedBy>Валерий Кряклин</cp:lastModifiedBy>
  <dcterms:modified xsi:type="dcterms:W3CDTF">2020-09-05T19:52:20Z</dcterms:modified>
  <cp:revision>5</cp:revision>
  <dc:subject/>
  <dc:title>Развитие физических качеств:: быстрота, выносливость, гибкость , ловкость, прыгучесть.  </dc:title>
</cp:coreProperties>
</file>