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63F-769A-4982-96E7-E2D37435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CFD-AD25-4346-A5CC-0114D1A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328-A323-4CFE-AC42-89EE3211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7C5-2A08-4974-9F8A-B7BB8DE9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06A2A-31CF-44B6-AB45-025CB24E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777B1-6D62-497F-AA8B-B2CF2FC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6E4DB-CCF8-4A91-B2DD-C17FBFD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12CA7-2ACF-4899-8226-1EC405F6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940A-0CA5-4630-BD72-621C6FAC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65F13-5D22-4F0A-9BF7-E588EC2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660F-1589-4E68-928E-BB969487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92A-0899-4473-9FC6-402B6147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52B72-D2EE-4CEC-944B-A1084ED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C0BB-8660-48F6-BA9F-B746D2B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6F044-8EE5-48A3-B178-0767F27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41E7-A314-4D51-98E6-88030582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E440-8C95-41FD-94D3-0718B048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3C5-9F68-41E0-8193-660E8E5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7DD-F12E-4D18-AC2C-3CE0C71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DBC-C476-4738-ACB6-D250011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D2C-9C7A-496F-9F05-58FED943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170-247E-45D8-B4C6-FEF862B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D36-7020-4039-A54D-B14EB02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E36-A66E-4DF9-9E8E-1D6D60C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123-A967-47D5-8E26-0A79114993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119A-DDD8-49CB-9102-CC888D4A16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Развитие физических качеств:: быстрота, выносливость, гибкость , ловкость, прыгучесть. 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6447600"/>
            <a:ext cx="9105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ышц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мышцы при постоянном напряжении или внешней нагрузке называется изотоническим. Данный режим имеет место в силовых упражнениях (штанга, гири, гантели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работы мышц на тренажерах, где задается скорость перемещения звеньев тела называется изокинетическим (плавание, гребля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усилие спортсмена движением не сопровождается и производится без изменения длины мышц, то в этом случае говорят о статическом режиме. Такая сила называется статическ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 силой, и скоростью сокращения мышц существует обратно пропорциональная зависим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i (1)"/>
          <p:cNvPicPr/>
          <p:nvPr/>
        </p:nvPicPr>
        <p:blipFill>
          <a:blip r:embed="rId1"/>
          <a:stretch/>
        </p:blipFill>
        <p:spPr>
          <a:xfrm>
            <a:off x="1692360" y="476280"/>
            <a:ext cx="3743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e3e3ff"/>
                </a:solidFill>
                <a:latin typeface="Arial"/>
              </a:rPr>
              <a:t>Психологические механизмы этого качества (силы) связаны с регуляцией напряжения в paзличных режимах их работы: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из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без изменения длины мышц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и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уменьшается длина мышцы (в циклических движениях)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плиометрическ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- увеличение длины мышцы во время её растягивания. Этот режим связан с приседанием, с замахами при бросках мяча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едагогической характеристике силовых качеств человека выделяют следующие разновидност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аксимальная изометр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статическая сил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казатель силы, проявляемой при удержании в течении определённого времени предельных отягощений),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едленная динам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жимовая сила), проявляемая во время перемещения предметов большой массы, когда скорость перемещения практически не имеет знач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скоростная динамическа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сила характеризуется способностью человека к перемещениям в ограниченное время больших отягощений с ускорением ниже максимального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"взрывная"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сила - способность преодолевать сопрртивление_с максимальным мышечным напряжением в кратчайшее время. В этом случае сила и быстрота движений сочетаются, т.е. ступают как интегральное специфическое качество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 спортивной практике взрывная сила, проявляется в разных движениях и имеет разное название: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ыгуче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при отталкивании от пола), резкость (при ударах по мячу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мортизацио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cилa характеризуется развитием усилия за короткое время в уступающем режиме работы мышц, например, при приземлении на опору в различного вида прыжка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# силовая выносливость определяется способностью длительное время поддерживать необходимые силовые характеристики движен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силовую выносливость к динамической работе и статистическую выносливость (способность сохранять малоподвижное положение тела и т.д.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е время получила развитие ещё одна из силовых характеристик - способность к переключению с одного режима мышечной работы на другой при сохранении проявляемого силового усилия. Для этого нужна специальная направленная тренировк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редства развития силы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упражнения с внешним сопротивление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упражнения с преодолением веса собственного те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изометрические упраж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Упражне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 Первые упражнения, являются наиболее эффективными для развития силы и подразделяются на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упражнения с тяжестями, в том числе и на тренажёрах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упражнения с сопротивлением партнёра. Эти упражнения оказывают благотворное не нервно-эмоциональное состояние занимающихся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упражнения с сопротивлением внешней среды (бег в гору, бег по песку или снегу, бег в воде и т.д.);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упражнения с сопротивлением упругих предметов (прыжки на батуте, эспандер, резина)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) упражнения с преодолением собственного веса широко применяются во всех формах занятий по физическому воспитанию (подготовке). Они подразделяются на: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гимнастические силовые упражнения (отжимание в упоре лежа, отжимание на брусьях, подтягивание ног к перекладине и т.п.);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легкоатлетические прыжковые упражнения однократные и "короткие" прыжковые упражнения; +упражнения с преодолением препятствий (ров, забор т.д.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ни являютс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упражнения являются эффективным средством базовой подготовки спортсменов, военнослужащих и д.р. професс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Методы развития силовых способностей</a:t>
            </a: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воему характеру все упражнения, способствующие развитию силы, подразделяются на основные группы: общего, регионального и локального воздействия на мышечные масси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Направленность воздействий силовых упражнений в основном определяетс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видом и характером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величиной отягощения или сопротивл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количеством повторения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скоростью выполнения преодолевающих или уступающих движ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темпом выполнения упражнен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* характером и продолжительностью интервалов отдыха между подходами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Основы развития скоростных способностей. Понятие быстроты, формы её проявления, Методы развития быстроты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ыстро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- это способность человека в определённых специфических условиях мгновенно реагировать с высокой скоростью движений на тот или иной раздражитель, выполняемых при отсутствии значительного внешнего сопротивления, сложной координации работы мышц в минимальный для данных условий отрезок времени и не требующих больших энергозатрат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одержани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ение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ла как физическое качество, формы проявления силовых качеств. Методы развития сил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ства развития сил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ы развития силовых способностей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ы развития скоростных способностей. Понятие быстроты, формы её проявления, Методы развития быстро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о выносливости. Виды и показатели выносливости. Методика развит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бкость как физическое качество. Развитие гибкости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ловкости, её вид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нятие прыгучести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i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Различают несколько элементарных и комплексных форм проявления быстроты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Быстрота простой и сложной двигательной реакц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Быстрота одиночного движения (темп движения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Быстрота сложного (многоуровневого движения связанного с изменением положения тела, например в баскетболе, плавании, беге и т.д.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Частота не нагруженных дви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3e3ff"/>
                </a:solidFill>
                <a:uFillTx/>
                <a:latin typeface="Arial"/>
              </a:rPr>
              <a:t>Двигательная реак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вигательная реак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– это ответ на внезапно появляющийся сигнал определёнными движениями или действиями. Время реагирования на сигнал измеряется интервалом между появлениями сигнала и началом ответного 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то время определяется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возбуждения рецептора и посылки импульса в сенсорные цент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ереработки сигнала в ЦНС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ринятия решения о реагировании на сигнал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посылки сигнала к началу действи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быстротой развития возбуждения в исполнительном органе (мышцы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о выносливости. </a:t>
            </a: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иды и показатели выносливости. Методика развития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нослив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- важнейшее физическое качество, проявляющееся в профессиональной, спортивной практике (в той или иной степени в каждом виде спорта) и повседневной жизни. Она отражает общий уровень работоспособности человека. В теории физвоспитания под выносливостью понимают способность человека значителъное время выполнять работу без снижения мощности нагрузки её интенсивности или как способность организма противостоять утомлению. Выносливость - многофункциональное свойство человеческого организма и интегрирует в себе большое число процессов, происходящих на различных уровнях: от клеточного до целостного организма. Однако, как показывают результаты современных научных исследований, ведущая роль в проявлении выносливости принадлежит факторам энергетического обмена веществ и вегетативным системам, которые его обеспечивают, а именно сердечно-сосудистой, дыхательной, а также ЦН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ыносливость как качество проявляется в двух основных формах: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в продолжительности работы без признаков утомления на данном уровне мощно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* в скорости снижения работоспособности при наступлении утомления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i (8)"/>
          <p:cNvPicPr/>
          <p:nvPr/>
        </p:nvPicPr>
        <p:blipFill>
          <a:blip r:embed="rId1"/>
          <a:stretch/>
        </p:blipFill>
        <p:spPr>
          <a:xfrm>
            <a:off x="5003640" y="1557360"/>
            <a:ext cx="3745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Гибкость как физическое качество. Развитие гибкости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ость спортивной подготовки, а особенно в техническом компоненте во мне связана с важным свойством опорно-двигательного аппарата способности к мышечной релаксации - гибк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i (2)"/>
          <p:cNvPicPr/>
          <p:nvPr/>
        </p:nvPicPr>
        <p:blipFill>
          <a:blip r:embed="rId1"/>
          <a:stretch/>
        </p:blipFill>
        <p:spPr>
          <a:xfrm>
            <a:off x="4427640" y="1844640"/>
            <a:ext cx="432108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ловкости, её виды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вкость это сложное качество, характеризующееся хорошей координацией и высокой точностью движений.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овк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- это способность быстро овладевать сложными движениям быстро и точно перестраивать двигательную деятельность в соответствии с требованиями меняющейся обстановки. Ловкость, в известной мере, качество врождённое, однако в процессе тренировки её в значительной степени можно совершенствов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IDc1Fvfew4M"/>
          <p:cNvPicPr/>
          <p:nvPr/>
        </p:nvPicPr>
        <p:blipFill>
          <a:blip r:embed="rId1"/>
          <a:stretch/>
        </p:blipFill>
        <p:spPr>
          <a:xfrm>
            <a:off x="1695600" y="285840"/>
            <a:ext cx="575280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ритериями ловкости являются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95280" y="244080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оординационная сложность двигательного задани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точность выполнения (временная, пространственная, силовая) задани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ремя, необходимое для овладевания должным уровнем точности, либо минимальное время от момента изменения обстановки до начала ответного движения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ность человека на. производстве, в быту, спорте требует определённого уровня развития физических (двигательных) качеств. Уровень возможностей человека отражает качества, представляющие собой сочетание врождённых психологических и морфологаческих возможностей с приобретёнными в процессе жизни и тренировки опытом в использовании этих возможностей. Чем больше развиты физические качества, тем выше работоспособность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е прыгучести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мышечной деятельности прыжок относится к группе скоростно-силовых упражнений с ациклической структурой движений, в которой в главном звене толчке развивается мышечное усилие максимальной мощности, имеющие реактивно-взрывной характер. Таким oбразом, прыгучесть является одним из главных специфических двигательных качеств определяющимся скоростью движения в заключительной фазе отталкивания. Чем быстрее отталкивание, выше начальная скорость взлёт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 (3)"/>
          <p:cNvPicPr/>
          <p:nvPr/>
        </p:nvPicPr>
        <p:blipFill>
          <a:blip r:embed="rId1"/>
          <a:stretch/>
        </p:blipFill>
        <p:spPr>
          <a:xfrm>
            <a:off x="2050920" y="620640"/>
            <a:ext cx="5834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одного из физических качеств на начальных этапах тренировок приводит к coвершенствованию и других. Однако в дальнейшем развитие качества прекращается. При этом упражнения, которые раньше оказывали влияние на развитие всех физических качеств, теперь будут оказывать тренирующее воздействие лишь на некоторые из них. В последующем могут даже проявиться отрицательные взаимоотношения между отдельными качествами. Так, оказываются несовместимыми задачи одновременно достижения максимальных показателей силы (поднимание большого веса) и максимальных показателей – выносливости (бег, марафон). Однако следует учитывать, что наивысшая степень проявления одного из физических качеств может быть достигнута лишь при определённой степени развития остальны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ТО ТАКОЕ ФИЗИЧЕСКИЕ КАЧЕСТВ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физическими (двигательными) качествами принято понимать отдельные качественные стороны двигательных возможностей человека и отдельных действий. Уровень их развития определяется не только физическими факторами, но и психическими факторами в частности степенью развития интеллектуальных и волевых качеств. Физические качества необходимо развивать своевременно и всесторонне. Физические (двигательные качества связанны с типологическими особенностями проявления свойств нервной системы (силой-слаботью, подвижностью-инертностью и т.д.), которые выступают в структуре качеств в виде природных задатков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i (4)"/>
          <p:cNvPicPr/>
          <p:nvPr/>
        </p:nvPicPr>
        <p:blipFill>
          <a:blip r:embed="rId1"/>
          <a:stretch/>
        </p:blipFill>
        <p:spPr>
          <a:xfrm>
            <a:off x="1908000" y="98100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ЗМОЖНОСТ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качество обуславливает несколько различных возможностей особенностей. Например быстродействие обеспечивается слабой нервной системой, подвижностью возбуждения и уравновешенностью. Такие связи характерны только для быстроты. Наличие разных типологических особенностей у разных людей частично обуславливается тем, что у одних людей лучше развиты одни качества (или их компоненты), у других иные. Выигрывая в проявлении одних двигатель качеств, человек проигрывает в других. Физические (двигательные) качества можно разделить в зависимости от их структуры на простые и сложны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i (5)"/>
          <p:cNvPicPr/>
          <p:nvPr/>
        </p:nvPicPr>
        <p:blipFill>
          <a:blip r:embed="rId1"/>
          <a:stretch/>
        </p:blipFill>
        <p:spPr>
          <a:xfrm>
            <a:off x="2556000" y="134136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Сила как физическое качество, формы проявления силовых качеств. Методы развития силы.</a:t>
            </a: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силой следует понимать способность человека преодолевать за счёт мышечных усилий (сокращений) внешнее сопротивление или противодействовать внешним силам. Сила – одно из важнейших физических качеств в абсолютном большинстве видов спорта, поэтому её развитию спортсмены уделяют исключительно много внима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i (6)"/>
          <p:cNvPicPr/>
          <p:nvPr/>
        </p:nvPicPr>
        <p:blipFill>
          <a:blip r:embed="rId1"/>
          <a:stretch/>
        </p:blipFill>
        <p:spPr>
          <a:xfrm>
            <a:off x="5003640" y="1773360"/>
            <a:ext cx="3097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ием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цессе выполнения спортивных или профессиональных приёмов связанных с подниманием, опусканием, удержание тяжёлых грузов, мышцы, преодолевая сопротивление, сокращаются и укорачиваются. Такая работа называется преодолевающей. Противодействуя какому-либо сопротивлению мышцы, могут при напряжении, и удлиняться, например, удержание очень тяжёлого груза. В таком случае их работа называется уступающей. Оба эти режима объединяются под одним названием - динамического. Сила, проявляемая в движении, т. е. в динамическом режиме называется динамической сил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i (7)"/>
          <p:cNvPicPr/>
          <p:nvPr/>
        </p:nvPicPr>
        <p:blipFill>
          <a:blip r:embed="rId1"/>
          <a:stretch/>
        </p:blipFill>
        <p:spPr>
          <a:xfrm>
            <a:off x="5076720" y="170028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56:42Z</dcterms:created>
  <dc:creator>WiZaRd</dc:creator>
  <dc:description/>
  <dc:language>en-US</dc:language>
  <cp:lastModifiedBy>Валерий Кряклин</cp:lastModifiedBy>
  <dcterms:modified xsi:type="dcterms:W3CDTF">2020-09-05T19:52:20Z</dcterms:modified>
  <cp:revision>5</cp:revision>
  <dc:subject/>
  <dc:title>Развитие физических качеств:: быстрота, выносливость, гибкость , ловкость, прыгучесть.  </dc:title>
</cp:coreProperties>
</file>