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5DA-C92A-44E4-B375-04A9F88FD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7482-BE12-4BEC-902B-090570AF1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977-1D82-4E61-B538-DEE9012AD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A9A-664C-4C70-BCC9-C448B7957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362-490B-4323-9AF0-EE76A040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F39-4B2B-4E3F-BC67-4F58615F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3B4-F3DC-4CD0-A204-196A47FF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0D8-3F1E-4D2B-B206-828D9411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A88-3B3B-466F-B8B9-D05A8DC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0C7-FCF5-4563-9916-9FA7641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50A-AF7B-42C3-ADD1-A4EE4B05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188-1809-4D84-B192-8FFBE4F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D9B-41C1-4A7F-B5BC-F9010110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CF7-729A-41D9-8A5B-9C420B1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10D-8610-4B10-846A-392A4C0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31B-C669-4279-93B4-0F3FA65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8252-5095-491B-9A9F-1495EDE32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ский сад «Колос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00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«Волшебство      стеклянных камешков М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арбл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 Русина Е.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06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уковая улит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автоматизацию поставленных звуков (отработку слов разной слоговой структуры) или Мотивацион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80456848"/>
          <p:cNvPicPr/>
          <p:nvPr/>
        </p:nvPicPr>
        <p:blipFill>
          <a:blip r:embed="rId1"/>
          <a:stretch/>
        </p:blipFill>
        <p:spPr>
          <a:xfrm>
            <a:off x="1940040" y="2349360"/>
            <a:ext cx="5400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8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«Графический дикта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33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Релаксационное упражнение «Муф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97877875"/>
          <p:cNvPicPr/>
          <p:nvPr/>
        </p:nvPicPr>
        <p:blipFill>
          <a:blip r:embed="rId1"/>
          <a:stretch/>
        </p:blipFill>
        <p:spPr>
          <a:xfrm>
            <a:off x="1187280" y="1797120"/>
            <a:ext cx="65437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66"/>
                </a:solidFill>
                <a:latin typeface="Arial"/>
              </a:rPr>
              <a:t>Работа с каждым сюжетом проходит в следующей последовательност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читайте ребенку сказку, в которой герои попадают в трудную ситуаци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ы предлагаете ребенку оказать помощь герою. Работая с камешками, ребенок повторяет ваши задания. (В зависимости от этапа, на котором находится малыш, это может быть изолированное закрепление звука, автоматизация в слогах, словах и т.д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ы вместе с ребенком анализируете работу. Причем, в первую очередь, хвалите его за отзывчивость, желание и умение прийти на помощь, за его речевую работу. А затем вы смотрите на качество выполненной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5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«Игра Куличики и Меш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17609038"/>
          <p:cNvPicPr/>
          <p:nvPr/>
        </p:nvPicPr>
        <p:blipFill>
          <a:blip r:embed="rId1"/>
          <a:stretch/>
        </p:blipFill>
        <p:spPr>
          <a:xfrm>
            <a:off x="1042920" y="1305000"/>
            <a:ext cx="712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568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Arial"/>
              </a:rPr>
              <a:t>Игра «Снеги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etsad-101722-1401789746"/>
          <p:cNvPicPr/>
          <p:nvPr/>
        </p:nvPicPr>
        <p:blipFill>
          <a:blip r:embed="rId1"/>
          <a:stretch/>
        </p:blipFill>
        <p:spPr>
          <a:xfrm>
            <a:off x="250920" y="213372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07598353"/>
          <p:cNvPicPr/>
          <p:nvPr/>
        </p:nvPicPr>
        <p:blipFill>
          <a:blip r:embed="rId2"/>
          <a:stretch/>
        </p:blipFill>
        <p:spPr>
          <a:xfrm>
            <a:off x="4211640" y="29973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745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в работе с детьми камешков Марлс развивает фантазию и творчество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80456848"/>
          <p:cNvPicPr/>
          <p:nvPr/>
        </p:nvPicPr>
        <p:blipFill>
          <a:blip r:embed="rId1"/>
          <a:stretch/>
        </p:blipFill>
        <p:spPr>
          <a:xfrm>
            <a:off x="1943280" y="2081160"/>
            <a:ext cx="54003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597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нсорная коробка с  камешками марблс – является хорошим релаксатором, настраивает на интересную увлекательную иг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s80456848"/>
          <p:cNvPicPr/>
          <p:nvPr/>
        </p:nvPicPr>
        <p:blipFill>
          <a:blip r:embed="rId1"/>
          <a:stretch/>
        </p:blipFill>
        <p:spPr>
          <a:xfrm>
            <a:off x="1943280" y="2081160"/>
            <a:ext cx="5400360" cy="419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9061520ac9a58490e0eef9743969649_ba303d73ca410802f66bf693e7f25dde"/>
          <p:cNvPicPr/>
          <p:nvPr/>
        </p:nvPicPr>
        <p:blipFill>
          <a:blip r:embed="rId2"/>
          <a:stretch/>
        </p:blipFill>
        <p:spPr>
          <a:xfrm>
            <a:off x="3419640" y="5003640"/>
            <a:ext cx="2447640" cy="14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в Марблс признана детскими психологами одной из самых полезных для подрастающего поколения: она развивает меткость, скорость, точность и моторику, а красивые оттенки стеклянных камешков пробуждают в ребенке чувство прекрас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80456848"/>
          <p:cNvPicPr/>
          <p:nvPr/>
        </p:nvPicPr>
        <p:blipFill>
          <a:blip r:embed="rId1"/>
          <a:stretch/>
        </p:blipFill>
        <p:spPr>
          <a:xfrm>
            <a:off x="1943280" y="2276640"/>
            <a:ext cx="540036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597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Миша\Downloads\20200113_101005 (1).jpg"/>
          <p:cNvPicPr/>
          <p:nvPr/>
        </p:nvPicPr>
        <p:blipFill>
          <a:blip r:embed="rId1"/>
          <a:stretch/>
        </p:blipFill>
        <p:spPr>
          <a:xfrm>
            <a:off x="1476360" y="1413000"/>
            <a:ext cx="6059520" cy="45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9061520ac9a58490e0eef9743969649_ba303d73ca410802f66bf693e7f25dde"/>
          <p:cNvPicPr/>
          <p:nvPr/>
        </p:nvPicPr>
        <p:blipFill>
          <a:blip r:embed="rId2"/>
          <a:stretch/>
        </p:blipFill>
        <p:spPr>
          <a:xfrm>
            <a:off x="6012000" y="4869000"/>
            <a:ext cx="24476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460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пишет М.В. Осорина в замечательной книг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ретный мир детства в пространстве мира взрослы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»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ти любят сокровища, создают свои сокровищницы. И в каждой детской  сокровищнице есть кристалл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%D0%9C%D0%B0%D1%80%D0%B8%D1%8F-%D0%9E%D1%81%D0%BE%D1%80%D0%B8%D0%BD%D0%B0"/>
          <p:cNvPicPr/>
          <p:nvPr/>
        </p:nvPicPr>
        <p:blipFill>
          <a:blip r:embed="rId1"/>
          <a:stretch/>
        </p:blipFill>
        <p:spPr>
          <a:xfrm>
            <a:off x="5205240" y="620640"/>
            <a:ext cx="39387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31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665280"/>
            <a:ext cx="3527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клянный шарик Марблс – далекий потомок глиняных шариков, которые многие тысячи лет назад служили игрушками для древних людей. Шарики получили свое название от английского «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bl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 (то есть мраморные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рики имеют разнообразную цветовую г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0eb0a855b697e579bff556172b8fb47e"/>
          <p:cNvPicPr/>
          <p:nvPr/>
        </p:nvPicPr>
        <p:blipFill>
          <a:blip r:embed="rId1"/>
          <a:stretch/>
        </p:blipFill>
        <p:spPr>
          <a:xfrm>
            <a:off x="5148360" y="1989000"/>
            <a:ext cx="32414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и развитие компонентов устной реч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Формирование словар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Формирование грамматического строя реч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Развитие связной реч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Воспитание звуковой культуры реч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Формирование элементарного осознания явлений языка и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835280" y="3576600"/>
            <a:ext cx="58323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Все эти задачи возможно решить и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ным</a:t>
            </a: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 способом, но Марблс помогают организовать процесс легко, продуктивно, с большим удовольствием и пользой для ребенка.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а игр с камешками «Марблс»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Users\Миша\Downloads\20200116_160515.jpg"/>
          <p:cNvPicPr/>
          <p:nvPr/>
        </p:nvPicPr>
        <p:blipFill>
          <a:blip r:embed="rId1"/>
          <a:stretch/>
        </p:blipFill>
        <p:spPr>
          <a:xfrm>
            <a:off x="2195640" y="1197000"/>
            <a:ext cx="4078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06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крась предм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закрепление изучаемых лексических тем, понятий, обогащение словаря и совершенствование связ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Миша\Downloads\20200113_100715.jpg"/>
          <p:cNvPicPr/>
          <p:nvPr/>
        </p:nvPicPr>
        <p:blipFill>
          <a:blip r:embed="rId1"/>
          <a:stretch/>
        </p:blipFill>
        <p:spPr>
          <a:xfrm>
            <a:off x="1403280" y="22050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570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Жучк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, направленные на развитие способности ориентироваться на листе бумаг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728880" cy="373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Миша\Downloads\20200116_160508.jpg"/>
          <p:cNvPicPr/>
          <p:nvPr/>
        </p:nvPicPr>
        <p:blipFill>
          <a:blip r:embed="rId2"/>
          <a:stretch/>
        </p:blipFill>
        <p:spPr>
          <a:xfrm>
            <a:off x="5076720" y="1484280"/>
            <a:ext cx="3630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2:51:37Z</dcterms:created>
  <dc:creator>User</dc:creator>
  <dc:description/>
  <dc:language>en-US</dc:language>
  <cp:lastModifiedBy>Пользователь Windows</cp:lastModifiedBy>
  <dcterms:modified xsi:type="dcterms:W3CDTF">2020-09-05T13:19:24Z</dcterms:modified>
  <cp:revision>34</cp:revision>
  <dc:subject/>
  <dc:title>Волшебство стеклянных камушков Марблс</dc:title>
</cp:coreProperties>
</file>